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21E-B6D8-4203-BB40-B0286F2D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07D-7078-4C44-83B3-5312E212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85B-B5D6-4B32-9558-C838C5B6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DBBE-6CA8-4485-B7EA-371E4F6F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9A4B-94CF-4676-B898-D6B0A507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6850-F405-4660-83EA-8103E67D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8539-6D57-4D24-8E93-90089875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0865-9307-47F4-88A4-85DE558F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5004-D333-4E8C-AEA7-E26E8455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5AE7-62BA-4F6E-9C31-0BF773BE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5278-D24D-44A7-AD60-C4119A08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27C-C836-4A9B-9A5E-ABDD41A2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8E52-99A6-4A72-9ECE-7573B604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60FD-568F-4E8F-90DC-B56CD93C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AFBE-92A3-419A-ABD3-71F98CDB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261C-B4EF-448E-B26C-5D7129D1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BC8C-5FD5-4AC3-8C14-D6B97FFE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EBB9-2A67-40B2-BDD0-437631E6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3D077-185A-4FC8-A37D-99DC7596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990B9-39AC-4D5E-8D73-E148A6CE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ACE61-AFFD-4FF6-A2A1-9B1DCA48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4B8B6-9FF0-445E-AC45-8C2CE2C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1C5C-3282-4D44-9E98-59152D4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BDD1-ED32-4DA2-8B41-A7B7A938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5EAA8-4F0D-4457-91F6-3AF3181A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8042-5E65-49C0-8B06-CB914BB0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8665F-2C6C-439A-B5A7-B0633DF8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69E2-1BA0-4FEA-ABAE-466A1EC7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79EDE-16F5-498F-908B-38815BE8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F9F6-0D82-47E1-9CE2-09242AE5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D918-74DD-4DA5-ADDB-5BF316CC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9B1F-73BE-4BE1-8F43-B1CBE582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D49D-4474-4DB4-9490-325793D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937-A607-4603-99DB-877B97E9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0A50B-2DE8-4573-9296-A78BDD8F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CFBD-EFC9-49FA-B09F-C5F107EA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62AA-D742-44B2-A954-F49FB74F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F50C2-09C5-42E9-84AB-28450E11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DD30-BB73-4400-8226-7F179B08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AB37-F5FF-4B96-B836-D86A5C6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2782-1E25-4611-A553-353861BA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10F4-CFD0-49CE-BAE6-F99AFB46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56533-95CF-4439-B8C7-694B371D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EBCFE-48D9-457A-B07C-0E7914AB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DC4-D7D0-4B41-B688-8457987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61FEF-2D47-4B10-B09D-3BA1AFED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A898-F199-4903-B613-06AE0964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68656-2D20-4A94-BDAD-EF1F6D7D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EE5E-CF84-469F-8B92-4AD260E2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6BBFE-538E-4BC7-B597-CB43CC7A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F3C38-9CDB-448C-8CFE-F00E22B9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9071C-DEEE-4DA4-820C-17851D56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58700-4F00-423D-BF58-FA37F11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3394C-6A01-4D3F-9D28-27BE4B62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10CF4-A1D9-485C-B609-1FB24940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79D-C172-46D8-AB63-537810A7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7A892-22F6-4189-8FE4-A63C1CDD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6D7E-78A9-4133-8615-156E5258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F11FF-FD86-4A0D-BB9A-C1B5A0F0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F8099-457C-44CD-8910-31FE9C5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2C303-B9B0-4AA4-9C3D-83FD8864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A24FC-A069-4FA7-B81D-E29AF6B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C1AC1-2386-46A4-847B-1D4F1FBA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4215A-24A2-48C5-B211-8583EC9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C3838-9BC8-4FE9-B2BD-17CDA37C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8E7A-6A64-4BBB-9589-F7990E8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F74-CD83-4152-99AC-5AA5641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77896-EC1A-4647-A7B0-CA65A89D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5EABE-4855-490C-B577-18E087D1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2DF6E-781D-4651-BB59-002C9CF6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BCE36-3C56-42B3-B4C4-5624D435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B25AB-60F8-4FB3-A28E-E5764177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9A53F-2AF7-45A4-A388-0416F1F7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356E5-5AA4-43D8-BDAA-A6A21785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8FC5-11BD-4CA5-8A6A-27099746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75E34-BE34-4BF1-B681-02FE45D3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BEAF4-CA61-4F1D-A881-5AB1A68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9A9-7C8A-4C31-B3C7-FB1B9B1D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697AF-4C5B-45B5-ABA3-3DC92A48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F7C81-7001-4B03-A60E-79214754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D53B5-60B3-4043-8414-85178432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CFF43-26FE-4E41-934E-7AAFEDD3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600F8-D306-4F76-B840-0878C99B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029-A27B-43CE-8543-6B8852BF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805FB-38CB-444B-A3DB-E7C139E30A61}" type="datetime">
              <a:rPr b="0" lang="zh-CN" sz="900" spc="-1" strike="noStrike">
                <a:solidFill>
                  <a:srgbClr val="ffffff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BAD65-1632-4C0F-9914-E42BC0D75FF8}" type="slidenum">
              <a:rPr b="0" lang="zh-CN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22D5E-076B-4D29-A07B-2F8C5DE43A2A}" type="datetime">
              <a:rPr b="0" lang="zh-CN" sz="900" spc="-1" strike="noStrike">
                <a:solidFill>
                  <a:srgbClr val="ffffff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E41AF-A110-40BF-AE21-7F35707F3D86}" type="slidenum">
              <a:rPr b="0" lang="zh-CN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CEF909-AB58-4288-80FF-4058A22C7A1E}" type="datetime">
              <a:rPr b="0" lang="zh-CN" sz="900" spc="-1" strike="noStrike">
                <a:solidFill>
                  <a:srgbClr val="ffffff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8072A-0044-4D32-8B74-83CEB42356DE}" type="slidenum">
              <a:rPr b="0" lang="zh-CN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2969B-A685-4113-8A85-AE3DCEB77421}" type="datetime">
              <a:rPr b="0" lang="zh-CN" sz="900" spc="-1" strike="noStrike">
                <a:solidFill>
                  <a:srgbClr val="ffffff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5B503-BD20-4485-A945-FEB579CABA4A}" type="slidenum">
              <a:rPr b="0" lang="zh-CN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1FDB0-1A4D-4BC4-8CA7-FB59689B3A9E}" type="datetime">
              <a:rPr b="0" lang="zh-CN" sz="900" spc="-1" strike="noStrike">
                <a:solidFill>
                  <a:srgbClr val="ffffff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4ADEB6-40CF-4341-A0E2-6A129836365F}" type="slidenum">
              <a:rPr b="0" lang="zh-CN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6BE0D-AA69-4873-AE57-8B56B3F2CF78}" type="datetime">
              <a:rPr b="0" lang="zh-CN" sz="900" spc="-1" strike="noStrike">
                <a:solidFill>
                  <a:srgbClr val="ffffff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A5FB7-E7D4-44E0-AB97-CFE9AE20AD75}" type="slidenum">
              <a:rPr b="0" lang="zh-CN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16C35-00AE-4F00-BB0C-1DFEC656C662}" type="datetime">
              <a:rPr b="0" lang="zh-CN" sz="900" spc="-1" strike="noStrike">
                <a:solidFill>
                  <a:srgbClr val="ffffff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6B5EF-0B64-4A61-AD0F-C7153A7357D8}" type="slidenum">
              <a:rPr b="0" lang="zh-CN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28600" y="1476000"/>
            <a:ext cx="10058400" cy="289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第六章  </a:t>
            </a:r>
            <a:r>
              <a:rPr b="1" lang="en-US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婴幼儿</a:t>
            </a: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常见营养性疾病</a:t>
            </a:r>
            <a:br>
              <a:rPr sz="2400"/>
            </a:b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节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肥胖和超重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一） 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能量摄入过多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活动量过少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遗传因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其他因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9" name="图片 3" descr=""/>
          <p:cNvPicPr/>
          <p:nvPr/>
        </p:nvPicPr>
        <p:blipFill>
          <a:blip r:embed="rId1"/>
          <a:stretch/>
        </p:blipFill>
        <p:spPr>
          <a:xfrm>
            <a:off x="7516800" y="2895480"/>
            <a:ext cx="254952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节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肥胖和超重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二） 临床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肥胖儿童的食欲旺盛且喜吃甜食和高脂肪食物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明显肥胖儿童常有疲劳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肥胖小儿的性发育较早，故最终身高常略低于体重正常的小儿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节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肥胖和超重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三） 实验室检查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肥胖儿甘油三酯、胆固醇大多增高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肝脏超声检查常有脂肪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34" name="图片 3" descr=""/>
          <p:cNvPicPr/>
          <p:nvPr/>
        </p:nvPicPr>
        <p:blipFill>
          <a:blip r:embed="rId1"/>
          <a:stretch/>
        </p:blipFill>
        <p:spPr>
          <a:xfrm>
            <a:off x="7921800" y="3400560"/>
            <a:ext cx="21445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节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肥胖和超重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四） 诊断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小儿体重为超过同性别、同身高参照人群均值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％—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9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％者为超重；超过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％以上者便可诊断为肥胖症；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％—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9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％者为轻度肥胖；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0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％—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9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％者为中度肥胖；超过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0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％者为重度肥胖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体重指数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(BMI)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是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BMI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值在同年龄百分位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85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—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95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之间为超重，超过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95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为肥胖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节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肥胖和超重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五）  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饮食调整推荐低脂肪、低碳水化合物和高蛋白食谱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运动疗法增加能量消耗，减小脂肪细胞体积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行为矫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节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肥胖和超重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六）预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级预防：开展肥胖知识教育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级预防：定期体检，监测小儿体重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1" name="图片 3" descr=""/>
          <p:cNvPicPr/>
          <p:nvPr/>
        </p:nvPicPr>
        <p:blipFill>
          <a:blip r:embed="rId1"/>
          <a:stretch/>
        </p:blipFill>
        <p:spPr>
          <a:xfrm>
            <a:off x="7516800" y="2895480"/>
            <a:ext cx="254952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一）  铁缺乏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概述：铁是人体必需的微量营养素，参与血红蛋白和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DNA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合成以及能量代谢等重要生理过程。铁缺乏包括铁减少期、红细胞生成缺铁期、缺铁性贫血三个发展阶段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图片 3" descr=""/>
          <p:cNvPicPr/>
          <p:nvPr/>
        </p:nvPicPr>
        <p:blipFill>
          <a:blip r:embed="rId1"/>
          <a:stretch/>
        </p:blipFill>
        <p:spPr>
          <a:xfrm>
            <a:off x="6369120" y="3753000"/>
            <a:ext cx="392904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长期摄入不足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母亲妊娠期铁摄入不足、早产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低出生体重、双胎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胎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各种胃肠道疾病，长期反复感染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96560" y="1846440"/>
            <a:ext cx="9039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临床表现：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铁缺乏、缺铁性贫血早期无特异性临床表现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性贫血为缺铁的严重阶段，患儿可表现为面色苍白、无力、表情淡漠等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96920" y="1827360"/>
            <a:ext cx="9856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实验室检查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血红蛋白浓度测定是目前最常用的血液生化指标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世界卫生组织采用的最新的贫血诊断标准中，血红蛋白浓度下限分别为：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月—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岁，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10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克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升；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—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岁，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15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克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升；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—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5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岁，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20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克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/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升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学习目标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了解婴幼儿常见营养性疾病的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掌握婴幼儿常见营养性疾病的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掌握婴幼儿常见营养性疾病预防措施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8643960" y="4014720"/>
            <a:ext cx="24512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诊断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依据高危因素、临床表现以及实验室检查结果等综合判断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3" name="图片 3" descr=""/>
          <p:cNvPicPr/>
          <p:nvPr/>
        </p:nvPicPr>
        <p:blipFill>
          <a:blip r:embed="rId1"/>
          <a:stretch/>
        </p:blipFill>
        <p:spPr>
          <a:xfrm>
            <a:off x="5369040" y="3429000"/>
            <a:ext cx="40399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合理改善膳食，增加血红素铁、维生素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C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摄入。积极查找导致铁缺乏的高危因素和基础疾病，并采取有效干预措施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56" name="图片 3" descr=""/>
          <p:cNvPicPr/>
          <p:nvPr/>
        </p:nvPicPr>
        <p:blipFill>
          <a:blip r:embed="rId1"/>
          <a:stretch/>
        </p:blipFill>
        <p:spPr>
          <a:xfrm>
            <a:off x="7294680" y="3727440"/>
            <a:ext cx="33940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7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预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积极预防和纠正妊娠母亲缺铁性贫血，降低早产率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合理搭配饮食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婴幼儿是铁缺乏的高危人群，应定期体检，监测血红蛋白浓度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二） 缺铁性贫血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先天储铁不足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铁摄入量不足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生长发育因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铁的吸收障碍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铁的丢失过多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1" name="图片 3" descr=""/>
          <p:cNvPicPr/>
          <p:nvPr/>
        </p:nvPicPr>
        <p:blipFill>
          <a:blip r:embed="rId1"/>
          <a:stretch/>
        </p:blipFill>
        <p:spPr>
          <a:xfrm>
            <a:off x="5433840" y="2741760"/>
            <a:ext cx="51260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96920" y="188136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临床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一般表现为皮肤黏膜逐渐苍白，患儿易疲乏，不爱活动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髓外造血器官表现：肝、脾可轻度肿大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非造血系统症状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4" name="图片 3" descr=""/>
          <p:cNvPicPr/>
          <p:nvPr/>
        </p:nvPicPr>
        <p:blipFill>
          <a:blip r:embed="rId1"/>
          <a:stretch/>
        </p:blipFill>
        <p:spPr>
          <a:xfrm>
            <a:off x="6634080" y="4132440"/>
            <a:ext cx="29592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96560" y="1846440"/>
            <a:ext cx="9039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实验室检查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外周血象血红蛋白降低比红细胞数减少明显，呈小细胞低色素性贫血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骨髓象呈增生活跃，以中、晚幼红细胞增生为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有关铁代谢的检查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诊断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根据病史，特别是喂养史、临床表现和血象特点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69" name="图片 5" descr=""/>
          <p:cNvPicPr/>
          <p:nvPr/>
        </p:nvPicPr>
        <p:blipFill>
          <a:blip r:embed="rId1"/>
          <a:stretch/>
        </p:blipFill>
        <p:spPr>
          <a:xfrm>
            <a:off x="5913360" y="3429000"/>
            <a:ext cx="38102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 一般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 去除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铁剂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铁和缺铁性贫血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6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预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提倡母乳喂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做好喂养指导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婴幼儿食品可适量加入铁剂加以强化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just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对于早产儿，尤其是低体重的早产儿宜给予铁剂预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D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性佝偻病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9000"/>
          </a:bodyPr>
          <a:p>
            <a:pPr marL="71280" indent="-71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一）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围生期维生素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D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不足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日照不足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生长速度快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食物中补充维生素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D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不足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疾病影响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71280" indent="-71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节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蛋白质—热量营养不良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一） 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摄入不足、喂养不当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化吸收不良或消化吸收障碍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营养需求增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0" name="图片 3" descr=""/>
          <p:cNvPicPr/>
          <p:nvPr/>
        </p:nvPicPr>
        <p:blipFill>
          <a:blip r:embed="rId1"/>
          <a:stretch/>
        </p:blipFill>
        <p:spPr>
          <a:xfrm>
            <a:off x="6421320" y="3429000"/>
            <a:ext cx="3726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D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性佝偻病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二） 临床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初期夜惊、多汗、烦躁、颅骨软化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激期有明显的夜惊、多汗、烦躁不安方颅，手（足）镯，肋串珠，肋软骨沟，鸡胸，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O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型腿或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型腿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恢复期症状减轻体征逐渐减轻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后遗症期症状消失骨骼改变不再进展，可留有不同程度的骨骼畸形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D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性佝偻病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三） 诊断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依据维生素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D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的病因、临床表现、血生化及骨骼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线检查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0" name="图片 3" descr=""/>
          <p:cNvPicPr/>
          <p:nvPr/>
        </p:nvPicPr>
        <p:blipFill>
          <a:blip r:embed="rId1"/>
          <a:stretch/>
        </p:blipFill>
        <p:spPr>
          <a:xfrm>
            <a:off x="5549760" y="3165480"/>
            <a:ext cx="45324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D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性佝偻病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四） 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提高血清维生素Ｄ的水平，控制活动期病情，防止骨骼畸形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般疗法为加强护理、合理饮食、坚持经常晒太阳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3" name="图片 3" descr=""/>
          <p:cNvPicPr/>
          <p:nvPr/>
        </p:nvPicPr>
        <p:blipFill>
          <a:blip r:embed="rId1"/>
          <a:stretch/>
        </p:blipFill>
        <p:spPr>
          <a:xfrm>
            <a:off x="6126120" y="3805200"/>
            <a:ext cx="33116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D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性佝偻病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五） 预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围产期：孕妇应经常到户外活动，多晒太阳。孕妇饮食应含有丰富的维生素Ｄ、钙等营养物质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儿童的预防：户外活动、多晒太阳。婴幼儿应该尽早开始补充维生素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D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五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A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症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一）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原发性因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化吸收因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储存利用因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五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A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症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二） 临床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眼部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皮肤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生长发育障碍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易发生感染性疾病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贫血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0" name="图片 3" descr=""/>
          <p:cNvPicPr/>
          <p:nvPr/>
        </p:nvPicPr>
        <p:blipFill>
          <a:blip r:embed="rId1"/>
          <a:stretch/>
        </p:blipFill>
        <p:spPr>
          <a:xfrm>
            <a:off x="6099120" y="2208240"/>
            <a:ext cx="35910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五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A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症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三）诊断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高危因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临床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实验室检查： 血清视黄醇浓度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五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A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症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四） 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整膳食，增加维生素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或胡萝卜素的摄入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查找高危因素和基础疾病，采取干预措施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口服维生素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五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维生素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A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症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五） 预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积极预防妊娠、哺乳母亲的维生素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A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缺乏，强调母乳喂养婴儿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7" name="图片 3" descr=""/>
          <p:cNvPicPr/>
          <p:nvPr/>
        </p:nvPicPr>
        <p:blipFill>
          <a:blip r:embed="rId1"/>
          <a:stretch/>
        </p:blipFill>
        <p:spPr>
          <a:xfrm>
            <a:off x="6550200" y="3041640"/>
            <a:ext cx="27320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六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食物过敏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一）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食物过敏是累及全身各系统的免疫反应。由于婴幼儿消化道的屏障功能较弱，且免疫系统发育尚未成熟；还与个体遗传易感性有关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0" name="图片 3" descr=""/>
          <p:cNvPicPr/>
          <p:nvPr/>
        </p:nvPicPr>
        <p:blipFill>
          <a:blip r:embed="rId1"/>
          <a:stretch/>
        </p:blipFill>
        <p:spPr>
          <a:xfrm>
            <a:off x="5570640" y="3565440"/>
            <a:ext cx="41893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节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蛋白质—热量营养不良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二） 临床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婴幼儿营养不良的早期表现是体重不增。体重逐渐下降，患儿主要表现为消瘦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皮下脂肪逐渐减少直至消失，皮肤逐渐失去弹性，肌张力逐渐降低、肌肉松弛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重度营养不良甚至会使重要脏器功能损害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营养不良的常见的并发症有营养性贫血，可有多种维生素缺乏，免疫功能低下，易患各种感染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六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食物过敏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二） 临床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化道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皮肤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呼吸系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枢神经系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严重过敏性反应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3" name="图片 3" descr=""/>
          <p:cNvPicPr/>
          <p:nvPr/>
        </p:nvPicPr>
        <p:blipFill>
          <a:blip r:embed="rId1"/>
          <a:stretch/>
        </p:blipFill>
        <p:spPr>
          <a:xfrm>
            <a:off x="6126120" y="2127240"/>
            <a:ext cx="28623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六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食物过敏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三） 诊断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病史采集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皮肤试验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血清特异性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IgE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检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食物激发试验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06" name="图片 3" descr=""/>
          <p:cNvPicPr/>
          <p:nvPr/>
        </p:nvPicPr>
        <p:blipFill>
          <a:blip r:embed="rId1"/>
          <a:stretch/>
        </p:blipFill>
        <p:spPr>
          <a:xfrm>
            <a:off x="6095880" y="2160720"/>
            <a:ext cx="42768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六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食物过敏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四）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化道食物过敏的治疗：饮食回避变应原是缓解食物过敏的主要手段；饮食替代；口服免疫耐受的建立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药物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六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食物过敏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五） 预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食物过敏的明确食物变应原的患者，应禁食该种食物及含该种食物成分的一切食品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1" name="图片 3" descr=""/>
          <p:cNvPicPr/>
          <p:nvPr/>
        </p:nvPicPr>
        <p:blipFill>
          <a:blip r:embed="rId1"/>
          <a:stretch/>
        </p:blipFill>
        <p:spPr>
          <a:xfrm>
            <a:off x="5619600" y="3282840"/>
            <a:ext cx="3867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七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乳糖不耐受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一） 病因及类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原发型乳糖酶缺乏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继发性乳糖酶缺乏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发育相关乳糖酶缺乏症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先天性乳糖酶缺乏症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14" name="图片 3" descr=""/>
          <p:cNvPicPr/>
          <p:nvPr/>
        </p:nvPicPr>
        <p:blipFill>
          <a:blip r:embed="rId1"/>
          <a:stretch/>
        </p:blipFill>
        <p:spPr>
          <a:xfrm>
            <a:off x="6095880" y="3240000"/>
            <a:ext cx="44229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七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乳糖不耐受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2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婴幼儿乳糖不耐受的常见临床类型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早产儿发育性腹泻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生理性腹泻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肠炎后腹泻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迁延性、慢性腹泻型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七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乳糖不耐受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二） 临床表现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婴幼儿乳糖不耐受最常见、明显的症状是腹泻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严重的乳糖不耐受可导致患儿低钙与低锌等微量元素缺乏、贫血、营养不良、体重低下、生长发育迟缓。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七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乳糖不耐受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三） 诊断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乳糖氢呼气试验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乳糖耐量试验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粪便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pH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值检查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尿半乳糖测试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七节</a:t>
            </a: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乳糖不耐受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四）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饮食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药物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益生菌的应用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423" name="图片 3" descr=""/>
          <p:cNvPicPr/>
          <p:nvPr/>
        </p:nvPicPr>
        <p:blipFill>
          <a:blip r:embed="rId1"/>
          <a:stretch/>
        </p:blipFill>
        <p:spPr>
          <a:xfrm>
            <a:off x="6095880" y="2935440"/>
            <a:ext cx="4923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考题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66680" y="1864800"/>
            <a:ext cx="10058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宋体"/>
              </a:rPr>
              <a:t>单纯性肥胖的病因是什么？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宋体"/>
              </a:rPr>
              <a:t>缺铁性贫血的预防方法有哪些？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40404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宋体"/>
              </a:rPr>
              <a:t>缺乏的预防措施有哪些？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宋体"/>
              </a:rPr>
              <a:t>食物过敏的表现是什么？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Times New Roman"/>
                <a:ea typeface="宋体"/>
              </a:rPr>
              <a:t>婴幼儿乳糖不耐受的常见临床类型有哪些？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节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蛋白质—热量营养不良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三） 实验室检查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血清白蛋白浓度降低是特征性的改变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40404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胰岛素样生长因子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诊断蛋白质营养不良的较好指标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5" name="图片 3" descr=""/>
          <p:cNvPicPr/>
          <p:nvPr/>
        </p:nvPicPr>
        <p:blipFill>
          <a:blip r:embed="rId1"/>
          <a:stretch/>
        </p:blipFill>
        <p:spPr>
          <a:xfrm>
            <a:off x="6421320" y="3429000"/>
            <a:ext cx="3726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404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谢谢聆听！</a:t>
            </a:r>
            <a:endParaRPr b="0" lang="en-US" sz="66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3260880" y="2514600"/>
            <a:ext cx="4802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节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蛋白质—热量营养不良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四） 诊断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诊断标准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 有相关病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 体重下降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 皮下脂肪减少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 伴有活动减少；易疲乏，食欲减退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节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蛋白质—热量营养不良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型与分度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 体重低下型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 生长迟缓型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） 消瘦型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0" name="图片 3" descr=""/>
          <p:cNvPicPr/>
          <p:nvPr/>
        </p:nvPicPr>
        <p:blipFill>
          <a:blip r:embed="rId1"/>
          <a:stretch/>
        </p:blipFill>
        <p:spPr>
          <a:xfrm>
            <a:off x="6421320" y="3429000"/>
            <a:ext cx="3726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节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蛋白质—热量营养不良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五）  治疗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处理各种危及生命的并发症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去除病因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整饮食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促进消化功能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3" name="图片 3" descr=""/>
          <p:cNvPicPr/>
          <p:nvPr/>
        </p:nvPicPr>
        <p:blipFill>
          <a:blip r:embed="rId1"/>
          <a:stretch/>
        </p:blipFill>
        <p:spPr>
          <a:xfrm>
            <a:off x="6421320" y="3429000"/>
            <a:ext cx="3726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一节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蛋白质—热量营养不良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（六）预防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级预防：提倡母乳喂养，纠正偏食、挑食、吃零食的不良饮食习惯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级预防：定期监测生长速度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6" name="图片 3" descr=""/>
          <p:cNvPicPr/>
          <p:nvPr/>
        </p:nvPicPr>
        <p:blipFill>
          <a:blip r:embed="rId1"/>
          <a:stretch/>
        </p:blipFill>
        <p:spPr>
          <a:xfrm>
            <a:off x="6421320" y="3429000"/>
            <a:ext cx="372600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7-07T23:37:28Z</dcterms:created>
  <dc:creator>Administrator</dc:creator>
  <dc:description/>
  <dc:language>en-US</dc:language>
  <cp:lastModifiedBy>WPS_1607387318</cp:lastModifiedBy>
  <dcterms:modified xsi:type="dcterms:W3CDTF">2021-08-02T02:50:39Z</dcterms:modified>
  <cp:revision>68</cp:revision>
  <dc:subject/>
  <dc:title>第二章 婴幼儿消化系统的特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CE1A464333944603BE52B5D3CB51280D</vt:lpwstr>
  </property>
  <property fmtid="{D5CDD505-2E9C-101B-9397-08002B2CF9AE}" pid="3" name="KSOProductBuildVer">
    <vt:lpwstr>2052-11.1.0.10503</vt:lpwstr>
  </property>
</Properties>
</file>