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" y="376704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540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" y="376704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50800" y="376704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33240" y="376704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DC5-9E96-4892-8514-040BE4F8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ED1-4E12-4401-AE19-2BC5F441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CDEC-602D-45E8-8796-50E5E01C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8EE-BEF8-442A-A53C-2FF7FBBC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6A81-4DA0-4CA0-9350-BFCFBF98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888-D86B-4849-9B30-4686CD6F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36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DD7-5E2D-4AD2-B723-A54DF071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540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CD3-F9D6-4281-B170-81A03872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360" y="376704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0DE-9B1A-4685-BA29-C77FA9B0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360" y="376704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09A-BF7B-4BA5-A69A-356CA010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36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8540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4B4-D8BD-4830-88D8-1550B600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360" y="376704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50800" y="376704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33240" y="376704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11B-8F6D-43B0-8CE9-298EE40F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540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76704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28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5abde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28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42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028000" cy="1052640"/>
          </a:xfrm>
          <a:prstGeom prst="rect">
            <a:avLst/>
          </a:prstGeom>
          <a:solidFill>
            <a:srgbClr val="65a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77080" y="189000"/>
            <a:ext cx="1976040" cy="761760"/>
            <a:chOff x="6877080" y="189000"/>
            <a:chExt cx="1976040" cy="761760"/>
          </a:xfrm>
        </p:grpSpPr>
        <p:sp>
          <p:nvSpPr>
            <p:cNvPr id="4" name=""/>
            <p:cNvSpPr/>
            <p:nvPr/>
          </p:nvSpPr>
          <p:spPr>
            <a:xfrm>
              <a:off x="721584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21584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215840" y="84204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38504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8504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8504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55460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460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54600" y="84204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2416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2416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2416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724160" y="84204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89336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893360" y="84204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06292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6292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6292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23212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23212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01680" y="1890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0168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40168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0168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571240" y="1890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57124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74044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74044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74044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04628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87708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" name=""/>
          <p:cNvSpPr/>
          <p:nvPr/>
        </p:nvSpPr>
        <p:spPr>
          <a:xfrm>
            <a:off x="655308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67057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68580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28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95280" y="616572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211640" y="623736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华东师范大学出版社</a:t>
            </a:r>
            <a:r>
              <a:rPr b="0" lang="en-US" sz="1800" spc="-1" strike="noStrike">
                <a:solidFill>
                  <a:srgbClr val="00428e"/>
                </a:solidFill>
                <a:latin typeface="Arial"/>
                <a:ea typeface="隶书"/>
              </a:rPr>
              <a:t>——</a:t>
            </a:r>
            <a:r>
              <a:rPr b="0" lang="zh-CN" sz="1800" spc="-1" strike="noStrike">
                <a:solidFill>
                  <a:srgbClr val="00428e"/>
                </a:solidFill>
                <a:latin typeface="Arial"/>
                <a:ea typeface="隶书"/>
              </a:rPr>
              <a:t>给您一个智慧的人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364F-8768-494D-83BD-59694EF1F48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0"/>
            <a:ext cx="9144000" cy="5791320"/>
            <a:chOff x="0" y="0"/>
            <a:chExt cx="9144000" cy="5791320"/>
          </a:xfrm>
        </p:grpSpPr>
        <p:sp>
          <p:nvSpPr>
            <p:cNvPr id="81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solidFill>
              <a:srgbClr val="65a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895480" y="3657600"/>
              <a:ext cx="58676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3520" y="3200400"/>
              <a:ext cx="7696080" cy="8380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96080" y="2286000"/>
              <a:ext cx="533520" cy="83808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34320" y="1676520"/>
              <a:ext cx="914400" cy="83808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685800"/>
              <a:ext cx="914400" cy="152388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53080" y="1295280"/>
              <a:ext cx="533520" cy="53352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724280" y="2286000"/>
              <a:ext cx="1295280" cy="838080"/>
              <a:chOff x="4724280" y="2286000"/>
              <a:chExt cx="1295280" cy="838080"/>
            </a:xfrm>
          </p:grpSpPr>
          <p:sp>
            <p:nvSpPr>
              <p:cNvPr id="89" name=""/>
              <p:cNvSpPr/>
              <p:nvPr/>
            </p:nvSpPr>
            <p:spPr>
              <a:xfrm>
                <a:off x="495288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7242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528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28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28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814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814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1008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100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4100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100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63868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386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72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72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72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352680" y="2514600"/>
              <a:ext cx="1295280" cy="609480"/>
              <a:chOff x="3352680" y="2514600"/>
              <a:chExt cx="1295280" cy="609480"/>
            </a:xfrm>
          </p:grpSpPr>
          <p:sp>
            <p:nvSpPr>
              <p:cNvPr id="106" name=""/>
              <p:cNvSpPr/>
              <p:nvPr/>
            </p:nvSpPr>
            <p:spPr>
              <a:xfrm>
                <a:off x="38098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8098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384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384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0384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670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4956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956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956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812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3526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62120" y="4114800"/>
              <a:ext cx="1904760" cy="762120"/>
              <a:chOff x="762120" y="4114800"/>
              <a:chExt cx="1904760" cy="76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108864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8864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88640" y="476820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25172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5172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5172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1516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1516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15160" y="476820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7824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7824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7824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78240" y="476820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4168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41680" y="476820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0476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0476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0476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6820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6820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31640" y="411480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3164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3164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23164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394720" y="411480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9472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5816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5816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55816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2520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212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486400" y="1371600"/>
              <a:ext cx="2666880" cy="1066680"/>
              <a:chOff x="5486400" y="1371600"/>
              <a:chExt cx="2666880" cy="1066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9436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94360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722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722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1722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4008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008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0080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6294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6294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294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62940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580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5800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0866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866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866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3152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152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543800" y="13716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438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438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438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72400" y="13716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724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0010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010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010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150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4864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057400" y="4800600"/>
              <a:ext cx="533520" cy="53352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2480" y="5334120"/>
              <a:ext cx="228600" cy="22860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23880" y="548640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250920" y="260280"/>
            <a:ext cx="68580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920" y="260280"/>
                      <a:ext cx="68580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971640" y="333360"/>
              <a:ext cx="3313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普通高等教育“十一”五国家级规划教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大学生心理健康教育（第二版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360" y="3284640"/>
              <a:ext cx="7848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4"/>
          <p:cNvSpPr>
            <a:spLocks noGrp="1"/>
          </p:cNvSpPr>
          <p:nvPr>
            <p:ph type="title"/>
          </p:nvPr>
        </p:nvSpPr>
        <p:spPr>
          <a:xfrm>
            <a:off x="539640" y="3284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428e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5abde"/>
              </a:buClr>
              <a:buSzPct val="6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428e"/>
              </a:buClr>
              <a:buSzPct val="5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284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十一章  休闲活动与心理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743200" y="400536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8DE-794A-4461-9443-7D14AF024A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休闲活动的发展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展功能是休闲活动功能中的最高阶段，也是人们在休闲时间内寻求自我发展最重要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8920" y="2637000"/>
            <a:ext cx="35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最终的目的。所谓休闲的发展功能，概括地讲，就是通过一系列的休闲活动，导致人们素质的提高、个性的张扬和人格的完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931280" y="5589720"/>
            <a:ext cx="298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图片来自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hbcnc.edu.cn/Site/xcb/news/1693_1993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28e"/>
                </a:solidFill>
                <a:latin typeface="Arial"/>
                <a:ea typeface="楷体_GB2312"/>
              </a:rPr>
              <a:t>二、当代大学生休闲活动的基本特点</a:t>
            </a:r>
            <a:endParaRPr b="1" lang="en-US" sz="32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休闲时间充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休闲活动中经济支付能力较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三）休闲活动过度和剥夺同时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部分同学进入大学后，放松对自己要求，热衷于各种社会活动、应酬活动，唯独不愿花时间和精力在学习上。另一种极端是休闲活动的剥夺现象：有限的课余时间都被无休止的练习、复习以及各类培训班所填满。还有一部分大学生由于经济条件、休闲能力及其它因素的影响，休闲活动也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四）休闲活动以积极为主，但层次等级较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据调查，大学生课外活动取向为：①体育锻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3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②校系活动和工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4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③聊天、社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④课业学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⑤阅读课外书刊、报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1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⑥看电影、电视、录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⑦勤工助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8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⑧打电子游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8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⑨棋牌活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⑩睡懒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7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无所事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；其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但也有相当一些人仍然把色情、赌博、山吃海喝、“拼命”游玩等当成了休闲的“时尚”（林良夫等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五）休闲活动和学习活动很难区分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工作和休闲活动相对独立，学习和休闲活动虽然都是大学生的基本生活，但它们实际上是很难截然分开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本源上讲，休闲与教育密不可分。休闲活动层次等级的提升离不开学习。正是通过学习活动，人们才获得休闲能力，才能感受美、欣赏美和创造美。正是由于休闲人们才感受到快乐，传递着快乐和创造着快乐。学习活动也是重要的高级休闲活动之一，在学习过程中同样能体验休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28e"/>
                </a:solidFill>
                <a:latin typeface="Arial"/>
              </a:rPr>
              <a:t>专栏：</a:t>
            </a:r>
            <a:r>
              <a:rPr b="0" lang="zh-CN" sz="3200" spc="-1" strike="noStrike">
                <a:solidFill>
                  <a:srgbClr val="00428e"/>
                </a:solidFill>
                <a:latin typeface="Arial"/>
              </a:rPr>
              <a:t>休闲活动的类别</a:t>
            </a:r>
            <a:endParaRPr b="1" lang="en-US" sz="32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消遣娱乐类：吧式消费，逛街、购物和闲聊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怡情养身类 ：养花草宠物，琴、棋、书、画、等；美容装饰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体育健身类 ：一般健身运动，如跑步，跳操；时尚刺激型运动，登山、冲浪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旅游观光类 ：长时间的异地旅游和短时间或周末近距离的游乐度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社会活动类 ：朋友聚会，节日庆典，公益活动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育发展类 ：上图书馆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消极堕落类 ：赌博，吸毒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28e"/>
                </a:solidFill>
                <a:latin typeface="宋体"/>
              </a:rPr>
              <a:t>第二节 大学生的休闲活动与心理健康的关系</a:t>
            </a:r>
            <a:endParaRPr b="1" lang="en-US" sz="32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学生休闲活动对心理健康的促进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学生休闲活动中的心理问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28e"/>
                </a:solidFill>
                <a:latin typeface="楷体_GB2312"/>
                <a:ea typeface="楷体_GB2312"/>
              </a:rPr>
              <a:t>一、大学生休闲活动对心理健康的促进作用</a:t>
            </a:r>
            <a:endParaRPr b="1" lang="en-US" sz="32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一）调节身心，提高有机体活动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二）调节情绪，宣泄烦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三）有助于发掘人的潜力，培养健全人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四）对心理疾病有一定治疗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五）可以提高生活质量，增强幸福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28e"/>
                </a:solidFill>
                <a:latin typeface="Arial"/>
                <a:ea typeface="楷体_GB2312"/>
              </a:rPr>
              <a:t>二、大学生休闲活动中的心理问题</a:t>
            </a:r>
            <a:endParaRPr b="1" lang="en-US" sz="32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缺少方向，在休闲时间里迷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缺少自制力，在休闲时间里沉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三）休闲活动层次等级较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四）休闲消费增多，由经济“危机”导致心理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28e"/>
                </a:solidFill>
                <a:latin typeface="宋体"/>
              </a:rPr>
              <a:t>第三节 大学生休闲活动心理健康教育对策</a:t>
            </a:r>
            <a:r>
              <a:rPr b="1" lang="zh-CN" sz="3200" spc="-1" strike="noStrike">
                <a:solidFill>
                  <a:srgbClr val="00428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大学生休闲活动中的自我调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加强大学生休闲活动的心理健康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28e"/>
                </a:solidFill>
                <a:latin typeface="楷体_GB2312"/>
                <a:ea typeface="楷体_GB2312"/>
              </a:rPr>
              <a:t>一、大学生休闲活动中的自我调适</a:t>
            </a:r>
            <a:endParaRPr b="1" lang="en-US" sz="32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309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安排好学习、生活和休闲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树立正确的休闲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三）提高休闲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564000" y="1413000"/>
            <a:ext cx="5186160" cy="3960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68600" y="5589720"/>
            <a:ext cx="567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图片来自：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hi.baidu.com/%B8%EB%D7%D3%D9%A4%C8%CB/album/item/5c931ea319f39b8acbefd031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716360" y="1052640"/>
            <a:ext cx="4027680" cy="28778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28e"/>
                </a:solidFill>
                <a:latin typeface="Arial"/>
              </a:rPr>
              <a:t>多种多样的休闲活动</a:t>
            </a:r>
            <a:endParaRPr b="1" lang="en-US" sz="32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4248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爱好是听音乐，放松身心，陶冶情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3065760" cy="2876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716360" y="4581360"/>
            <a:ext cx="36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喜欢玩魔方，可以锻炼我的逻辑思维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28e"/>
                </a:solidFill>
                <a:latin typeface="楷体_GB2312"/>
                <a:ea typeface="楷体_GB2312"/>
              </a:rPr>
              <a:t>二、加强大学生休闲活动的心理健康教育</a:t>
            </a:r>
            <a:endParaRPr b="1" lang="en-US" sz="32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改变观念，树立正确的休闲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加强休闲教育，丰富休闲知识和提高休闲技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三）创造条件，为大学生休闲活动提供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四）开展心理咨询，及时纠正休闲活动的偏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28e"/>
                </a:solidFill>
                <a:latin typeface="Arial"/>
                <a:ea typeface="楷体_GB2312"/>
              </a:rPr>
              <a:t>复习思考题</a:t>
            </a:r>
            <a:endParaRPr b="1" lang="en-US" sz="28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解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休闲，休闲时间，休闲活动，休闲能力，休闲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举例说明休闲、休闲时间和休闲活动的区别与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联系自己的实际，谈谈休闲活动的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结合你所在学校，谈谈当前大学生休闲活动存在哪些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对当前大学生休闲活动存在的问题，你有什么建议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3544920" cy="2340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340000" cy="3238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987640" y="112536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喜欢打篮球，大家都说我很像流川枫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3933720"/>
            <a:ext cx="493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没事的时候就去玩色子，运气好的话可以挣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5013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有什么休闲活动？这些活动对人的影响都一样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61760" y="5950080"/>
            <a:ext cx="213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第二、三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图片皆来自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iecool.com/vector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8e"/>
                </a:solidFill>
                <a:latin typeface="宋体"/>
              </a:rPr>
              <a:t>〖</a:t>
            </a:r>
            <a:r>
              <a:rPr b="1" lang="zh-CN" sz="3200" spc="-1" strike="noStrike">
                <a:solidFill>
                  <a:srgbClr val="00428e"/>
                </a:solidFill>
                <a:latin typeface="Arial"/>
              </a:rPr>
              <a:t>案例导入</a:t>
            </a:r>
            <a:r>
              <a:rPr b="1" lang="en-US" sz="3200" spc="-1" strike="noStrike">
                <a:solidFill>
                  <a:srgbClr val="00428e"/>
                </a:solidFill>
                <a:latin typeface="宋体"/>
              </a:rPr>
              <a:t>〗</a:t>
            </a:r>
            <a:endParaRPr b="1" lang="en-US" sz="32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：一名自立、自强、自信的大学生充实有效地大学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析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随着社会的进步，人们的工作、学习和生活压力越来越大，精神生活越来越贫瘠，越来越没有主观幸福感。于是，休闲生活理念悄然兴起，它劝导人们从过度膨胀的物质财富欲望中解放出来，做自己喜欢做的事，感受工作、学习和生活中的快乐，体会生命的意义，发掘人生的价值。因此，休闲不仅关系到人的全面发展，也影响到人们的生活和生存质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28e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00428e"/>
                </a:solidFill>
                <a:latin typeface="Arial"/>
              </a:rPr>
              <a:t>内容提要</a:t>
            </a:r>
            <a:r>
              <a:rPr b="1" lang="en-US" sz="3200" spc="-1" strike="noStrike">
                <a:solidFill>
                  <a:srgbClr val="00428e"/>
                </a:solidFill>
                <a:latin typeface="Arial"/>
              </a:rPr>
              <a:t>】</a:t>
            </a:r>
            <a:endParaRPr b="1" lang="en-US" sz="32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学生休闲活动的一般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学生的休闲活动与心理健康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学生休闲活动心理健康教育对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28e"/>
                </a:solidFill>
                <a:latin typeface="宋体"/>
              </a:rPr>
              <a:t>第一节 大学生休闲活动的一般问题</a:t>
            </a:r>
            <a:endParaRPr b="1" lang="en-US" sz="32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休闲活动及其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代大学生休闲活动的基本特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428e"/>
                </a:solidFill>
                <a:latin typeface="Arial"/>
                <a:ea typeface="楷体_GB2312"/>
              </a:rPr>
              <a:t>一、休闲活动及其功能</a:t>
            </a:r>
            <a:endParaRPr b="1" lang="en-US" sz="32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什么是休闲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类时间资源的利用可以分为三个基本成分：劳动时间、休闲时间、生理生活时间。休闲活动是人们在休闲时间里从事的各种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产生休闲体验的休闲活动要满足三个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是自愿选择的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是能得到自由与愉悦的心理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是有益身心健康的，追求生活意义的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5352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休闲活动的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休闲活动的放松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没有休闲活动，就不可能有真正意义上的生理和心理疲劳的恢复，从这一点出发，放松就可能是休闲活动的最基本和最必要的功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积极的放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消极的放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649680" cy="259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672520" y="5516640"/>
            <a:ext cx="267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图片来自：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imagewa.com/Photo/125/14309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428e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闲活动的娱乐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们利用休闲时间，通过参与经常性的游乐活动，达到保持心情愉快、强身健体的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构词上来看，娱乐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ea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可以理解为“再造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-creation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即一种对工作和劳动过程造成的身心磨损与老化的修复与治疗过程，使之恢复、复原、回到原初的或理想的状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德胜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08:37:01Z</dcterms:created>
  <dc:creator>吴艳红</dc:creator>
  <dc:description/>
  <dc:language>en-US</dc:language>
  <cp:lastModifiedBy>微软用户</cp:lastModifiedBy>
  <dcterms:modified xsi:type="dcterms:W3CDTF">2009-11-18T15:45:32Z</dcterms:modified>
  <cp:revision>270</cp:revision>
  <dc:subject/>
  <dc:title>11第十一章 休闲活动与心理健康</dc:title>
</cp:coreProperties>
</file>