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5080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3324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A84-CAAA-4CF6-8C9D-3AF22FF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C7B-85D3-45D7-97CF-CBEAFD75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370-4D8B-405E-8907-D6DAFD0C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F91-6A45-4356-A355-027073CE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5523-4BD5-478D-8793-53ACCE7E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4A2-8221-4A98-B5D7-AF2F1616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6C0-7C1C-431C-97DD-2E1CE1E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62DE-7C8B-4233-AA4C-D1DADE2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755-AA1B-43A7-9C99-4F96EBF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342-2381-4D71-8994-09948FE5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EB3-5788-4DC4-A961-A7DACEC4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836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5080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33240" y="376704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CE7-E563-4426-AE57-15B8B903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400" y="376704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76704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8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5abde"/>
              </a:buClr>
              <a:buSzPct val="6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8e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42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8028000" cy="1052640"/>
          </a:xfrm>
          <a:prstGeom prst="rect">
            <a:avLst/>
          </a:prstGeom>
          <a:solidFill>
            <a:srgbClr val="65a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77080" y="189000"/>
            <a:ext cx="1976040" cy="761760"/>
            <a:chOff x="6877080" y="189000"/>
            <a:chExt cx="1976040" cy="761760"/>
          </a:xfrm>
        </p:grpSpPr>
        <p:sp>
          <p:nvSpPr>
            <p:cNvPr id="4" name=""/>
            <p:cNvSpPr/>
            <p:nvPr/>
          </p:nvSpPr>
          <p:spPr>
            <a:xfrm>
              <a:off x="721584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21584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21584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8504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8504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8504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5460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460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5460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2416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2416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2416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2416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89336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893360" y="84204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6292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6292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6292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3212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3212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01680" y="1890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0168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0168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0168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71240" y="1890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7124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740440" y="35208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740440" y="51552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4044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04628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7080" y="678600"/>
              <a:ext cx="112680" cy="108720"/>
            </a:xfrm>
            <a:prstGeom prst="rect">
              <a:avLst/>
            </a:prstGeom>
            <a:solidFill>
              <a:srgbClr val="ffffff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655308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67057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68580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95280" y="616572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4211640" y="623736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华东师范大学出版社</a:t>
            </a:r>
            <a:r>
              <a:rPr b="0" lang="zh-CN" sz="1800" spc="-1" strike="noStrike">
                <a:solidFill>
                  <a:srgbClr val="00428e"/>
                </a:solidFill>
                <a:latin typeface="Arial"/>
                <a:ea typeface="隶书"/>
              </a:rPr>
              <a:t>——给您一个智慧的人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A68-B19E-46FD-8C15-2490B29373F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0"/>
            <a:ext cx="9144000" cy="5791320"/>
            <a:chOff x="0" y="0"/>
            <a:chExt cx="9144000" cy="579132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solidFill>
              <a:srgbClr val="65a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895480" y="3657600"/>
              <a:ext cx="58676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3520" y="3200400"/>
              <a:ext cx="7696080" cy="838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96080" y="2286000"/>
              <a:ext cx="533520" cy="83808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34320" y="1676520"/>
              <a:ext cx="914400" cy="83808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77320" y="685800"/>
              <a:ext cx="914400" cy="152388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3080" y="1295280"/>
              <a:ext cx="533520" cy="53352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724280" y="2286000"/>
              <a:ext cx="1295280" cy="838080"/>
              <a:chOff x="4724280" y="2286000"/>
              <a:chExt cx="1295280" cy="838080"/>
            </a:xfrm>
          </p:grpSpPr>
          <p:sp>
            <p:nvSpPr>
              <p:cNvPr id="89" name=""/>
              <p:cNvSpPr/>
              <p:nvPr/>
            </p:nvSpPr>
            <p:spPr>
              <a:xfrm>
                <a:off x="495288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7242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9528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9528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8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814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814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1008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100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4100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100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63868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6386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72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2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352680" y="2514600"/>
              <a:ext cx="1295280" cy="609480"/>
              <a:chOff x="3352680" y="2514600"/>
              <a:chExt cx="1295280" cy="609480"/>
            </a:xfrm>
          </p:grpSpPr>
          <p:sp>
            <p:nvSpPr>
              <p:cNvPr id="106" name=""/>
              <p:cNvSpPr/>
              <p:nvPr/>
            </p:nvSpPr>
            <p:spPr>
              <a:xfrm>
                <a:off x="38098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098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384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0384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384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670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95680" y="2514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95680" y="2743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956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812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52680" y="2971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62120" y="4114800"/>
              <a:ext cx="1904760" cy="762120"/>
              <a:chOff x="762120" y="4114800"/>
              <a:chExt cx="1904760" cy="76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108864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8864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8864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5172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5172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5172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1516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41516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1516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7824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7824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7824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7824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4168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41680" y="476820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0476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0476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476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6820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6820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31640" y="411480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3164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3164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3164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394720" y="411480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9472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58160" y="427788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58160" y="444132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5816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2520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120" y="4604760"/>
                <a:ext cx="108720" cy="108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486400" y="1371600"/>
              <a:ext cx="2666880" cy="1066680"/>
              <a:chOff x="5486400" y="1371600"/>
              <a:chExt cx="2666880" cy="1066680"/>
            </a:xfrm>
          </p:grpSpPr>
          <p:sp>
            <p:nvSpPr>
              <p:cNvPr id="151" name=""/>
              <p:cNvSpPr/>
              <p:nvPr/>
            </p:nvSpPr>
            <p:spPr>
              <a:xfrm>
                <a:off x="59436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436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722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722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1722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008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008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008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294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294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294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580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58000" y="2286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866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866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0866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152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52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543800" y="1371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438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438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438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72400" y="13716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724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01000" y="16002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01000" y="18288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10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150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86400" y="20574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057400" y="4800600"/>
              <a:ext cx="533520" cy="53352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2480" y="5334120"/>
              <a:ext cx="228600" cy="22860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23880" y="548640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250920" y="260280"/>
            <a:ext cx="68580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920" y="260280"/>
                      <a:ext cx="68580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>
              <a:off x="971640" y="333360"/>
              <a:ext cx="3313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普通高等教育“十一”五国家级规划教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大学生心理健康教育（第二版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60" y="3284640"/>
              <a:ext cx="7848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428e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5abde"/>
              </a:buClr>
              <a:buSzPct val="6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428e"/>
              </a:buClr>
              <a:buSzPct val="5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2842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八章   恋爱与心理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743200" y="400536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Arial"/>
              </a:rPr>
              <a:t>专栏：</a:t>
            </a:r>
            <a:r>
              <a:rPr b="0" lang="zh-CN" sz="3200" spc="-1" strike="noStrike">
                <a:solidFill>
                  <a:srgbClr val="00336c"/>
                </a:solidFill>
                <a:latin typeface="Arial"/>
              </a:rPr>
              <a:t>大学生可以恋爱么？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否可以恋爱并非一个绝对的规定，它与个体的身心成熟与社会性成熟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恋爱的独特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是大学生恋爱的高纯度，纯净、美丽有时甚至显得单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是大学生恋爱的精神特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是大学生恋爱的冲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是大学生恋爱表达的自然与随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五是大学生恋爱理性与感性并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六是大学生爱情的多元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二、影响大学生恋爱的因素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生理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环境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心理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9456800">
            <a:off x="4140000" y="2637000"/>
            <a:ext cx="3024000" cy="26636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2663640"/>
              <a:gd name="textAreaBottom" fmla="*/ 2664000 h 26636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 rot="5400000">
            <a:off x="6803640" y="2636640"/>
            <a:ext cx="1800000" cy="35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生理因素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64" name=""/>
          <p:cNvSpPr txBox="1"/>
          <p:nvPr/>
        </p:nvSpPr>
        <p:spPr>
          <a:xfrm rot="5400000">
            <a:off x="3347640" y="4725720"/>
            <a:ext cx="1800000" cy="35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环境因素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265" name=""/>
          <p:cNvSpPr txBox="1"/>
          <p:nvPr/>
        </p:nvSpPr>
        <p:spPr>
          <a:xfrm rot="7991400">
            <a:off x="3779640" y="2205000"/>
            <a:ext cx="1800360" cy="35856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心理因素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三、当代大学生恋爱的现状特点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大学生恋爱普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大学生恋爱低龄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大学生恋爱动机多种多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大学生恋爱讲求短平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五）大学生恋爱考虑较单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六）大学生恋爱中性行为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Arial"/>
              </a:rPr>
              <a:t>专栏：</a:t>
            </a:r>
            <a:r>
              <a:rPr b="0" lang="zh-CN" sz="3200" spc="-1" strike="noStrike">
                <a:solidFill>
                  <a:srgbClr val="00336c"/>
                </a:solidFill>
                <a:latin typeface="Arial"/>
              </a:rPr>
              <a:t>这是爱情么？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路是今年刚入学的大一新生，长得很秀气美丽。今年刚考入北京的大学，开始她四年的大学生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第一次远离家门的小路来说，新的学习环境带来更多的是孤单和不适应，在这种环境下她的一个师兄给了她无微不至的关怀。于是在军训结束当晚，师兄向她提出希望能作他的女朋友的要求时，小路答应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但是小路说“可是没多久，我就觉得后悔了！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宋体"/>
              </a:rPr>
              <a:t>第二节 大学生的恋爱与心理健康的关系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恋爱动机与心理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恋爱观与心理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恋爱道德与心理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恋爱挫折与心理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一、恋爱动机与心理健康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情感寄托型动机所衍生的恋爱缺乏独立意识和自立能力，使大学生更易让恋爱受挫，心理创伤更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近年来，大学生恋爱趋向一种低龄化、高速度发展、普遍化，而就其原因，主要是出与一种从众的恋爱动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另外，在恋爱动机上还有些学生受社会功利思想的影响，出于为追求荣耀、名誉、地位、经济等表面的光彩，为满足自己的“自尊需要”，或为了寻求刺激、追求浪漫生活而谈恋爱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二、恋爱观与心理健康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婚姻并不一定是“恋爱的结果”、“恋爱是为积累经验”的恋爱价值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码标价”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情手段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情至上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是利用恋爱来体验情感生活，还是用来满足虚荣心，抑或用来打发时光享乐，都是恋爱观日趋实用化的表现，带给大学生的常常是无尽的爱情困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三、恋爱道德与心理健康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824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恋爱中本应遵循的道德是：以爱为基础，以高尚情趣为恋爱发展的动力，在恋爱中相互尊重各自选择的自由与权利、以及人格，同时信守责任，恋爱时双方忠贞专一、真诚相待，注重恋爱的健康交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824280" y="5734080"/>
            <a:ext cx="53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hi.baidu.com/%D7%F3%CA%D6%CC%D7%B0%D7%C0%C7/album/item/8fc298ae8942b4dffaed5057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四、恋爱挫折与心理健康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1749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失恋造成的心理创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卑心理，绝望心理，报复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单恋造成的心理创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恋爱纠葛造成的心理创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084560" cy="4321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52560" y="5805360"/>
            <a:ext cx="263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：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www.someimei.com/feizhuliu/fzltp/24534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Arial"/>
              </a:rPr>
              <a:t>第三节 大学生恋爱心理健康教育对策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恋爱心理的自我调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强大学生恋爱心理健康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5905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8c03b1"/>
                </a:solidFill>
                <a:latin typeface="Arial"/>
                <a:ea typeface="创艺简楷体"/>
              </a:rPr>
              <a:t>爱情是？……</a:t>
            </a:r>
            <a:endParaRPr b="1" lang="en-US" sz="37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504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0dfb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就是神在爱情中也难保持聪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弗兰西斯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培根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英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0dfb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在世人制定的法律中，没有一条是针对爱情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莫里哀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法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80dfb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爱情有如佛家的禅——不可说，不可说，一说就是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三毛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中国台湾</a:t>
            </a:r>
            <a:r>
              <a:rPr b="0" lang="zh-CN" sz="2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创艺简楷体"/>
                <a:ea typeface="创艺简楷体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1981" t="0" r="3604" b="21364"/>
          <a:stretch/>
        </p:blipFill>
        <p:spPr>
          <a:xfrm>
            <a:off x="5148360" y="1413000"/>
            <a:ext cx="3384360" cy="446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76880" y="5950080"/>
            <a:ext cx="447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图片来自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hi.baidu.com/%D3%C6%D3%C6shiyi/album/item/f3fa26ce3df43e1fb600c83a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2533680" cy="431784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一、大学生恋爱心理的自我调适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416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恋爱心理困境的自我调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种困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缺乏爱与被爱的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性朋友中难寻真正的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面对婚前性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74640" y="5734080"/>
            <a:ext cx="330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：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epaper.jinghua.cn/html/2009-11/17/content_484428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恋爱挫折的自我调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失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敢于面对失恋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为对方着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加强自我调控减轻心理压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理化树立自信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积极转移情感与情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适当地进行情感宣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努力使情感得以升华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客观、理智地对待恋爱问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会用理智战胜情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及时的移情、移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勇于自我表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恋爱纠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识爱情的选择性与排他性之间的区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新评价自己与恋爱对象的关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明智理性地退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二、加强大学生恋爱心理的健康教育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确立正确的恋爱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二）提高道德修养，增强恋爱的责任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三）提供机会，适当地进行性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四）积极参加社会实践，形成良好的人际交往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c"/>
                </a:solidFill>
                <a:latin typeface="Arial"/>
                <a:ea typeface="楷体_GB2312"/>
              </a:rPr>
              <a:t>复习思考题</a:t>
            </a:r>
            <a:endParaRPr b="1" lang="en-US" sz="28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释：爱情，恋爱动机，恋爱观，恋爱道德，恋爱挫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代大学生恋爱价值取向多元化，你认为原因是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表现出的不良恋爱行为有哪些？你如何看待它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个人实际，谈谈如何形成健康的恋爱心理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Arial"/>
              </a:rPr>
              <a:t>佳作推荐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亲密关系（人民邮电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5.10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的本质（九州出版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5.3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影视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乱世佳人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上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马假日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上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宋体"/>
              </a:rPr>
              <a:t>〖</a:t>
            </a:r>
            <a:r>
              <a:rPr b="1" lang="zh-CN" sz="3200" spc="-1" strike="noStrike">
                <a:solidFill>
                  <a:srgbClr val="00336c"/>
                </a:solidFill>
                <a:latin typeface="Arial"/>
              </a:rPr>
              <a:t>案例导入</a:t>
            </a:r>
            <a:r>
              <a:rPr b="1" lang="zh-CN" sz="3200" spc="-1" strike="noStrike">
                <a:solidFill>
                  <a:srgbClr val="00336c"/>
                </a:solidFill>
                <a:latin typeface="宋体"/>
              </a:rPr>
              <a:t>〗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：硕士生明华的恋爱——我爱她，为了能在一起辞了工作考研到上海，但她却说我们不合适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：随着高校社会化程度的提升，大学生的恋爱问题也愈加普遍。那么什么是真正的爱情，如何对待恋爱、追求爱情，怎样把握自己处理好恋爱中出现的各种问题，如何协调恋爱中的各种关系等问题，是每个远离父母“束缚”的大学生所面临的问题。如果处理不好这些问题，不仅不能发挥恋爱的人格再造作用，也不能从中获得全新的自我体验，反而迷失自我，出现各种心理困惑和心理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Arial"/>
              </a:rPr>
              <a:t>【内容提要】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恋爱的一般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的恋爱与心理健康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学生恋爱心理健康教育对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c"/>
                </a:solidFill>
                <a:latin typeface="宋体"/>
              </a:rPr>
              <a:t>第一节 大学生恋爱的一般问题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爱情内涵的心理学阐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影响大学生恋爱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当代大学生恋爱的现状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c"/>
                </a:solidFill>
                <a:latin typeface="Arial"/>
                <a:ea typeface="楷体_GB2312"/>
              </a:rPr>
              <a:t>一、爱情内涵的心理学阐释</a:t>
            </a:r>
            <a:endParaRPr b="1" lang="en-US" sz="32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248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爱情是建立在传宗接代的本能基础上，男女双方产生的特别强烈的肉体和精神享受的相互仰慕，并渴望对方成为自己终身伴侣的高尚感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3594" t="2644" r="3963" b="2701"/>
          <a:stretch/>
        </p:blipFill>
        <p:spPr>
          <a:xfrm>
            <a:off x="5148360" y="1125360"/>
            <a:ext cx="3360600" cy="4677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5032440" y="5950080"/>
            <a:ext cx="3525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：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qeell.blog.163.com/blog/static/124695165200910811123192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580000" y="3500280"/>
            <a:ext cx="3272040" cy="21607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5256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男女双方培育爱情的过程叫恋爱，按进程一般又可分为初恋期、热恋期、恋爱质变期（失恋或结合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恋爱男女的五个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眉目之间的传情和语言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美化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善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常牵挂对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占有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138720" y="1484280"/>
          <a:ext cx="2249640" cy="126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38720" y="1484280"/>
                    <a:ext cx="224964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5378760" y="2924280"/>
            <a:ext cx="37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眉目之间的传情和语言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图片来自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www.zjol.com.cn/05she/system/2005/08/09/006263965_02.s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60840" y="5734080"/>
            <a:ext cx="337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人眼里出西施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原图片来自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club.china.com/data/thread/26154311/276/89/08/7_1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心理学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e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4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爱情关系分为以下六种形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浪漫式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占有式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伴侣式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奉献式爱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bde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实式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211640" y="2567160"/>
            <a:ext cx="4167360" cy="2877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449520" y="5735520"/>
            <a:ext cx="5621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图片来自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http://hi.baidu.com/%C7%A7%B1%AD%D7%ED%B2%BB%D0%D1/album/item/fd3a9ef44b12e400bd310943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2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斯滕伯格的爱情三元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284720" cy="3095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102840" y="5299920"/>
            <a:ext cx="30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-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ternber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情三元论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6:33:25Z</dcterms:created>
  <dc:creator>MC SYSTEM</dc:creator>
  <dc:description/>
  <dc:language>en-US</dc:language>
  <cp:lastModifiedBy>微软用户</cp:lastModifiedBy>
  <dcterms:modified xsi:type="dcterms:W3CDTF">2009-11-18T17:01:44Z</dcterms:modified>
  <cp:revision>38</cp:revision>
  <dc:subject/>
  <dc:title>08第八章 恋爱与心理健康</dc:title>
</cp:coreProperties>
</file>