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7DD-076B-4D68-902B-D1949909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055-6B3E-4477-A4F2-DBB8B24C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2F3-469B-4F32-B335-D33C4843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03D-233C-490C-A63A-8713F16B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1961-F995-4528-A264-B8BBCF56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1412-9065-4632-A1DD-13D9BBA0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2798-2401-46C3-B7FA-9B47EF75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6C04-71DF-4770-B624-EF250333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4FA8-4BCA-49E0-B6B5-8A39FCC2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AB07-8275-4316-8B3A-BB36DF3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80C5-F25B-4525-A64E-D397D93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89D-6E42-4A6C-BB4C-543EE5C2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0A28-96FE-4A30-A22D-724D7ED1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1E66-D2A6-4F2B-B98A-D2572877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B0D9-71E6-406A-B879-F8EC8A4C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5D07-6898-4242-AF9F-8B3BF596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B1D8-8AA8-48CA-98E2-0F542E5D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123-C1F5-438D-B68B-479E1537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FFD-DAF0-4D78-AFC3-44BF5EAC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C1C-559D-4C1B-A85C-BFDA446F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AB1-091D-48D8-B449-91AA5F20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5101-C0D0-43E7-BF5F-7C96145F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181-5716-461D-9C93-19C2BEF0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9B0-8701-4E0B-9BA4-90848F6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4DAC-40C3-44C9-85ED-61AC6830D0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13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928C-898C-43E3-8379-59A0C80986B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6248520"/>
            <a:ext cx="4343400" cy="317520"/>
            <a:chOff x="2895480" y="6248520"/>
            <a:chExt cx="4343400" cy="317520"/>
          </a:xfrm>
        </p:grpSpPr>
        <p:sp>
          <p:nvSpPr>
            <p:cNvPr id="66" name=""/>
            <p:cNvSpPr/>
            <p:nvPr/>
          </p:nvSpPr>
          <p:spPr>
            <a:xfrm>
              <a:off x="3200040" y="6248520"/>
              <a:ext cx="403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 </a:t>
              </a:r>
              <a:r>
                <a:rPr b="0" lang="zh-CN" sz="1400" spc="-1" strike="noStrike">
                  <a:solidFill>
                    <a:srgbClr val="808080"/>
                  </a:solidFill>
                  <a:latin typeface="黑体"/>
                  <a:ea typeface="黑体"/>
                </a:rPr>
                <a:t>华东师范大学出版社中等职业教育分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2895480" y="6248520"/>
              <a:ext cx="266760" cy="31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软件开发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第三版）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主编  钟一兵 顾  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项目一 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概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一 安装并认识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sual Basic 6.0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的集成开发环境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何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Basic 6.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集成开发环境中的元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菜单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工具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工具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窗体设计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工程管理器窗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窗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窗体布局窗口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 Basic 6.0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的集成开发环境的其他元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活动二  创建第一个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B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应用实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习支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控件和对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窗体上添加控件的另一种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在工程中添加窗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象的属性、事件和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窗体的常用属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on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rderStyl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Button,MinButton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abl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ndowStat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ight,Width,Top,Lef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ble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Color,FillColor,ForeColor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窗体的属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ad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事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oad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事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ze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事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窗体的鼠标操作事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窗体的键盘操作事件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窗体的常用方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de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s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移动窗体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窗体的装载和卸载语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oad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设置应用程序的启动窗体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DN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提供的帮助信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联机帮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上下文相关帮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6:30:37Z</dcterms:created>
  <dc:creator>user</dc:creator>
  <dc:description/>
  <dc:language>en-US</dc:language>
  <cp:lastModifiedBy>APPLEPC</cp:lastModifiedBy>
  <dcterms:modified xsi:type="dcterms:W3CDTF">2012-10-30T01:22:44Z</dcterms:modified>
  <cp:revision>15</cp:revision>
  <dc:subject/>
  <dc:title>网页制作 Dreamweaver MX2004</dc:title>
</cp:coreProperties>
</file>