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C114-D119-4EE1-B204-B2DDB14BC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BCF9-E9D8-45CA-9137-F8619E4C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4F2C-746C-4318-AF2D-A8E5E8488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4207-CA90-4D04-A102-189E673D7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DE8D-3AAC-433D-9556-0697281DC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F767-D616-4ECF-82FC-86E298D7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DD26-74D8-47BF-A3C2-1B42872C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093A-E33C-4A35-B3E3-DCABF115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4420-303A-497E-9D23-35641B66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311A-4986-4477-9820-081AEF9F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E522-75EB-449E-A068-7738BA90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ACA8-B3E1-480F-816A-A7815E1A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BA0F-1819-49CF-A76F-7ACB622C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BAD5-6257-4E46-A073-6CA24C28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BF62-172B-488B-9451-D3E0BAD4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3F8F-8E76-43C3-B275-6CC550485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2FA6-9906-47EE-9C1D-BF838E1CA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BC4F-FAF2-4FE5-9452-D1056346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978A-71D6-4B58-8708-3136545B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9512-CDF7-427F-B144-5B89B847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BD3B-596E-449E-A6BD-FC97649E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03EA-6320-4BBA-99D6-5A04E8B9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A001-4E7F-4973-AE99-D0BA0D46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1D85-37A6-439E-9F5E-B75C76F0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1B9D-E71B-4F3B-BB52-24830D4DB48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2895480" y="6248520"/>
            <a:ext cx="4343400" cy="317520"/>
            <a:chOff x="2895480" y="6248520"/>
            <a:chExt cx="4343400" cy="317520"/>
          </a:xfrm>
        </p:grpSpPr>
        <p:sp>
          <p:nvSpPr>
            <p:cNvPr id="13" name=""/>
            <p:cNvSpPr/>
            <p:nvPr/>
          </p:nvSpPr>
          <p:spPr>
            <a:xfrm>
              <a:off x="3200040" y="6248520"/>
              <a:ext cx="4038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808080"/>
                  </a:solidFill>
                  <a:latin typeface="黑体"/>
                  <a:ea typeface="黑体"/>
                </a:rPr>
                <a:t> </a:t>
              </a:r>
              <a:r>
                <a:rPr b="0" lang="zh-CN" sz="1400" spc="-1" strike="noStrike">
                  <a:solidFill>
                    <a:srgbClr val="808080"/>
                  </a:solidFill>
                  <a:latin typeface="黑体"/>
                  <a:ea typeface="黑体"/>
                </a:rPr>
                <a:t>华东师范大学出版社中等职业教育分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" name="" descr=""/>
            <p:cNvPicPr/>
            <p:nvPr/>
          </p:nvPicPr>
          <p:blipFill>
            <a:blip r:embed="rId2"/>
            <a:stretch/>
          </p:blipFill>
          <p:spPr>
            <a:xfrm>
              <a:off x="2895480" y="6248520"/>
              <a:ext cx="266760" cy="3175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328B-EB5B-46A5-AB7F-8D710CEA8806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895480" y="6248520"/>
            <a:ext cx="4343400" cy="317520"/>
            <a:chOff x="2895480" y="6248520"/>
            <a:chExt cx="4343400" cy="317520"/>
          </a:xfrm>
        </p:grpSpPr>
        <p:sp>
          <p:nvSpPr>
            <p:cNvPr id="66" name=""/>
            <p:cNvSpPr/>
            <p:nvPr/>
          </p:nvSpPr>
          <p:spPr>
            <a:xfrm>
              <a:off x="3200040" y="6248520"/>
              <a:ext cx="4038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808080"/>
                  </a:solidFill>
                  <a:latin typeface="黑体"/>
                  <a:ea typeface="黑体"/>
                </a:rPr>
                <a:t> </a:t>
              </a:r>
              <a:r>
                <a:rPr b="0" lang="zh-CN" sz="1400" spc="-1" strike="noStrike">
                  <a:solidFill>
                    <a:srgbClr val="808080"/>
                  </a:solidFill>
                  <a:latin typeface="黑体"/>
                  <a:ea typeface="黑体"/>
                </a:rPr>
                <a:t>华东师范大学出版社中等职业教育分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2895480" y="6248520"/>
              <a:ext cx="266760" cy="31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软件开发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Visual Basic 6.0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（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第三版）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主编  钟一兵 顾  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项目六  多媒体播放器程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活动一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D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播放器程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学习支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常见多媒体设备类别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控件的主要属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控件的主要事件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活动二  视频播放器程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学习支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er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控件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er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控件的主要属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er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控件的主要事件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06:30:37Z</dcterms:created>
  <dc:creator>user</dc:creator>
  <dc:description/>
  <dc:language>en-US</dc:language>
  <cp:lastModifiedBy>APPLEPC</cp:lastModifiedBy>
  <dcterms:modified xsi:type="dcterms:W3CDTF">2012-10-30T01:24:45Z</dcterms:modified>
  <cp:revision>27</cp:revision>
  <dc:subject/>
  <dc:title>网页制作 Dreamweaver MX2004</dc:title>
</cp:coreProperties>
</file>