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31F-EADC-4121-8B5C-1D659095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39C-405D-49C1-9923-3EDE4DE3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B1F-AEA6-43A5-B67B-062BA0C0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40B-BC6E-4CCB-A028-E356F400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9D39-8B5E-4A5E-A615-36BAC554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D464-60F2-479B-BDF0-5574610F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35AF-A74A-4A24-BCD6-0439B776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FBBF-8A34-4185-B1D9-1EBBE556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C4CC-B995-4E55-B5CA-64D176D0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BE3D-22C1-464C-827D-3C5E481F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5E50-D91B-44CD-88D3-F02FFAFE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F41-261E-45A0-BAF7-FCFC67F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6B46-A519-4204-AECF-B14F245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4623-908D-41F4-A5EC-BB7DC8B2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0238-05C3-4469-8F1D-2FB53048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F36E-698F-44E3-819E-7D0995AD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4806-3F35-49F6-9623-59DF5687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3D9-9743-4F05-A4D9-D6738114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354-7988-4C70-9947-A4F25146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C9E-A5F1-44BA-A63F-B651D5EF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940-68D2-4AC5-B76C-831E37B5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A86-E64E-4B61-A626-3256C2C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272-1D5A-45A1-920D-ED052A86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1D2-B64A-41EF-BD29-35014B6B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EC72-C198-484F-9719-EACCA8601F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13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D1A2-8121-43D1-80EB-028D83A2D21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66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软件开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第三版）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编  钟一兵 顾  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项目七  使用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DO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编写销售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一 了解项目背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二  项目的规划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(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多文档接口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窗体：可作为应用程序背景的窗口，也是其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Child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属性设置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窗体的容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设计器：制作销售程序的下拉式菜单，由于菜单设计器的使用在前面的项目中已经介绍，在此不再说明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模块文件：只包含过程、类型以及数据声明和定义的模块。在标准模块中，模块级别的声明和定义都被默认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三  产品表的设置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数据库基本概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数据库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数据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记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字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数据库访问的常用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 Data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ordse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被绑定的控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Combo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四  采购数据的设置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何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模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中的三个重要对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io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se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存取数据的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如何连接数据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如何打开记录集对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如何使用记录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断开连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id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五  销售日统计和客户订单查询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模型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se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sorTyp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kTyp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id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umn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to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Forma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6:30:37Z</dcterms:created>
  <dc:creator>user</dc:creator>
  <dc:description/>
  <dc:language>en-US</dc:language>
  <cp:lastModifiedBy>APPLEPC</cp:lastModifiedBy>
  <dcterms:modified xsi:type="dcterms:W3CDTF">2012-10-30T01:25:01Z</dcterms:modified>
  <cp:revision>31</cp:revision>
  <dc:subject/>
  <dc:title>网页制作 Dreamweaver MX2004</dc:title>
</cp:coreProperties>
</file>