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FEDB-4F4D-44FC-8867-722E1AA3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B132-B9B5-49A6-81AC-DE3A36B9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65A-927A-48E3-8C1E-CF9780C1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40A-3827-427A-8079-10133140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568D-EBB1-4EC2-9268-A75E7C12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90A8-03D4-48AA-8C48-46EFFEE8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0226-62E5-4524-BA6B-91203343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53FE-3BA0-4877-AE07-2F842BC5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FF00-16D5-466D-96FA-6FC06E0C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93B6-AEF8-438A-8DAD-1077ED35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9BB0-8AE2-4C6F-9B57-B64AA901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07A-2FF7-42C7-B8C8-44E14DD1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7A43-A39E-46B4-9E7C-87DDA102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39F6-A04D-4005-A45E-914DC320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9B08-0EDF-4E7F-9F9C-79DB0C6B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8C46-AA64-433E-855B-55DBAF6B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61C2-1908-43C7-8712-4C5D8B86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84E3-C8FE-4312-893E-2B430033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2C3E-59F4-41D3-92B3-F7BCB677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0E26-A222-4986-B6E7-016E9AC1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C98-2DDE-41CC-8700-0AB83F92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F6A8-49E8-4434-B567-A5BC7049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E51-8A45-4FEF-9878-44311D91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2A8-BB2C-404C-AB5F-4217E1C8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FA21-8B14-4587-9146-90B1427FB79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2895480" y="6248520"/>
            <a:ext cx="4343400" cy="317520"/>
            <a:chOff x="2895480" y="6248520"/>
            <a:chExt cx="4343400" cy="317520"/>
          </a:xfrm>
        </p:grpSpPr>
        <p:sp>
          <p:nvSpPr>
            <p:cNvPr id="13" name=""/>
            <p:cNvSpPr/>
            <p:nvPr/>
          </p:nvSpPr>
          <p:spPr>
            <a:xfrm>
              <a:off x="3200040" y="6248520"/>
              <a:ext cx="403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 </a:t>
              </a: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华东师范大学出版社中等职业教育分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" descr=""/>
            <p:cNvPicPr/>
            <p:nvPr/>
          </p:nvPicPr>
          <p:blipFill>
            <a:blip r:embed="rId2"/>
            <a:stretch/>
          </p:blipFill>
          <p:spPr>
            <a:xfrm>
              <a:off x="2895480" y="6248520"/>
              <a:ext cx="266760" cy="317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C050-AFF4-4B07-92AB-2842E1B3B82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480" y="6248520"/>
            <a:ext cx="4343400" cy="317520"/>
            <a:chOff x="2895480" y="6248520"/>
            <a:chExt cx="4343400" cy="317520"/>
          </a:xfrm>
        </p:grpSpPr>
        <p:sp>
          <p:nvSpPr>
            <p:cNvPr id="66" name=""/>
            <p:cNvSpPr/>
            <p:nvPr/>
          </p:nvSpPr>
          <p:spPr>
            <a:xfrm>
              <a:off x="3200040" y="6248520"/>
              <a:ext cx="403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 </a:t>
              </a: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华东师范大学出版社中等职业教育分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895480" y="6248520"/>
              <a:ext cx="26676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软件开发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isual Basic 6.0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第三版）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主编  钟一兵 顾  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项目三  文件操作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一 设计一个多选题的测试程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打开和关闭顺序文件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读文件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e Input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语句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语句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函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写文件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语句的语法格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语句的语法格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信息输入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消息对话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二  密码登录程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打开和关闭随机文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读文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写文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6:30:37Z</dcterms:created>
  <dc:creator>user</dc:creator>
  <dc:description/>
  <dc:language>en-US</dc:language>
  <cp:lastModifiedBy>APPLEPC</cp:lastModifiedBy>
  <dcterms:modified xsi:type="dcterms:W3CDTF">2012-10-30T01:23:51Z</dcterms:modified>
  <cp:revision>19</cp:revision>
  <dc:subject/>
  <dc:title>网页制作 Dreamweaver MX2004</dc:title>
</cp:coreProperties>
</file>