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883-51C3-404D-9287-16506C73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6CB-CAE5-4281-A4C0-90FE1F36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EC8-B44C-478F-8D21-991574B7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839-5F36-4821-98A0-EFE6DA57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EAD6-F9E6-48DE-93BE-970F2673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DEB1-30CC-4138-A7EF-6E732282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BB41-689B-4330-8863-1C1B1337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797-98CA-4BB1-828F-7AA0DD6D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1E19-C1D6-4893-9836-D5F48C4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8C3E-5097-46A5-886E-EC171C02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95BA-01B3-4B0A-A970-EB13BC7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3BE-8C91-4396-937A-084EA8A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E40-1FC8-4B87-9973-566159B5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5290-FF90-4886-9D98-33CD29C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3E5-7D31-46A8-ACE2-920E2C6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8D07-4DC4-403E-953A-644F5707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B2A4-CBC7-48D8-BC92-3AC73C65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47F-9A40-4C4F-A7AA-00C9FE80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BB3-A96D-4230-A7C4-153F9657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65E-903D-44A2-A4A5-05BA51EA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641-F1DD-477C-8752-0144EE79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F1C-9018-4550-BA1A-7EF4749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329-C6E2-4D85-91DB-7A98531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002-F678-4A26-9617-61D74ED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4724-6428-4FC5-B108-2A48F08D02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7519-F14C-4064-A971-1BB8EA6FFF7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二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B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程序设计基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设计一个简单背英语单词程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据类型、常量、变量、运算符和表达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数据类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常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变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运算符和表达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数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固定大小的数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动态数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标准函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数字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字符串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判断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转换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日期和时间函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基本语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赋值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条件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Cas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循环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过程和函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过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函数过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常用的几种标准控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命令按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标签和文本框控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滚动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列表中项目的移动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列表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列表框的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列表框的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组合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下拉式组合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简单组合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下拉式列表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三  内容的选取及背景色设置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单选按钮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复选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3:36Z</dcterms:modified>
  <cp:revision>17</cp:revision>
  <dc:subject/>
  <dc:title>网页制作 Dreamweaver MX2004</dc:title>
</cp:coreProperties>
</file>