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915-3878-4B1C-B445-E79C6795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736-48A1-49DE-A572-3380B30F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EA6-81ED-4A25-B19A-2E350335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97B-A1F8-4CF3-8BE2-0A14B7D9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0C5B-3849-4ADC-83D0-B0B569DA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4398-A1F4-4304-BBAF-D56CB683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F683-503A-4ADB-B07A-DFBEDC54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FA63-99D3-49F4-880B-C12FDA58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3EA9-03E0-477D-ACC1-6867868E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427E-E178-4D43-9481-90A00B0F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1D9F-70C9-4B84-BADA-EEEF892F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4D4-5914-4C3F-A443-A17F7ACF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B639-46FA-430E-AEE9-1BFA4370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65CD-355D-48B5-9F63-E6B52CFF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26BE-773A-4910-957B-F12DC9DD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EFF9-2C7D-4E1A-AF3C-B72BD16E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70A3-FCBA-4B4C-BD37-978B93E9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A94-1B25-4125-B6A0-7BED5167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1A5-66CC-47E9-B7D4-68C2A777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8C6-0930-40CE-9E9C-73D4429B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E81-7C58-4769-B832-2FB549CB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3CE-1B57-4092-A926-0ED11579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E20-C764-47CF-B29A-6DA5AE4F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159-DFB4-4AF6-B42E-C9D000BB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0F66-F728-4EF6-AC99-2AD7E75AB8E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2895480" y="6248520"/>
            <a:ext cx="4343400" cy="317520"/>
            <a:chOff x="2895480" y="6248520"/>
            <a:chExt cx="4343400" cy="317520"/>
          </a:xfrm>
        </p:grpSpPr>
        <p:sp>
          <p:nvSpPr>
            <p:cNvPr id="13" name=""/>
            <p:cNvSpPr/>
            <p:nvPr/>
          </p:nvSpPr>
          <p:spPr>
            <a:xfrm>
              <a:off x="3200040" y="6248520"/>
              <a:ext cx="40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 </a:t>
              </a: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华东师范大学出版社中等职业教育分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2"/>
            <a:stretch/>
          </p:blipFill>
          <p:spPr>
            <a:xfrm>
              <a:off x="2895480" y="6248520"/>
              <a:ext cx="266760" cy="317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44F8-AFFA-429E-8D70-2B656156DAD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480" y="6248520"/>
            <a:ext cx="4343400" cy="317520"/>
            <a:chOff x="2895480" y="6248520"/>
            <a:chExt cx="4343400" cy="317520"/>
          </a:xfrm>
        </p:grpSpPr>
        <p:sp>
          <p:nvSpPr>
            <p:cNvPr id="66" name=""/>
            <p:cNvSpPr/>
            <p:nvPr/>
          </p:nvSpPr>
          <p:spPr>
            <a:xfrm>
              <a:off x="3200040" y="6248520"/>
              <a:ext cx="40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 </a:t>
              </a: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华东师范大学出版社中等职业教育分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895480" y="6248520"/>
              <a:ext cx="2667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软件开发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isual Basic 6.0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第三版）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主编  钟一兵 顾  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项目四  文字处理程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一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DI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编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多文档界面的概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DI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应用程序的一些性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DI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窗体的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DI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窗体的方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创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DI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窗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创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DI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窗体的字窗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二  菜单的实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菜单的基本概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菜单编辑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数据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编辑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菜单项列表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四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TF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控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pboard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Format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Data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Data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Text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Text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TextBox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控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TextBox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控件的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TextBox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控件的方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r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控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r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控件的主要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r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控件的主要事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五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onDialogBox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控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通用对话框控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添加通用对话框控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通用对话框的使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通用对话框的基本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打开”对话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另存为”对话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颜色”对话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字体”对话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打印”对话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帮助”对话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错误处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Error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语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对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六  字处理软件的实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弹出式菜单的建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菜单控件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pupMenu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弹出式菜单的显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6:30:37Z</dcterms:created>
  <dc:creator>user</dc:creator>
  <dc:description/>
  <dc:language>en-US</dc:language>
  <cp:lastModifiedBy>APPLEPC</cp:lastModifiedBy>
  <dcterms:modified xsi:type="dcterms:W3CDTF">2012-10-30T01:24:07Z</dcterms:modified>
  <cp:revision>24</cp:revision>
  <dc:subject/>
  <dc:title>网页制作 Dreamweaver MX2004</dc:title>
</cp:coreProperties>
</file>