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231-707F-452C-B594-64F8E191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B6B-DF6B-4208-B57E-8C8EC0F7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C0F-3892-455A-9E5A-D7ED7A4C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040-3A05-4638-9337-78B95E57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B564-2AF2-4A81-8A4D-F5598008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FF4E-9E36-42A8-BA90-31CB7BCE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FBAE-9508-4A43-8997-6CF73A6E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E5D-8515-40E1-A390-7F7E530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DC87-3BA1-4E7F-ADF5-9144B62A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3F14-4D93-456C-AC75-B9E6C3BB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A6D6-8AB2-4B78-AA13-7F44E8AE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BA0-460E-4C60-BBC3-EADD1727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123C-DBB7-4421-9020-1E72EB95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CC20-29C4-4E2D-AD01-BECF0303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B897-9260-4332-83F7-BD6C3030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8040-2DBB-4AF3-A239-3DD1852C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D863-C2BB-4256-934D-11D9794E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78B-8E7C-4620-A085-9E8561DC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503-4314-406A-98AE-7FD6C278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E8C-1859-4406-86D1-B80E26F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5E6-2DD2-4C77-9497-C1CBC93D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71E-06B2-4DC8-83CC-DBE708BC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C81-6768-4EDC-B55D-7C9F0B77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BEE-3E38-478A-80ED-23B2A7B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1DE-6C54-4E42-8865-BD97021F6F0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5CC3-25E0-4A0E-9680-5888731265E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五  图形控件与绘图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认识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坐标系统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坐标系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系统坐标系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自定义坐标系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e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Redraw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图形控件的运用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控件的一些重要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图形加载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Pictur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图片框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图片框控件的一些重要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图片框控件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intPictur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三  图形方法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画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画椭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画圆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四  动画的制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Mov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事件：当鼠标指针在屏幕上移动时就会发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Mov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事件。当鼠标指针处在窗体和控件的边框内时，窗体和控件均能识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Move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事件。使用语法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Sub Object_Mous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ton As 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ft As 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As 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As Si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4:31Z</dcterms:modified>
  <cp:revision>25</cp:revision>
  <dc:subject/>
  <dc:title>网页制作 Dreamweaver MX2004</dc:title>
</cp:coreProperties>
</file>