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BACE-A502-4CC5-8020-00E9466C2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CD50-CDAC-40B3-BCB8-C767916F2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E620-F920-4F7F-98FB-6D19AEF11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27C8-4EB6-42A0-A279-A364FB8F8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F084A-04BA-4B93-9232-6E1F148B5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869B1-55BC-4C18-AD99-F272CA342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18026-2302-4454-8220-A59C8FDFF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2E88D-390E-4AE1-A18B-DB9647720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CCC5C-B832-4E3A-897F-4B9576BE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465D0-D0D9-4062-B1E7-4815E4C06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6833D-450D-476A-9C89-33C9BC82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6EF0-61D2-4DFC-8DCF-59BC63E16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D4F1C-D6E2-4175-9A66-D0E8C9FA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76D3B-9A0D-4BEB-A1D5-EA6F30B6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5959E-0EAA-441F-914D-A5CA123B8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041D5-C392-4FF9-AFEC-C0DF28210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48EAA-C78A-461F-8BA5-3EC2BD559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99DF-FDB5-485F-9D51-17EF3A341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DADB-58CF-4053-B787-98DE2164D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1DF4-1320-4F43-86E3-D232CCC15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A658-5C21-447A-B02B-BF93514D9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F1A9-9D21-4444-8D10-B49F2543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D457-65F2-4CEE-A7E4-CEA3BDB7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C17E-37EA-4715-A64C-B1FE237C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57947-88EA-41B8-9E06-AF770287198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" name=""/>
          <p:cNvGrpSpPr/>
          <p:nvPr/>
        </p:nvGrpSpPr>
        <p:grpSpPr>
          <a:xfrm>
            <a:off x="2895480" y="6248520"/>
            <a:ext cx="4343400" cy="317520"/>
            <a:chOff x="2895480" y="6248520"/>
            <a:chExt cx="4343400" cy="317520"/>
          </a:xfrm>
        </p:grpSpPr>
        <p:sp>
          <p:nvSpPr>
            <p:cNvPr id="13" name=""/>
            <p:cNvSpPr/>
            <p:nvPr/>
          </p:nvSpPr>
          <p:spPr>
            <a:xfrm>
              <a:off x="3200040" y="6248520"/>
              <a:ext cx="4038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808080"/>
                  </a:solidFill>
                  <a:latin typeface="黑体"/>
                  <a:ea typeface="黑体"/>
                </a:rPr>
                <a:t> </a:t>
              </a:r>
              <a:r>
                <a:rPr b="0" lang="zh-CN" sz="1400" spc="-1" strike="noStrike">
                  <a:solidFill>
                    <a:srgbClr val="808080"/>
                  </a:solidFill>
                  <a:latin typeface="黑体"/>
                  <a:ea typeface="黑体"/>
                </a:rPr>
                <a:t>华东师范大学出版社中等职业教育分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" name="" descr=""/>
            <p:cNvPicPr/>
            <p:nvPr/>
          </p:nvPicPr>
          <p:blipFill>
            <a:blip r:embed="rId2"/>
            <a:stretch/>
          </p:blipFill>
          <p:spPr>
            <a:xfrm>
              <a:off x="2895480" y="6248520"/>
              <a:ext cx="266760" cy="3175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2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6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7D9E7-B538-4B62-BC68-64B368FDBE8F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895480" y="6248520"/>
            <a:ext cx="4343400" cy="317520"/>
            <a:chOff x="2895480" y="6248520"/>
            <a:chExt cx="4343400" cy="317520"/>
          </a:xfrm>
        </p:grpSpPr>
        <p:sp>
          <p:nvSpPr>
            <p:cNvPr id="66" name=""/>
            <p:cNvSpPr/>
            <p:nvPr/>
          </p:nvSpPr>
          <p:spPr>
            <a:xfrm>
              <a:off x="3200040" y="6248520"/>
              <a:ext cx="4038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808080"/>
                  </a:solidFill>
                  <a:latin typeface="黑体"/>
                  <a:ea typeface="黑体"/>
                </a:rPr>
                <a:t> </a:t>
              </a:r>
              <a:r>
                <a:rPr b="0" lang="zh-CN" sz="1400" spc="-1" strike="noStrike">
                  <a:solidFill>
                    <a:srgbClr val="808080"/>
                  </a:solidFill>
                  <a:latin typeface="黑体"/>
                  <a:ea typeface="黑体"/>
                </a:rPr>
                <a:t>华东师范大学出版社中等职业教育分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" descr=""/>
            <p:cNvPicPr/>
            <p:nvPr/>
          </p:nvPicPr>
          <p:blipFill>
            <a:blip r:embed="rId2"/>
            <a:stretch/>
          </p:blipFill>
          <p:spPr>
            <a:xfrm>
              <a:off x="2895480" y="6248520"/>
              <a:ext cx="266760" cy="31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软件开发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Visual Basic 6.0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（</a:t>
            </a: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第三版）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主编  钟一兵 顾  洪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项目八  应用程序的调试和发布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活动一 应用程序的调试和出错处理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学习支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错误捕捉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对象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rr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对象常用的属性和方法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rr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对象配套使用的错误处理语句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程序调试的其他方法和工具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设置断点，使用立即窗口观察指定的变量、表达式、属性值的变化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逐语句执行，使用监视窗口观察指定表达式的变化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活动二  发布应用程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学习支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使用安装程序安装应用软件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所安装应用软件的删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启动打包和展开向导的另一种方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软件包的展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1T06:30:37Z</dcterms:created>
  <dc:creator>user</dc:creator>
  <dc:description/>
  <dc:language>en-US</dc:language>
  <cp:lastModifiedBy>APPLEPC</cp:lastModifiedBy>
  <dcterms:modified xsi:type="dcterms:W3CDTF">2012-10-30T01:25:17Z</dcterms:modified>
  <cp:revision>33</cp:revision>
  <dc:subject/>
  <dc:title>网页制作 Dreamweaver MX2004</dc:title>
</cp:coreProperties>
</file>