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E640-0AD2-43E5-963A-C64A3531AC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AB59-32C4-4190-8DF4-C444850200E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4980-3A96-4A0C-9F86-E4A96BD88F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CBAF-4F40-456A-A8ED-A219B16C65C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E5D-4D55-456A-85ED-A8F13FCD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9CB-7851-47F2-BDE2-66F86208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DCE-3135-4187-8778-C8B85214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45F-9BE5-4D27-ADB0-09BD4E05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063-FDB4-4284-A55C-42401DC9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3F6-AF38-4EF6-91BF-544268D4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C23-336E-4345-9B94-914B8CE8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DB7-618C-4FFB-AC19-27469A9E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663-39A4-4B9A-9452-929230C2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175-D887-4C8C-BEAE-11E74391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416-CDF3-4D80-B6DB-46773FF3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991-5255-48AB-874B-9DAD40A3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A433-ADF5-488B-B240-E1397C1D3E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湘夫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7866360" y="-880200"/>
            <a:ext cx="1277640" cy="73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踏鹊枝 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敦煌曲子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0" y="4149720"/>
            <a:ext cx="1440000" cy="36036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81818"/>
              </a:gs>
              <a:gs pos="50000">
                <a:srgbClr val="333333"/>
              </a:gs>
              <a:gs pos="100000">
                <a:srgbClr val="1818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ccff"/>
                </a:solidFill>
                <a:latin typeface="Times New Roman"/>
                <a:ea typeface="隶书"/>
              </a:rPr>
              <a:t>阅读赏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0" y="3500280"/>
            <a:ext cx="1440000" cy="36036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81818"/>
              </a:gs>
              <a:gs pos="50000">
                <a:srgbClr val="333333"/>
              </a:gs>
              <a:gs pos="100000">
                <a:srgbClr val="1818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ccff"/>
                </a:solidFill>
                <a:latin typeface="Times New Roman"/>
                <a:ea typeface="隶书"/>
              </a:rPr>
              <a:t>翻    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8">
            <a:hlinkClick r:id="" action="ppaction://hlinkshowjump?jump=endshow"/>
          </p:cNvPr>
          <p:cNvSpPr/>
          <p:nvPr/>
        </p:nvSpPr>
        <p:spPr>
          <a:xfrm>
            <a:off x="7740720" y="6237360"/>
            <a:ext cx="792000" cy="501480"/>
          </a:xfrm>
          <a:prstGeom prst="flowChartAlternateProcess">
            <a:avLst/>
          </a:prstGeom>
          <a:gradFill rotWithShape="0">
            <a:gsLst>
              <a:gs pos="0">
                <a:srgbClr val="181800"/>
              </a:gs>
              <a:gs pos="50000">
                <a:srgbClr val="333300"/>
              </a:gs>
              <a:gs pos="100000">
                <a:srgbClr val="18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图片 1" descr=""/>
          <p:cNvPicPr/>
          <p:nvPr/>
        </p:nvPicPr>
        <p:blipFill>
          <a:blip r:embed="rId2"/>
          <a:stretch/>
        </p:blipFill>
        <p:spPr>
          <a:xfrm>
            <a:off x="6084720" y="0"/>
            <a:ext cx="1575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8" descr="u=1835985505,889763700&amp;gp=42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-90720"/>
            <a:ext cx="330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翻    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7"/>
          <p:cNvSpPr/>
          <p:nvPr/>
        </p:nvSpPr>
        <p:spPr>
          <a:xfrm>
            <a:off x="7740720" y="6308640"/>
            <a:ext cx="792000" cy="43020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755640" y="1413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“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不可忍耐那喜鹊来叽叽喳喳的叫，都说你是最灵的，总是报告喜讯，可是你给我送来了什么啊？他一点消息都没有！再这样调戏我的感情，看我不把你捉了来，把你锁在笼子里，你还能说什么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“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本来是好心来早早给她报个喜讯的，想给她的寂寞一点安慰。可是她却把好心当做了驴肝肺！竟然把俺捉了锁进笼子。唉！她的心情俺还是理解的，不跟她计较了，但愿她的那个人早日归来，哈哈，那个时候就知道俺是好心了，就会欢天喜地地把俺放出来的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u=1835985505,889763700&amp;gp=42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77840" y="-162360"/>
            <a:ext cx="330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阅读赏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8172360" y="6308640"/>
            <a:ext cx="792360" cy="50184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250920" y="657360"/>
            <a:ext cx="87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此词舍弃了通常赋比兴手法的运用，避开了作者感情的直接抒发，却巧妙地实写了少妇和灵鹊的两段心曲。词上片是少妇语，下片是灵鹊语。全词纯用口语，模拟心理，得无理而有理之妙，体现了刚健清新、妙趣横生的艺术特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有人说，这上下片之间是少妇和灵鹊的问答或对话，这说法恐怕不确。实际上倒更像二者的心理独白或旁白，这不仅从语气和清理上看，它们之间不必也不像对话；而且，早期的词是入乐的，它通过演唱者的歌声诉诸人们的听觉，以口头艺术特有的声调语气，使用独白或旁白，是易于表现主人公的心理态势，以至于表达主题思想的。上片在于表明少妇的“锁”，下片在于表明灵鹊的要求“放”，这一“锁”一“放”之间，已具备了矛盾的发展、情节的推移、感情的流露、心理的呈现、形象的塑造，这也就完成了艺术创作的使命，使它升华为一件艺术品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灵鹊报喜是中国固有的民间风俗。不过，将灵鹊的噪叫当做行人归来的预报，毕竟只是一种相沿而成的习俗、观念，它本身并不见得合理，因而也就往往难以应验。而作者采用这一习俗入词，正是觑着它的“跛脚处”而有意生发，其目的还在于表现少妇思夫不得而对灵鹊的迁怒。于是，不合理的习俗倒构成了合理的故事情节，而且也由此增强了词作的生活气息和真实感。这有如点铁成金的魔棒，有此一着，顿使全词发生了奇妙的变化，给了两段普通的心曲以光彩、活力、生命，使词作活起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mal</cp:lastModifiedBy>
  <dcterms:modified xsi:type="dcterms:W3CDTF">2013-08-29T08:58:27Z</dcterms:modified>
  <cp:revision>31</cp:revision>
  <dc:subject/>
  <dc:title>PowerPoint Presentation</dc:title>
</cp:coreProperties>
</file>