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2B9-C8EB-437C-A1FA-0FC7CC0286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951-C1EA-41CA-9053-64656C20D94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7D84-C6BA-4D39-BFD9-2EB9FF02A84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0FC-033D-48D1-ABC2-06885912655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9CF-9CAD-476D-8C8D-DA1E9AC681D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E5BC-8601-4CF6-ACDB-FD3A7E14236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E9D3-7D1C-4992-8C38-FE61184F014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AF3-2281-447B-A473-1BC618F1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423-6550-4D3E-9EE0-6F883CD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EE8-3236-4E30-BEAE-F640126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97A-9785-432A-A713-2EB85940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0AC-ABCF-40B2-A4C4-338110CA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6F4-8931-4851-87E4-D9997D1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B2CA-E992-46DF-8116-F6E89E2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EB6-0207-460A-BE7E-C6AB8A1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824-912B-4143-BC9D-5C4D317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7FF4-B9C4-471C-8FFC-89DB02E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54A-0AC6-4CA5-9B55-8BE57C8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03E-2DB4-4E0F-A2FB-3D212AA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BBD-CB7F-40DE-A040-0D0860E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27C2-E3AD-470F-9975-1BFC10E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97B9-A4C4-43AB-B4B7-B6F41D0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5B8-A6C6-478E-A0ED-8EAB6504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7963-15A0-4570-9829-C7FAA558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563-BC62-4202-A683-4C17D46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E25-1518-47C8-BDAF-22CB188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EAE-23B9-41CB-A2C8-33A0A57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A1C-124F-44D9-BDAD-33540B55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630-8B9B-49BB-89FD-E465AE9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351-83D1-4ADC-BAE6-5E032DC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251-7FE3-4136-8527-5A9049E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201-90AC-4CEF-96FD-0372C4D08E8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2444-9D99-453A-9293-DDF1EE09166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8"/>
          <p:cNvSpPr/>
          <p:nvPr/>
        </p:nvSpPr>
        <p:spPr>
          <a:xfrm>
            <a:off x="3276720" y="3728880"/>
            <a:ext cx="2280960" cy="6858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38"/>
          <p:cNvGrpSpPr/>
          <p:nvPr/>
        </p:nvGrpSpPr>
        <p:grpSpPr>
          <a:xfrm>
            <a:off x="0" y="9360"/>
            <a:ext cx="9144000" cy="6848640"/>
            <a:chOff x="0" y="9360"/>
            <a:chExt cx="9144000" cy="6848640"/>
          </a:xfrm>
        </p:grpSpPr>
        <p:pic>
          <p:nvPicPr>
            <p:cNvPr id="118" name="Picture 37" descr="bg,21"/>
            <p:cNvPicPr/>
            <p:nvPr/>
          </p:nvPicPr>
          <p:blipFill>
            <a:blip r:embed="rId1"/>
            <a:stretch/>
          </p:blipFill>
          <p:spPr>
            <a:xfrm>
              <a:off x="0" y="9360"/>
              <a:ext cx="9144000" cy="6848640"/>
            </a:xfrm>
            <a:prstGeom prst="rect">
              <a:avLst/>
            </a:prstGeom>
            <a:ln w="9360">
              <a:solidFill>
                <a:srgbClr val="ffff00"/>
              </a:solidFill>
              <a:round/>
            </a:ln>
          </p:spPr>
        </p:pic>
        <p:sp>
          <p:nvSpPr>
            <p:cNvPr id="119" name="Text Box 5"/>
            <p:cNvSpPr/>
            <p:nvPr/>
          </p:nvSpPr>
          <p:spPr>
            <a:xfrm>
              <a:off x="360360" y="549360"/>
              <a:ext cx="8675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21</a:t>
              </a:r>
              <a:r>
                <a:rPr b="1" lang="zh-CN" sz="48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世纪人类生存新空间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——</a:t>
              </a:r>
              <a:r>
                <a:rPr b="1" lang="zh-CN" sz="48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海洋家园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0" name="Group 16"/>
            <p:cNvGrpSpPr/>
            <p:nvPr/>
          </p:nvGrpSpPr>
          <p:grpSpPr>
            <a:xfrm>
              <a:off x="665280" y="3247920"/>
              <a:ext cx="2985480" cy="942840"/>
              <a:chOff x="665280" y="3247920"/>
              <a:chExt cx="2985480" cy="942840"/>
            </a:xfrm>
          </p:grpSpPr>
          <p:grpSp>
            <p:nvGrpSpPr>
              <p:cNvPr id="121" name="Group 17"/>
              <p:cNvGrpSpPr/>
              <p:nvPr/>
            </p:nvGrpSpPr>
            <p:grpSpPr>
              <a:xfrm>
                <a:off x="665280" y="3247920"/>
                <a:ext cx="2985480" cy="942840"/>
                <a:chOff x="665280" y="3247920"/>
                <a:chExt cx="2985480" cy="942840"/>
              </a:xfrm>
            </p:grpSpPr>
            <p:sp>
              <p:nvSpPr>
                <p:cNvPr id="122" name="Text Box 19"/>
                <p:cNvSpPr/>
                <p:nvPr/>
              </p:nvSpPr>
              <p:spPr>
                <a:xfrm>
                  <a:off x="2130840" y="3733200"/>
                  <a:ext cx="15199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Oval 18"/>
                <p:cNvSpPr/>
                <p:nvPr/>
              </p:nvSpPr>
              <p:spPr>
                <a:xfrm>
                  <a:off x="665280" y="3247920"/>
                  <a:ext cx="2280600" cy="68652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4" name="AutoShape 20">
                <a:hlinkClick r:id="rId2"/>
              </p:cNvPr>
              <p:cNvSpPr/>
              <p:nvPr/>
            </p:nvSpPr>
            <p:spPr>
              <a:xfrm>
                <a:off x="1042560" y="340848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阅读赏析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" name="Group 21"/>
            <p:cNvGrpSpPr/>
            <p:nvPr/>
          </p:nvGrpSpPr>
          <p:grpSpPr>
            <a:xfrm>
              <a:off x="6454800" y="3247920"/>
              <a:ext cx="2282760" cy="685800"/>
              <a:chOff x="6454800" y="3247920"/>
              <a:chExt cx="2282760" cy="685800"/>
            </a:xfrm>
          </p:grpSpPr>
          <p:sp>
            <p:nvSpPr>
              <p:cNvPr id="126" name="Oval 23"/>
              <p:cNvSpPr/>
              <p:nvPr/>
            </p:nvSpPr>
            <p:spPr>
              <a:xfrm>
                <a:off x="6454800" y="3247920"/>
                <a:ext cx="2282760" cy="68580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AutoShape 25">
                <a:hlinkClick r:id="rId3"/>
              </p:cNvPr>
              <p:cNvSpPr/>
              <p:nvPr/>
            </p:nvSpPr>
            <p:spPr>
              <a:xfrm>
                <a:off x="6864120" y="3408120"/>
                <a:ext cx="1523520" cy="381240"/>
              </a:xfrm>
              <a:custGeom>
                <a:avLst/>
                <a:gdLst>
                  <a:gd name="textAreaLeft" fmla="*/ 24480 w 1523520"/>
                  <a:gd name="textAreaRight" fmla="*/ 1499040 w 1523520"/>
                  <a:gd name="textAreaTop" fmla="*/ 24480 h 381240"/>
                  <a:gd name="textAreaBottom" fmla="*/ 356760 h 381240"/>
                </a:gdLst>
                <a:ahLst/>
                <a:rect l="textAreaLeft" t="textAreaTop" r="textAreaRight" b="textAreaBottom"/>
                <a:pathLst>
                  <a:path w="86257" h="21600">
                    <a:moveTo>
                      <a:pt x="0" y="0"/>
                    </a:moveTo>
                    <a:lnTo>
                      <a:pt x="86257" y="0"/>
                    </a:lnTo>
                    <a:lnTo>
                      <a:pt x="86257" y="21600"/>
                    </a:lnTo>
                    <a:lnTo>
                      <a:pt x="0" y="21600"/>
                    </a:lnTo>
                    <a:close/>
                  </a:path>
                  <a:path fill="lightenLess" w="86257" h="21600">
                    <a:moveTo>
                      <a:pt x="0" y="0"/>
                    </a:moveTo>
                    <a:lnTo>
                      <a:pt x="86257" y="0"/>
                    </a:lnTo>
                    <a:lnTo>
                      <a:pt x="84857" y="1400"/>
                    </a:lnTo>
                    <a:lnTo>
                      <a:pt x="1400" y="1400"/>
                    </a:lnTo>
                    <a:close/>
                  </a:path>
                  <a:path fill="darken" w="86257" h="21600">
                    <a:moveTo>
                      <a:pt x="86257" y="0"/>
                    </a:moveTo>
                    <a:lnTo>
                      <a:pt x="86257" y="21600"/>
                    </a:lnTo>
                    <a:lnTo>
                      <a:pt x="84857" y="20200"/>
                    </a:lnTo>
                    <a:lnTo>
                      <a:pt x="84857" y="1400"/>
                    </a:lnTo>
                    <a:close/>
                  </a:path>
                  <a:path fill="darkenLess" w="86257" h="21600">
                    <a:moveTo>
                      <a:pt x="86257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857" y="20200"/>
                    </a:lnTo>
                    <a:close/>
                  </a:path>
                  <a:path fill="lighten" w="86257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思考与练习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8" name="AutoShape 41">
            <a:hlinkClick r:id="" action="ppaction://hlinkshowjump?jump=endshow"/>
          </p:cNvPr>
          <p:cNvSpPr/>
          <p:nvPr/>
        </p:nvSpPr>
        <p:spPr>
          <a:xfrm>
            <a:off x="7596360" y="587700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557520" y="3247920"/>
            <a:ext cx="2281320" cy="6858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20">
            <a:hlinkClick r:id="rId4"/>
          </p:cNvPr>
          <p:cNvSpPr/>
          <p:nvPr/>
        </p:nvSpPr>
        <p:spPr>
          <a:xfrm>
            <a:off x="3936960" y="340848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学习建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6630840" y="2055960"/>
            <a:ext cx="18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陈  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142000" y="401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（一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7">
            <a:hlinkClick r:id="" action="ppaction://hlinkshowjump?jump=firstslide"/>
          </p:cNvPr>
          <p:cNvSpPr/>
          <p:nvPr/>
        </p:nvSpPr>
        <p:spPr>
          <a:xfrm>
            <a:off x="-30240" y="622152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5640" y="1362240"/>
            <a:ext cx="82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近一个世纪以来，人类几乎是以几何级数的形式在增长，虽然很多国家都已意识到了这一点，并积极采取各种措施控制人口增长，提高人口素质，但庞大的人口基数仍使得地球人口总数在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的今天超过了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亿，这使得人类的人均可利用资源越来越少，生存空间越来越狭小、拥挤，生存条件越来越恶劣：环境污染、大气污染，人类的生存危机越来越严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而与此同时，占地球总面积约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1%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海洋空间的利用率却几乎为零。如何让这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1%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绝对大面积的海洋空间成为人类美丽而清洁的家园？各国都在争相研究。本文所提供的一些资料的确能令人大开眼界，并对未来的海洋家园充满向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476360" y="257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（二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7">
            <a:hlinkClick r:id="" action="ppaction://hlinkshowjump?jump=firstslide"/>
          </p:cNvPr>
          <p:cNvSpPr/>
          <p:nvPr/>
        </p:nvSpPr>
        <p:spPr>
          <a:xfrm>
            <a:off x="0" y="595008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00000" y="870120"/>
            <a:ext cx="82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以小标题的方式将海洋家园的美景一一展示在读者面前，令人读来一目了然，倍觉清晰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全文可分为两部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（第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。总说目前全世界人所面临的生存困境，提出人类对海洋家园的建造的可行性良策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部分即四个小标题下的内容，分别从海上、海底等各方面来说明建造海洋家园的可行性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多姿多彩的海上城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介绍了美国、日本等国的伟大构想。为了使这些构想的可行性增强，作者还先以日本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代初期在神户沿海建成的海上城市为例，让事实增强人们对这一美好前景的认识。接着，又分别举出两个完工时间基本定下的工程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海洋通信城市和“云霄都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0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来进一步展示未来海上城市的风姿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神奇的海底居住室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分别从近年来人类在海底生存时间不断加长、生活条件不断丰富、生活环境的安全性方面介绍海底居住的美好前景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美国首家海底酒店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以成功的海底居住事实为例，强有力地说明海底生存的可行性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话说海底隧道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以大量的事实来说明海底交通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海底隧道给人们的生活带来的巨大便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76360" y="127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（三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>
            <a:hlinkClick r:id="" action="ppaction://hlinkshowjump?jump=firstslide"/>
          </p:cNvPr>
          <p:cNvSpPr/>
          <p:nvPr/>
        </p:nvSpPr>
        <p:spPr>
          <a:xfrm>
            <a:off x="0" y="595008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00000" y="703440"/>
            <a:ext cx="8263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全文以总分的说明结构，时而构想，时而事实，给我们展示了未来海洋家园的美好生活前景。作者语言生动、亲切而富有感染力，而同时又严格遵守说明文的文体要求，具有真实性、科学性、准确性等一系列特征。在说明方法的运用上，更是丰富多彩，起到了相当大的作用，归纳起来，有如下几种突出的说明方法：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列数字。列数字是一种最能体现说明文语言的真实、可信特点的说明方法。作者充分利用它的这一特点，贯穿全文，大大增强了人们对未来海洋家园成为现实的信息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举例子。严谨的理论能让人不得不信服，而真实的例子则不由人不信服。作者大量例子的列举给人们从方方面面，多角度地展示了未来的可生存空间。这些例子，各自都是根据作者行文需要，及时地体现或说明了作者所提出美好设想的真实性，大大增强了文章的真实性和可信性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、作比较。比较中可以突出作者想要表达的事物的特点，这在本文最后一部分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话说海底隧道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得到了充分的体现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373040" y="98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建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70120" y="247860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应以鉴赏为主。学习方法与步骤建议如下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请同学们自己预习课文，归纳未来海洋家园的发展空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请同学们自己把文中的说明方法作一番归类整理并分别说明起作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有条件的话，观看相关的科学纪录片，增加直观认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进行科幻小品写作训练，要求说明方法多样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7">
            <a:hlinkClick r:id="" action="ppaction://hlinkshowjump?jump=firstslide"/>
          </p:cNvPr>
          <p:cNvSpPr/>
          <p:nvPr/>
        </p:nvSpPr>
        <p:spPr>
          <a:xfrm>
            <a:off x="0" y="595008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54760" y="103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思考与练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0">
            <a:hlinkClick r:id="" action="ppaction://hlinkshowjump?jump=firstslide"/>
          </p:cNvPr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70120" y="302724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请多关心“信息网络”、“海洋开发”、“宇宙奥秘”等前沿科学知识，以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火星上的家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或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海里的家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为题撰写一篇科幻小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8-18T03:44:51Z</dcterms:modified>
  <cp:revision>36</cp:revision>
  <dc:subject/>
  <dc:title>PowerPoint Presentation</dc:title>
</cp:coreProperties>
</file>