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21DC-C48D-4433-89E7-F4E536A4D7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E99-9B86-41DA-8A21-513A51A351E3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5795-14F0-4C19-9DDE-03334BD755EC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4ED-5D02-4C06-A6C3-9FBD77552D32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BBE2-4F8B-408B-AC2B-9F24294DDA09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4B9B-A8BA-4FBF-ADEA-620FD68B804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136-FC0D-4890-B3CE-62CA2E4F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000-AE00-4AE4-AE12-B7F292F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AB6-A166-46A1-8A42-7075449D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6AD-457C-4C25-8A65-265706DE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2728-31A5-4CEC-A3FF-CD655364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5311-E650-475B-9E3A-9640CBA5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1F4-C0E7-4178-B996-55F33AA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A1C4-240A-4D49-AD01-6E345E9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014B-3125-44F9-B260-8245B06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D98-853E-4533-82B9-9092BDBD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757-9146-4AE7-A6D4-1AD7BA9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A30-CD58-4BA3-AA39-F5E6D0C2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3E8-B6DC-49DF-8A89-8E78C88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195-E33B-4AE8-B890-1CD57FB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CD6-29E1-483F-AB33-24B9029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C7ED-833D-4B4E-839F-ECCDAACC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072-F0A1-4541-946E-8FA5457B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A82-DE0B-47DD-85FA-1389F47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2B2-EC52-404F-8E32-A0DEC60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3F8-998C-409A-8C68-C93C6D45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299-CB7B-4FE5-B3EA-0119D3EE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140-7247-42DA-8DD9-3C1EACF4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EFB-5A6E-4DC0-9521-F40857C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573-E23B-4DA1-9F84-27490B2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E0A6-3FB7-43FE-BD58-188470608B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057-5967-4ACA-9EC0-5D37A4B4892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5"/>
          <p:cNvGrpSpPr/>
          <p:nvPr/>
        </p:nvGrpSpPr>
        <p:grpSpPr>
          <a:xfrm>
            <a:off x="2773440" y="39600"/>
            <a:ext cx="6240960" cy="6123600"/>
            <a:chOff x="2773440" y="39600"/>
            <a:chExt cx="6240960" cy="6123600"/>
          </a:xfrm>
        </p:grpSpPr>
        <p:sp>
          <p:nvSpPr>
            <p:cNvPr id="90" name="Text Box 6"/>
            <p:cNvSpPr/>
            <p:nvPr/>
          </p:nvSpPr>
          <p:spPr>
            <a:xfrm>
              <a:off x="2773440" y="39600"/>
              <a:ext cx="2009160" cy="60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b050"/>
                  </a:solidFill>
                  <a:latin typeface="Times New Roman"/>
                  <a:ea typeface="华文行楷"/>
                </a:rPr>
                <a:t>青玉案（元夕）</a:t>
              </a:r>
              <a:endParaRPr b="0" lang="en-US" sz="6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1" name="Group 18"/>
            <p:cNvGrpSpPr/>
            <p:nvPr/>
          </p:nvGrpSpPr>
          <p:grpSpPr>
            <a:xfrm>
              <a:off x="5199120" y="182520"/>
              <a:ext cx="3787920" cy="2383560"/>
              <a:chOff x="5199120" y="182520"/>
              <a:chExt cx="3787920" cy="2383560"/>
            </a:xfrm>
          </p:grpSpPr>
          <p:grpSp>
            <p:nvGrpSpPr>
              <p:cNvPr id="92" name="Group 19"/>
              <p:cNvGrpSpPr/>
              <p:nvPr/>
            </p:nvGrpSpPr>
            <p:grpSpPr>
              <a:xfrm>
                <a:off x="5199120" y="182520"/>
                <a:ext cx="3787920" cy="2383560"/>
                <a:chOff x="5199120" y="182520"/>
                <a:chExt cx="3787920" cy="2383560"/>
              </a:xfrm>
            </p:grpSpPr>
            <p:sp>
              <p:nvSpPr>
                <p:cNvPr id="93" name="Oval 20"/>
                <p:cNvSpPr/>
                <p:nvPr/>
              </p:nvSpPr>
              <p:spPr>
                <a:xfrm>
                  <a:off x="6696000" y="182520"/>
                  <a:ext cx="229104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21"/>
                <p:cNvSpPr/>
                <p:nvPr/>
              </p:nvSpPr>
              <p:spPr>
                <a:xfrm>
                  <a:off x="5199120" y="2106360"/>
                  <a:ext cx="15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AutoShape 22">
                <a:hlinkClick r:id="rId1"/>
              </p:cNvPr>
              <p:cNvSpPr/>
              <p:nvPr/>
            </p:nvSpPr>
            <p:spPr>
              <a:xfrm>
                <a:off x="7078320" y="334800"/>
                <a:ext cx="1527480" cy="380880"/>
              </a:xfrm>
              <a:custGeom>
                <a:avLst/>
                <a:gdLst>
                  <a:gd name="textAreaLeft" fmla="*/ 24480 w 1527480"/>
                  <a:gd name="textAreaRight" fmla="*/ 1503000 w 15274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563" h="21600">
                    <a:moveTo>
                      <a:pt x="0" y="0"/>
                    </a:moveTo>
                    <a:lnTo>
                      <a:pt x="86563" y="0"/>
                    </a:lnTo>
                    <a:lnTo>
                      <a:pt x="86563" y="21600"/>
                    </a:lnTo>
                    <a:lnTo>
                      <a:pt x="0" y="21600"/>
                    </a:lnTo>
                    <a:close/>
                  </a:path>
                  <a:path fill="lightenLess" w="86563" h="21600">
                    <a:moveTo>
                      <a:pt x="0" y="0"/>
                    </a:moveTo>
                    <a:lnTo>
                      <a:pt x="86563" y="0"/>
                    </a:lnTo>
                    <a:lnTo>
                      <a:pt x="85163" y="1400"/>
                    </a:lnTo>
                    <a:lnTo>
                      <a:pt x="1400" y="1400"/>
                    </a:lnTo>
                    <a:close/>
                  </a:path>
                  <a:path fill="darken" w="86563" h="21600">
                    <a:moveTo>
                      <a:pt x="86563" y="0"/>
                    </a:moveTo>
                    <a:lnTo>
                      <a:pt x="86563" y="21600"/>
                    </a:lnTo>
                    <a:lnTo>
                      <a:pt x="85163" y="20200"/>
                    </a:lnTo>
                    <a:lnTo>
                      <a:pt x="85163" y="1400"/>
                    </a:lnTo>
                    <a:close/>
                  </a:path>
                  <a:path fill="darkenLess" w="86563" h="21600">
                    <a:moveTo>
                      <a:pt x="86563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5163" y="20200"/>
                    </a:lnTo>
                    <a:close/>
                  </a:path>
                  <a:path fill="lighten" w="86563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翻    译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6" name="Text Box 29"/>
            <p:cNvSpPr/>
            <p:nvPr/>
          </p:nvSpPr>
          <p:spPr>
            <a:xfrm>
              <a:off x="4792320" y="4404600"/>
              <a:ext cx="66780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b050"/>
                  </a:solidFill>
                  <a:latin typeface="Arial"/>
                  <a:ea typeface="华文行楷"/>
                </a:rPr>
                <a:t>辛弃疾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7" name="Group 30"/>
            <p:cNvGrpSpPr/>
            <p:nvPr/>
          </p:nvGrpSpPr>
          <p:grpSpPr>
            <a:xfrm>
              <a:off x="5199120" y="1052280"/>
              <a:ext cx="3815280" cy="2452320"/>
              <a:chOff x="5199120" y="1052280"/>
              <a:chExt cx="3815280" cy="2452320"/>
            </a:xfrm>
          </p:grpSpPr>
          <p:grpSp>
            <p:nvGrpSpPr>
              <p:cNvPr id="98" name="Group 31"/>
              <p:cNvGrpSpPr/>
              <p:nvPr/>
            </p:nvGrpSpPr>
            <p:grpSpPr>
              <a:xfrm>
                <a:off x="5199120" y="1052280"/>
                <a:ext cx="3815280" cy="2452320"/>
                <a:chOff x="5199120" y="1052280"/>
                <a:chExt cx="3815280" cy="2452320"/>
              </a:xfrm>
            </p:grpSpPr>
            <p:sp>
              <p:nvSpPr>
                <p:cNvPr id="99" name="Oval 32"/>
                <p:cNvSpPr/>
                <p:nvPr/>
              </p:nvSpPr>
              <p:spPr>
                <a:xfrm>
                  <a:off x="6723360" y="1052280"/>
                  <a:ext cx="229104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33"/>
                <p:cNvSpPr/>
                <p:nvPr/>
              </p:nvSpPr>
              <p:spPr>
                <a:xfrm>
                  <a:off x="5199120" y="3044880"/>
                  <a:ext cx="152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AutoShape 34">
                <a:hlinkClick r:id="rId2" action="ppaction://hlinksldjump"/>
              </p:cNvPr>
              <p:cNvSpPr/>
              <p:nvPr/>
            </p:nvSpPr>
            <p:spPr>
              <a:xfrm>
                <a:off x="7078320" y="1204920"/>
                <a:ext cx="1527480" cy="380880"/>
              </a:xfrm>
              <a:custGeom>
                <a:avLst/>
                <a:gdLst>
                  <a:gd name="textAreaLeft" fmla="*/ 24480 w 1527480"/>
                  <a:gd name="textAreaRight" fmla="*/ 1503000 w 15274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563" h="21600">
                    <a:moveTo>
                      <a:pt x="0" y="0"/>
                    </a:moveTo>
                    <a:lnTo>
                      <a:pt x="86563" y="0"/>
                    </a:lnTo>
                    <a:lnTo>
                      <a:pt x="86563" y="21600"/>
                    </a:lnTo>
                    <a:lnTo>
                      <a:pt x="0" y="21600"/>
                    </a:lnTo>
                    <a:close/>
                  </a:path>
                  <a:path fill="lightenLess" w="86563" h="21600">
                    <a:moveTo>
                      <a:pt x="0" y="0"/>
                    </a:moveTo>
                    <a:lnTo>
                      <a:pt x="86563" y="0"/>
                    </a:lnTo>
                    <a:lnTo>
                      <a:pt x="85163" y="1400"/>
                    </a:lnTo>
                    <a:lnTo>
                      <a:pt x="1400" y="1400"/>
                    </a:lnTo>
                    <a:close/>
                  </a:path>
                  <a:path fill="darken" w="86563" h="21600">
                    <a:moveTo>
                      <a:pt x="86563" y="0"/>
                    </a:moveTo>
                    <a:lnTo>
                      <a:pt x="86563" y="21600"/>
                    </a:lnTo>
                    <a:lnTo>
                      <a:pt x="85163" y="20200"/>
                    </a:lnTo>
                    <a:lnTo>
                      <a:pt x="85163" y="1400"/>
                    </a:lnTo>
                    <a:close/>
                  </a:path>
                  <a:path fill="darkenLess" w="86563" h="21600">
                    <a:moveTo>
                      <a:pt x="86563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5163" y="20200"/>
                    </a:lnTo>
                    <a:close/>
                  </a:path>
                  <a:path fill="lighten" w="86563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3" action="ppaction://hlinksldjump"/>
                  </a:rPr>
                  <a:t>文章赏析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AutoShape 38">
            <a:hlinkClick r:id="" action="ppaction://hlinkshowjump?jump=endshow"/>
          </p:cNvPr>
          <p:cNvSpPr/>
          <p:nvPr/>
        </p:nvSpPr>
        <p:spPr>
          <a:xfrm>
            <a:off x="7812000" y="602136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70120" y="6922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  <a:ea typeface="华文行楷"/>
              </a:rPr>
              <a:t>翻    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84360" y="1484280"/>
            <a:ext cx="79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入夜一城花灯好像是春风吹开花儿挂满千枝万树，烟火像是被吹落的万点流星。驱赶宝马拉着华丽车子香风飘满一路。凤箫吹奏的乐曲飘动，与流转的月光在人群之中互相交错。玉壶的灯光流转着，此起彼伏的鱼龙花灯在飞舞着，美人的头上都戴着亮丽的饰物，有的插满蛾儿，有的戴着雪柳，有的飘着金黄的丝缕，她们面带微笑，带着淡淡的香气从人面前经过。在众芳里我千百次寻找她，可都没找着；突然一回首，那个人却孤零零地站在、灯火稀稀落落之处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7885080" y="609300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019160" y="4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  <a:ea typeface="华文行楷"/>
              </a:rPr>
              <a:t>文章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79280" y="53820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这首词的上半阕写正月十五的晚上，满城灯火，尽情狂欢的景象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“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东风夜放花千树，更吹落，星如雨”：一簇簇的礼花飞向天空，然后像星雨一样散落下来。一开始就把人带进“火树银花”的节日狂欢之中。“东风夜”化用岑参的忽如一夜春风来，千树万树梨花开。“宝马雕车香满路”：达官显贵也携带家眷出门观灯。跟下句的“鱼龙舞”构成万民同欢的景象。“凤箫声动，玉壶光转，一夜鱼龙舞”：“凤箫”是排箫一类的吹奏乐器，这里泛指音乐；“玉壶”指明月；“鱼龙”是灯笼的形状。这句是说，在月华下，灯火辉煌，沉浸在节日里的人通宵达旦载歌载舞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下阕仍然在写“元夕”的欢乐，且一对意中人在大街巧遇的场景。只不过上阕写的是整个场面，下阕写一个具体的人，通过他一波三折的感情起伏，把个人的欢乐自然地融进了节日的欢乐之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“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蛾儿雪柳黄金缕，笑语盈盈暗香去”：这一句写的是元宵观灯的女人，她们穿着美丽的衣服，戴着漂亮的手饰，欢天喜地朝前奔去，所过之处，阵阵暗香随风飘来。“雪柳”是玉簪之类的头饰。“众里寻他千百度”：（这人）对着众多走过的女人一一辨认（但没有一个是他所等待的意中人）。“蓦然回首，那人却在灯火阑珊处”：偶一回头，却发现自己的心上人站立在昏黑的幽暗之处。“灯火阑珊”勿作“良夜将逝”解，“灯火阑珊”虽然是灯火渐渐散尽的意思，但这儿说的是天空飘洒下来的礼花，快接近地面时早已熄灭散尽，所以即使头上有流光溢彩，站立的地方却是昏暗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8028000" y="630864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19160" y="46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  <a:ea typeface="华文行楷"/>
              </a:rPr>
              <a:t>文章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50920" y="10047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同时，还有一种说法认为：站在灯火阑珊处的那个人，是对他自己的一种写照。根据历史背景可知，当时的他不受重用，文韬武略施展不出，心中怀着一种无比惆怅之感，所以只能在一旁孤芳自赏。也就像站在热闹氛围之外的那个人一样，给人一种清高不落俗套的感觉，体现了受冷落后不肯同流合污的高士之风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作为一首婉约词，这首</a:t>
            </a:r>
            <a:r>
              <a:rPr b="0" lang="en-US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青玉案</a:t>
            </a:r>
            <a:r>
              <a:rPr b="0" lang="en-US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与北宋婉约派大家晏殊和柳永相比，在艺术成就上毫不逊色。词从开头起“东风夜放花千树”，就极力渲染元宵佳节的热闹景象：满城灯火，满街游人，火树银花，通宵歌舞。然而作者的意图不在写景，而是为了反衬“灯火阑珊处”的那个人的与众不同。此词描绘出元宵佳节通宵灯火的热闹场景，梁启超谓“自怜幽独，伤心人别有怀抱。”认为此词有寄托，可谓知音。上片写元夕之夜灯火辉煌，游人如云的热闹场面，下片写不慕荣华，甘守寂寞的一位美人形象。美人形象便是寄托着作者理想人格的化身。“众里寻他千百度，蓦然回首，那人却在，灯火阑珊处。”王国维把这种境界称之为成大事业者，大学问者的第三种境界，确是大学问者的真知灼见。全文主要运用了反衬的表现手法，表达出作者不与世俗同流合污的追求（词人对理想的追求的执着和艰辛）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8028000" y="630864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19160" y="468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  <a:ea typeface="华文行楷"/>
              </a:rPr>
              <a:t>文章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7885080" y="6165720"/>
            <a:ext cx="900000" cy="43020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24000" y="104472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古代词人写上元灯节的词，不计其数，辛弃疾的这一首，却没有人认为可有可无，因此也可以称作是豪杰了。然而究其实际，上阕除了渲染一片热闹的盛况外，并无什么独特之处。作者把火树写成与固定的灯彩，把“星雨”写成流动的烟火。若说好，就好在想象：东风还未催开百花，却先吹放了元宵节的火树银花。它不但吹开地上的灯花，而且还从天上吹落了如雨的彩星</a:t>
            </a:r>
            <a:r>
              <a:rPr b="0" lang="en-US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——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燃放的烟火，先冲上云霄，而后自空中而落，好似陨星雨。“花千树”描绘五光十色的彩灯缀满街巷，好像一夜之间被春风吹开的千树繁花一样。这是化用唐朝诗人岑参的“忽如一夜春风来，千树万树梨花开”。然后写车马、鼓乐、灯月交辉的人间仙境</a:t>
            </a:r>
            <a:r>
              <a:rPr b="0" lang="en-US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——“</a:t>
            </a: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玉壶”，写那民间艺人们载歌载舞、鱼龙漫衍的“社火”百戏，极为繁华热闹，令人目不暇接。其间的“宝”也，“雕”也“凤”也，“玉”也，种种丽字，只是为了给那灯宵的气氛来传神来写境，大概那境界本非笔墨所能传写，幸亏还有这些美好的字眼，聊为助意而已。这也是对词中的女主人公言外的赞美 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6:17Z</dcterms:modified>
  <cp:revision>53</cp:revision>
  <dc:subject/>
  <dc:title>PowerPoint Presentation</dc:title>
</cp:coreProperties>
</file>