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CDA1-4011-486C-9E55-156D74B6A7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23F4-E075-4394-AB2C-A9A31CE744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E718-C1B2-4A17-AB94-81AE27DC31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4B0-4A15-4814-848F-4301290DD9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F0E9-3674-43DA-8ED5-85D86E6F8A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2A7-4677-4AF8-9E42-746647D7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F59-12A5-43FD-A4DC-0739E1F4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F96-EACB-4BC2-9AB0-6EF6B5B6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66D-DBC8-463A-A59A-E106E336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6A9-70B8-4EF6-8137-6675DA9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9A2-C7E4-41D6-846B-0D418756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FF0-894F-4F2B-8C81-C770A55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26F-82AF-40F6-9A64-C7A0048A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4D8-871F-42FE-BC25-00B74FA7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BBB-4AD4-4744-BD76-934CA56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6CF-1725-459F-96EF-94C7905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849-1E11-461E-A044-FBCB6205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7A9-0A01-49E9-A792-4EB65E0F7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a701f022bd2fbdd039dc8a04809e34c4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6824880" y="333360"/>
            <a:ext cx="1765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虞美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李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0" y="5373720"/>
            <a:ext cx="1440000" cy="3589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翻  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0" y="5948280"/>
            <a:ext cx="1440000" cy="360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阅读赏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8">
            <a:hlinkClick r:id="" action="ppaction://hlinkshowjump?jump=endshow"/>
          </p:cNvPr>
          <p:cNvSpPr/>
          <p:nvPr/>
        </p:nvSpPr>
        <p:spPr>
          <a:xfrm>
            <a:off x="7812000" y="6237360"/>
            <a:ext cx="649440" cy="357120"/>
          </a:xfrm>
          <a:prstGeom prst="flowChartAlternateProcess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20060831183537188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1127160" y="52293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翻  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6165720"/>
            <a:ext cx="720720" cy="428760"/>
          </a:xfrm>
          <a:prstGeom prst="flowChartAlternateProcess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863640" y="1139760"/>
            <a:ext cx="80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春朝花开花落，秋夜月残月圆，漫漫岁月，何时是个尽头？回想过去，有多少悠悠往事！昨夜小楼独立，东风吹动衣襟，春天又来临了。明月正映照着故国山河，过去的种种我却不忍回首。当年的宫殿或许残破了，雕栏石阶应该还在哪儿吧。只是我容颜憔悴，已不复当年模样，心中的愁绪有多少？就像那一江春水向东流去，绵绵无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60831183537188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917040" y="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阅读赏析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11040" y="692280"/>
            <a:ext cx="878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李煜被俘，软禁在宋都汴京，春花秋月使他触景生情，回想起往日南唐的官廷生活，愁苦万分，就写下了这首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春花秋月是一年中最美好的景色，本来应该引起人们的欢乐，而对于亡国君主李煜，却偏偏勾起了他伤心的回忆。因而，这种美景反成为惹人烦恼，甚至是可诅咒的了。因为他过去那些快意的享乐生活，大都是同春花秋月联系在一起的。现在春花秋月年年相似，而他往日的欢乐却一去不返了。所以，在首句，他就发出了哀怨的感叹。“何时了”的“了”，当了结讲。他埋怨春花秋月为什么一再到来，致使他回忆起数不清的往事，倍感辛酸。“小楼昨夜又东风，故国不堪回首月明中”。东风，是春天的风，春风的吹拂通报了春天的到来，而他却难以入睡，对着明月想起（“回首”）灭亡的故国，更叫他痛苦难忍。“不堪”，受不了的意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想起那遥远的故国，最使他不堪忍受的是“雕阑玉砌应犹在，只是朱颜改”。“雕阑”，雕花的栏干。“玉砌”，如玉的石阶。“朱颜”是红润的脸色。他暗自思量，往日生活于其中的，那富丽堂皇的宫殿，想来应该依然存在吧！所不同的只是他已经失去了旧时的容颜，而变得十分憔悴了。言下之意是说，现在已是物是人非，宫殿依旧，而他已从一国之君变成形容枯槁的阶下囚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首句到这里，作者一直是在直抒情怀。他将思绪分为二组，每组都通过联想将过去和现在交织在一起，形成了心潮的波澜起伏，抒发了抚今追昔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60831183537188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993280" y="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阅读赏析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8317080" y="6381720"/>
            <a:ext cx="826920" cy="476280"/>
          </a:xfrm>
          <a:prstGeom prst="flowChartAlternateProcess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95280" y="893880"/>
            <a:ext cx="87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感情。“何时了”充满了哀怨；“知多少”感慨无穷，“东风”而冠以“又”字，织进了复杂的心情；“回首”而“不堪”，沉痛已极；“应犹在”的推测，出自辛酸的眷恋；“朱颜改”的悲叹，满腹凄凉。句句写愁，但始终没有在字面上写出一个愁字。直到最后，才象涓涓细流，汇合成奔腾的江河，集中地、尽情地倾吐了他的悲愁。“问君能有几多愁，恰似一江春水向东流”，“几多”，即多少。“恰似”，正象。作者自设问答说，请问你的愁到底能有多少？正象春天那充溢的江水，汹涌浩荡，奔流不息，无穷无尽哪。这里用春水作比喻，看来好象是切合时令，信手拈来。其实，是来自作者对事物的细致观察。李煜被俘前，一直生活在濒临长江的金陵，对春江奔流的情景，想必留下深刻的印象。在他之前，李白曾用“抽刀断水水更流，举杯消愁愁更愁”来形容愁思的不可抑止。李煜却别有创造地从正面用波涛滚滚的江流比喻他无穷无尽的哀愁。这个比喻，由于它的生动、贴切，使这两句词成为脍炙人口的名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李煜在这首词里表面上是写追怀昔日帝王生活的哀愁。实际上不完全是这样。他不仅过着囚犯一般的生活，他的妻子小周后还受到了侮辱，但他在词里不敢把他们所遭受的侮辱表达出来，只能说成为怀念昔日帝王生活而哀愁，即使这样，还被宋太宗用牵机药毒死。这首词在写情方面的艺术表现技巧，是很值得借鉴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57:35Z</dcterms:modified>
  <cp:revision>39</cp:revision>
  <dc:subject/>
  <dc:title>PowerPoint Presentation</dc:title>
</cp:coreProperties>
</file>