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A6A3-7ED2-4629-A3B9-E105310AF5D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A7DC-A05A-4C8F-B74F-1206349C1EB3}"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1156-697C-4787-B8FB-130CCA456C71}"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F3C5-1A64-4378-B004-B3289CF9D17F}"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6EFD-0E02-497B-9826-EB671B0DCB7C}"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6378-3D55-4F9D-BC24-FFABE01615EB}"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47F0-E36F-4478-8764-AD48CC5EB214}"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ACBE-7CF3-43B7-B4AD-CA258EDC94D5}"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26BE-22F9-4786-9830-1C53A4B79162}"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D6FFB-325A-44A1-A147-04F36D3AC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668D9-8EDA-4465-8D2D-7874AC5D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F8BD8-2479-40C4-A444-1CA2DB453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05FC1-8A83-4485-A611-EE92BDDE0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30237-767B-469E-807F-664C720FD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AA665-5750-4089-A2F7-FD8EF8CC8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F5199-F2A4-480B-93DD-C8008CFE9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70182-89E0-4F8D-A732-44FE3C0BE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5DECF-1A0F-43B8-8FCE-3638A1AA2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3D899-F3BB-49F3-B45C-C963B26C3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05B69-A2D9-4B06-9070-6BA78D2F1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DACAE-3A40-438A-ACF7-65734E7D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E124F-91FF-4E00-8BDB-A4F4F605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867DF-C49C-4BD0-A928-042587DF5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9F519-718B-4A11-81C4-790BC4BDB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3A60E-866A-4C63-8BC6-612AEB05E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5A6BB-42A2-4318-9116-4BF826D08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26F50-2EC5-4A97-AC03-F636DF62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93E8D-4869-4DA6-B89D-57D564D4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9C02-9247-4989-A1B3-54E2975ED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A82B-69D2-4BEC-8628-51DD6231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0712-E7C5-4070-8A08-754ED3F3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0E4B-3C76-4F71-9D3B-697BF759C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C288-EB62-4D45-9A55-330AF2374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36DB-7986-45B2-970D-CE57D513496A}"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48C5-1BC5-4739-8568-A5BCD8042FDA}"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7.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Relationship Id="rId8" Type="http://schemas.openxmlformats.org/officeDocument/2006/relationships/slide" Target="slide8.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2.xml"/><Relationship Id="rId12" Type="http://schemas.openxmlformats.org/officeDocument/2006/relationships/slideLayout" Target="../slideLayouts/slideLayout13.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38"/>
          <p:cNvGrpSpPr/>
          <p:nvPr/>
        </p:nvGrpSpPr>
        <p:grpSpPr>
          <a:xfrm>
            <a:off x="0" y="9360"/>
            <a:ext cx="9144000" cy="6848640"/>
            <a:chOff x="0" y="9360"/>
            <a:chExt cx="9144000" cy="6848640"/>
          </a:xfrm>
        </p:grpSpPr>
        <p:pic>
          <p:nvPicPr>
            <p:cNvPr id="117" name="Picture 37" descr="bg,21"/>
            <p:cNvPicPr/>
            <p:nvPr/>
          </p:nvPicPr>
          <p:blipFill>
            <a:blip r:embed="rId1"/>
            <a:stretch/>
          </p:blipFill>
          <p:spPr>
            <a:xfrm>
              <a:off x="0" y="9360"/>
              <a:ext cx="9144000" cy="6848640"/>
            </a:xfrm>
            <a:prstGeom prst="rect">
              <a:avLst/>
            </a:prstGeom>
            <a:ln w="9360">
              <a:solidFill>
                <a:srgbClr val="ffff00"/>
              </a:solidFill>
              <a:round/>
            </a:ln>
          </p:spPr>
        </p:pic>
        <p:sp>
          <p:nvSpPr>
            <p:cNvPr id="118" name="Text Box 5"/>
            <p:cNvSpPr/>
            <p:nvPr/>
          </p:nvSpPr>
          <p:spPr>
            <a:xfrm>
              <a:off x="610920" y="409680"/>
              <a:ext cx="911520" cy="4771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4d"/>
                  </a:solidFill>
                  <a:latin typeface="Times New Roman"/>
                  <a:ea typeface="华文行楷"/>
                </a:rPr>
                <a:t>劝     学</a:t>
              </a:r>
              <a:endParaRPr b="0" lang="en-US" sz="4800" spc="-1" strike="noStrike">
                <a:solidFill>
                  <a:srgbClr val="ffffff"/>
                </a:solidFill>
                <a:latin typeface="Tahoma"/>
              </a:endParaRPr>
            </a:p>
          </p:txBody>
        </p:sp>
        <p:grpSp>
          <p:nvGrpSpPr>
            <p:cNvPr id="119" name="Group 16"/>
            <p:cNvGrpSpPr/>
            <p:nvPr/>
          </p:nvGrpSpPr>
          <p:grpSpPr>
            <a:xfrm>
              <a:off x="2538360" y="1557360"/>
              <a:ext cx="2366640" cy="1773000"/>
              <a:chOff x="2538360" y="1557360"/>
              <a:chExt cx="2366640" cy="1773000"/>
            </a:xfrm>
          </p:grpSpPr>
          <p:grpSp>
            <p:nvGrpSpPr>
              <p:cNvPr id="120" name="Group 17"/>
              <p:cNvGrpSpPr/>
              <p:nvPr/>
            </p:nvGrpSpPr>
            <p:grpSpPr>
              <a:xfrm>
                <a:off x="2538360" y="1557360"/>
                <a:ext cx="2366640" cy="1773000"/>
                <a:chOff x="2538360" y="1557360"/>
                <a:chExt cx="2366640" cy="1773000"/>
              </a:xfrm>
            </p:grpSpPr>
            <p:sp>
              <p:nvSpPr>
                <p:cNvPr id="121" name="Oval 18"/>
                <p:cNvSpPr/>
                <p:nvPr/>
              </p:nvSpPr>
              <p:spPr>
                <a:xfrm>
                  <a:off x="2619000" y="26445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19"/>
                <p:cNvSpPr/>
                <p:nvPr/>
              </p:nvSpPr>
              <p:spPr>
                <a:xfrm>
                  <a:off x="3043080" y="2601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Oval 18"/>
                <p:cNvSpPr/>
                <p:nvPr/>
              </p:nvSpPr>
              <p:spPr>
                <a:xfrm>
                  <a:off x="2538360" y="15573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 name="AutoShape 20">
                <a:hlinkClick r:id="rId2" action="ppaction://hlinksldjump"/>
              </p:cNvPr>
              <p:cNvSpPr/>
              <p:nvPr/>
            </p:nvSpPr>
            <p:spPr>
              <a:xfrm>
                <a:off x="3000600" y="27957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3" action="ppaction://hlinksldjump"/>
                  </a:rPr>
                  <a:t>学习建议</a:t>
                </a:r>
                <a:endParaRPr b="0" lang="en-US" sz="2400" spc="-1" strike="noStrike">
                  <a:solidFill>
                    <a:srgbClr val="ffffff"/>
                  </a:solidFill>
                  <a:latin typeface="Tahoma"/>
                </a:endParaRPr>
              </a:p>
            </p:txBody>
          </p:sp>
          <p:sp>
            <p:nvSpPr>
              <p:cNvPr id="125" name="AutoShape 20">
                <a:hlinkClick r:id="rId4" action="ppaction://hlinksldjump"/>
              </p:cNvPr>
              <p:cNvSpPr/>
              <p:nvPr/>
            </p:nvSpPr>
            <p:spPr>
              <a:xfrm>
                <a:off x="2919600" y="170964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5" action="ppaction://hlinksldjump"/>
                  </a:rPr>
                  <a:t>阅读赏析</a:t>
                </a:r>
                <a:endParaRPr b="0" lang="en-US" sz="2400" spc="-1" strike="noStrike">
                  <a:solidFill>
                    <a:srgbClr val="ffffff"/>
                  </a:solidFill>
                  <a:latin typeface="Tahoma"/>
                </a:endParaRPr>
              </a:p>
            </p:txBody>
          </p:sp>
        </p:grpSp>
        <p:grpSp>
          <p:nvGrpSpPr>
            <p:cNvPr id="126" name="Group 21"/>
            <p:cNvGrpSpPr/>
            <p:nvPr/>
          </p:nvGrpSpPr>
          <p:grpSpPr>
            <a:xfrm>
              <a:off x="2700360" y="3645000"/>
              <a:ext cx="2286000" cy="685800"/>
              <a:chOff x="2700360" y="3645000"/>
              <a:chExt cx="2286000" cy="685800"/>
            </a:xfrm>
          </p:grpSpPr>
          <p:grpSp>
            <p:nvGrpSpPr>
              <p:cNvPr id="127" name="Group 22"/>
              <p:cNvGrpSpPr/>
              <p:nvPr/>
            </p:nvGrpSpPr>
            <p:grpSpPr>
              <a:xfrm>
                <a:off x="2700360" y="3645000"/>
                <a:ext cx="2286000" cy="685800"/>
                <a:chOff x="2700360" y="3645000"/>
                <a:chExt cx="2286000" cy="685800"/>
              </a:xfrm>
            </p:grpSpPr>
            <p:sp>
              <p:nvSpPr>
                <p:cNvPr id="128" name="Oval 23"/>
                <p:cNvSpPr/>
                <p:nvPr/>
              </p:nvSpPr>
              <p:spPr>
                <a:xfrm>
                  <a:off x="2700360" y="364500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Text Box 24">
                  <a:hlinkClick r:id="rId6" action="ppaction://hlinksldjump"/>
                </p:cNvPr>
                <p:cNvSpPr/>
                <p:nvPr/>
              </p:nvSpPr>
              <p:spPr>
                <a:xfrm>
                  <a:off x="3115800" y="3753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背景简介</a:t>
                  </a:r>
                  <a:endParaRPr b="0" lang="en-US" sz="2400" spc="-1" strike="noStrike">
                    <a:solidFill>
                      <a:srgbClr val="ffffff"/>
                    </a:solidFill>
                    <a:latin typeface="Tahoma"/>
                  </a:endParaRPr>
                </a:p>
              </p:txBody>
            </p:sp>
          </p:grpSp>
          <p:sp>
            <p:nvSpPr>
              <p:cNvPr id="130" name="AutoShape 25">
                <a:hlinkClick r:id="rId7" action="ppaction://hlinksldjump"/>
              </p:cNvPr>
              <p:cNvSpPr/>
              <p:nvPr/>
            </p:nvSpPr>
            <p:spPr>
              <a:xfrm>
                <a:off x="3059280" y="3797640"/>
                <a:ext cx="1488960" cy="380880"/>
              </a:xfrm>
              <a:custGeom>
                <a:avLst/>
                <a:gdLst>
                  <a:gd name="textAreaLeft" fmla="*/ 24480 w 1488960"/>
                  <a:gd name="textAreaRight" fmla="*/ 1464480 w 1488960"/>
                  <a:gd name="textAreaTop" fmla="*/ 24480 h 380880"/>
                  <a:gd name="textAreaBottom" fmla="*/ 356400 h 380880"/>
                </a:gdLst>
                <a:ahLst/>
                <a:rect l="textAreaLeft" t="textAreaTop" r="textAreaRight" b="textAreaBottom"/>
                <a:pathLst>
                  <a:path w="84381" h="21600">
                    <a:moveTo>
                      <a:pt x="0" y="0"/>
                    </a:moveTo>
                    <a:lnTo>
                      <a:pt x="84381" y="0"/>
                    </a:lnTo>
                    <a:lnTo>
                      <a:pt x="84381" y="21600"/>
                    </a:lnTo>
                    <a:lnTo>
                      <a:pt x="0" y="21600"/>
                    </a:lnTo>
                    <a:close/>
                  </a:path>
                  <a:path fill="lightenLess" w="84381" h="21600">
                    <a:moveTo>
                      <a:pt x="0" y="0"/>
                    </a:moveTo>
                    <a:lnTo>
                      <a:pt x="84381" y="0"/>
                    </a:lnTo>
                    <a:lnTo>
                      <a:pt x="82981" y="1400"/>
                    </a:lnTo>
                    <a:lnTo>
                      <a:pt x="1400" y="1400"/>
                    </a:lnTo>
                    <a:close/>
                  </a:path>
                  <a:path fill="darken" w="84381" h="21600">
                    <a:moveTo>
                      <a:pt x="84381" y="0"/>
                    </a:moveTo>
                    <a:lnTo>
                      <a:pt x="84381" y="21600"/>
                    </a:lnTo>
                    <a:lnTo>
                      <a:pt x="82981" y="20200"/>
                    </a:lnTo>
                    <a:lnTo>
                      <a:pt x="82981" y="1400"/>
                    </a:lnTo>
                    <a:close/>
                  </a:path>
                  <a:path fill="darkenLess" w="84381" h="21600">
                    <a:moveTo>
                      <a:pt x="84381" y="21600"/>
                    </a:moveTo>
                    <a:lnTo>
                      <a:pt x="0" y="21600"/>
                    </a:lnTo>
                    <a:lnTo>
                      <a:pt x="1400" y="20200"/>
                    </a:lnTo>
                    <a:lnTo>
                      <a:pt x="82981" y="20200"/>
                    </a:lnTo>
                    <a:close/>
                  </a:path>
                  <a:path fill="lighten" w="84381"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8" action="ppaction://hlinksldjump"/>
                  </a:rPr>
                  <a:t>思考与练习</a:t>
                </a:r>
                <a:endParaRPr b="0" lang="en-US" sz="2400" spc="-1" strike="noStrike">
                  <a:solidFill>
                    <a:srgbClr val="ffffff"/>
                  </a:solidFill>
                  <a:latin typeface="Tahoma"/>
                </a:endParaRPr>
              </a:p>
            </p:txBody>
          </p:sp>
        </p:grpSp>
        <p:sp>
          <p:nvSpPr>
            <p:cNvPr id="131" name="Text Box 29">
              <a:hlinkClick r:id="rId9" action="ppaction://hlinksldjump"/>
            </p:cNvPr>
            <p:cNvSpPr/>
            <p:nvPr/>
          </p:nvSpPr>
          <p:spPr>
            <a:xfrm>
              <a:off x="3114720" y="5049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2" name="Group 32"/>
            <p:cNvGrpSpPr/>
            <p:nvPr/>
          </p:nvGrpSpPr>
          <p:grpSpPr>
            <a:xfrm>
              <a:off x="2538360" y="582480"/>
              <a:ext cx="2286000" cy="685800"/>
              <a:chOff x="2538360" y="582480"/>
              <a:chExt cx="2286000" cy="685800"/>
            </a:xfrm>
          </p:grpSpPr>
          <p:sp>
            <p:nvSpPr>
              <p:cNvPr id="133" name="Oval 34"/>
              <p:cNvSpPr/>
              <p:nvPr/>
            </p:nvSpPr>
            <p:spPr>
              <a:xfrm>
                <a:off x="2538360" y="58248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6">
                <a:hlinkClick r:id="rId10" action="ppaction://hlinksldjump"/>
              </p:cNvPr>
              <p:cNvSpPr/>
              <p:nvPr/>
            </p:nvSpPr>
            <p:spPr>
              <a:xfrm>
                <a:off x="2919240" y="7351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11" action="ppaction://hlinksldjump"/>
                  </a:rPr>
                  <a:t>作者简介</a:t>
                </a:r>
                <a:endParaRPr b="0" lang="en-US" sz="2400" spc="-1" strike="noStrike">
                  <a:solidFill>
                    <a:srgbClr val="ffffff"/>
                  </a:solidFill>
                  <a:latin typeface="Tahoma"/>
                </a:endParaRPr>
              </a:p>
            </p:txBody>
          </p:sp>
        </p:grpSp>
      </p:grpSp>
      <p:sp>
        <p:nvSpPr>
          <p:cNvPr id="135" name="AutoShape 41">
            <a:hlinkClick r:id="" action="ppaction://hlinkshowjump?jump=endshow"/>
          </p:cNvPr>
          <p:cNvSpPr/>
          <p:nvPr/>
        </p:nvSpPr>
        <p:spPr>
          <a:xfrm>
            <a:off x="759636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6" name="Text Box 5"/>
          <p:cNvSpPr/>
          <p:nvPr/>
        </p:nvSpPr>
        <p:spPr>
          <a:xfrm>
            <a:off x="1700640" y="3467160"/>
            <a:ext cx="667800" cy="1940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d"/>
                </a:solidFill>
                <a:latin typeface="Times New Roman"/>
                <a:ea typeface="华文行楷"/>
              </a:rPr>
              <a:t>荀  况</a:t>
            </a:r>
            <a:endParaRPr b="0" lang="en-US" sz="3200" spc="-1" strike="noStrike">
              <a:solidFill>
                <a:srgbClr val="ffffff"/>
              </a:solidFill>
              <a:latin typeface="Tahoma"/>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简介</a:t>
            </a:r>
            <a:endParaRPr b="0" lang="en-US" sz="3200" spc="-1" strike="noStrike">
              <a:solidFill>
                <a:srgbClr val="ffffff"/>
              </a:solidFill>
              <a:latin typeface="Tahoma"/>
            </a:endParaRPr>
          </a:p>
        </p:txBody>
      </p:sp>
      <p:sp>
        <p:nvSpPr>
          <p:cNvPr id="138" name="AutoShape 6">
            <a:hlinkClick r:id="" action="ppaction://hlinkshowjump?jump=firstslide"/>
          </p:cNvPr>
          <p:cNvSpPr/>
          <p:nvPr/>
        </p:nvSpPr>
        <p:spPr>
          <a:xfrm>
            <a:off x="788508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9" name="Text Box 5"/>
          <p:cNvSpPr/>
          <p:nvPr/>
        </p:nvSpPr>
        <p:spPr>
          <a:xfrm>
            <a:off x="826920" y="1655640"/>
            <a:ext cx="806616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荀子（约公元前</a:t>
            </a:r>
            <a:r>
              <a:rPr b="0" lang="en-US" sz="2100" spc="-1" strike="noStrike">
                <a:solidFill>
                  <a:srgbClr val="ffffff"/>
                </a:solidFill>
                <a:latin typeface="仿宋_GB2312"/>
                <a:ea typeface="仿宋_GB2312"/>
              </a:rPr>
              <a:t>313</a:t>
            </a:r>
            <a:r>
              <a:rPr b="0" lang="zh-CN" sz="2100" spc="-1" strike="noStrike">
                <a:solidFill>
                  <a:srgbClr val="ffffff"/>
                </a:solidFill>
                <a:latin typeface="仿宋_GB2312"/>
                <a:ea typeface="仿宋_GB2312"/>
              </a:rPr>
              <a:t>－前</a:t>
            </a:r>
            <a:r>
              <a:rPr b="0" lang="en-US" sz="2100" spc="-1" strike="noStrike">
                <a:solidFill>
                  <a:srgbClr val="ffffff"/>
                </a:solidFill>
                <a:latin typeface="仿宋_GB2312"/>
                <a:ea typeface="仿宋_GB2312"/>
              </a:rPr>
              <a:t>238</a:t>
            </a:r>
            <a:r>
              <a:rPr b="0" lang="zh-CN" sz="2100" spc="-1" strike="noStrike">
                <a:solidFill>
                  <a:srgbClr val="ffffff"/>
                </a:solidFill>
                <a:latin typeface="仿宋_GB2312"/>
                <a:ea typeface="仿宋_GB2312"/>
              </a:rPr>
              <a:t>），战国后期赵国人。名况，战国时期著名思想家、教育家、文学家。时人尊称荀卿 。汉代著作因避汉宣帝刘洵，亦写作孙卿。他曾两度到齐国的文化中心稷下（今山东临淄区西门）游学。荀子是先秦儒家的代表人物之一，但其思想却与早于他的另一儒家代表人物孟子相对立。最典型的一点是他的</a:t>
            </a:r>
            <a:r>
              <a:rPr b="0" lang="zh-CN" sz="2100" spc="-1" strike="noStrike">
                <a:solidFill>
                  <a:srgbClr val="ffffff"/>
                </a:solidFill>
                <a:latin typeface="Tahoma"/>
                <a:ea typeface="仿宋_GB2312"/>
              </a:rPr>
              <a:t>“</a:t>
            </a:r>
            <a:r>
              <a:rPr b="0" lang="zh-CN" sz="2100" spc="-1" strike="noStrike">
                <a:solidFill>
                  <a:srgbClr val="ffffff"/>
                </a:solidFill>
                <a:latin typeface="仿宋_GB2312"/>
                <a:ea typeface="仿宋_GB2312"/>
              </a:rPr>
              <a:t>性恶论</a:t>
            </a:r>
            <a:r>
              <a:rPr b="0" lang="zh-CN" sz="2100" spc="-1" strike="noStrike">
                <a:solidFill>
                  <a:srgbClr val="ffffff"/>
                </a:solidFill>
                <a:latin typeface="Tahoma"/>
                <a:ea typeface="仿宋_GB2312"/>
              </a:rPr>
              <a:t>”</a:t>
            </a:r>
            <a:r>
              <a:rPr b="0" lang="zh-CN" sz="2100" spc="-1" strike="noStrike">
                <a:solidFill>
                  <a:srgbClr val="ffffff"/>
                </a:solidFill>
                <a:latin typeface="仿宋_GB2312"/>
                <a:ea typeface="仿宋_GB2312"/>
              </a:rPr>
              <a:t>与孟子的</a:t>
            </a:r>
            <a:r>
              <a:rPr b="0" lang="zh-CN" sz="2100" spc="-1" strike="noStrike">
                <a:solidFill>
                  <a:srgbClr val="ffffff"/>
                </a:solidFill>
                <a:latin typeface="Tahoma"/>
                <a:ea typeface="仿宋_GB2312"/>
              </a:rPr>
              <a:t>“</a:t>
            </a:r>
            <a:r>
              <a:rPr b="0" lang="zh-CN" sz="2100" spc="-1" strike="noStrike">
                <a:solidFill>
                  <a:srgbClr val="ffffff"/>
                </a:solidFill>
                <a:latin typeface="仿宋_GB2312"/>
                <a:ea typeface="仿宋_GB2312"/>
              </a:rPr>
              <a:t>性善论</a:t>
            </a:r>
            <a:r>
              <a:rPr b="0" lang="zh-CN" sz="2100" spc="-1" strike="noStrike">
                <a:solidFill>
                  <a:srgbClr val="ffffff"/>
                </a:solidFill>
                <a:latin typeface="Tahoma"/>
                <a:ea typeface="仿宋_GB2312"/>
              </a:rPr>
              <a:t>”</a:t>
            </a:r>
            <a:r>
              <a:rPr b="0" lang="zh-CN" sz="2100" spc="-1" strike="noStrike">
                <a:solidFill>
                  <a:srgbClr val="ffffff"/>
                </a:solidFill>
                <a:latin typeface="仿宋_GB2312"/>
                <a:ea typeface="仿宋_GB2312"/>
              </a:rPr>
              <a:t>互为阵营，针锋相向。他也重视教育的作用，强调教育功能的重要。</a:t>
            </a:r>
            <a:endParaRPr b="0" lang="en-US" sz="2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荀子于文学方面成就突出。其文章论证严密，风格丰富，说理透彻，气势浑厚，语言质朴，句法简练绵密，多排比句式且长于就近取譬，在先秦诸子中具有独特风格。在战国诸子中，他与孟子、庄子对后世影响最深。</a:t>
            </a:r>
            <a:endParaRPr b="0" lang="en-US" sz="2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en-US" sz="2100" spc="-1" strike="noStrike">
                <a:solidFill>
                  <a:srgbClr val="ffffff"/>
                </a:solidFill>
                <a:latin typeface="仿宋_GB2312"/>
                <a:ea typeface="仿宋_GB2312"/>
              </a:rPr>
              <a:t>《</a:t>
            </a:r>
            <a:r>
              <a:rPr b="0" lang="zh-CN" sz="2100" spc="-1" strike="noStrike">
                <a:solidFill>
                  <a:srgbClr val="ffffff"/>
                </a:solidFill>
                <a:latin typeface="仿宋_GB2312"/>
                <a:ea typeface="仿宋_GB2312"/>
              </a:rPr>
              <a:t>荀子</a:t>
            </a:r>
            <a:r>
              <a:rPr b="0" lang="en-US" sz="2100" spc="-1" strike="noStrike">
                <a:solidFill>
                  <a:srgbClr val="ffffff"/>
                </a:solidFill>
                <a:latin typeface="仿宋_GB2312"/>
                <a:ea typeface="仿宋_GB2312"/>
              </a:rPr>
              <a:t>》</a:t>
            </a:r>
            <a:r>
              <a:rPr b="0" lang="zh-CN" sz="2100" spc="-1" strike="noStrike">
                <a:solidFill>
                  <a:srgbClr val="ffffff"/>
                </a:solidFill>
                <a:latin typeface="仿宋_GB2312"/>
                <a:ea typeface="仿宋_GB2312"/>
              </a:rPr>
              <a:t>一书，乃后人编著，其中绝大部分是他自己的作品。共二十卷，收文章三十二卷，内容涉及哲学、政治、治学、处事、学术论辩等许多方面，</a:t>
            </a:r>
            <a:r>
              <a:rPr b="0" lang="en-US" sz="2100" spc="-1" strike="noStrike">
                <a:solidFill>
                  <a:srgbClr val="ffffff"/>
                </a:solidFill>
                <a:latin typeface="仿宋_GB2312"/>
                <a:ea typeface="仿宋_GB2312"/>
              </a:rPr>
              <a:t>《</a:t>
            </a:r>
            <a:r>
              <a:rPr b="0" lang="zh-CN" sz="2100" spc="-1" strike="noStrike">
                <a:solidFill>
                  <a:srgbClr val="ffffff"/>
                </a:solidFill>
                <a:latin typeface="仿宋_GB2312"/>
                <a:ea typeface="仿宋_GB2312"/>
              </a:rPr>
              <a:t>劝学</a:t>
            </a:r>
            <a:r>
              <a:rPr b="0" lang="en-US" sz="2100" spc="-1" strike="noStrike">
                <a:solidFill>
                  <a:srgbClr val="ffffff"/>
                </a:solidFill>
                <a:latin typeface="仿宋_GB2312"/>
                <a:ea typeface="仿宋_GB2312"/>
              </a:rPr>
              <a:t>》</a:t>
            </a:r>
            <a:r>
              <a:rPr b="0" lang="zh-CN" sz="2100" spc="-1" strike="noStrike">
                <a:solidFill>
                  <a:srgbClr val="ffffff"/>
                </a:solidFill>
                <a:latin typeface="仿宋_GB2312"/>
                <a:ea typeface="仿宋_GB2312"/>
              </a:rPr>
              <a:t>是其中的第一篇。</a:t>
            </a:r>
            <a:endParaRPr b="0" lang="en-US" sz="21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2142000" y="401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一）</a:t>
            </a:r>
            <a:endParaRPr b="0" lang="en-US" sz="3200" spc="-1" strike="noStrike">
              <a:solidFill>
                <a:srgbClr val="ffffff"/>
              </a:solidFill>
              <a:latin typeface="Tahoma"/>
            </a:endParaRPr>
          </a:p>
        </p:txBody>
      </p:sp>
      <p:sp>
        <p:nvSpPr>
          <p:cNvPr id="141" name="AutoShape 7">
            <a:hlinkClick r:id="" action="ppaction://hlinkshowjump?jump=firstslide"/>
          </p:cNvPr>
          <p:cNvSpPr/>
          <p:nvPr/>
        </p:nvSpPr>
        <p:spPr>
          <a:xfrm>
            <a:off x="7740720" y="602136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2" name="Text Box 5"/>
          <p:cNvSpPr/>
          <p:nvPr/>
        </p:nvSpPr>
        <p:spPr>
          <a:xfrm>
            <a:off x="915840" y="1268280"/>
            <a:ext cx="822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节选自</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荀子</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劝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劝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篇的主旨，意在劝勉人们向着争取成为君子以至成为圣贤的目标，不停顿、不懈怠地坚持学习，不断提高自己、改造自己、完善自己，使自己具有崇高的品德。而本文只是选录其中的一小部分，着重论述学习的意义、作用以及学习中应持有的态度。</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劝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的教育作用，千百年来一直为人们所推崇，因而后人将其置于</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荀子</a:t>
            </a:r>
            <a:r>
              <a:rPr b="0" lang="en-US"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32</a:t>
            </a:r>
            <a:r>
              <a:rPr b="0" lang="zh-CN" sz="2400" spc="-1" strike="noStrike">
                <a:solidFill>
                  <a:srgbClr val="ffffff"/>
                </a:solidFill>
                <a:latin typeface="仿宋_GB2312"/>
                <a:ea typeface="仿宋_GB2312"/>
              </a:rPr>
              <a:t>篇之首。在学习此文时，我们要能够在推崇其教育作用的同时，正确看待其中某些说法的客观局限性，以便全面、透彻体会作者的真正意义。</a:t>
            </a:r>
            <a:endParaRPr b="0" lang="en-US" sz="2400" spc="-1" strike="noStrike">
              <a:solidFill>
                <a:srgbClr val="ffffff"/>
              </a:solidFill>
              <a:latin typeface="Tahoma"/>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19280" y="189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二）</a:t>
            </a:r>
            <a:endParaRPr b="0" lang="en-US" sz="3200" spc="-1" strike="noStrike">
              <a:solidFill>
                <a:srgbClr val="ffffff"/>
              </a:solidFill>
              <a:latin typeface="Tahoma"/>
            </a:endParaRPr>
          </a:p>
        </p:txBody>
      </p:sp>
      <p:sp>
        <p:nvSpPr>
          <p:cNvPr id="144" name="AutoShape 7">
            <a:hlinkClick r:id="" action="ppaction://hlinkshowjump?jump=firstslide"/>
          </p:cNvPr>
          <p:cNvSpPr/>
          <p:nvPr/>
        </p:nvSpPr>
        <p:spPr>
          <a:xfrm>
            <a:off x="7956720" y="630864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5" name="Text Box 4"/>
          <p:cNvSpPr/>
          <p:nvPr/>
        </p:nvSpPr>
        <p:spPr>
          <a:xfrm>
            <a:off x="911160" y="731880"/>
            <a:ext cx="8244000" cy="21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本文可根据其所述内容的侧重点，分为三段。即文中三自然段各自成一段。</a:t>
            </a:r>
            <a:endParaRPr b="0" lang="en-US" sz="19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首段论证学习的重要意义。文章开篇以“君子”的名义摆出明确的论点：“学不可以已。”这句话也是全篇的中心论点。它大致包含两层意思：其一，学习有重要意义，故“不可以已”；其二，学习应持端正的态度和正确的方法，即“不可以已”。接着，作者分别举草、木、水、金由于受到外界环境的影响而发生的深刻变化来说明道理。“青，取之于蓝，而青于蓝；冰，水为之，而寒于水”，说明事物经过一定的变化，可以提高自身，超出自己原有的水平。“木直中绳，鞣以为轮”，说明事物经过一定的变化，不仅可以改变提高自身，甚至可以脱胎换骨，改变自己原有的状态。由此及彼，由物及人，作者联系上文，用“木受绳则直，金就砺则利”的事例，推论出“君子博学而日参省乎己，则知明而行无过矣”，说明人必须通过学习、参省才能提高自己的道德、品质，也是水到渠成，令人信服的了。</a:t>
            </a:r>
            <a:endParaRPr b="0" lang="en-US" sz="19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应该看到，作者以朴素唯物主义的观点，来指出人的知识、品德、才智并非天生，而是后天习得的，对我们后人来说，仍然是有其积极作用的。</a:t>
            </a:r>
            <a:endParaRPr b="0" lang="en-US" sz="19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中段论述学习的重要作用。作者先以自己的生活经验：“终日而思”“不如须臾之所学”和“跛而望”“不如登高之博见”的正面阐述，说明冥思苦想不如脚踏实地地学习所带来的效果良好这样明白的道理。接着再以“登高而招”、“顺风而呼”、“假舆马”、“假舟楫”连续设喻，点明人借助于学</a:t>
            </a:r>
            <a:endParaRPr b="0" lang="en-US" sz="1900" spc="-1" strike="noStrike">
              <a:solidFill>
                <a:srgbClr val="ffffff"/>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619280" y="189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二）</a:t>
            </a:r>
            <a:endParaRPr b="0" lang="en-US" sz="3200" spc="-1" strike="noStrike">
              <a:solidFill>
                <a:srgbClr val="ffffff"/>
              </a:solidFill>
              <a:latin typeface="Tahoma"/>
            </a:endParaRPr>
          </a:p>
        </p:txBody>
      </p:sp>
      <p:sp>
        <p:nvSpPr>
          <p:cNvPr id="147" name="AutoShape 7">
            <a:hlinkClick r:id="" action="ppaction://hlinkshowjump?jump=firstslide"/>
          </p:cNvPr>
          <p:cNvSpPr/>
          <p:nvPr/>
        </p:nvSpPr>
        <p:spPr>
          <a:xfrm>
            <a:off x="8028000" y="649908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8" name="Text Box 4"/>
          <p:cNvSpPr/>
          <p:nvPr/>
        </p:nvSpPr>
        <p:spPr>
          <a:xfrm>
            <a:off x="900000" y="898560"/>
            <a:ext cx="8244000" cy="21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习所取得的巨大进步，即可以“见者远”、“闻者彰”、“致千里”、“绝江河”，来得出结论：“君子生非异也，善假于物也”，说明学习的结果可以使一般人能超越常人，成为“君子”，其重要性可见一斑。这种观点，与孔子“上智与下愚不移”的观点相比，无疑是人的思想领域的一大进步。</a:t>
            </a:r>
            <a:endParaRPr b="0" lang="en-US" sz="19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末段论述学习应持有的态度。文章先从正反两设喻，由“积土成山”、“积水成渊”引出“积善成德”而“圣心备焉”的结论，从正面说明学习过程是逐渐积累的过程，接着又以“不积跬步”、“不积小流”从反面阐述，说明如果不积累就不能达到远大的目的。接着，作者又以“骐骥”、“驽马”、“朽木”、“金石”、“蚓”、“蟹”等等对比式比喻，说明学习要有脚踏实地、持之以恒、专心致志的端正态度。“骐骥”与“弩马”等其实是暗示，主观条件的好坏并非决定因素，坚持不懈才是成功的关键。“蚓”与“蟹”则是说明，专一、持久才可能学成，否则，再易的事情也不能完成。本段论述，可以说紧紧围绕三点：要积累、要坚持、要专一！唯有采取这样的态度，才有真正的收获。</a:t>
            </a:r>
            <a:endParaRPr b="0" lang="en-US" sz="19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本文通过作者的层层论述，向我们展示了“学不可以已”的正确道理，其可借鉴之处显而易见。但我们并不能因此而忽视本文的不足之处。如思想认识上的局限性：“积土成山，风雨兴焉；积水成渊，蛟龙生焉”，这其实是一种带有迷信色彩的说法。也应该看到，“蟹六跪而二螯，非蛇蟮之穴而无可寄托者”，是一种常识性的错误，从论辩力度而言，今天我们看来，是起着削弱论点的作用了。</a:t>
            </a:r>
            <a:endParaRPr b="0" lang="en-US" sz="1900" spc="-1" strike="noStrike">
              <a:solidFill>
                <a:srgbClr val="ffffff"/>
              </a:solidFill>
              <a:latin typeface="Tahoma"/>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622520" y="1112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三）</a:t>
            </a:r>
            <a:endParaRPr b="0" lang="en-US" sz="3200" spc="-1" strike="noStrike">
              <a:solidFill>
                <a:srgbClr val="ffffff"/>
              </a:solidFill>
              <a:latin typeface="Tahoma"/>
            </a:endParaRPr>
          </a:p>
        </p:txBody>
      </p:sp>
      <p:sp>
        <p:nvSpPr>
          <p:cNvPr id="150" name="AutoShape 7">
            <a:hlinkClick r:id="" action="ppaction://hlinkshowjump?jump=firstslide"/>
          </p:cNvPr>
          <p:cNvSpPr/>
          <p:nvPr/>
        </p:nvSpPr>
        <p:spPr>
          <a:xfrm>
            <a:off x="7885080" y="623736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51" name="Text Box 4"/>
          <p:cNvSpPr/>
          <p:nvPr/>
        </p:nvSpPr>
        <p:spPr>
          <a:xfrm>
            <a:off x="915840" y="765000"/>
            <a:ext cx="82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从写作特色而言，本文用喻很多且设喻方式灵活多变、层层深入，形成文势的曲折变化，令人目不暇接，是值得学习的一大特点。</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有正面设喻，如“青出于蓝”、“冰寒于水”、“鞣木为轮”、“金就砺则利”等，从正面阐述学习的重要意义；有正反设喻，如“骐骥”与“驽马”、“蚓”与“蟹”、“锲而舍之”与“锲而不舍”等等，以正反对照的手法，具体、明白地阐明了欲说明的道理；有反复设喻，如“跛而望”、“登高而招”、“顺风而呼”、“假舆马”、“假舟楫”，连续设喻，目的却只有一个：阐明学习的重要性。但应该看到，反复虽多，读来却照样给人以语言灵动多变，形象生动之感而毫无板滞、重复之嫌，由此可知作者设喻之恰当。</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从比喻类型而言，有时用隐喻，留给读者以思考道理的空间；有时用明喻，先设喻再讲道理，让读者较明确、形象地认识其中道理；有时则是连用喻体，以喻证喻，增强了文章的思辨色彩，这些对我们今天议论文的写作都有很大帮助。</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论证方法多样且互相融合是写作上的另一特色。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比喻论证贯穿全文，这里不必赘述。正反论证、对比论证则交织在一起，又共同出现在比喻论证之下，令人目不暇接，叹为观止。</a:t>
            </a:r>
            <a:endParaRPr b="0" lang="en-US" sz="2000" spc="-1" strike="noStrike">
              <a:solidFill>
                <a:srgbClr val="ffffff"/>
              </a:solidFill>
              <a:latin typeface="Tahoma"/>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学习建议</a:t>
            </a:r>
            <a:endParaRPr b="0" lang="en-US" sz="3200" spc="-1" strike="noStrike">
              <a:solidFill>
                <a:srgbClr val="ffffff"/>
              </a:solidFill>
              <a:latin typeface="Tahoma"/>
            </a:endParaRPr>
          </a:p>
        </p:txBody>
      </p:sp>
      <p:sp>
        <p:nvSpPr>
          <p:cNvPr id="153" name="Rectangle 4"/>
          <p:cNvSpPr/>
          <p:nvPr/>
        </p:nvSpPr>
        <p:spPr>
          <a:xfrm>
            <a:off x="884160" y="2607480"/>
            <a:ext cx="813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可以同学自学为主。请同学们体会、把握作者的语言风格并尽可能化为己用。</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对于一些古文、诗词，可请同学们自己解释，也可由老师简单讲解，请同学们体会其中的韵味。</a:t>
            </a:r>
            <a:endParaRPr b="0" lang="en-US" sz="2400" spc="-1" strike="noStrike">
              <a:solidFill>
                <a:srgbClr val="ffffff"/>
              </a:solidFill>
              <a:latin typeface="Tahoma"/>
            </a:endParaRPr>
          </a:p>
        </p:txBody>
      </p:sp>
      <p:sp>
        <p:nvSpPr>
          <p:cNvPr id="154" name="AutoShape 7">
            <a:hlinkClick r:id="" action="ppaction://hlinkshowjump?jump=firstslide"/>
          </p:cNvPr>
          <p:cNvSpPr/>
          <p:nvPr/>
        </p:nvSpPr>
        <p:spPr>
          <a:xfrm>
            <a:off x="8028000" y="616572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27760" y="1857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思考与练习</a:t>
            </a:r>
            <a:endParaRPr b="0" lang="en-US" sz="3200" spc="-1" strike="noStrike">
              <a:solidFill>
                <a:srgbClr val="ffffff"/>
              </a:solidFill>
              <a:latin typeface="Tahoma"/>
            </a:endParaRPr>
          </a:p>
        </p:txBody>
      </p:sp>
      <p:sp>
        <p:nvSpPr>
          <p:cNvPr id="156" name="AutoShape 10">
            <a:hlinkClick r:id="" action="ppaction://hlinkshowjump?jump=firstslide"/>
          </p:cNvPr>
          <p:cNvSpPr/>
          <p:nvPr/>
        </p:nvSpPr>
        <p:spPr>
          <a:xfrm>
            <a:off x="10800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57" name="Rectangle 4"/>
          <p:cNvSpPr/>
          <p:nvPr/>
        </p:nvSpPr>
        <p:spPr>
          <a:xfrm>
            <a:off x="833400" y="943920"/>
            <a:ext cx="81360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一、注意文中重要的实词和虚词的意义和用法，做以下练习：</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给下列实词注音并结合课文释义：</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輮    槁    暴    砺    须臾    彰    楫    跬</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骐骥  弩    锲    镂    螯      躁    疾    假</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区别下列句子中加点虚词的意义和用法：</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于  青，取之于蓝，而青于蓝。</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君子非生异也，善善假于物也。</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者  假舟楫者，非能水也，而绝江河。</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虽有槁暴，不复挺者，輮使之然也。</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焉  积土成山，风雨兴焉。</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积善成德，而神明自得，圣心备焉。</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而</a:t>
            </a: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知明而行无过矣。</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吾尝终日而思矣。</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假舆马者，非利足也，而致千里。</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积善成德，而神明自得，圣心备焉。</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二、比喻论证方法的运用，是本文主要的写作特色。找出文中各部分比喻论证的句子，说明这种论证方法对阐述中心论点所起的作用。</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三、背诵全文，翻译全文。</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四、讨论一下，用现在的眼光看，本文存在哪些局限性。</a:t>
            </a:r>
            <a:endParaRPr b="0" lang="en-US" sz="2000" spc="-1" strike="noStrike">
              <a:solidFill>
                <a:srgbClr val="ffffff"/>
              </a:solidFill>
              <a:latin typeface="Tahoma"/>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30:03Z</dcterms:modified>
  <cp:revision>34</cp:revision>
  <dc:subject/>
  <dc:title>PowerPoint Presentation</dc:title>
</cp:coreProperties>
</file>