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8F1A-69DE-4B25-9038-CD6FFE4136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CD7F-1F98-4E7F-A277-A9D1B6DA384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E550-8E12-42FC-ACF3-8F6823C57E3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B494-7E64-413B-970B-1D90E086161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95EA-7361-467A-8890-76AFE04938B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221E-ADDD-4E6C-AD9F-B9928032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8263-CB56-4C03-B7F2-C31AF1ED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E195-58C8-47EF-9F0B-962B1059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1D06-3A02-420B-9CA3-3D0595C5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33CC-D571-45B7-A387-368E8CC1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63F2-7100-4BEC-B27D-30986D15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8CEC-8AEA-4A14-A7F4-F423160B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B4C3-301E-448F-8B31-9E81C1B8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8D00-FDCF-4260-815D-37043DD0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2E67-1094-4D35-8797-D55AB461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C3C3-D786-498C-94C7-7B84E286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28741-380B-449B-A7FF-8377BB16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E3F1-AA30-4D42-8481-273FEB10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EB12-360A-4A59-8CA9-25735545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9FAE-0020-49FE-8311-1912F038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A304-5215-45D4-AF44-B0B4ACBA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82E8-60F1-4D85-BE97-69688C93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DDD6-13CF-4233-92BF-582EDB1C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40F5-C723-45C8-A9BE-48530BC6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3BC5-1E9E-41FD-81F9-4C6D2C35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E749-6E56-45CA-A2ED-0DAB4558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6B8A-34ED-481A-AB36-FFDCF89F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521C-DAD2-4043-9040-5A05B2C3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9BBA-5016-4B12-A399-42078297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2FFF-DA0C-4F5E-8A5C-D31BA32C72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23FF-5FB2-4C34-A74D-ED47BE818E2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u=640780096,1334577426&amp;gp=14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8"/>
          <p:cNvSpPr/>
          <p:nvPr/>
        </p:nvSpPr>
        <p:spPr>
          <a:xfrm>
            <a:off x="6659640" y="5013360"/>
            <a:ext cx="720720" cy="1844640"/>
          </a:xfrm>
          <a:prstGeom prst="flowChartAlternateProcess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7524720" y="5013360"/>
            <a:ext cx="647640" cy="1844640"/>
          </a:xfrm>
          <a:prstGeom prst="flowChartAlternateProcess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析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21">
            <a:hlinkClick r:id="" action="ppaction://hlinkshowjump?jump=endshow"/>
          </p:cNvPr>
          <p:cNvSpPr/>
          <p:nvPr/>
        </p:nvSpPr>
        <p:spPr>
          <a:xfrm>
            <a:off x="2700360" y="630864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3059280" y="1484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仿宋_GB2312"/>
              </a:rPr>
              <a:t>我愿意是激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140360" y="2276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裴多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7"/>
          <p:cNvSpPr/>
          <p:nvPr/>
        </p:nvSpPr>
        <p:spPr>
          <a:xfrm>
            <a:off x="179280" y="6308640"/>
            <a:ext cx="900360" cy="35892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1" descr="u=640780096,1334577426&amp;gp=14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4"/>
          <p:cNvSpPr/>
          <p:nvPr/>
        </p:nvSpPr>
        <p:spPr>
          <a:xfrm>
            <a:off x="1332000" y="2177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裴多菲（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823-1849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），是匈牙利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世纪最伟大的诗人，资产阶级民主主义革命家。他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岁开始写诗，题材多取自人民生活，一生共写了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800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多首诗和八篇长篇叙事诗，著名长诗有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使徒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亚诺什勇士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等。他的诗歌充满革命激情，风格清新，语言通俗，富有民歌味。其作品对匈牙利民族文学发展影响很大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我愿意是激流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裴多菲献给未婚妻尤丽亚的一首情诗。诗人热情、真挚地向爱人倾诉衷肠，咏唱对爱情的渴望与坚贞。这首诗运用比喻和对比手法，形象鲜明，寓意深长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8880" y="404640"/>
            <a:ext cx="667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作者简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179280" y="595008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u=640780096,1334577426&amp;gp=14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98880" y="404640"/>
            <a:ext cx="667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阅读赏析（一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79280" y="595008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187280" y="2183760"/>
            <a:ext cx="79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诗人借助一系列自然物象，构筑起一个庞大的抒情网络，营建了一个炽热的恋爱磁场，通过一连串鲜活生动的比喻，围绕同一主题，表达诗人纯洁而坚贞、博大而无私的爱。“急流、荒林、废墟、草屋、云朵和破旗”等，或荒瑟冷落，或凋敝残败，诗人以此喻自己，而笔下的“小鱼、小鸟、常春藤、火焰、夕阳”则显得美好热情，欢畅明丽，用它们来比喻心中的爱人，两者形成了鲜明的反差，相反相成间流露出诗人的一腔赤诚。也就是说，不管自身的处境多么险恶，命运怎样坎坷，只要同“我的爱人”在一起，只要“我的爱人”能够自由幸福，那么“我”也就“幸福着你的幸福”了，那么“我”也就能变得勇猛强悍，拥有战胜一切困难的力量了。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全诗五个章节，围绕同一中心，反复吟唱，但反复而不重复。“急流、小河”要穿越“崎岖的路”和层层“岩石”，说明我们的爱情生活也许会有重重的艰难险阻；同“一阵阵的狂风”作战的“荒林”，意味着爱情路上会遭受到的磨难和打击；“废墟”本已被遗弃，并正在“静默地毁灭”之中，表明诗人愿为爱情付出一切的巨大的牺牲精神；而谷底的“草屋”则突出了诗人处境的孤危；飘来荡去的“云朵”又昭示了诗人必然浪迹天涯的一生。凡此种种，都展现了抒情主人公不屈的意志和忠贞的爱恋。同时，诗人对“爱人”的描摹也同样耐人寻味：浪花中的“小鱼”，多么自由，多么活泼可爱；树枝间呜叫的“小鸟”，又是那样的天真欢快，甜蜜怡人；青青的“常青藤”，是一种永不消褪的美；炉中的“火焰”，一如爱的火焰，温馨而暖人；至于那“珊瑚似的夕阳”，不仅绚烂美丽，更能给人带来无限光明和“鲜艳的辉煌”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组博喻，一组对比，勾勒出男女主人公丰满的形象：是诗情的倾诉，是画意的泼墨，是至美的追求，是真爱的憧憬。美得令人拍案，真得荡人肺腑。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u=640780096,1334577426&amp;gp=14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-88560" y="404640"/>
            <a:ext cx="11552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阅读赏析（二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179280" y="595008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332000" y="2364120"/>
            <a:ext cx="78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难怪鲁迅先生要说裴多菲“所著诗歌，妙绝人世”了。至于有人依据裴多菲革命而战斗的一生，把此诗也作为一首政治抒情诗来理解，则不免有失牵强，更有违于裴多菲写作此诗的初衷。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虽然说，裴多菲后期所写的爱情诗越来越多地闪现出革命精神的光芒，成为爱情与革命完满结合的典范，如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847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写的著名诗篇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自由与爱情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：“生命诚可贵，爱情价更高。若为自由故，二者皆可抛。”等等，但是，由于诗人民歌形式的创作，因而他的诗歌意象总的来说，较晓畅明晰，诗人惯于用真情来打动人。这也正符合他的美学观点：“我是一个为‘真’，连‘美’都可以牺牲的人。”可见，在裴多菲的诗歌理念中，“真”尾第一要素，他是容不得哪怕一丁点几的作假和矫情的。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从这一角度来剖析，我们不难发现诗中的“我”就是诗人自己，“我的爱人”则是尤丽亚，这无疑就是一首纯粹的爱情诗。如果非要作政治抒情诗解，那么，对这里的“我”的理解并不难，或者是诗人自己，或者是革命同仁。而“我的爱人”呢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?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应该是诗人及其战友们为之浴血奋战的匈牙利民族解放事业，是诗人矢志追求的革命理想了。但是，且慢，这里有个问题，即意象的大小本末的错位。那么崇高，那么伟大，诗人愿意为之献身的匈牙利民族解放事业（革命理想），变成了“浪花”中的一尾“小鱼”，“树枝间”的一只小鸟，“废墟：上的一根纤细的“常青藤”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……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似乎有些匪夷所思，令人难以接受，我看即使裴多菲本人也不会这么想吧。何况，这首诗作于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847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初，其时，诗人和尤丽亚的婚恋之事已经峰回路转、柳暗花明了，三个月之后，他们就步人了婚烟的殿堂。所以说，这就是一首爱情诗，诗人裴多菲调动起全身爱的细胞，点燃起激情与真爱的火焰，发布了他的爱的誓言，可谓震天动地、情真意切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8:50:00Z</dcterms:modified>
  <cp:revision>25</cp:revision>
  <dc:subject/>
  <dc:title>PowerPoint Presentation</dc:title>
</cp:coreProperties>
</file>