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A8B9-9FCF-41C5-9E6C-981CCD5EDE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BDD8-93DC-49D0-A3FE-43BEADB9E19E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EED5-1BA7-4D7E-8DE4-2266E0B36203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8E60-43BB-410C-9FBF-393BA4518BF9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05E8-708F-48FC-AA70-F1087C65E4C7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3252-5C43-48DA-B687-0F1377DC608F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0F79-E4D0-4742-8289-9DFA8EE7F28A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144E-D7FC-4D97-A177-49FE151EB337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C96F-47EA-4EE7-BA8D-2805FA762281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0AFF-A246-468C-BDC6-6B6A60671284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B57C-AC55-4992-A5E0-1A2A6F352340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4240-52D8-4C3B-948F-B85553781DA7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D558-3130-48DF-B3A8-7DC9B46B1B02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30C8-6A04-4CBE-9D52-93C8F0C1784A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D9B8-AFDE-4017-8C6B-EF7135FF5F18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84B-0FC0-49DB-93F1-4C7BE74F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9C7-63BD-455A-B3C5-BFD0E110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081-5E85-4008-8742-037D6309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4F6-9FB1-4E93-8AF1-93416842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2C6D-ED1C-4A34-9AA9-9FACE3E1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AF35-8EE7-4E89-8B37-2469885D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203F-D8A3-4EAB-A711-A8944B0A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98A4-DB16-45C9-82EE-D1B2332B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E6C6-22A7-4A50-AA35-CDD19B93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B84A-A5F8-4F8A-B3D5-F3E4B78A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3FF5-0B74-4B8B-BB3E-D9F11F7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35D-AE31-436C-94BB-704DD088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E2F1-F091-41B2-9FDF-4069E9F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0690-01FA-4F77-8C95-2A35858D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7BD2-27FB-4D51-BE12-40A4BAD5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5633-43C3-457B-80B0-F13BC704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E707-EB29-40AF-8EC2-1C740578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034-AB89-44B7-912F-E7948E7D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182-7543-462B-B02D-24B8A334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628-E95B-412A-8806-94EB0D62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64B-B065-4864-ADB7-7349FD8D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BB3-AF47-4B43-BE40-56FD00C9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F07-D907-43FA-A8BF-EB35DCBE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F93-2EC7-4D95-920A-991D35AC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3306-F922-43A4-87C5-5E541C24B1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4EC1-EAB0-4E5C-9D7C-1D054E970D4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3.xml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3.xml"/><Relationship Id="rId13" Type="http://schemas.openxmlformats.org/officeDocument/2006/relationships/slide" Target=""/><Relationship Id="rId14" Type="http://schemas.openxmlformats.org/officeDocument/2006/relationships/slide" Target="slide7.xml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5"/>
          <p:cNvGrpSpPr/>
          <p:nvPr/>
        </p:nvGrpSpPr>
        <p:grpSpPr>
          <a:xfrm>
            <a:off x="2050920" y="1197000"/>
            <a:ext cx="5167440" cy="4646520"/>
            <a:chOff x="2050920" y="1197000"/>
            <a:chExt cx="5167440" cy="4646520"/>
          </a:xfrm>
        </p:grpSpPr>
        <p:sp>
          <p:nvSpPr>
            <p:cNvPr id="90" name="Text Box 6"/>
            <p:cNvSpPr/>
            <p:nvPr/>
          </p:nvSpPr>
          <p:spPr>
            <a:xfrm>
              <a:off x="2050920" y="1197000"/>
              <a:ext cx="1152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清塘荷韵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1" name="Group 8"/>
            <p:cNvGrpSpPr/>
            <p:nvPr/>
          </p:nvGrpSpPr>
          <p:grpSpPr>
            <a:xfrm>
              <a:off x="4932360" y="5157720"/>
              <a:ext cx="2286000" cy="685800"/>
              <a:chOff x="4932360" y="5157720"/>
              <a:chExt cx="2286000" cy="685800"/>
            </a:xfrm>
          </p:grpSpPr>
          <p:grpSp>
            <p:nvGrpSpPr>
              <p:cNvPr id="92" name="Group 9"/>
              <p:cNvGrpSpPr/>
              <p:nvPr/>
            </p:nvGrpSpPr>
            <p:grpSpPr>
              <a:xfrm>
                <a:off x="4932360" y="5157720"/>
                <a:ext cx="2286000" cy="685800"/>
                <a:chOff x="4932360" y="5157720"/>
                <a:chExt cx="2286000" cy="685800"/>
              </a:xfrm>
            </p:grpSpPr>
            <p:sp>
              <p:nvSpPr>
                <p:cNvPr id="93" name="Oval 10"/>
                <p:cNvSpPr/>
                <p:nvPr/>
              </p:nvSpPr>
              <p:spPr>
                <a:xfrm>
                  <a:off x="4932360" y="5157720"/>
                  <a:ext cx="2286000" cy="685800"/>
                </a:xfrm>
                <a:prstGeom prst="ellipse">
                  <a:avLst/>
                </a:prstGeom>
                <a:solidFill>
                  <a:srgbClr val="0066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4" name="Text Box 11"/>
                <p:cNvSpPr/>
                <p:nvPr/>
              </p:nvSpPr>
              <p:spPr>
                <a:xfrm>
                  <a:off x="5347800" y="526572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背景简介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AutoShape 12">
                <a:hlinkClick r:id="rId1" action="ppaction://hlinksldjump"/>
              </p:cNvPr>
              <p:cNvSpPr/>
              <p:nvPr/>
            </p:nvSpPr>
            <p:spPr>
              <a:xfrm>
                <a:off x="5313600" y="5310360"/>
                <a:ext cx="1523880" cy="38088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6359" y="21600"/>
                    </a:lnTo>
                    <a:lnTo>
                      <a:pt x="0" y="21600"/>
                    </a:lnTo>
                    <a:close/>
                  </a:path>
                  <a:path fill="lightenLess"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4959" y="1400"/>
                    </a:lnTo>
                    <a:lnTo>
                      <a:pt x="1400" y="1400"/>
                    </a:lnTo>
                    <a:close/>
                  </a:path>
                  <a:path fill="darken" w="86359" h="21600">
                    <a:moveTo>
                      <a:pt x="86359" y="0"/>
                    </a:moveTo>
                    <a:lnTo>
                      <a:pt x="86359" y="21600"/>
                    </a:lnTo>
                    <a:lnTo>
                      <a:pt x="84959" y="20200"/>
                    </a:lnTo>
                    <a:lnTo>
                      <a:pt x="84959" y="1400"/>
                    </a:lnTo>
                    <a:close/>
                  </a:path>
                  <a:path fill="darkenLess" w="86359" h="21600">
                    <a:moveTo>
                      <a:pt x="86359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959" y="20200"/>
                    </a:lnTo>
                    <a:close/>
                  </a:path>
                  <a:path fill="lighten" w="86359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cc0066"/>
                    </a:solidFill>
                    <a:uFillTx/>
                    <a:latin typeface="Times New Roman"/>
                    <a:hlinkClick r:id="rId2" action="ppaction://hlinksldjump"/>
                  </a:rPr>
                  <a:t>拓展阅读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13"/>
            <p:cNvGrpSpPr/>
            <p:nvPr/>
          </p:nvGrpSpPr>
          <p:grpSpPr>
            <a:xfrm>
              <a:off x="4859280" y="4149720"/>
              <a:ext cx="2286000" cy="685800"/>
              <a:chOff x="4859280" y="4149720"/>
              <a:chExt cx="2286000" cy="685800"/>
            </a:xfrm>
          </p:grpSpPr>
          <p:grpSp>
            <p:nvGrpSpPr>
              <p:cNvPr id="97" name="Group 14"/>
              <p:cNvGrpSpPr/>
              <p:nvPr/>
            </p:nvGrpSpPr>
            <p:grpSpPr>
              <a:xfrm>
                <a:off x="4859280" y="4149720"/>
                <a:ext cx="2286000" cy="685800"/>
                <a:chOff x="4859280" y="4149720"/>
                <a:chExt cx="2286000" cy="685800"/>
              </a:xfrm>
            </p:grpSpPr>
            <p:sp>
              <p:nvSpPr>
                <p:cNvPr id="98" name="Oval 15"/>
                <p:cNvSpPr/>
                <p:nvPr/>
              </p:nvSpPr>
              <p:spPr>
                <a:xfrm>
                  <a:off x="4859280" y="4149720"/>
                  <a:ext cx="2286000" cy="685800"/>
                </a:xfrm>
                <a:prstGeom prst="ellipse">
                  <a:avLst/>
                </a:prstGeom>
                <a:solidFill>
                  <a:srgbClr val="0066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16">
                  <a:hlinkClick r:id="rId3" action="ppaction://hlinksldjump"/>
                </p:cNvPr>
                <p:cNvSpPr/>
                <p:nvPr/>
              </p:nvSpPr>
              <p:spPr>
                <a:xfrm>
                  <a:off x="5274720" y="425772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背景简介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AutoShape 17">
                <a:hlinkClick r:id="rId4" action="ppaction://hlinksldjump"/>
              </p:cNvPr>
              <p:cNvSpPr/>
              <p:nvPr/>
            </p:nvSpPr>
            <p:spPr>
              <a:xfrm>
                <a:off x="5240520" y="4302360"/>
                <a:ext cx="1523880" cy="38088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6359" y="21600"/>
                    </a:lnTo>
                    <a:lnTo>
                      <a:pt x="0" y="21600"/>
                    </a:lnTo>
                    <a:close/>
                  </a:path>
                  <a:path fill="lightenLess"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4959" y="1400"/>
                    </a:lnTo>
                    <a:lnTo>
                      <a:pt x="1400" y="1400"/>
                    </a:lnTo>
                    <a:close/>
                  </a:path>
                  <a:path fill="darken" w="86359" h="21600">
                    <a:moveTo>
                      <a:pt x="86359" y="0"/>
                    </a:moveTo>
                    <a:lnTo>
                      <a:pt x="86359" y="21600"/>
                    </a:lnTo>
                    <a:lnTo>
                      <a:pt x="84959" y="20200"/>
                    </a:lnTo>
                    <a:lnTo>
                      <a:pt x="84959" y="1400"/>
                    </a:lnTo>
                    <a:close/>
                  </a:path>
                  <a:path fill="darkenLess" w="86359" h="21600">
                    <a:moveTo>
                      <a:pt x="86359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959" y="20200"/>
                    </a:lnTo>
                    <a:close/>
                  </a:path>
                  <a:path fill="lighten" w="86359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cc0066"/>
                    </a:solidFill>
                    <a:uFillTx/>
                    <a:latin typeface="Times New Roman"/>
                    <a:hlinkClick r:id="rId5" action="ppaction://hlinksldjump"/>
                  </a:rPr>
                  <a:t>思考与练习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8"/>
            <p:cNvGrpSpPr/>
            <p:nvPr/>
          </p:nvGrpSpPr>
          <p:grpSpPr>
            <a:xfrm>
              <a:off x="4788000" y="2276640"/>
              <a:ext cx="2286000" cy="685800"/>
              <a:chOff x="4788000" y="2276640"/>
              <a:chExt cx="2286000" cy="685800"/>
            </a:xfrm>
          </p:grpSpPr>
          <p:grpSp>
            <p:nvGrpSpPr>
              <p:cNvPr id="102" name="Group 19"/>
              <p:cNvGrpSpPr/>
              <p:nvPr/>
            </p:nvGrpSpPr>
            <p:grpSpPr>
              <a:xfrm>
                <a:off x="4788000" y="2276640"/>
                <a:ext cx="2286000" cy="685800"/>
                <a:chOff x="4788000" y="2276640"/>
                <a:chExt cx="2286000" cy="685800"/>
              </a:xfrm>
            </p:grpSpPr>
            <p:sp>
              <p:nvSpPr>
                <p:cNvPr id="103" name="Oval 20"/>
                <p:cNvSpPr/>
                <p:nvPr/>
              </p:nvSpPr>
              <p:spPr>
                <a:xfrm>
                  <a:off x="4788000" y="2276640"/>
                  <a:ext cx="2286000" cy="685800"/>
                </a:xfrm>
                <a:prstGeom prst="ellipse">
                  <a:avLst/>
                </a:prstGeom>
                <a:solidFill>
                  <a:srgbClr val="0066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" name="Text Box 21">
                  <a:hlinkClick r:id="rId6" action="ppaction://hlinksldjump"/>
                </p:cNvPr>
                <p:cNvSpPr/>
                <p:nvPr/>
              </p:nvSpPr>
              <p:spPr>
                <a:xfrm>
                  <a:off x="5203440" y="238464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背景简介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AutoShape 22">
                <a:hlinkClick r:id="rId7" action="ppaction://hlinksldjump"/>
              </p:cNvPr>
              <p:cNvSpPr/>
              <p:nvPr/>
            </p:nvSpPr>
            <p:spPr>
              <a:xfrm>
                <a:off x="5169240" y="2429280"/>
                <a:ext cx="1523880" cy="38088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6359" y="21600"/>
                    </a:lnTo>
                    <a:lnTo>
                      <a:pt x="0" y="21600"/>
                    </a:lnTo>
                    <a:close/>
                  </a:path>
                  <a:path fill="lightenLess"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4959" y="1400"/>
                    </a:lnTo>
                    <a:lnTo>
                      <a:pt x="1400" y="1400"/>
                    </a:lnTo>
                    <a:close/>
                  </a:path>
                  <a:path fill="darken" w="86359" h="21600">
                    <a:moveTo>
                      <a:pt x="86359" y="0"/>
                    </a:moveTo>
                    <a:lnTo>
                      <a:pt x="86359" y="21600"/>
                    </a:lnTo>
                    <a:lnTo>
                      <a:pt x="84959" y="20200"/>
                    </a:lnTo>
                    <a:lnTo>
                      <a:pt x="84959" y="1400"/>
                    </a:lnTo>
                    <a:close/>
                  </a:path>
                  <a:path fill="darkenLess" w="86359" h="21600">
                    <a:moveTo>
                      <a:pt x="86359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959" y="20200"/>
                    </a:lnTo>
                    <a:close/>
                  </a:path>
                  <a:path fill="lighten" w="86359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cc0066"/>
                    </a:solidFill>
                    <a:uFillTx/>
                    <a:latin typeface="Times New Roman"/>
                    <a:hlinkClick r:id="rId8" action="ppaction://hlinksldjump"/>
                  </a:rPr>
                  <a:t>阅读赏析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23"/>
            <p:cNvGrpSpPr/>
            <p:nvPr/>
          </p:nvGrpSpPr>
          <p:grpSpPr>
            <a:xfrm>
              <a:off x="4788000" y="1268280"/>
              <a:ext cx="2286000" cy="685800"/>
              <a:chOff x="4788000" y="1268280"/>
              <a:chExt cx="2286000" cy="685800"/>
            </a:xfrm>
          </p:grpSpPr>
          <p:grpSp>
            <p:nvGrpSpPr>
              <p:cNvPr id="107" name="Group 24"/>
              <p:cNvGrpSpPr/>
              <p:nvPr/>
            </p:nvGrpSpPr>
            <p:grpSpPr>
              <a:xfrm>
                <a:off x="4788000" y="1268280"/>
                <a:ext cx="2286000" cy="685800"/>
                <a:chOff x="4788000" y="1268280"/>
                <a:chExt cx="2286000" cy="685800"/>
              </a:xfrm>
            </p:grpSpPr>
            <p:sp>
              <p:nvSpPr>
                <p:cNvPr id="108" name="Oval 25"/>
                <p:cNvSpPr/>
                <p:nvPr/>
              </p:nvSpPr>
              <p:spPr>
                <a:xfrm>
                  <a:off x="4788000" y="1268280"/>
                  <a:ext cx="2286000" cy="685800"/>
                </a:xfrm>
                <a:prstGeom prst="ellipse">
                  <a:avLst/>
                </a:prstGeom>
                <a:solidFill>
                  <a:srgbClr val="0066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" name="Text Box 26">
                  <a:hlinkClick r:id="rId9" action="ppaction://hlinksldjump"/>
                </p:cNvPr>
                <p:cNvSpPr/>
                <p:nvPr/>
              </p:nvSpPr>
              <p:spPr>
                <a:xfrm>
                  <a:off x="5203440" y="13762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背景简介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AutoShape 27">
                <a:hlinkClick r:id="rId10" action="ppaction://hlinksldjump"/>
              </p:cNvPr>
              <p:cNvSpPr/>
              <p:nvPr/>
            </p:nvSpPr>
            <p:spPr>
              <a:xfrm>
                <a:off x="5169240" y="1420920"/>
                <a:ext cx="1523880" cy="38088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6359" y="21600"/>
                    </a:lnTo>
                    <a:lnTo>
                      <a:pt x="0" y="21600"/>
                    </a:lnTo>
                    <a:close/>
                  </a:path>
                  <a:path fill="lightenLess"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4959" y="1400"/>
                    </a:lnTo>
                    <a:lnTo>
                      <a:pt x="1400" y="1400"/>
                    </a:lnTo>
                    <a:close/>
                  </a:path>
                  <a:path fill="darken" w="86359" h="21600">
                    <a:moveTo>
                      <a:pt x="86359" y="0"/>
                    </a:moveTo>
                    <a:lnTo>
                      <a:pt x="86359" y="21600"/>
                    </a:lnTo>
                    <a:lnTo>
                      <a:pt x="84959" y="20200"/>
                    </a:lnTo>
                    <a:lnTo>
                      <a:pt x="84959" y="1400"/>
                    </a:lnTo>
                    <a:close/>
                  </a:path>
                  <a:path fill="darkenLess" w="86359" h="21600">
                    <a:moveTo>
                      <a:pt x="86359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959" y="20200"/>
                    </a:lnTo>
                    <a:close/>
                  </a:path>
                  <a:path fill="lighten" w="86359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cc0066"/>
                    </a:solidFill>
                    <a:uFillTx/>
                    <a:latin typeface="Times New Roman"/>
                    <a:hlinkClick r:id="rId11" action="ppaction://hlinksldjump"/>
                  </a:rPr>
                  <a:t>作者简介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11" name="Text Box 29"/>
            <p:cNvSpPr/>
            <p:nvPr/>
          </p:nvSpPr>
          <p:spPr>
            <a:xfrm>
              <a:off x="2991240" y="3266640"/>
              <a:ext cx="66780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Arial"/>
                  <a:ea typeface="华文行楷"/>
                </a:rPr>
                <a:t>季羡林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2" name="Group 30"/>
            <p:cNvGrpSpPr/>
            <p:nvPr/>
          </p:nvGrpSpPr>
          <p:grpSpPr>
            <a:xfrm>
              <a:off x="4788000" y="3213000"/>
              <a:ext cx="2286000" cy="685800"/>
              <a:chOff x="4788000" y="3213000"/>
              <a:chExt cx="2286000" cy="685800"/>
            </a:xfrm>
          </p:grpSpPr>
          <p:grpSp>
            <p:nvGrpSpPr>
              <p:cNvPr id="113" name="Group 31"/>
              <p:cNvGrpSpPr/>
              <p:nvPr/>
            </p:nvGrpSpPr>
            <p:grpSpPr>
              <a:xfrm>
                <a:off x="4788000" y="3213000"/>
                <a:ext cx="2286000" cy="685800"/>
                <a:chOff x="4788000" y="3213000"/>
                <a:chExt cx="2286000" cy="685800"/>
              </a:xfrm>
            </p:grpSpPr>
            <p:sp>
              <p:nvSpPr>
                <p:cNvPr id="114" name="Oval 32"/>
                <p:cNvSpPr/>
                <p:nvPr/>
              </p:nvSpPr>
              <p:spPr>
                <a:xfrm>
                  <a:off x="4788000" y="3213000"/>
                  <a:ext cx="2286000" cy="685800"/>
                </a:xfrm>
                <a:prstGeom prst="ellipse">
                  <a:avLst/>
                </a:prstGeom>
                <a:solidFill>
                  <a:srgbClr val="0066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33">
                  <a:hlinkClick r:id="rId12" action="ppaction://hlinksldjump"/>
                </p:cNvPr>
                <p:cNvSpPr/>
                <p:nvPr/>
              </p:nvSpPr>
              <p:spPr>
                <a:xfrm>
                  <a:off x="5203440" y="332100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背景简介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AutoShape 34">
                <a:hlinkClick r:id="rId13" action="ppaction://hlinksldjump"/>
              </p:cNvPr>
              <p:cNvSpPr/>
              <p:nvPr/>
            </p:nvSpPr>
            <p:spPr>
              <a:xfrm>
                <a:off x="5169240" y="3365640"/>
                <a:ext cx="1523880" cy="38088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6359" y="21600"/>
                    </a:lnTo>
                    <a:lnTo>
                      <a:pt x="0" y="21600"/>
                    </a:lnTo>
                    <a:close/>
                  </a:path>
                  <a:path fill="lightenLess"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4959" y="1400"/>
                    </a:lnTo>
                    <a:lnTo>
                      <a:pt x="1400" y="1400"/>
                    </a:lnTo>
                    <a:close/>
                  </a:path>
                  <a:path fill="darken" w="86359" h="21600">
                    <a:moveTo>
                      <a:pt x="86359" y="0"/>
                    </a:moveTo>
                    <a:lnTo>
                      <a:pt x="86359" y="21600"/>
                    </a:lnTo>
                    <a:lnTo>
                      <a:pt x="84959" y="20200"/>
                    </a:lnTo>
                    <a:lnTo>
                      <a:pt x="84959" y="1400"/>
                    </a:lnTo>
                    <a:close/>
                  </a:path>
                  <a:path fill="darkenLess" w="86359" h="21600">
                    <a:moveTo>
                      <a:pt x="86359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959" y="20200"/>
                    </a:lnTo>
                    <a:close/>
                  </a:path>
                  <a:path fill="lighten" w="86359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cc0066"/>
                    </a:solidFill>
                    <a:uFillTx/>
                    <a:latin typeface="Times New Roman"/>
                    <a:hlinkClick r:id="rId14" action="ppaction://hlinksldjump"/>
                  </a:rPr>
                  <a:t>学习建议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AutoShape 38">
            <a:hlinkClick r:id="" action="ppaction://hlinkshowjump?jump=endshow"/>
          </p:cNvPr>
          <p:cNvSpPr/>
          <p:nvPr/>
        </p:nvSpPr>
        <p:spPr>
          <a:xfrm>
            <a:off x="7812000" y="6021360"/>
            <a:ext cx="900360" cy="35892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01124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拓展阅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630360" y="1311120"/>
            <a:ext cx="790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镜头二：“物，吾与也。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刹那间，季老的小波斯猫毛毛蹿上了他的肩上和头上，正在拜访季老的摄影家魏德运捕捉住这一刹那，照相机喀嚓一声，这个刹那便成了永恒。小猫的突然攻击，按理说似乎会让人大吃一惊，或者会大火一番，然而照片上的季老却安详慈祥，一副含笑不露的表情，显然这次突然袭击带给他的是莫大的欢愉。面对这一刹那留下的永恒，季老曾经感到疑惑：这就是自己吗？但猝然临之，露出的才是真面目啊。联想到对融贯于中国几千年文化中“天人合一”思想的深信不疑，季老认为，这种思想最生动的表达方式，就是宋代大哲学家张载的两句话：“民，吾同胞；物，吾与也”，“与”就是“伙伴”的意思。他不但深信之，而且“笃行之”。这张照片算是一个意外的证明吧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季老喜爱动物，跟怀有各种各样动机去爱宠物的一些人不同，他关心身边这些“伙伴”的命运，甚至为它们背着沉重的感情十字架，为一些孤苦、弱小生灵的命运伤感、悲苦。他经常为一些小动物、小花草惹起万斛闲愁，为一些小猫小狗流泪叹气。有一次，燕园中他平常最爱走的幽径上一棵古藤无故被人砍断，他看到藤萝上初绽的淡紫的一串串的花还没来得及知道厄运信息，还在绿叶丛中微笑，忍不住为它们伤感：“它们仿佛成了失掉母亲的孤儿，不久就会微笑不下去，连痛哭都没有地方了。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01124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拓展阅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630360" y="1311120"/>
            <a:ext cx="79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镜头三：“谁言寸草心，报得三春晖。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季老的面貌，最让人注意的是两个大大的眼袋。那不是常见的一种寿征，那眼袋里藏的是眼泪；他的眼袋之所以大，是因为感情太深，流了太多眼泪的缘故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季老有一个永久的悔，就是儿时不该离开故乡、离开母亲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季羡林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6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岁就离开生母，后来有两次短暂的会面，都是由于回家奔丧，呆的时间都很短。想着母亲多少日夜眼望远方盼望自己的儿子回来，他发誓要在大学毕业后迎养母亲。然而，“树欲静而风不止，子欲养而亲不待”，他上大学二年级时，母亲就去世了。“当我从北京赶回济南，又从济南赶回清平奔丧的时候，看到了母亲的棺材，看到那简陋的屋子，我真想一头撞死在棺材上，随母亲于地下。我后悔，我真不该，我千不该万不该离开了母亲。世界上无论什么名誉，什么地位，什么幸福，什么尊荣，都比不上呆在母亲身边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……”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此后数十年，季老一想到母亲就泪流不止。直到耄耋之年，面影迷离模糊的母亲仍频来入梦，季老“总是老泪纵横，哭着醒来”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近些年，季老有一些师辈、故友相继故去，他在写悼念文章时，总是充满着悲哀，以至经常“泪眼模糊”，“泪如泉涌”，心灵颤抖。感情的丰富并非是因为年纪大了。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935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至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945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年，季老在德国哥廷根大学学习。在那里，他有一位“母亲般的女房东”和两位导师：瓦尔德施密特教授和西克教授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01124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拓展阅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630360" y="1125360"/>
            <a:ext cx="79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941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年季老获得博士学位后，曾一度尝试回国。其时，瓦尔德施密特教授被征入伍，只剩下西克教授，想到一离开德国，“这位像自己父亲一般替自己操心的老人十九是不能再见了。我本来就容易动感情，现更抑制不住了，很想哭上一场。”后来二战爆发，季老终于没走成。战争期间物资缺乏，季老几年都是饿肚子的感觉，做梦都梦见家乡的花生米，因此他发愿要给西克老人增加点营养。他省下一两个月的奶油，又不知从哪里弄到面粉和贵似金蛋的鸡蛋，以及一斤白糖，到最有名的糕点店烤了一个蛋糕。当他像捧宝盒一样把蛋糕捧到老教授家里时，教授双手颤抖，叫来老伴，共同接过去，连声“谢谢”都说不出来了。虽然这给他自己腹中的饥饿之火又加了一把火，但却成了他一生中最美好的记忆之一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镜头四：“为天地立心，为生民立命，为往圣继绝学。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季羡林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6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岁离开家乡，离开母亲，因为过早失去母爱而抱恨终天；但是，“乡间的坟墓里埋有莎士比亚”，也正是因为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6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岁离开家乡到济南，他才有可能开始读书识字，中国今日的学术文化也才有季羡林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930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年高中毕业，季羡林来到北平，同时报考北大和清华，结果被两校同时录取。在清华时，由于旁听了陈寅恪的“佛经翻译文学”，种下了研究梵文和巴利文的种子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从清华毕业回济南当了一年的中学教员之后，由于“天上掉下来的机遇”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——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清华和德国学术交换处签订了互派留学生的合同，立即写信报考，结果被录取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01124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拓展阅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30360" y="1125360"/>
            <a:ext cx="790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在德国柏林，羞与来镀金的有权有势的子女为伍，来到哥廷根大学。在哥廷根大学的第二学期，瓦尔德施密特教授调到哥廷根大学任印度学的讲座教授，于是季老选修了梵文，几乎是他一个学生“垄断”课堂。瓦尔德施密特教授被征从军后，年已八旬原已退休的西克教授又走上讲台，教的依然是他一个中国学生。并且西克教授不久就告诉季老，要把平生的绝招全部传授给他，包括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梨俱吠陀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大疏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十王子传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以及费了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20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年时间才解读了的吐火罗文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946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年从德国归来，经陈寅恪推荐，到北京大学。按当时规定，得学位回国的学人最高只能给予副教授职称，可是过了大概个把礼拜，季老就被定为正教授，兼东方语言文学系主任、文科研究所导师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即使在受到打击和摧残的时候，这种打击和摧残也往往转为“幸运”的契机，成了命运对他的“垂青”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——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“文革”时，季老最初是逍遥过一阵子的，后来由于看不惯北大“老佛爷”的倒行逆施，于是发了牛脾气，“自已跳出来”，反对“老佛爷”，结果被抄家、批斗，被打得头破血流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……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当他把积攒多时的安眠药片和药水都装到口袋里，最后看一眼共患难的婶母和老伴，准备越墙而出到圆明园去的时候，红卫兵突然来敲门了。他被押去挨了一场十分激烈、十分野蛮的批斗，被打得躺在地上站不起来。痛苦中他一下子得到“顿悟”：“一个人忍受挨打折磨的能力，是没有极限的。我能够忍受下去的！我不死了！我要活下去！”在那千钧一发之际，如果不是红卫兵把他拉去批斗，现在哪有季老？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01124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拓展阅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630360" y="1276200"/>
            <a:ext cx="79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从“牛棚”出来后，季老被命令看楼门，守电话，成为一个“不可接触者”。他琢磨着找一件会拖得很长，“但又绝对没有什么结果的工作，以消磨时光”。他想到印度两大史诗之一的梵文写的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罗摩衍那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。他就晚上把梵文译成汉文散文，写成小纸条装在口袋里，白天守楼时，脑袋不停止思考，把散文改为有韵的诗。季老后来说，如果没有“文革”，如果自己不跳出来反对那臭名昭著的“老佛爷”，如果当时没有成为“不可接触者”，两万多颂、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8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卷本的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罗摩衍那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是绝对翻译不出来的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或许，将来人们可以仿太史公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报任安书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那段著名的话，续上一句：季老看门，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罗摩衍那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。“这就是人生。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8028000" y="623736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7"/>
          <p:cNvSpPr/>
          <p:nvPr/>
        </p:nvSpPr>
        <p:spPr>
          <a:xfrm>
            <a:off x="101124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作者简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179280" y="595008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684360" y="1557360"/>
            <a:ext cx="777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季羡林，著名古文字学家、历史学家、作家。曾任中国科学院哲学社会科学部委员、北京大学副校长、中国社科院南亚研究所所长。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911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年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8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月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6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日出生于山东省清平县（现并入临清市）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946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年，他由德国留学回国，被聘为北京大学教授，创建东方语文系。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956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年当选为中国科学院哲学社会科学部委员。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978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年任北京大学副校长。其著作已汇编成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季羡林文集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共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24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卷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01124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阅读赏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630360" y="982800"/>
            <a:ext cx="790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一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本文是一篇流泻个人心境的散文，是“以心灵的方式存在”的好散文。是来自健康纯正、充满活力的心灵的散文精品。在这篇散文里，我们可以通过一个老者对面前池塘的遗憾、补憾、盼望、失望、微有希望、狂喜及思索等一系列思想变化的过程，看到一颗真诚的心对生活的豁达，对人生的挚爱。文章写得自然平实，但我们读来却如见智慧清泉，自心底汩汩而出，会不知不觉间陶醉于作者并不刻意营造的美好氛围中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7885080" y="609300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011240" y="565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阅读赏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468360" y="85572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二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课文可分为四部分：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-2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自然段为第一部分，交代种荷原因，说明为了符合中国传统的审美观念，塘中最好要有荷花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这部分写得平实自然，如话家常，然而几篇古诗文的顺手拈来，既展现出作者深厚的文学素养，也将有塘无荷的巨大缺憾表现出来，使得后文的举动显得水到渠成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-6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自然段为第二部分，详细刻画在莲子入水后作者的一系列翘首期盼的心情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第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自然段写“尽了人事”，将莲子投入池中。这一段虽然作者一再强调希望莲芽能破壳而出只是些主观愿望，但我们仍能从作者的细心举动，感受到一个老者的发自内心的期盼，表现了老人对自然的热爱和对生命的真诚。第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4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自然段，写老人天天去池塘看，当第二年荷叶还未长出时，而终于失望。作者用了“我的目光无法把荷叶从淤泥中吸出”，一个“吸”字，尽显情真。第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5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自然段，写绝望中忽然出现奇迹，但究竟只有五六个孤零零的叶子而不免灰心。表达老人对满塘荷叶、荷花的盛景的迫切期盼。写得坦然不拘：有叶片长出，是出了奇迹，但人心似乎难以满足：“我总嫌着有点太少，总希望多长出几片来。” 第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6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自然段，写终于盼到了荷花生机勃勃时的狂喜心情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8244000" y="649908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01124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阅读赏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324000" y="981000"/>
            <a:ext cx="842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二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7-11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自然段为第三部分，主要写赏荷的无限情趣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第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7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自然段写由荷叶的生长速度而引发的对生命力的惊叹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——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生命力的顽强，一种“极其惊人的求生存的力量和极其惊人的扩展蔓延的力量。”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第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8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自然段写“季荷”“别样红“的兴奋心情。主要是通过塘中荷花盛景而勾起对古诗及杭州西湖美景的赞叹，字里行间流露出自豪、得意之情，表现了老人的童心，坦率而真诚，令人会心而笑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第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9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0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自然段：写过去两年赏荷而陶醉其中并品味“池花对影落”的美好意境。刻画传神，让人仿佛看到了一幅美妙绝伦的画面：荷塘盛景中，有绿叶、红花倒映其中，莲瓣飘落，水面平静，虚（景）实（景）结合，动静和谐。最妙者是，如画风景中，一老者默坐池边，赏荷吟诗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……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2-13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自然段为第四部分，预想荷的将来，并为之祝福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这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段没有直接描写残荷凋零之日，而是以雪莱的诗句，表达了自己对荷的明天的期盼和信心，可谓别开生面。文末的一句话可以说是全文的点睛之笔，它将一个老人对荷的所有感情尽融入其中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8101080" y="623736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01124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阅读赏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8244000" y="649908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630360" y="981000"/>
            <a:ext cx="790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三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从写作特色而言，本文并无多少技巧而言。然而读来却如此吸引人。也许这正是作者的高明之处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.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语言平实、朴素，而自有一种拨动人心的魅力。使人在赏读之中不仅品味着荷塘的韵味，而且也感受到了作者人格的力量。这是一般作品所难以达到的境界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2.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引用古诗文、名言绝句，信手拈来，恰到好处。文章前后共用了古诗文八处 ，无一处不恰当，无一处不为文章增色，又无一处有故意卖弄文采之感，这是我们今人作文所应学习的一点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.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文章中作者思想感情的变化脉络清晰可辨，既然我们把握了作者的心情，也为品味文章主题提供了便捷的思路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01916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学习建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7885080" y="616572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630360" y="1311120"/>
            <a:ext cx="790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一、可按照“思考与练习一” 的提示，先找出古人咏荷的诗词，然后将它们与课内出现的古诗文比较，看看它们若用到本文，效果会有何不同，以此展开对课文的分析品评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二、查阅朱自清的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荷塘月色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和郑伯琛的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荷叶颂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在比较异同中完成对本课的理解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三、传统学习思路也可以试试：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一）默读课文。（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）给生字词注音，为朗读全文作基础准备；（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）体会“荷韵”到底体现在哪些方面？（</a:t>
            </a:r>
            <a:r>
              <a:rPr b="0" lang="en-US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）默读完后，用简要的语言谈谈自己的阅读感受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二）声情并茂地朗读找出的“荷韵”段落，由此展开对课文美好意境的分析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三）把自己最欣赏的一个段落，在熟读的基础上，自己录制自己的朗读带，然后和同学交流，评选出几篇佳作，供全班同学欣赏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102680" y="6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思考与练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79280" y="595008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630360" y="1311120"/>
            <a:ext cx="790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一、古今文人写荷颂荷的诗文很多，请你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.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找出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首以上写荷的古诗词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2.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查阅朱自清的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荷塘月色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和郑伯琛的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荷叶颂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比较这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篇文章内容和写法上的异同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二、写一篇融情于景的散文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01124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拓展阅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30360" y="1311120"/>
            <a:ext cx="79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今年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日，在学界名流为季羡林先生举行的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90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寿诞茶话会上，我们终于有机会走近这座学术文化高峰。季老是一座山，近之，愈觉其高；季老是一部书，读之，愈觉其深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…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镜头一：“民，吾同胞。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金秋，怀着无比自豪与兴奋之情的天之骄子从各地云聚燕园。一位扛着行李的新生，看见一位穿旧式中山装的守门人模样的老头，就请他帮助看一会儿行李，自己去报到。老头没说什么，答应了，老老实实地在那儿守着。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9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月的北京天气还很热，旁边有人说：“您回去吧，我替他看着。”可老人说：“还是我等他吧，换了人他该找不着了。”那位学生回来后，老头什么也没说就走了。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天后的开学典礼上，这位学子吃惊地认出了台上的副校长、大名鼎鼎的季羡林教授就是那天帮自己看行李的老头！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……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教授给新生看行李，好像并不难，许多名人达官不也是常上街头搞义务为灾区贫困地区献真情吗？可是刻意为之与本能为之，却有雕琢与率性之别。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中庸</a:t>
            </a:r>
            <a:r>
              <a:rPr b="0" lang="en-US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说：“率性之谓道。”人本来都是平凡的，可当许多人都要显得不平凡时，那个衣着和行止都平平常常的人，就自然露出他的不平凡来了。老子所说的“大音希声，大象无形”就是这个道理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9:00:11Z</dcterms:modified>
  <cp:revision>38</cp:revision>
  <dc:subject/>
  <dc:title>PowerPoint Presentation</dc:title>
</cp:coreProperties>
</file>