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CC08-01A4-47E0-BB4E-F2F52493036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218A-82B1-4F7D-866A-81964B137D4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8BC-AF3E-4780-8B21-BE04A80E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9D9F-5485-44F0-B9D3-530F0184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F58E-B54D-4981-B9EB-7F5EBA85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41F-97BD-4162-9F55-C7946041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C6F0-1EA5-4963-8992-00A6750E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25FA-0F93-4FF8-9C9A-1E676989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EFB2-B0CE-4C67-8136-B204881C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5EB8-E242-4B17-B3D8-C13061D9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4D3F-BF3C-4087-9AEB-549496C6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587F-C4B5-439A-BDAA-2224B09B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1972-45D4-406F-BC7B-123B7B51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335D-92C8-4C48-AC46-271094B5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D2D9-3470-4167-AD27-A2C4B7EB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072F-2626-4D9A-A8D7-F94D6632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61D3-3C8F-4009-9995-783EAEF0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F09E-90AE-4E7F-A859-BE3CDF1F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95F2-51E1-444C-8179-55A18744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2204-0C7B-4BFB-A91C-955BC41F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A3C-A401-40BB-A491-AF040969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8AC-37CA-4295-9E82-67B32D39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01C-003B-4979-9B96-58128C35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A11-13BD-4CFD-8966-01EB57EA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062-9592-4216-9D57-53357153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45F-6360-43CD-9FAC-C339C989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8046-4BC1-4CF1-BC87-03A288BA70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08D4-6EFD-4A5A-B8C2-F8D33207516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slide" Target="slide3.xml"/><Relationship Id="rId7" Type="http://schemas.openxmlformats.org/officeDocument/2006/relationships/slide" Target=""/><Relationship Id="rId8" Type="http://schemas.openxmlformats.org/officeDocument/2006/relationships/slide" Target="slide4.xml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49"/>
          <p:cNvGrpSpPr/>
          <p:nvPr/>
        </p:nvGrpSpPr>
        <p:grpSpPr>
          <a:xfrm>
            <a:off x="-31680" y="0"/>
            <a:ext cx="9144000" cy="6858000"/>
            <a:chOff x="-31680" y="0"/>
            <a:chExt cx="9144000" cy="6858000"/>
          </a:xfrm>
        </p:grpSpPr>
        <p:pic>
          <p:nvPicPr>
            <p:cNvPr id="90" name="Picture 39" descr="firmchen1069580619jianjia_3"/>
            <p:cNvPicPr/>
            <p:nvPr/>
          </p:nvPicPr>
          <p:blipFill>
            <a:blip r:embed="rId1"/>
            <a:stretch/>
          </p:blipFill>
          <p:spPr>
            <a:xfrm>
              <a:off x="-3168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1" name="Object 48"/>
            <p:cNvGraphicFramePr/>
            <p:nvPr/>
          </p:nvGraphicFramePr>
          <p:xfrm>
            <a:off x="579600" y="5872320"/>
            <a:ext cx="3240000" cy="52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4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9600" y="5872320"/>
                      <a:ext cx="3240000" cy="52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3" name="Group 10"/>
          <p:cNvGrpSpPr/>
          <p:nvPr/>
        </p:nvGrpSpPr>
        <p:grpSpPr>
          <a:xfrm>
            <a:off x="649440" y="950760"/>
            <a:ext cx="2306160" cy="685800"/>
            <a:chOff x="649440" y="950760"/>
            <a:chExt cx="2306160" cy="685800"/>
          </a:xfrm>
        </p:grpSpPr>
        <p:grpSp>
          <p:nvGrpSpPr>
            <p:cNvPr id="94" name="Group 11"/>
            <p:cNvGrpSpPr/>
            <p:nvPr/>
          </p:nvGrpSpPr>
          <p:grpSpPr>
            <a:xfrm>
              <a:off x="649440" y="950760"/>
              <a:ext cx="2306160" cy="685800"/>
              <a:chOff x="649440" y="950760"/>
              <a:chExt cx="2306160" cy="685800"/>
            </a:xfrm>
          </p:grpSpPr>
          <p:sp>
            <p:nvSpPr>
              <p:cNvPr id="95" name="Oval 12"/>
              <p:cNvSpPr/>
              <p:nvPr/>
            </p:nvSpPr>
            <p:spPr>
              <a:xfrm>
                <a:off x="649440" y="950760"/>
                <a:ext cx="2306160" cy="68580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Text Box 13"/>
              <p:cNvSpPr/>
              <p:nvPr/>
            </p:nvSpPr>
            <p:spPr>
              <a:xfrm>
                <a:off x="1068480" y="1058760"/>
                <a:ext cx="153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8ac8b"/>
                    </a:solidFill>
                    <a:latin typeface="Times New Roman"/>
                  </a:rPr>
                  <a:t>背景简介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AutoShape 14">
              <a:hlinkClick r:id="rId4"/>
            </p:cNvPr>
            <p:cNvSpPr/>
            <p:nvPr/>
          </p:nvSpPr>
          <p:spPr>
            <a:xfrm>
              <a:off x="1033920" y="1103400"/>
              <a:ext cx="1537200" cy="380880"/>
            </a:xfrm>
            <a:custGeom>
              <a:avLst/>
              <a:gdLst>
                <a:gd name="textAreaLeft" fmla="*/ 24480 w 1537200"/>
                <a:gd name="textAreaRight" fmla="*/ 1512720 w 153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87114" h="21600">
                  <a:moveTo>
                    <a:pt x="0" y="0"/>
                  </a:moveTo>
                  <a:lnTo>
                    <a:pt x="87114" y="0"/>
                  </a:lnTo>
                  <a:lnTo>
                    <a:pt x="87114" y="21600"/>
                  </a:lnTo>
                  <a:lnTo>
                    <a:pt x="0" y="21600"/>
                  </a:lnTo>
                  <a:close/>
                </a:path>
                <a:path fill="lightenLess" w="87114" h="21600">
                  <a:moveTo>
                    <a:pt x="0" y="0"/>
                  </a:moveTo>
                  <a:lnTo>
                    <a:pt x="87114" y="0"/>
                  </a:lnTo>
                  <a:lnTo>
                    <a:pt x="85714" y="1400"/>
                  </a:lnTo>
                  <a:lnTo>
                    <a:pt x="1400" y="1400"/>
                  </a:lnTo>
                  <a:close/>
                </a:path>
                <a:path fill="darken" w="87114" h="21600">
                  <a:moveTo>
                    <a:pt x="87114" y="0"/>
                  </a:moveTo>
                  <a:lnTo>
                    <a:pt x="87114" y="21600"/>
                  </a:lnTo>
                  <a:lnTo>
                    <a:pt x="85714" y="20200"/>
                  </a:lnTo>
                  <a:lnTo>
                    <a:pt x="85714" y="1400"/>
                  </a:lnTo>
                  <a:close/>
                </a:path>
                <a:path fill="darkenLess" w="87114" h="21600">
                  <a:moveTo>
                    <a:pt x="8711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5714" y="20200"/>
                  </a:lnTo>
                  <a:close/>
                </a:path>
                <a:path fill="lighten" w="8711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作者简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Group 15"/>
          <p:cNvGrpSpPr/>
          <p:nvPr/>
        </p:nvGrpSpPr>
        <p:grpSpPr>
          <a:xfrm>
            <a:off x="896760" y="2166840"/>
            <a:ext cx="2286000" cy="685800"/>
            <a:chOff x="896760" y="2166840"/>
            <a:chExt cx="2286000" cy="685800"/>
          </a:xfrm>
        </p:grpSpPr>
        <p:grpSp>
          <p:nvGrpSpPr>
            <p:cNvPr id="99" name="Group 16"/>
            <p:cNvGrpSpPr/>
            <p:nvPr/>
          </p:nvGrpSpPr>
          <p:grpSpPr>
            <a:xfrm>
              <a:off x="896760" y="2166840"/>
              <a:ext cx="2286000" cy="685800"/>
              <a:chOff x="896760" y="2166840"/>
              <a:chExt cx="2286000" cy="685800"/>
            </a:xfrm>
          </p:grpSpPr>
          <p:sp>
            <p:nvSpPr>
              <p:cNvPr id="100" name="Oval 17"/>
              <p:cNvSpPr/>
              <p:nvPr/>
            </p:nvSpPr>
            <p:spPr>
              <a:xfrm>
                <a:off x="896760" y="2166840"/>
                <a:ext cx="2286000" cy="68580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Text Box 18"/>
              <p:cNvSpPr/>
              <p:nvPr/>
            </p:nvSpPr>
            <p:spPr>
              <a:xfrm>
                <a:off x="1312200" y="227484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8ac8b"/>
                    </a:solidFill>
                    <a:latin typeface="Times New Roman"/>
                  </a:rPr>
                  <a:t>背景简介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" name="AutoShape 19">
              <a:hlinkClick r:id="rId5"/>
            </p:cNvPr>
            <p:cNvSpPr/>
            <p:nvPr/>
          </p:nvSpPr>
          <p:spPr>
            <a:xfrm>
              <a:off x="1278000" y="2319480"/>
              <a:ext cx="1523880" cy="380880"/>
            </a:xfrm>
            <a:custGeom>
              <a:avLst/>
              <a:gdLst>
                <a:gd name="textAreaLeft" fmla="*/ 24480 w 1523880"/>
                <a:gd name="textAreaRight" fmla="*/ 1499400 w 152388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86359" h="21600">
                  <a:moveTo>
                    <a:pt x="0" y="0"/>
                  </a:moveTo>
                  <a:lnTo>
                    <a:pt x="86359" y="0"/>
                  </a:lnTo>
                  <a:lnTo>
                    <a:pt x="86359" y="21600"/>
                  </a:lnTo>
                  <a:lnTo>
                    <a:pt x="0" y="21600"/>
                  </a:lnTo>
                  <a:close/>
                </a:path>
                <a:path fill="lightenLess" w="86359" h="21600">
                  <a:moveTo>
                    <a:pt x="0" y="0"/>
                  </a:moveTo>
                  <a:lnTo>
                    <a:pt x="86359" y="0"/>
                  </a:lnTo>
                  <a:lnTo>
                    <a:pt x="84959" y="1400"/>
                  </a:lnTo>
                  <a:lnTo>
                    <a:pt x="1400" y="1400"/>
                  </a:lnTo>
                  <a:close/>
                </a:path>
                <a:path fill="darken" w="86359" h="21600">
                  <a:moveTo>
                    <a:pt x="86359" y="0"/>
                  </a:moveTo>
                  <a:lnTo>
                    <a:pt x="86359" y="21600"/>
                  </a:lnTo>
                  <a:lnTo>
                    <a:pt x="84959" y="20200"/>
                  </a:lnTo>
                  <a:lnTo>
                    <a:pt x="84959" y="1400"/>
                  </a:lnTo>
                  <a:close/>
                </a:path>
                <a:path fill="darkenLess" w="86359" h="21600">
                  <a:moveTo>
                    <a:pt x="863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4959" y="20200"/>
                  </a:lnTo>
                  <a:close/>
                </a:path>
                <a:path fill="lighten" w="863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阅读赏析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Text Box 35"/>
          <p:cNvSpPr/>
          <p:nvPr/>
        </p:nvSpPr>
        <p:spPr>
          <a:xfrm>
            <a:off x="5488920" y="438120"/>
            <a:ext cx="18262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昆明即景</a:t>
            </a:r>
            <a:r>
              <a:rPr b="0" lang="en-US" sz="5400" spc="-1" strike="noStrike">
                <a:solidFill>
                  <a:srgbClr val="ffff00"/>
                </a:solidFill>
                <a:latin typeface="宋体"/>
              </a:rPr>
              <a:t>·</a:t>
            </a:r>
            <a:r>
              <a:rPr b="0" lang="zh-CN" sz="5400" spc="-1" strike="noStrike">
                <a:solidFill>
                  <a:srgbClr val="ffff00"/>
                </a:solidFill>
                <a:latin typeface="宋体"/>
              </a:rPr>
              <a:t>茶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50">
            <a:hlinkClick r:id="" action="ppaction://hlinkshowjump?jump=endshow"/>
          </p:cNvPr>
          <p:cNvSpPr/>
          <p:nvPr/>
        </p:nvSpPr>
        <p:spPr>
          <a:xfrm>
            <a:off x="7812000" y="5877000"/>
            <a:ext cx="684360" cy="35856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25"/>
          <p:cNvGrpSpPr/>
          <p:nvPr/>
        </p:nvGrpSpPr>
        <p:grpSpPr>
          <a:xfrm>
            <a:off x="1592280" y="3213000"/>
            <a:ext cx="2304720" cy="660600"/>
            <a:chOff x="1592280" y="3213000"/>
            <a:chExt cx="2304720" cy="660600"/>
          </a:xfrm>
        </p:grpSpPr>
        <p:grpSp>
          <p:nvGrpSpPr>
            <p:cNvPr id="106" name="Group 26"/>
            <p:cNvGrpSpPr/>
            <p:nvPr/>
          </p:nvGrpSpPr>
          <p:grpSpPr>
            <a:xfrm>
              <a:off x="1592280" y="3213000"/>
              <a:ext cx="2304720" cy="660600"/>
              <a:chOff x="1592280" y="3213000"/>
              <a:chExt cx="2304720" cy="660600"/>
            </a:xfrm>
          </p:grpSpPr>
          <p:sp>
            <p:nvSpPr>
              <p:cNvPr id="107" name="Oval 27"/>
              <p:cNvSpPr/>
              <p:nvPr/>
            </p:nvSpPr>
            <p:spPr>
              <a:xfrm>
                <a:off x="1592280" y="3213000"/>
                <a:ext cx="2304720" cy="66060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28">
                <a:hlinkClick r:id="rId6" action="ppaction://hlinksldjump"/>
              </p:cNvPr>
              <p:cNvSpPr/>
              <p:nvPr/>
            </p:nvSpPr>
            <p:spPr>
              <a:xfrm>
                <a:off x="2011320" y="3318120"/>
                <a:ext cx="153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8ac8b"/>
                    </a:solidFill>
                    <a:latin typeface="Times New Roman"/>
                  </a:rPr>
                  <a:t>背景简介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" name="AutoShape 29">
              <a:hlinkClick r:id="rId7" action="ppaction://hlinksldjump"/>
            </p:cNvPr>
            <p:cNvSpPr/>
            <p:nvPr/>
          </p:nvSpPr>
          <p:spPr>
            <a:xfrm>
              <a:off x="1976400" y="3359880"/>
              <a:ext cx="1536480" cy="366840"/>
            </a:xfrm>
            <a:custGeom>
              <a:avLst/>
              <a:gdLst>
                <a:gd name="textAreaLeft" fmla="*/ 23760 w 1536480"/>
                <a:gd name="textAreaRight" fmla="*/ 1512720 w 1536480"/>
                <a:gd name="textAreaTop" fmla="*/ 23760 h 366840"/>
                <a:gd name="textAreaBottom" fmla="*/ 343080 h 366840"/>
              </a:gdLst>
              <a:ahLst/>
              <a:rect l="textAreaLeft" t="textAreaTop" r="textAreaRight" b="textAreaBottom"/>
              <a:pathLst>
                <a:path w="90402" h="21600">
                  <a:moveTo>
                    <a:pt x="0" y="0"/>
                  </a:moveTo>
                  <a:lnTo>
                    <a:pt x="90402" y="0"/>
                  </a:lnTo>
                  <a:lnTo>
                    <a:pt x="90402" y="21600"/>
                  </a:lnTo>
                  <a:lnTo>
                    <a:pt x="0" y="21600"/>
                  </a:lnTo>
                  <a:close/>
                </a:path>
                <a:path fill="lightenLess" w="90402" h="21600">
                  <a:moveTo>
                    <a:pt x="0" y="0"/>
                  </a:moveTo>
                  <a:lnTo>
                    <a:pt x="90402" y="0"/>
                  </a:lnTo>
                  <a:lnTo>
                    <a:pt x="89002" y="1400"/>
                  </a:lnTo>
                  <a:lnTo>
                    <a:pt x="1400" y="1400"/>
                  </a:lnTo>
                  <a:close/>
                </a:path>
                <a:path fill="darken" w="90402" h="21600">
                  <a:moveTo>
                    <a:pt x="90402" y="0"/>
                  </a:moveTo>
                  <a:lnTo>
                    <a:pt x="90402" y="21600"/>
                  </a:lnTo>
                  <a:lnTo>
                    <a:pt x="89002" y="20200"/>
                  </a:lnTo>
                  <a:lnTo>
                    <a:pt x="89002" y="1400"/>
                  </a:lnTo>
                  <a:close/>
                </a:path>
                <a:path fill="darkenLess" w="90402" h="21600">
                  <a:moveTo>
                    <a:pt x="9040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9002" y="20200"/>
                  </a:lnTo>
                  <a:close/>
                </a:path>
                <a:path fill="lighten" w="9040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66ffff"/>
                  </a:solidFill>
                  <a:uFillTx/>
                  <a:latin typeface="Times New Roman"/>
                  <a:hlinkClick r:id="rId8" action="ppaction://hlinksldjump"/>
                </a:rPr>
                <a:t>拓展阅读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TextBox 1"/>
          <p:cNvSpPr/>
          <p:nvPr/>
        </p:nvSpPr>
        <p:spPr>
          <a:xfrm>
            <a:off x="6999840" y="4240080"/>
            <a:ext cx="115524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林徽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160" y="457200"/>
            <a:ext cx="215244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作者简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946080" y="1160640"/>
            <a:ext cx="71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林徽因（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04.06.10-1955.04.01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），女，汉族。原名林徽音，出生于浙江杭州，祖籍福建福州。中国著名建筑师、诗人、作家。人民英雄纪念碑和中华人民共和国国徽深化方案的设计者。建筑师梁思成的第一任妻子。三十年代初，同梁思成一起用现代科学方法研究中国古代建筑，成为这个学术领域的开拓者，后来在这方面获得了巨大的学术成就，为中国古代建筑研究奠定了坚实的科学基础。文学上，著有散文、诗歌、小说、剧本、译文和书信等，代表作《你是人间的四月天》，《莲灯》，《九十九度中》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0">
            <a:hlinkClick r:id="" action="ppaction://hlinkshowjump?jump=firstslide"/>
          </p:cNvPr>
          <p:cNvSpPr/>
          <p:nvPr/>
        </p:nvSpPr>
        <p:spPr>
          <a:xfrm>
            <a:off x="7885080" y="6093000"/>
            <a:ext cx="647640" cy="35856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33520" y="456840"/>
            <a:ext cx="217152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文章赏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39640" y="1268280"/>
            <a:ext cx="806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本诗写于作者为躲避抗日战争而在昆明暂居之时，昆明的茶馆在抗战时期曾给许多人带来些温暖。那是一个可以让人暂时忘却战争，享受片刻宁静的地方。诗中便生动形象地描绘了昆明茶铺的景象：“这是立体的构画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描在这里许多样脸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/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在顺城脚的茶铺里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/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隐隐起喧腾声一片。各种的姿势，生活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/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刻划着不同方面：茶座上全坐满了，笑的，皱眉的，有的抽着旱烟。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”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并不都是为着真的口渴。喝茶的人们跷起膝盖的是疲乏，赤着臂膀好同乡邻闲话。也为了放下扁担同肩背，向命运喘息，倚着墙，每晚靠这一碗茶的生趣，幽默估量生的短长</a:t>
            </a:r>
            <a:r>
              <a:rPr b="0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……</a:t>
            </a:r>
            <a:r>
              <a:rPr b="0" lang="zh-CN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诗人绘声绘色的描写了一个生动形象的茶馆里的情景，各种人物形象不一，各具特色，立体的勾勒画面如在读者眼前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0">
            <a:hlinkClick r:id="" action="ppaction://hlinkshowjump?jump=firstslide"/>
          </p:cNvPr>
          <p:cNvSpPr/>
          <p:nvPr/>
        </p:nvSpPr>
        <p:spPr>
          <a:xfrm>
            <a:off x="7956720" y="6021360"/>
            <a:ext cx="647640" cy="35892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456840"/>
            <a:ext cx="217152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拓展阅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0">
            <a:hlinkClick r:id="" action="ppaction://hlinkshowjump?jump=firstslide"/>
          </p:cNvPr>
          <p:cNvSpPr/>
          <p:nvPr/>
        </p:nvSpPr>
        <p:spPr>
          <a:xfrm>
            <a:off x="7956720" y="6093000"/>
            <a:ext cx="647640" cy="35856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826920" y="907920"/>
            <a:ext cx="756144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昆明即景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小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林徽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张大爷临街的矮楼，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半藏着，半挺着，立在街头，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瓦覆着它，窗开一条缝，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夕阳染红它，如写下古远的梦。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矮檐上长点草，也结过小瓜，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破石子路在楼前，无人种花，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是老坛子，瓦罐，大小的相伴；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尘垢列出许多风趣的零乱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0"/>
          <p:cNvSpPr/>
          <p:nvPr/>
        </p:nvSpPr>
        <p:spPr>
          <a:xfrm>
            <a:off x="869760" y="457200"/>
            <a:ext cx="14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拓展阅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0">
            <a:hlinkClick r:id="" action="ppaction://hlinkshowjump?jump=firstslide"/>
          </p:cNvPr>
          <p:cNvSpPr/>
          <p:nvPr/>
        </p:nvSpPr>
        <p:spPr>
          <a:xfrm>
            <a:off x="7956720" y="6093000"/>
            <a:ext cx="647640" cy="35856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826920" y="907920"/>
            <a:ext cx="756144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静 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林徽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冬有冬的来意，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寒冷像花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——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花有花香，冬有回忆一把。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一条枯枝影，青烟色的瘦细，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在午后的窗前拖过一笔画；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寒里日光淡了，渐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…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就是那样地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像待客人说话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在静沉中默啜着茶。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36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年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选自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公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艺副刊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37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日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rmal</cp:lastModifiedBy>
  <dcterms:modified xsi:type="dcterms:W3CDTF">2013-08-29T08:46:30Z</dcterms:modified>
  <cp:revision>105</cp:revision>
  <dc:subject/>
  <dc:title>PowerPoint Presentation</dc:title>
</cp:coreProperties>
</file>