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66C6-316A-494F-B906-874929FE92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57F3-55F7-4989-B683-E00AEDC338E1}"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B948-FC57-4426-A372-62FA3F0ADBF0}"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8EB4-DA7A-492C-B584-6BB0084C61B1}"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248F-0D81-493B-8EB6-708C795C1F2C}"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1081-E620-493A-ADD5-086C8D48FB26}"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39EB-1D72-49D6-854E-E62D994676D1}" type="slidenum">
              <a:rPr b="0" lang="zh-CN"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35150-2CDE-4DBF-9642-8F180A163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73FE-F36F-47BC-96B1-DBAA595D4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7B9CB-B506-4A89-855A-08315415E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8066-317D-4E4E-AE65-B92A37D09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ABD03-5A53-4F3F-837C-000D2DC8B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01A2F-CD51-43C3-ABEA-5420749A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C80B2-A62B-4FDC-853F-7DF994748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90894-8807-4548-BEDC-84B706AB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7EE3A-E647-45BA-B63D-890292C9E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1E80B-84C9-4BC8-B330-4B32B6EBC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ACC41-30C4-438F-A15E-041E933E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3EA6-8202-495E-8477-A785EEF11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89E85-F649-4C4A-9ADE-72663634E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AE9CA-FA89-492D-846C-C637FEB6A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37D17-CF41-4B8F-9685-9D27A832E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553F8-5202-43B9-9462-7222A72D9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53B82-4FBF-4882-943B-5B7C6FA35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D3E8-B65D-47E5-86BF-302BC7ED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021F-6F28-4461-8092-807D8313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423F-C830-4378-8395-961698CD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6E4D-216B-4924-8D6B-3A144695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861C-61C5-4032-BF1E-D2249622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0F06-D552-4860-A971-E743A1CD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E79D-D71F-4BF2-B229-1F12B3D00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CBAF-B542-4994-9183-7322F747F040}"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11EF-53E2-4583-B2FA-E8069F884EB7}"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slide" Target="slide6.xml"/><Relationship Id="rId7" Type="http://schemas.openxmlformats.org/officeDocument/2006/relationships/slide" Target=""/><Relationship Id="rId8" Type="http://schemas.openxmlformats.org/officeDocument/2006/relationships/slide" Target="slide5.xml"/><Relationship Id="rId9" Type="http://schemas.openxmlformats.org/officeDocument/2006/relationships/slide" Target=""/><Relationship Id="rId10" Type="http://schemas.openxmlformats.org/officeDocument/2006/relationships/slide" Target="slide4.xml"/><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41">
            <a:hlinkClick r:id="" action="ppaction://hlinkshowjump?jump=endshow"/>
          </p:cNvPr>
          <p:cNvSpPr/>
          <p:nvPr/>
        </p:nvSpPr>
        <p:spPr>
          <a:xfrm>
            <a:off x="7596360" y="587700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17" name="AutoShape 20">
            <a:hlinkClick r:id="rId1" action="ppaction://hlinksldjump"/>
          </p:cNvPr>
          <p:cNvSpPr/>
          <p:nvPr/>
        </p:nvSpPr>
        <p:spPr>
          <a:xfrm>
            <a:off x="3203640" y="270828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2" action="ppaction://hlinksldjump"/>
              </a:rPr>
              <a:t>作者简介</a:t>
            </a:r>
            <a:endParaRPr b="0" lang="en-US" sz="2400" spc="-1" strike="noStrike">
              <a:solidFill>
                <a:srgbClr val="ffffff"/>
              </a:solidFill>
              <a:latin typeface="Tahoma"/>
            </a:endParaRPr>
          </a:p>
        </p:txBody>
      </p:sp>
      <p:sp>
        <p:nvSpPr>
          <p:cNvPr id="118" name="AutoShape 20">
            <a:hlinkClick r:id="rId3" action="ppaction://hlinksldjump"/>
          </p:cNvPr>
          <p:cNvSpPr/>
          <p:nvPr/>
        </p:nvSpPr>
        <p:spPr>
          <a:xfrm>
            <a:off x="5076720" y="270828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4" action="ppaction://hlinksldjump"/>
              </a:rPr>
              <a:t>阅读赏析</a:t>
            </a:r>
            <a:endParaRPr b="0" lang="en-US" sz="2400" spc="-1" strike="noStrike">
              <a:solidFill>
                <a:srgbClr val="ffffff"/>
              </a:solidFill>
              <a:latin typeface="Tahoma"/>
            </a:endParaRPr>
          </a:p>
        </p:txBody>
      </p:sp>
      <p:sp>
        <p:nvSpPr>
          <p:cNvPr id="119" name="AutoShape 20">
            <a:hlinkClick r:id="rId5" action="ppaction://hlinksldjump"/>
          </p:cNvPr>
          <p:cNvSpPr/>
          <p:nvPr/>
        </p:nvSpPr>
        <p:spPr>
          <a:xfrm>
            <a:off x="3203640" y="4869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6" action="ppaction://hlinksldjump"/>
              </a:rPr>
              <a:t>拓展阅读</a:t>
            </a:r>
            <a:endParaRPr b="0" lang="en-US" sz="2400" spc="-1" strike="noStrike">
              <a:solidFill>
                <a:srgbClr val="ffffff"/>
              </a:solidFill>
              <a:latin typeface="Tahoma"/>
            </a:endParaRPr>
          </a:p>
        </p:txBody>
      </p:sp>
      <p:sp>
        <p:nvSpPr>
          <p:cNvPr id="120" name="AutoShape 20">
            <a:hlinkClick r:id="rId7" action="ppaction://hlinksldjump"/>
          </p:cNvPr>
          <p:cNvSpPr/>
          <p:nvPr/>
        </p:nvSpPr>
        <p:spPr>
          <a:xfrm>
            <a:off x="3203640" y="37893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8" action="ppaction://hlinksldjump"/>
              </a:rPr>
              <a:t>思考与练习</a:t>
            </a:r>
            <a:endParaRPr b="0" lang="en-US" sz="2400" spc="-1" strike="noStrike">
              <a:solidFill>
                <a:srgbClr val="ffffff"/>
              </a:solidFill>
              <a:latin typeface="Tahoma"/>
            </a:endParaRPr>
          </a:p>
        </p:txBody>
      </p:sp>
      <p:sp>
        <p:nvSpPr>
          <p:cNvPr id="121" name="AutoShape 20">
            <a:hlinkClick r:id="rId9" action="ppaction://hlinksldjump"/>
          </p:cNvPr>
          <p:cNvSpPr/>
          <p:nvPr/>
        </p:nvSpPr>
        <p:spPr>
          <a:xfrm>
            <a:off x="5148360" y="378936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hlinkClick r:id="rId10" action="ppaction://hlinksldjump"/>
              </a:rPr>
              <a:t>学习建议</a:t>
            </a:r>
            <a:endParaRPr b="0" lang="en-US" sz="2400" spc="-1" strike="noStrike">
              <a:solidFill>
                <a:srgbClr val="ffffff"/>
              </a:solidFill>
              <a:latin typeface="Tahoma"/>
            </a:endParaRPr>
          </a:p>
        </p:txBody>
      </p:sp>
      <p:sp>
        <p:nvSpPr>
          <p:cNvPr id="122" name="Text Box 22"/>
          <p:cNvSpPr/>
          <p:nvPr/>
        </p:nvSpPr>
        <p:spPr>
          <a:xfrm>
            <a:off x="1198440" y="404640"/>
            <a:ext cx="705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Garamond"/>
                <a:ea typeface="仿宋_GB2312"/>
              </a:rPr>
              <a:t>被缓解稀释和冲淡了的环境</a:t>
            </a:r>
            <a:endParaRPr b="0" lang="en-US" sz="4400" spc="-1" strike="noStrike">
              <a:solidFill>
                <a:srgbClr val="ffffff"/>
              </a:solidFill>
              <a:latin typeface="Tahoma"/>
            </a:endParaRPr>
          </a:p>
        </p:txBody>
      </p:sp>
      <p:sp>
        <p:nvSpPr>
          <p:cNvPr id="123" name="TextBox 1"/>
          <p:cNvSpPr/>
          <p:nvPr/>
        </p:nvSpPr>
        <p:spPr>
          <a:xfrm>
            <a:off x="7294680" y="134136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梁  衡</a:t>
            </a:r>
            <a:endParaRPr b="0" lang="en-US" sz="2800" spc="-1" strike="noStrike">
              <a:solidFill>
                <a:srgbClr val="ffffff"/>
              </a:solidFill>
              <a:latin typeface="Tahoma"/>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简介</a:t>
            </a:r>
            <a:endParaRPr b="0" lang="en-US" sz="3200" spc="-1" strike="noStrike">
              <a:solidFill>
                <a:srgbClr val="ffffff"/>
              </a:solidFill>
              <a:latin typeface="Tahoma"/>
            </a:endParaRPr>
          </a:p>
        </p:txBody>
      </p:sp>
      <p:sp>
        <p:nvSpPr>
          <p:cNvPr id="125" name="AutoShape 6">
            <a:hlinkClick r:id="" action="ppaction://hlinkshowjump?jump=firstslide"/>
          </p:cNvPr>
          <p:cNvSpPr/>
          <p:nvPr/>
        </p:nvSpPr>
        <p:spPr>
          <a:xfrm>
            <a:off x="27000" y="606744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26" name="Text Box 5"/>
          <p:cNvSpPr/>
          <p:nvPr/>
        </p:nvSpPr>
        <p:spPr>
          <a:xfrm>
            <a:off x="1258920" y="184464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梁衡，当代作家，山西霍州人。著名新闻理论家、散文家、科普作家和政论家。现任</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人民日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副总编辑、中国人民大学新闻学院博士生导师、中国作家协会全委会委员、中国记者协会全委会常务理事、人教版中小学教材总顾问。他的主要作品有科学史章回小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数理化通俗演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新闻三部曲（</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没有新闻的角落</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新闻绿叶的脉络</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新闻原理的思考</a:t>
            </a:r>
            <a:r>
              <a:rPr b="0" lang="en-US"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散文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夏与秋思</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只求新去处</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红色经典</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名山大川感恩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季羡林老人称其为“政治散文”。</a:t>
            </a:r>
            <a:endParaRPr b="0" lang="en-US" sz="2400" spc="-1" strike="noStrike">
              <a:solidFill>
                <a:srgbClr val="ffffff"/>
              </a:solidFill>
              <a:latin typeface="Tahoma"/>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23012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阅读赏析</a:t>
            </a:r>
            <a:endParaRPr b="0" lang="en-US" sz="3200" spc="-1" strike="noStrike">
              <a:solidFill>
                <a:srgbClr val="ffffff"/>
              </a:solidFill>
              <a:latin typeface="Tahoma"/>
            </a:endParaRPr>
          </a:p>
        </p:txBody>
      </p:sp>
      <p:sp>
        <p:nvSpPr>
          <p:cNvPr id="128" name="AutoShape 7">
            <a:hlinkClick r:id="" action="ppaction://hlinkshowjump?jump=firstslide"/>
          </p:cNvPr>
          <p:cNvSpPr/>
          <p:nvPr/>
        </p:nvSpPr>
        <p:spPr>
          <a:xfrm>
            <a:off x="0" y="607392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29" name="Text Box 5"/>
          <p:cNvSpPr/>
          <p:nvPr/>
        </p:nvSpPr>
        <p:spPr>
          <a:xfrm>
            <a:off x="915840" y="2060640"/>
            <a:ext cx="797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被缓解稀释和冲淡了的环境</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是一篇描写德国自然人文环境的散文，作者讲述了自己在德国几大城市间自主开车旅行的路途中所见到的连绵不绝的绿意之美，平和细致的语言，生动的比喻都营造出了一个让人向往的绿色国度。</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作者在描写了德国自然环境之外还延伸到了人文之美，通过讲述旅行中的小事体现出了德国人自律、周到、谦和的人文素养，并发出了这样的感慨“是环境的从容养成人性的谦让，当他谦让时不是对哪一个人，是对整个生态环境的满意和尊重。”</a:t>
            </a:r>
            <a:endParaRPr b="0" lang="en-US" sz="2400" spc="-1" strike="noStrike">
              <a:solidFill>
                <a:srgbClr val="ffffff"/>
              </a:solidFill>
              <a:latin typeface="Tahoma"/>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3730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学习建议</a:t>
            </a:r>
            <a:endParaRPr b="0" lang="en-US" sz="3200" spc="-1" strike="noStrike">
              <a:solidFill>
                <a:srgbClr val="ffffff"/>
              </a:solidFill>
              <a:latin typeface="Tahoma"/>
            </a:endParaRPr>
          </a:p>
        </p:txBody>
      </p:sp>
      <p:sp>
        <p:nvSpPr>
          <p:cNvPr id="131" name="Rectangle 4"/>
          <p:cNvSpPr/>
          <p:nvPr/>
        </p:nvSpPr>
        <p:spPr>
          <a:xfrm>
            <a:off x="1042920" y="3520440"/>
            <a:ext cx="7850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是一篇景色人文描写都十分出色的散文，学生通过阅读可以在一定程度内了解德国的风土人情，并通过文字体会自然生态之美。可以在教学中进一步介绍有关德国生态、人文的资料，启发学生体会文字中的自然之美，或组织学生自主讨论交流所见的或文字中的自然环境之美。同时尽可能激发出学生尊重自然环境的意识。</a:t>
            </a:r>
            <a:endParaRPr b="0" lang="en-US" sz="2400" spc="-1" strike="noStrike">
              <a:solidFill>
                <a:srgbClr val="ffffff"/>
              </a:solidFill>
              <a:latin typeface="Tahoma"/>
            </a:endParaRPr>
          </a:p>
        </p:txBody>
      </p:sp>
      <p:sp>
        <p:nvSpPr>
          <p:cNvPr id="132" name="AutoShape 7">
            <a:hlinkClick r:id="" action="ppaction://hlinkshowjump?jump=firstslide"/>
          </p:cNvPr>
          <p:cNvSpPr/>
          <p:nvPr/>
        </p:nvSpPr>
        <p:spPr>
          <a:xfrm>
            <a:off x="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454760" y="1035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思考与练习</a:t>
            </a:r>
            <a:endParaRPr b="0" lang="en-US" sz="3200" spc="-1" strike="noStrike">
              <a:solidFill>
                <a:srgbClr val="ffffff"/>
              </a:solidFill>
              <a:latin typeface="Tahoma"/>
            </a:endParaRPr>
          </a:p>
        </p:txBody>
      </p:sp>
      <p:sp>
        <p:nvSpPr>
          <p:cNvPr id="134" name="AutoShape 10">
            <a:hlinkClick r:id="" action="ppaction://hlinkshowjump?jump=firstslide"/>
          </p:cNvPr>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35" name="Rectangle 4"/>
          <p:cNvSpPr/>
          <p:nvPr/>
        </p:nvSpPr>
        <p:spPr>
          <a:xfrm>
            <a:off x="1042920" y="2643120"/>
            <a:ext cx="7920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一、反复朗诵并体会文章第二自然段，感受作者笔下的自然环境之美。</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二、查找资料，对比一下德国和中国的生态环境上的差异，你觉得我们每一个人在生态环境保护上都可以做哪些努力？</a:t>
            </a:r>
            <a:endParaRPr b="0" lang="en-US" sz="2400" spc="-1" strike="noStrike">
              <a:solidFill>
                <a:srgbClr val="ffffff"/>
              </a:solidFill>
              <a:latin typeface="Tahoma"/>
            </a:endParaRPr>
          </a:p>
        </p:txBody>
      </p:sp>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37" name="AutoShape 8">
            <a:hlinkClick r:id="" action="ppaction://hlinkshowjump?jump=firstslide"/>
          </p:cNvPr>
          <p:cNvSpPr/>
          <p:nvPr/>
        </p:nvSpPr>
        <p:spPr>
          <a:xfrm>
            <a:off x="71280" y="602136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cc"/>
                </a:solidFill>
                <a:uFillTx/>
                <a:latin typeface="Times New Roman"/>
                <a:ea typeface="隶书"/>
                <a:hlinkClick r:id="rId1" action="ppaction://hlinksldjump"/>
              </a:rPr>
              <a:t>退出</a:t>
            </a:r>
            <a:endParaRPr b="0" lang="en-US" sz="1800" spc="-1" strike="noStrike">
              <a:solidFill>
                <a:srgbClr val="ffffff"/>
              </a:solidFill>
              <a:latin typeface="Tahoma"/>
            </a:endParaRPr>
          </a:p>
        </p:txBody>
      </p:sp>
      <p:sp>
        <p:nvSpPr>
          <p:cNvPr id="138" name="Text Box 6"/>
          <p:cNvSpPr/>
          <p:nvPr/>
        </p:nvSpPr>
        <p:spPr>
          <a:xfrm>
            <a:off x="971640" y="933480"/>
            <a:ext cx="7956360" cy="246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朱自清游欧洲散文节选</a:t>
            </a:r>
            <a:endParaRPr b="0" lang="en-US" sz="24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a:t>
            </a:r>
            <a:r>
              <a:rPr b="1" lang="zh-CN" sz="1800" spc="-1" strike="noStrike">
                <a:solidFill>
                  <a:srgbClr val="ffffff"/>
                </a:solidFill>
                <a:latin typeface="仿宋_GB2312"/>
                <a:ea typeface="仿宋_GB2312"/>
              </a:rPr>
              <a:t>威尼斯</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威尼斯（Ｖｅｎｉｃｅ）是一个别致地方。出了火车站，你立刻便会觉得；这里没有汽车，要到那儿，不是搭小火轮，便是雇“刚朵拉”（Ｇｏｎｄｏｌａ）。大运河穿过威尼斯像反写的Ｓ；这就是大街。另有小河道四百十八条，这些就是小胡同。轮船像公共汽车，在大街上走；“刚朵拉”是一种摇橹的小船，威尼斯所特有，它那儿都去。威尼斯并非没有桥；三百七十八座，有的是。只要不怕转弯抹角，那儿都走得到，用不着下河去。可是轮船中人还是很多，“刚朵拉”的买卖也似乎并不坏。</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威尼斯是“海中的城”，在意大利半岛的东北角上，是一群小岛，外面一道沙堤隔开亚得利亚海。在圣马克方场的钟楼上看，团花簇锦似的东一块西一块在绿波里荡漾着。远处是水天相接，一片茫茫。这里没有什么煤烟，天空干干净净；在温和的日光中，一切都像透明的。中国人到此，仿佛在江南的水乡；夏初从欧洲北部来的，在这儿还可看见清清楚楚的春天的背影。海水那么绿，那么酽，会带你到梦中去。</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威尼斯不单是明媚，在圣马克方场走走就知道。这个方场南面临着一道运河；场中偏东南便是那可以望远的钟楼。威尼斯最热闹的地方是这儿，最华妙庄严的地方也是这儿。除了西边，围着的都是三百年以上的建筑，东边居中是圣马克堂，却有了八九百年</a:t>
            </a:r>
            <a:r>
              <a:rPr b="0" lang="en-US" sz="1600" spc="-1" strike="noStrike">
                <a:solidFill>
                  <a:srgbClr val="ffffff"/>
                </a:solidFill>
                <a:latin typeface="Tahoma"/>
              </a:rPr>
              <a:t>--</a:t>
            </a:r>
            <a:r>
              <a:rPr b="0" lang="zh-CN" sz="1600" spc="-1" strike="noStrike">
                <a:solidFill>
                  <a:srgbClr val="ffffff"/>
                </a:solidFill>
                <a:latin typeface="Tahoma"/>
              </a:rPr>
              <a:t>钟楼便在它的右首。再向右是“新衙门”；教堂左首是“老衙门”。这两溜儿楼房的下一层，现在满开了铺子。铺子前面是长廊，一天到晚是来来去去的人。紧接着教堂，直伸向运河去的是公爷府；这个一半属于小方场，另一半便属于运河了。</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endParaRPr b="0" lang="en-US" sz="1600" spc="-1" strike="noStrike">
              <a:solidFill>
                <a:srgbClr val="ffffff"/>
              </a:solidFill>
              <a:latin typeface="Tahoma"/>
            </a:endParaRPr>
          </a:p>
        </p:txBody>
      </p:sp>
      <p:sp>
        <p:nvSpPr>
          <p:cNvPr id="139" name="AutoShape 8">
            <a:hlinkClick r:id="" action="ppaction://hlinkshowjump?jump=firstslide"/>
          </p:cNvPr>
          <p:cNvSpPr/>
          <p:nvPr/>
        </p:nvSpPr>
        <p:spPr>
          <a:xfrm>
            <a:off x="71280" y="5516640"/>
            <a:ext cx="900360" cy="358560"/>
          </a:xfrm>
          <a:prstGeom prst="flowChartAlternateProcess">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cc"/>
                </a:solidFill>
                <a:uFillTx/>
                <a:latin typeface="Times New Roman"/>
                <a:ea typeface="隶书"/>
                <a:hlinkClick r:id="rId2" action="ppaction://hlinksldjump"/>
              </a:rPr>
              <a:t>下一页</a:t>
            </a:r>
            <a:endParaRPr b="0" lang="en-US" sz="1800" spc="-1" strike="noStrike">
              <a:solidFill>
                <a:srgbClr val="ffffff"/>
              </a:solidFill>
              <a:latin typeface="Tahoma"/>
            </a:endParaRPr>
          </a:p>
        </p:txBody>
      </p:sp>
    </p:spTree>
  </p:cSld>
  <p:transition spd="slow">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41" name="Text Box 6"/>
          <p:cNvSpPr/>
          <p:nvPr/>
        </p:nvSpPr>
        <p:spPr>
          <a:xfrm>
            <a:off x="971640" y="933480"/>
            <a:ext cx="7956360" cy="305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朱自清游欧洲散文节选</a:t>
            </a:r>
            <a:endParaRPr b="0" lang="en-US" sz="24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a:t>
            </a:r>
            <a:r>
              <a:rPr b="1" lang="zh-CN" sz="1800" spc="-1" strike="noStrike">
                <a:solidFill>
                  <a:srgbClr val="ffffff"/>
                </a:solidFill>
                <a:latin typeface="仿宋_GB2312"/>
                <a:ea typeface="仿宋_GB2312"/>
              </a:rPr>
              <a:t>瑞士</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瑞士有“欧洲的公园”之称。起初以为有些好风景而已；到了那里，才知无处不是好风景，而且除了好风景似乎就没有什么别的。这大半由于天然，小半也是人工。瑞士人似乎是靠游客活的，只看很小的地方也有若干若干的旅馆就知道。他们拚命地筑铁道通轮船，让爱逛山的爱游湖的都有落儿；而且车船两便，票在手里，爱怎么走就怎么走。瑞士是山国，铁道依山而筑，隧道极少；所以老是高高低低，有时像差得很远的。还有一种爬山铁道，这儿特别多。狭狭的双轨之间，另加一条特别轨：有时是一个个方格儿，有时是一个个钩子；车底下带一种齿轮似的东西，一步步咬着这些方格儿，这些钩子，慢慢地爬上爬下。这种铁道不用说工程大极了；有些简直是笔陡笔陡的。</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逛山的味道实在比游湖好。瑞士的湖水一例是淡蓝的，真正平得像镜子一样。太阳照着的时候，那水在微风里摇晃着，宛然是西方小姑娘的眼。若遇着阴天或者下小雨，湖上迷迷蒙蒙的，水天混在一块儿，人如在睡里梦里。也有风大的时候；那时水上便皱起粼粼的细纹，有点像颦眉的西子。可是这些变幻的光景在岸上或山上才能整个儿看见，在湖里倒不能领略许多。况且轮船走得究竟慢些，常觉得看来看去还是湖，不免也腻味。逛山就不同，一会儿看见湖，一会儿不看见；本来湖在左边，不知怎么一转弯，忽然挪到右边了。湖上固然可以看山，山上还可看山，阿尔卑斯有的是重峦叠嶂，怎么看也不会穷。山上不但可以看山，还可以看谷；稀稀疏疏错错落落的房舍，仿佛有鸡鸣犬吠的声音，在山肚里，在山脚下。看风景能够流连低徊固然高雅，但目不暇接地过去，新境界层出不层，也未尝不淋漓痛快；坐火车逛山便是这个办法。</a:t>
            </a:r>
            <a:endParaRPr b="0" lang="en-US" sz="16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endParaRPr b="0" lang="en-US" sz="1600" spc="-1" strike="noStrike">
              <a:solidFill>
                <a:srgbClr val="ffffff"/>
              </a:solidFill>
              <a:latin typeface="Tahoma"/>
            </a:endParaRPr>
          </a:p>
        </p:txBody>
      </p:sp>
      <p:sp>
        <p:nvSpPr>
          <p:cNvPr id="142" name="AutoShape 8">
            <a:hlinkClick r:id="" action="ppaction://hlinkshowjump?jump=firstslide"/>
          </p:cNvPr>
          <p:cNvSpPr/>
          <p:nvPr/>
        </p:nvSpPr>
        <p:spPr>
          <a:xfrm>
            <a:off x="71280" y="602136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cc"/>
                </a:solidFill>
                <a:uFillTx/>
                <a:latin typeface="Times New Roman"/>
                <a:ea typeface="隶书"/>
                <a:hlinkClick r:id="rId1" action="ppaction://hlinksldjump"/>
              </a:rPr>
              <a:t>退出</a:t>
            </a:r>
            <a:endParaRPr b="0" lang="en-US" sz="1800" spc="-1" strike="noStrike">
              <a:solidFill>
                <a:srgbClr val="ffffff"/>
              </a:solidFill>
              <a:latin typeface="Tahoma"/>
            </a:endParaRPr>
          </a:p>
        </p:txBody>
      </p:sp>
      <p:sp>
        <p:nvSpPr>
          <p:cNvPr id="143" name="AutoShape 8">
            <a:hlinkClick r:id="" action="ppaction://hlinkshowjump?jump=firstslide"/>
          </p:cNvPr>
          <p:cNvSpPr/>
          <p:nvPr/>
        </p:nvSpPr>
        <p:spPr>
          <a:xfrm>
            <a:off x="71280" y="5516640"/>
            <a:ext cx="900360" cy="358560"/>
          </a:xfrm>
          <a:prstGeom prst="flowChartAlternateProcess">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下一页</a:t>
            </a:r>
            <a:endParaRPr b="0" lang="en-US" sz="1800" spc="-1" strike="noStrike">
              <a:solidFill>
                <a:srgbClr val="ffffff"/>
              </a:solidFill>
              <a:latin typeface="Tahoma"/>
            </a:endParaRPr>
          </a:p>
        </p:txBody>
      </p:sp>
    </p:spTree>
  </p:cSld>
  <p:transition spd="slow">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45" name="Text Box 6"/>
          <p:cNvSpPr/>
          <p:nvPr/>
        </p:nvSpPr>
        <p:spPr>
          <a:xfrm>
            <a:off x="971640" y="933480"/>
            <a:ext cx="7956360" cy="160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朱自清游欧洲散文节选</a:t>
            </a:r>
            <a:endParaRPr b="0" lang="en-US" sz="24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a:t>
            </a:r>
            <a:r>
              <a:rPr b="1" lang="zh-CN" sz="1800" spc="-1" strike="noStrike">
                <a:solidFill>
                  <a:srgbClr val="ffffff"/>
                </a:solidFill>
                <a:latin typeface="仿宋_GB2312"/>
                <a:ea typeface="仿宋_GB2312"/>
              </a:rPr>
              <a:t>柏林</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柏林的街道宽大，干净，伦敦巴黎都赶不上的；又因为不景气，来往的车辆也显得稀些。在这儿走路，尽可以从容自在地呼吸空气，不用张张望望躲躲闪闪。找路也顶容易，因为街道大概是纵横交切，少有“旁逸斜出”的。最大最阔的一条叫菩提树下，柏林大学，国家图书馆，新国家画院，国家歌剧院都在这条街上。东头接着博物院洲，大教堂，故宫；西边到著名的勃朗登堡门为止，长不到二里。过了那座门便是梯尔园，街道还是直伸下去</a:t>
            </a:r>
            <a:r>
              <a:rPr b="0" lang="en-US" sz="1600" spc="-1" strike="noStrike">
                <a:solidFill>
                  <a:srgbClr val="ffffff"/>
                </a:solidFill>
                <a:latin typeface="Tahoma"/>
              </a:rPr>
              <a:t>--</a:t>
            </a:r>
            <a:r>
              <a:rPr b="0" lang="zh-CN" sz="1600" spc="-1" strike="noStrike">
                <a:solidFill>
                  <a:srgbClr val="ffffff"/>
                </a:solidFill>
                <a:latin typeface="Tahoma"/>
              </a:rPr>
              <a:t>这一下可长了，三十七八里。勃朗登堡门和巴黎凯旋门一样，也是纪功的。建筑在十八世纪末年，有点仿雅典奈昔克里司门的式样。高六十六英尺，宽六十八码半；两边各有六根多力克式石柱子。顶上是站在驷马车里的胜利神像，雄伟庄严，表现出德意志国都的神采。那神像在一八零七年被拿破仑当作胜利品带走，但七年后便又让德国的队伍带回来了。</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从菩提树下西去，一出这座门，立刻神气清爽，眼前别有天地；那空阔，那望不到头的绿树，便是梯尔园。这是柏林最大的公园，东西六里，南北约二里。地势天然生得好，加上树种得非常巧妙，小湖小溪，或隐或显，也安排的是地方。大道像轮子的辐，凑向轴心去。道旁齐齐地排着葱郁的高树；树下有时候排着些白石雕像，在深绿的背景上越显得洁白。小道像树叶上的脉络，不知有多少。跟着道走，总有好地方，不辜负你。园子里花坛也不少。罗森花坛是出名的一个，玫瑰最好。一座天然的围墙，圆圆地绕着，上面密密地厚厚地长着绿的小圆叶子；墙顶参差不齐。坛中有两个小方池，满飘着雪白的水莲花，玲珑地托在叶子上，像惺忪的星眼。两池之间是一个皇后的雕像；四周的花香花色好像她的供养。梯尔园人工胜于天然。真正的天然却又是一番境界。</a:t>
            </a:r>
            <a:endParaRPr b="0" lang="en-US" sz="1600" spc="-1" strike="noStrike">
              <a:solidFill>
                <a:srgbClr val="ffffff"/>
              </a:solidFill>
              <a:latin typeface="Tahoma"/>
            </a:endParaRPr>
          </a:p>
        </p:txBody>
      </p:sp>
      <p:sp>
        <p:nvSpPr>
          <p:cNvPr id="146" name="AutoShape 8">
            <a:hlinkClick r:id="" action="ppaction://hlinkshowjump?jump=firstslide"/>
          </p:cNvPr>
          <p:cNvSpPr/>
          <p:nvPr/>
        </p:nvSpPr>
        <p:spPr>
          <a:xfrm>
            <a:off x="71280" y="602136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
        <p:nvSpPr>
          <p:cNvPr id="147" name="AutoShape 8">
            <a:hlinkClick r:id="" action="ppaction://hlinkshowjump?jump=firstslide"/>
          </p:cNvPr>
          <p:cNvSpPr/>
          <p:nvPr/>
        </p:nvSpPr>
        <p:spPr>
          <a:xfrm>
            <a:off x="71280" y="5516640"/>
            <a:ext cx="900360" cy="358560"/>
          </a:xfrm>
          <a:prstGeom prst="flowChartAlternateProcess">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下一页</a:t>
            </a:r>
            <a:endParaRPr b="0" lang="en-US" sz="1800" spc="-1" strike="noStrike">
              <a:solidFill>
                <a:srgbClr val="ffffff"/>
              </a:solidFill>
              <a:latin typeface="Tahoma"/>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28556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拓展阅读</a:t>
            </a:r>
            <a:endParaRPr b="0" lang="en-US" sz="3200" spc="-1" strike="noStrike">
              <a:solidFill>
                <a:srgbClr val="ffffff"/>
              </a:solidFill>
              <a:latin typeface="Tahoma"/>
            </a:endParaRPr>
          </a:p>
        </p:txBody>
      </p:sp>
      <p:sp>
        <p:nvSpPr>
          <p:cNvPr id="149" name="Text Box 6"/>
          <p:cNvSpPr/>
          <p:nvPr/>
        </p:nvSpPr>
        <p:spPr>
          <a:xfrm>
            <a:off x="971640" y="765000"/>
            <a:ext cx="7956360" cy="205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朱自清游欧洲散文节选</a:t>
            </a:r>
            <a:endParaRPr b="0" lang="en-US" sz="24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a:t>
            </a:r>
            <a:r>
              <a:rPr b="1" lang="zh-CN" sz="1800" spc="-1" strike="noStrike">
                <a:solidFill>
                  <a:srgbClr val="ffffff"/>
                </a:solidFill>
                <a:latin typeface="仿宋_GB2312"/>
                <a:ea typeface="仿宋_GB2312"/>
              </a:rPr>
              <a:t>莱茵河</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莱茵河发源于瑞士阿尔卑斯山中，穿过德国东部，流入北海，长约二千五百里。分上中下三部分。从马恩斯到哥龙算是“中莱茵”；游莱茵河的都走这一段儿。天然风景并不异乎寻常地好；古迹可异乎寻常地多。尤其是马恩斯与考勃伦兹之间，两岸山上布满了旧时的堡垒，高高下下的，错错落落的，斑斑驳驳的：有些已经残破，有些还完好无恙。这中间住过英雄，住过盗贼，或据险自豪，或纵横驰骤，也曾热闹过一番。现在却无精打采，任凭日晒风吹，一声儿不响。坐在轮船上两边看，那些古色古香各种各样的堡垒历历的从眼前过去；仿佛自己已经跳出了这个时代而在那些堡垒里过着无拘无束的日子。游这一段儿，火车却不如轮船：朝日不如残阳，晴天不如阴天，阴天不如月夜，再加上几点儿萤火，一闪一闪的在寻觅荒草里的幽灵似的。最好还得爬上山去，在堡垒内外徘徊徘徊。</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       </a:t>
            </a:r>
            <a:r>
              <a:rPr b="0" lang="zh-CN" sz="1600" spc="-1" strike="noStrike">
                <a:solidFill>
                  <a:srgbClr val="ffffff"/>
                </a:solidFill>
                <a:latin typeface="Tahoma"/>
              </a:rPr>
              <a:t>这一带不但史迹多，传说也多。最凄艳的自然是脍炙人口的声闻岩头的仙女子。声闻岩在河东岸，高四百三十英尺，一大片暗淡的悬岩，嶙嶙峋峋的；河到岩南，向东拐个小湾，这里有顶大的回声，岩因此得名。相传往日岩头有个仙女美极，终日歌唱不绝。一个船夫傍晚行船，走过岩下。听见她的歌声，仰头一看，不觉忘其所以，连船带人都撞碎在岩上。后来又死了一位伯爵的儿子。这可闯下大祸来了。伯爵派兵遣将，给儿子报仇。他们打算捉住她，锁起来，从岩顶直摔下河里去。但是她不愿死在他们手里，她呼唤莱茵母亲来接她；河里果然白浪翻腾，她便跳到浪里。从此声闻岩下听不见歌声，看不见倩影，只剩晚霞在岩头明灭。德国大诗人海涅有诗咏此事；此事传播之广，这篇诗也有关系的。友人淦克超先生曾译第一章云： 传闻旧低徊，我心何悒悒。 两峰隐夕阳，莱茵流不息。 峰际一美人，粲然金发明， 清歌时一曲，余音响入云。 凝听复凝望，舟子忘所向， 怪石耿中流，人与舟俱丧。</a:t>
            </a:r>
            <a:endParaRPr b="0" lang="en-US" sz="16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AutoShape 8">
            <a:hlinkClick r:id="" action="ppaction://hlinkshowjump?jump=firstslide"/>
          </p:cNvPr>
          <p:cNvSpPr/>
          <p:nvPr/>
        </p:nvSpPr>
        <p:spPr>
          <a:xfrm>
            <a:off x="71280" y="602136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Tahoma"/>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8T06:31:31Z</dcterms:modified>
  <cp:revision>35</cp:revision>
  <dc:subject/>
  <dc:title>PowerPoint Presentation</dc:title>
</cp:coreProperties>
</file>