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6FF2-C0BB-42A8-8253-67BADBC376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8F92-739A-40B2-9363-A399789EBC0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3474-EF2E-4D2D-B268-1F3ADD64BD9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2E27-7169-4243-ACF2-3214D32C084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1026-9D66-45B5-955C-DD7AC391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D678-AA90-4710-8625-030B767C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C1A1-C619-4A50-A00C-CAACF4C5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DFB38-BB5F-460F-89BC-B6B543F3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05EF-E05C-457A-95EC-81CB82DE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DFC6-FBAB-42A3-8273-7CB9A0AB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09D1-15F4-456D-817A-6B692731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9F8F-39A2-4ACD-BC3C-77869BBD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799D-4AF3-46C1-AD0F-8296D55A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4315-6347-47C3-A382-8F5CF5D7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2382-B5D8-4AA1-810E-93197A11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2D7D-923E-4834-9B09-4F337714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A660-B4F0-4FD7-AD3D-A538EF57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A55E-A060-47B1-81F4-11D1898B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489B-0A40-483B-A9BE-86AA23D7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4EB4-1242-4396-9EE0-CF268882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B0EA-3BD9-49D0-91D1-B3DE1836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CC3F5-90E1-4543-B691-F663D70B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0CA8A-19E0-4AE9-943C-C358B8EB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DAA2A-AC13-4B49-92A2-0BAEC938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F5009-169F-44E7-A78F-88325BEA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4C7C8-22C3-427A-8813-3C959E1C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E1DD0-8A7F-4412-8F14-07494340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B2AB-DDCE-42D7-BDA5-6B28C7E1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9365-732A-40FC-A7A0-C24E2FE0C2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2C6D-6FD8-4D01-9B42-B0C9EF53444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u=640780096,1334577426&amp;gp=14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8"/>
          <p:cNvSpPr/>
          <p:nvPr/>
        </p:nvSpPr>
        <p:spPr>
          <a:xfrm>
            <a:off x="6659640" y="5013360"/>
            <a:ext cx="720720" cy="1844640"/>
          </a:xfrm>
          <a:prstGeom prst="flowChartAlternateProcess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  <a:ea typeface="华文行楷"/>
              </a:rPr>
              <a:t>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  <a:ea typeface="华文行楷"/>
              </a:rPr>
              <a:t>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  <a:ea typeface="华文行楷"/>
              </a:rPr>
              <a:t>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  <a:ea typeface="华文行楷"/>
              </a:rPr>
              <a:t>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7524720" y="5013360"/>
            <a:ext cx="647640" cy="1844640"/>
          </a:xfrm>
          <a:prstGeom prst="flowChartAlternateProcess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  <a:ea typeface="华文行楷"/>
              </a:rPr>
              <a:t>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  <a:ea typeface="华文行楷"/>
              </a:rPr>
              <a:t>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  <a:ea typeface="华文行楷"/>
              </a:rPr>
              <a:t>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  <a:ea typeface="华文行楷"/>
              </a:rPr>
              <a:t>析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21">
            <a:hlinkClick r:id="" action="ppaction://hlinkshowjump?jump=endshow"/>
          </p:cNvPr>
          <p:cNvSpPr/>
          <p:nvPr/>
        </p:nvSpPr>
        <p:spPr>
          <a:xfrm>
            <a:off x="2987640" y="6093000"/>
            <a:ext cx="900000" cy="43164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2124000" y="1484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仿宋_GB2312"/>
              </a:rPr>
              <a:t>个人机器人崭露头角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4140360" y="2276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陈幼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7"/>
          <p:cNvSpPr/>
          <p:nvPr/>
        </p:nvSpPr>
        <p:spPr>
          <a:xfrm>
            <a:off x="179280" y="6308640"/>
            <a:ext cx="900360" cy="35892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21" descr="u=640780096,1334577426&amp;gp=14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4"/>
          <p:cNvSpPr/>
          <p:nvPr/>
        </p:nvSpPr>
        <p:spPr>
          <a:xfrm>
            <a:off x="1332000" y="223848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陈幼松，北京理工大学教授，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32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生，福州市人。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55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北京航空航天大学飞机系本科毕业，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57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北京航空航天大学材料系研究生毕业。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79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参加创建北京计算机学院，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80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赴美国学习计算机。先后在北京航空航天大学、北京计算机学院、北京理工大学从事焊接工艺、材料、电路、计算机、智能机器人等方面的教学和科研工作。正式出版著译作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种，在全国（包括香港）约百种刊物、报纸发表介绍计算机及各种高技术最新成就的文干篇，累计字数达一千万字，正式出版著译作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种，其中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大众高技术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获第六届（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997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五个一工程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本好书奖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98880" y="404640"/>
            <a:ext cx="6678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作者简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179280" y="6165720"/>
            <a:ext cx="900360" cy="35892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u=640780096,1334577426&amp;gp=14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98880" y="404640"/>
            <a:ext cx="6678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阅读赏析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79280" y="6165720"/>
            <a:ext cx="900360" cy="358920"/>
          </a:xfrm>
          <a:prstGeom prst="flowChartAlternateProcess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退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547640" y="244332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本文详细介绍了个人机器人诞生之初的基本情况、功能及技术发展。文章首先提到了索尼的“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AIBO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美国“猛虎公司”的“华比”、欧姆龙的“塔麻”和松下的宠物机器人等多种初代个人机器人，简述了它们在外形、设计、主要功能和特色上的不同。随后介绍了机器人动作所采用的行为模型，并拓展延伸到了其技术基础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——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SSA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运行方法。此外，文章还重点介绍了个人机器人的重要特色：因为加入了感情和学习能力而拥有“个性”，技术的应用使个人机器人可以根据情绪来作出反应，也可以不断学习新的动作，性格甚至也会发生变化，但同时也提出了目前的不足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文章内容丰富，介绍全面，结构清晰。既涉及高新技术，语言又浅显易懂，对同学了解个人机器人发展状况和技术水平有一定帮助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mal</cp:lastModifiedBy>
  <dcterms:modified xsi:type="dcterms:W3CDTF">2013-08-29T08:43:23Z</dcterms:modified>
  <cp:revision>25</cp:revision>
  <dc:subject/>
  <dc:title>PowerPoint Presentation</dc:title>
</cp:coreProperties>
</file>