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A70A-B303-49F2-811C-BC9CBCCA468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7C17-1ABF-4086-880A-E188DFF350D8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BD44-C28C-4396-BA78-54AA7ED2D6FA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C2CC-7D5B-482F-BB4D-FB52A5988225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20B-C62E-4B22-AD1E-73FC9FFF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751-5E2A-41FD-92C4-0DA1C885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05FA-A3EB-4840-A43F-A4E3B09C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74C1-26C4-4BD7-A09A-4385140A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E99A-D18E-4C48-9B93-7FA1476E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65AF-C2BA-4B40-8D11-96FBF4FC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8B5F-BF9E-41EF-AA19-071A7143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7B97-1E69-4641-9C79-C9201424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F2AD-DDF4-4C2B-81E1-28FBC00E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8920-0DCB-4EA6-9373-4BE2B402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0989-C626-4A75-96C9-647C24C1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603-ACB2-492F-A62C-A39B617C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FCC0-DE42-4450-B212-1D929D36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2F2F-816B-49BF-A572-44CC0813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B653-6A1C-4449-8698-DEDF3D86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7E13-3F00-4A46-B114-BD5814F5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9C8E-95B9-45C0-9401-F829EFDE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B03-737A-4014-8394-BE26FFA9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8A3-AA7C-4296-A1D0-EBAA6EA8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C8A-B93D-4047-85FC-9838C10F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F38-FE35-4BC6-A55D-B617EFDE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5E0-D001-4257-8685-710B27B3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D990-9893-4636-9F1D-265A9DFD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FEC-4DBE-45A3-AD63-00B9C665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3FE1-D0DB-49C7-A37F-E9758DBA79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CB1A-D94C-4E22-81D4-EC8766033140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" Target="slide3.xm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35"/>
          <p:cNvGrpSpPr/>
          <p:nvPr/>
        </p:nvGrpSpPr>
        <p:grpSpPr>
          <a:xfrm>
            <a:off x="2023920" y="376200"/>
            <a:ext cx="5050080" cy="4309920"/>
            <a:chOff x="2023920" y="376200"/>
            <a:chExt cx="5050080" cy="4309920"/>
          </a:xfrm>
        </p:grpSpPr>
        <p:sp>
          <p:nvSpPr>
            <p:cNvPr id="90" name="Text Box 6"/>
            <p:cNvSpPr/>
            <p:nvPr/>
          </p:nvSpPr>
          <p:spPr>
            <a:xfrm>
              <a:off x="2023920" y="376200"/>
              <a:ext cx="1152720" cy="34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身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后  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意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识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" name="Text Box 16">
              <a:hlinkClick r:id="rId1" action="ppaction://hlinksldjump"/>
            </p:cNvPr>
            <p:cNvSpPr/>
            <p:nvPr/>
          </p:nvSpPr>
          <p:spPr>
            <a:xfrm>
              <a:off x="5275440" y="3979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背景简介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92" name="Group 18"/>
            <p:cNvGrpSpPr/>
            <p:nvPr/>
          </p:nvGrpSpPr>
          <p:grpSpPr>
            <a:xfrm>
              <a:off x="4788000" y="1998720"/>
              <a:ext cx="2286000" cy="685800"/>
              <a:chOff x="4788000" y="1998720"/>
              <a:chExt cx="2286000" cy="685800"/>
            </a:xfrm>
          </p:grpSpPr>
          <p:grpSp>
            <p:nvGrpSpPr>
              <p:cNvPr id="93" name="Group 19"/>
              <p:cNvGrpSpPr/>
              <p:nvPr/>
            </p:nvGrpSpPr>
            <p:grpSpPr>
              <a:xfrm>
                <a:off x="4788000" y="1998720"/>
                <a:ext cx="2286000" cy="685800"/>
                <a:chOff x="4788000" y="1998720"/>
                <a:chExt cx="2286000" cy="685800"/>
              </a:xfrm>
            </p:grpSpPr>
            <p:sp>
              <p:nvSpPr>
                <p:cNvPr id="94" name="Oval 20"/>
                <p:cNvSpPr/>
                <p:nvPr/>
              </p:nvSpPr>
              <p:spPr>
                <a:xfrm>
                  <a:off x="4788000" y="1998720"/>
                  <a:ext cx="2286000" cy="685800"/>
                </a:xfrm>
                <a:prstGeom prst="ellipse">
                  <a:avLst/>
                </a:prstGeom>
                <a:solidFill>
                  <a:srgbClr val="0066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5" name="Text Box 21"/>
                <p:cNvSpPr/>
                <p:nvPr/>
              </p:nvSpPr>
              <p:spPr>
                <a:xfrm>
                  <a:off x="5203440" y="210672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背景简介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AutoShape 22">
                <a:hlinkClick r:id="rId2"/>
              </p:cNvPr>
              <p:cNvSpPr/>
              <p:nvPr/>
            </p:nvSpPr>
            <p:spPr>
              <a:xfrm>
                <a:off x="5169240" y="2151360"/>
                <a:ext cx="1523880" cy="380880"/>
              </a:xfrm>
              <a:custGeom>
                <a:avLst/>
                <a:gdLst>
                  <a:gd name="textAreaLeft" fmla="*/ 24480 w 1523880"/>
                  <a:gd name="textAreaRight" fmla="*/ 1499400 w 152388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6359" y="21600"/>
                    </a:lnTo>
                    <a:lnTo>
                      <a:pt x="0" y="21600"/>
                    </a:lnTo>
                    <a:close/>
                  </a:path>
                  <a:path fill="lightenLess"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4959" y="1400"/>
                    </a:lnTo>
                    <a:lnTo>
                      <a:pt x="1400" y="1400"/>
                    </a:lnTo>
                    <a:close/>
                  </a:path>
                  <a:path fill="darken" w="86359" h="21600">
                    <a:moveTo>
                      <a:pt x="86359" y="0"/>
                    </a:moveTo>
                    <a:lnTo>
                      <a:pt x="86359" y="21600"/>
                    </a:lnTo>
                    <a:lnTo>
                      <a:pt x="84959" y="20200"/>
                    </a:lnTo>
                    <a:lnTo>
                      <a:pt x="84959" y="1400"/>
                    </a:lnTo>
                    <a:close/>
                  </a:path>
                  <a:path fill="darkenLess" w="86359" h="21600">
                    <a:moveTo>
                      <a:pt x="86359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84959" y="20200"/>
                    </a:lnTo>
                    <a:close/>
                  </a:path>
                  <a:path fill="lighten" w="86359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Times New Roman"/>
                  </a:rPr>
                  <a:t>阅读赏析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97" name="Text Box 29"/>
            <p:cNvSpPr/>
            <p:nvPr/>
          </p:nvSpPr>
          <p:spPr>
            <a:xfrm>
              <a:off x="2991240" y="2927520"/>
              <a:ext cx="66780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00"/>
                  </a:solidFill>
                  <a:latin typeface="Arial"/>
                  <a:ea typeface="华文行楷"/>
                </a:rPr>
                <a:t>杨继红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98" name="Group 30"/>
            <p:cNvGrpSpPr/>
            <p:nvPr/>
          </p:nvGrpSpPr>
          <p:grpSpPr>
            <a:xfrm>
              <a:off x="4788000" y="2935080"/>
              <a:ext cx="2286000" cy="685800"/>
              <a:chOff x="4788000" y="2935080"/>
              <a:chExt cx="2286000" cy="685800"/>
            </a:xfrm>
          </p:grpSpPr>
          <p:grpSp>
            <p:nvGrpSpPr>
              <p:cNvPr id="99" name="Group 31"/>
              <p:cNvGrpSpPr/>
              <p:nvPr/>
            </p:nvGrpSpPr>
            <p:grpSpPr>
              <a:xfrm>
                <a:off x="4788000" y="2935080"/>
                <a:ext cx="2286000" cy="685800"/>
                <a:chOff x="4788000" y="2935080"/>
                <a:chExt cx="2286000" cy="685800"/>
              </a:xfrm>
            </p:grpSpPr>
            <p:sp>
              <p:nvSpPr>
                <p:cNvPr id="100" name="Oval 32"/>
                <p:cNvSpPr/>
                <p:nvPr/>
              </p:nvSpPr>
              <p:spPr>
                <a:xfrm>
                  <a:off x="4788000" y="2935080"/>
                  <a:ext cx="2286000" cy="685800"/>
                </a:xfrm>
                <a:prstGeom prst="ellipse">
                  <a:avLst/>
                </a:prstGeom>
                <a:solidFill>
                  <a:srgbClr val="0066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1" name="Text Box 33"/>
                <p:cNvSpPr/>
                <p:nvPr/>
              </p:nvSpPr>
              <p:spPr>
                <a:xfrm>
                  <a:off x="5203440" y="304308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背景简介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AutoShape 34">
                <a:hlinkClick r:id="rId3"/>
              </p:cNvPr>
              <p:cNvSpPr/>
              <p:nvPr/>
            </p:nvSpPr>
            <p:spPr>
              <a:xfrm>
                <a:off x="5169240" y="3087720"/>
                <a:ext cx="1523880" cy="380880"/>
              </a:xfrm>
              <a:custGeom>
                <a:avLst/>
                <a:gdLst>
                  <a:gd name="textAreaLeft" fmla="*/ 24480 w 1523880"/>
                  <a:gd name="textAreaRight" fmla="*/ 1499400 w 152388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6359" y="21600"/>
                    </a:lnTo>
                    <a:lnTo>
                      <a:pt x="0" y="21600"/>
                    </a:lnTo>
                    <a:close/>
                  </a:path>
                  <a:path fill="lightenLess"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4959" y="1400"/>
                    </a:lnTo>
                    <a:lnTo>
                      <a:pt x="1400" y="1400"/>
                    </a:lnTo>
                    <a:close/>
                  </a:path>
                  <a:path fill="darken" w="86359" h="21600">
                    <a:moveTo>
                      <a:pt x="86359" y="0"/>
                    </a:moveTo>
                    <a:lnTo>
                      <a:pt x="86359" y="21600"/>
                    </a:lnTo>
                    <a:lnTo>
                      <a:pt x="84959" y="20200"/>
                    </a:lnTo>
                    <a:lnTo>
                      <a:pt x="84959" y="1400"/>
                    </a:lnTo>
                    <a:close/>
                  </a:path>
                  <a:path fill="darkenLess" w="86359" h="21600">
                    <a:moveTo>
                      <a:pt x="86359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84959" y="20200"/>
                    </a:lnTo>
                    <a:close/>
                  </a:path>
                  <a:path fill="lighten" w="86359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cc0066"/>
                    </a:solidFill>
                    <a:uFillTx/>
                    <a:latin typeface="Times New Roman"/>
                    <a:hlinkClick r:id="rId4" action="ppaction://hlinksldjump"/>
                  </a:rPr>
                  <a:t>学习建议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AutoShape 38">
            <a:hlinkClick r:id="" action="ppaction://hlinkshowjump?jump=endshow"/>
          </p:cNvPr>
          <p:cNvSpPr/>
          <p:nvPr/>
        </p:nvSpPr>
        <p:spPr>
          <a:xfrm>
            <a:off x="7812000" y="6021360"/>
            <a:ext cx="900360" cy="358920"/>
          </a:xfrm>
          <a:prstGeom prst="flowChartAlternateProcess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011240" y="692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行楷"/>
              </a:rPr>
              <a:t>阅读赏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657360" y="1773360"/>
            <a:ext cx="79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本文选自</a:t>
            </a: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中国当代文学作品精选</a:t>
            </a: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.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杂文卷</a:t>
            </a: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，通过一些亲身亲历、亲耳所闻的具体事件，从正、反两个方面对比思考，提炼出一个新颖的主题：做人要有一份“身后意识”。在作者看来，多一种“身后意识”，就像多了一双睿智的眼睛，时时给我们添一点远见、一点清醒、一点对现实更为透彻的察看与认知。借这份认知，可以少做很多日后追悔莫及的事情。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7885080" y="5950080"/>
            <a:ext cx="90000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019160" y="692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行楷"/>
              </a:rPr>
              <a:t>学习建议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7812000" y="595008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900000" y="1989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本文提出了一个新颖的名词“身后意识”，并通过讲述了很多事例来说明其的重要性，是非常有教育意义的一课。在学习过程中，一般的课文结构、字词、文章风格等的讲解外，要着重强调对“身后意识”的理解，同一篇文章每个同学的感悟都是不同的，可以让学生讨论、发言通过讲述身边的事例，或者采用较为活泼的小品表演形式来加深印象并使之有所收获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rmal</cp:lastModifiedBy>
  <dcterms:modified xsi:type="dcterms:W3CDTF">2013-08-29T08:39:53Z</dcterms:modified>
  <cp:revision>55</cp:revision>
  <dc:subject/>
  <dc:title>PowerPoint Presentation</dc:title>
</cp:coreProperties>
</file>