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C5E5-6799-4A95-9DBB-ED91F0A49B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BF9-E584-4C62-A40B-791E37E2EA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61B0-5D3C-47EA-B7BE-C95C6BBCE3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09C-AFC1-4D02-A2CF-C63BDB64B1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671-6196-45F0-BFB5-4400BC33E4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485-0F18-4CB6-BF98-5DB23431698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9E61-BD63-4FD4-AA6C-2C9C6D719E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D77-AA58-4F2B-B540-312F823991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FDD-0710-4E74-A8F7-97A6EDE77C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D0E-F5C2-4996-B47A-752ABB7078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0BB-2AD1-4C6E-8AD4-DF1696DF72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A7E1-9042-4D73-8EAD-A5D901BA16F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8F4-D6C5-41F0-8F4A-29A87063F2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7507-7148-434F-BA2E-F15342A525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72F-8B5E-4BC5-86EE-DF6483123F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7356-F8AF-472E-986E-DF6B6009E8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626-516C-468C-A402-17DDA3F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499-AA77-4ED4-8FF1-5C5C4BE1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F81-58DE-4C64-8FA6-4943A4FF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6A6-8FDB-4853-810C-E05AD537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BB6B-5827-46DC-98D3-77CF1FCD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F315-9034-4EA6-B1EA-4D131FA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B62-BBA0-40AF-857C-DDECBF2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652-C2F6-4AF7-9890-7BAE4238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44A8-C1D4-407D-8DF5-58EDC8F1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DCA8-318E-4F29-84EF-21CB412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E559-624A-435B-85D0-54A4A56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08E-355D-4774-979C-2102BC33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E6F-C4E6-4C23-AE7E-D352E02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9C4-6B85-441C-A813-7016668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0DB1-6D37-4B6C-8D9D-0F268AC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13E-9DBC-4A93-B6BB-66F92E97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DDC-316E-4F20-979B-8D8EC816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F55-7D1D-41B6-89E1-D92A430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C03-8EE5-4DAA-85E7-CDF4A95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F23-269F-436A-96E1-BDC9774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397-B00E-499C-8535-04B00425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C11-6A6F-4AC5-AB44-B37384B3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9F6-A3DD-4674-A770-0052833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629-3B62-439E-A916-57E175F7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197-BBA0-4B0C-9154-25DBEBC97E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D04-D4C9-45ED-8A98-F1B876B89F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5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ff"/>
                </a:solidFill>
                <a:latin typeface="Arial"/>
                <a:ea typeface="宋体"/>
              </a:rPr>
              <a:t>拿来主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鲁  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>
            <a:hlinkClick r:id="rId1" action="ppaction://hlinksldjump"/>
          </p:cNvPr>
          <p:cNvSpPr/>
          <p:nvPr/>
        </p:nvSpPr>
        <p:spPr>
          <a:xfrm>
            <a:off x="395280" y="476280"/>
            <a:ext cx="196056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背景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395280" y="981000"/>
            <a:ext cx="1960560" cy="3603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阅读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>
            <a:hlinkClick r:id="rId5" action="ppaction://hlinksldjump"/>
          </p:cNvPr>
          <p:cNvSpPr/>
          <p:nvPr/>
        </p:nvSpPr>
        <p:spPr>
          <a:xfrm>
            <a:off x="395280" y="1413000"/>
            <a:ext cx="194328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学习建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78000" y="1916280"/>
            <a:ext cx="1942920" cy="43308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思考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>
            <a:hlinkClick r:id="" action="ppaction://hlinkshowjump?jump=endshow"/>
          </p:cNvPr>
          <p:cNvSpPr/>
          <p:nvPr/>
        </p:nvSpPr>
        <p:spPr>
          <a:xfrm>
            <a:off x="7667640" y="616572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395280" y="2421000"/>
            <a:ext cx="194328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拓展阅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179280" y="609588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95280" y="241092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某种用途的东西，因此要合理使用；以“烟灯”和“烟枪”比喻文化遗产中毫无用处的东西，是应当剔除的糟粕；而“姨太太”则更是要不得的腐朽堕落的东西。经过这一番反复迂回的铺垫虚实论述，文章可以说是一波三折，腾挪跌宕，在读者心里激起了探究的欲望和思考的冲动。文章的关键之一为什么要“送去”之外还得“拿来”，就自然而然地得到揭示。文章最后，对想实行“拿来主义”的人提出了一个先决条件，要“沉着，勇猛，有辨别，不自私。”这与上文一气贯通，自然收束。“没有拿来的，人不能自成为新人，没有拿来的，文艺不能自成为新文艺”，这是本文精髓，也是本文的出发点和落脚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学习建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9320" y="1098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学习重点有如下几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作者迂回曲折的论辩思路，既是重点，也是难点，学习中应采取剥茧抽丝的方法分析体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语言特色鲜明是本文的另一学习重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由于时代的差异，有一些名词、观点、表达方式都已成为同学们理解的难点，学习中应特别注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理解鲁迅语言特点，理解体会鲁迅思想深度，也应成为学习中不可忽视的一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学习方法和步骤建议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整体感知课文，以分段分层的方式完成对各部分的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讨论、分析各部分在论证结构上和论证方法上的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分析文章魅力除掉论证逻辑及方法的得当外在语言上的突出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学习类似篇目，提高和增强分析、综合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6"/>
          <p:cNvSpPr/>
          <p:nvPr/>
        </p:nvSpPr>
        <p:spPr>
          <a:xfrm>
            <a:off x="108000" y="623736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思考与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08000" y="6308640"/>
            <a:ext cx="5745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-36360" y="1271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鲁迅杂文在形象说理时，善于运用比喻手段，无论是整体还是局部的比喻都巧妙贴切，生动传神，使人不仅得到深刻启示，也获得艺术的愉悦。结合上下文之间的联系，指出下列词语的比喻意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宅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鱼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鸦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烟枪和烟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请结合课文，回答以下几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针对什么问题而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”的具体内容包括哪几个方面？为什么说创新离不开择旧，不先拿来就无从创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们今天学习本文有什么现实意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拓展阅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-15840" y="855720"/>
            <a:ext cx="91072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再论雷峰塔的倒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鲁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听说，杭州西湖上的雷峰塔②倒掉了，听说而已，我没有亲见。但我却见过未倒的雷峰塔，破破烂烂的映掩于湖光山色之间，落山的太阳照着这些四近的地方，就是“雷峰夕照”，西湖十景之一。“雷峰夕照”的真景我也见过，并不见佳，我以为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     然而一切西湖胜迹的名目之中，我知道得最早的却是这雷峰塔。我的祖母曾经常常对我说，白蛇娘娘就被压在这塔底下！有个叫做许仙的人救了两条蛇，一青一白，后来白蛇便化作女人来报恩，嫁给许仙了；青蛇化作丫鬟，也跟着。一个和尚，法海禅师，得道的禅师，看见许仙脸上有妖气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凡讨妖怪作老婆的人，脸上就有妖气的，但只有非凡的人才看得出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便将他藏在金山寺的法座后，白蛇娘娘来寻夫，于是就“水满金山”。我的祖母讲起来还要有趣得多，大约是出于一部弹词叫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义妖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③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里的，但我没有看过这部书，所以也不知道“许仙”“法海”究竟是否这样写。总而言之，白蛇娘娘终于中了法海的计策，被装在一个小小的钵盂里了。钵盂埋在地里，上面还造起一座镇压的塔来，这就是雷峰塔。此后似乎事情还很多，如“白状元祭塔”之类，但我现在都忘记了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 那时我惟一的希望，就在这雷峰塔的倒掉。后来我长大了，到杭州，看见这破破烂烂的塔，心里就不舒服。后来我看看书，说杭州人又叫这塔作“保叔塔”，其实应该写作“保亻叔塔”④，是钱王的儿子造的。那么，里面当然没有白蛇娘娘了，然而我心里仍然不舒服，仍然希望他倒掉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       现在，他居然倒掉了，则普天之下的人民，其欣喜为何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6"/>
          <p:cNvSpPr/>
          <p:nvPr/>
        </p:nvSpPr>
        <p:spPr>
          <a:xfrm>
            <a:off x="0" y="6380280"/>
            <a:ext cx="576360" cy="28548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拓展阅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4520" y="914400"/>
            <a:ext cx="91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有事实可证的。试到吴、越的山间海滨，探听民意去。凡有田夫野老，蚕妇村氓，除了几个脑髓里有点贵恙的之外，可有谁不为白娘娘抱不平，不怪法海太多事的？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和尚本应该只管自己念经。白蛇自迷许仙，许仙自娶妖怪，和别人有什么相干呢？他偏要放下经卷，横来招是搬非，大约是怀着嫉妒罢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那简直是一定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听说，后来玉皇大帝也就怪法海多事，以至荼毒生灵，想要拿办他了。他逃来逃去，终于逃在蟹壳里避祸，不敢再出来，到现在还如此。我对于玉皇大帝所作的事，腹诽的非常多，独于这一件却很满意，因为“水满金山”一案，的确应该由法海负责；他实在办得很不错的。只可惜我那时没有打听这话的出处，或者不在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义妖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中，却是民间的传说罢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秋高稻熟时节，吴越间所多的是螃蟹，煮到通红之后，无论取哪一只，揭开背壳来，里面就有黄，有膏；倘是雌的，就有石榴子一般鲜红的子。先将这些吃完，即一定露出一个圆锥形的薄膜，再用小刀小心地沿着锥底切下，取出，翻转，使里面向外，只要不破，便变成一个罗汉模样的东西，有头脸，身子，是坐着的，我们那里的小孩子都称他“蟹和尚”，就是躲在里面避难的法海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当初，白蛇娘娘压在塔底下，法海禅师躲在蟹壳里。现在却只有这位老禅师独自静坐了，非到螃蟹断种的那一天为止出不来。莫非他造塔的时候，竟没有想到塔是终究要倒的么？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活该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一九二四年十月二十八日。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69840" y="628488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8160" y="6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拓展阅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1341360"/>
            <a:ext cx="91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注：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①本篇最初发表于一九二四年十一月十七日北京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语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周刊第一期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②雷峰塔，原在杭州西湖净慈寺前面，宋开宝八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(975)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为吴越王钱俶所建，初名西关砖塔，后定名王妃塔；因建在名为雷峰的小山上，通称雷峰塔。一九二四年九月二十五日倒坍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义妖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演述关于白蛇娘娘的民间神化故事的弹词，清代陈遇乾著，共四卷五十三回，又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续集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二卷十六回。“水满金山”“和白传员祭塔”，都是白蛇故事中的情节。金山在江苏镇江，山上有金山寺，东晋时所建。白状元是故事中白蛇娘娘和许仙所生的儿子许士林，他后来中了状元回来祭塔，与被法海和尚镇在雷峰塔下的白蛇娘娘相见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       ④本文最初发表时，篇末有作者的附记说：“这篇东西，是一九二四年十月二十八日做的。今天孙伏园来，我便将草稿给他看。他说，雷峰塔并非就是保俶塔。那么，大约是我记错的了，然而我却确乎早知道雷峰塔下并无白娘娘。现在既经前记者先生指点，知道这一节并非得于所看之书，则当时何以知之，也就莫名其妙矣。特此声明，并且更正。十一月三日。”保俶塔在西湖宝石山顶，今仍存。一说是吴越王钱俶入宋朝贡时所造。明代朱国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涌幢小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卷十四中有简单记载：“杭州有保俶塔，因俶入朝，恐其被留，做此以保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今误为保叔。”另一传说是宋咸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(998-1003)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时僧永保化缘所筑。明代郎瑛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七修类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“咸平中，僧永保化缘筑塔，人以师叔称之，遂名塔曰保叔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324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背景资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539640" y="295524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鲁迅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81-193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原名周树人，字豫才，浙江绍兴人。青年时代受进化论思想影响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18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首次用“鲁迅”为笔名，发表中国现代文学史上第一篇白话小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狂人日记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对人吃人的制度进行猛烈，地揭露和抨击，奠定了新文学运动的基石。五四运动前后，参加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新青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杂志的工作，站在反帝反封的新文化运动的最前列，成为五四新文化运动的伟大旗手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18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到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间陆续创作出版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呐喊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坟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彷徨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野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朝花夕拾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专集，表现出爱国主义和彻底的民主主义的思想特色。其中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发表的中篇小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阿Ｑ正传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是中国现代文学史上杰出的作品之一。他逐渐认清了中国的现实，逐步成为一个坚定的共产主义者，成为中国文化革命的主将。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到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他创作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故事新编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的大部分作品和大量的杂文，这些作品收录在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而已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闲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心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南腔北调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花边文学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且介亭杂文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专集中。鲁迅的一生，对中国的文化事业作出了巨大的贡献；他领导和支持了“未名社”“朝花社”等进步的文学团体；主编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国民新报副刊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莽原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奔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译文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文艺期刊；热忱关怀、积极培养青年作者；搜集、研究、整理了大量古典文学，批判地继承了祖国古代文化遗产，编著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国小说史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汉文学史纲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唐宋传奇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病逝于上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圆角矩形 4"/>
          <p:cNvSpPr/>
          <p:nvPr/>
        </p:nvSpPr>
        <p:spPr>
          <a:xfrm>
            <a:off x="0" y="620640"/>
            <a:ext cx="190800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rId1" action="ppaction://hlinksldjump"/>
          </p:cNvPr>
          <p:cNvSpPr/>
          <p:nvPr/>
        </p:nvSpPr>
        <p:spPr>
          <a:xfrm>
            <a:off x="27000" y="623412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背景资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539640" y="299916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鲁迅先生在他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“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题未定”草（七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说过：“我以为倘要论文，最好顾及全篇，并且顾及作者的全人，以及他所处的社会状况，才能较确凿。”前面，我们已经对作者做了概括但不失全面的介绍，下面来简单介绍一下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创作背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写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4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，载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华日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动向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署名“霍仲”，后收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且介亭杂文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此时的作者，已经成长为一个无产阶级的革命战士，看待问题已经自觉地以马克思主义理论为标准了。此时正是中国现代政治斗争、阶级斗争和民族斗争非常复杂的时期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“九一八”事件后，日侵愈深，国民党政府对外不抵抗，对内剿杀共产党领导的红军，并对人民百姓进行残酷的精神统治。而当时的中国社会，对外来的先进文化和本民族的进步文化采取拒绝的态度。面对强大的帝国主义势力测不断地将自己宝贵的精神，尤其是物质财富献上去。在这种情况下，鲁迅先生写了许多文章，揭露帝国主义的侵略本质和政府的卖国投降嘴脸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就是这类作品中的一篇，但其重点并不在于揭露，而是讲应该怎么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圆角矩形 6"/>
          <p:cNvSpPr/>
          <p:nvPr/>
        </p:nvSpPr>
        <p:spPr>
          <a:xfrm>
            <a:off x="0" y="620640"/>
            <a:ext cx="169236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6">
            <a:hlinkClick r:id="rId1" action="ppaction://hlinksldjump"/>
          </p:cNvPr>
          <p:cNvSpPr/>
          <p:nvPr/>
        </p:nvSpPr>
        <p:spPr>
          <a:xfrm>
            <a:off x="0" y="609588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背景资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539640" y="315144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另外，鲁迅写作本文还有一个时代背景，这里也需要做一下交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代在左翼文化战线内部曾就文艺的“大众化”问题展开讨论。针对有些同志认为“采用旧形式”就是“机会主义”，“类乎投降”的“左”的观点，鲁迅运用马克思主义的正确观点鲜明地指出：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新的阶级及其文化，并非突出从天而降，大抵是发达于对于旧支配者及其文化的反抗中，亦即发达于和旧者的对立中，所以新文化仍然有所承传，于旧文化也仍然有所择取。”又说：新的艺术，没有一种是天根天蒂，突然发生的，总承受着先前的遗产。”“采用外国的良规，加以发挥，使我们的作品更加丰满是一条路；择取中国的遗产，融合新机，使将来的作品别开生面也是一条路。”他还用“弃去蹄毛，留其精粹”八字，形象而精确地概括了批判地继承文化遗产的观点。所以本文虽然讲的是对待外国文化的问题，所阐明的观点是适用于对待一切文化遗产的。另外，毛泽东同志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民族的科学的大众的文化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文（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新民主主义论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收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毛泽东选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卷），亦可以参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圆角矩形 6"/>
          <p:cNvSpPr/>
          <p:nvPr/>
        </p:nvSpPr>
        <p:spPr>
          <a:xfrm>
            <a:off x="0" y="620640"/>
            <a:ext cx="169236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6">
            <a:hlinkClick r:id="rId1" action="ppaction://hlinksldjump"/>
          </p:cNvPr>
          <p:cNvSpPr/>
          <p:nvPr/>
        </p:nvSpPr>
        <p:spPr>
          <a:xfrm>
            <a:off x="179280" y="6093000"/>
            <a:ext cx="576360" cy="28548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6">
            <a:hlinkClick r:id="rId1" action="ppaction://hlinksldjump"/>
          </p:cNvPr>
          <p:cNvSpPr/>
          <p:nvPr/>
        </p:nvSpPr>
        <p:spPr>
          <a:xfrm>
            <a:off x="250920" y="630864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95280" y="25506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一篇极能体现鲁迅特色的杂文。“拿来主义”这个提法是鲁迅的独创，“拿来”是一种形象的说法，“主义”是指一种重大原则或主张。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题旨是</a:t>
            </a:r>
            <a:r>
              <a:rPr b="1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针对国民党政府媚外卖国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政策和有些人的“全盘西化”的主张，也针对革命文化阵营内部的拒绝借鉴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盲目排斥的错误态度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1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鲁迅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提出既要大胆吸收借鉴外国文化（也包括本国的文化遗产）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要认真的分析精华与糟粕，加以批判吸收，以期改造民族素质，创造民族新文化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篇杂文就是在揭批国民党统治集团“送去主义”和帝国主义“送来主义”的基础上，提出了旗帜鲜明的“拿来主义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口号，生动阐述了对待文化遗产应吸取精华、剔除糟粕、批判继承文化遗产的道理，既批评了几种对待文化遗产的错误态度，又明确指出正确的继承、借鉴是建设新文化、塑造新人的必要条件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6">
            <a:hlinkClick r:id="rId1" action="ppaction://hlinksldjump"/>
          </p:cNvPr>
          <p:cNvSpPr/>
          <p:nvPr/>
        </p:nvSpPr>
        <p:spPr>
          <a:xfrm>
            <a:off x="17928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287280" y="2179800"/>
            <a:ext cx="86774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全文可分为三部分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（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-4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揭露批判“送去主义”的实质及其严重后果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是揭露批判国民党政府在文化上奉行“送去主义”的媚外求荣和欺世惑众的可耻行为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是揭露“送去主义”的实质和危害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部分（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-9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阐明“拿来主义”的基本观点，批判在对待文化遗产问题上的错误倾向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正面提出“拿来主义”的主张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揭示“送去主义”的危害和实行“拿来主义”的必要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揭示“拿来主义”的含义就是“运用脑髓，放出眼光，自己来拿”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批判对待文化遗产的三种错误态度。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9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段从正面具体而形象地阐明“拿来主义”的原则和方法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部分（第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），总结全文，指出实行“拿来主义”的人应具有的胆识和品质，以及“拿来主义”对于创造民族新文化的重要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108000" y="623736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179280" y="29188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篇文章涉及的主题相当深刻，意义十分重大，而且针对性、现实性很强。语言运用方面的突出特点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形象生动。这点单从题目看已经表现得很突出。怎样看待传统的、外来的文化？这是个理论性极强的问题，表述起来难免抽象，但作者“拿来主义”这一提法，即把抽象变成了人人熟悉的具体形象。而且在具体讲述拿来主义时，又以接收一座大宅子设喻，把一个颇费气力未必能言明的道理讲得透彻异常且通俗易懂，可谓“深入浅出”的典型诠释。不仅如此，作者对犯三种错误的人冠以极通俗的“孱头”、“混蛋”、“废物”称号，让我们如见其人，如闻其声。这中间的“鱼翅”、“鸦片”、“烟灯、烟枪”的生动形象更是不言自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含蓄深刻。鲁迅先生所处的创作背景是我们所熟知，因而语言的含蓄深刻，诱人深思自然成就了鲁迅语言的另一特点，比如文中“成了什么都是‘送去主义’了，别的且不说了罢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”何需多言，还是留待读者的联想空间，这其中自然有读者见到的世相加以补充，完成文章含蓄之势，成全作者的写作目的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10800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179280" y="255276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感情色彩鲜明。这是由鲁迅先生坚定的人格立场、愤世嫉俗的性格特征决定的。文章中，强烈的批判与颂扬及辛辣而深刻的讽刺随处可见。如“孱头”、“混蛋”、“废物”的痛骂；“沉着、勇毅、有辨别”的赞誉；“还有几位‘大师’们捧着几张古画和新画，在欧洲各国一路的挂过去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叫做‘发扬国光’”的讽刺及其中“捧”与“挂”所揭露的媚外丑态，等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四）犀利幽默。鲁迅杂文一向是“嬉笑怒骂皆成文章”，本文也不例外。犀利，即三言两语，甚或一语一词就能揭示事物的现象和本质。如“这种奖赏 ，不要误解为‘抛来’的东西，这是‘抛给’的”，仅仅是一字之差，就将帝国主义者的险恶用心曝光于天下。“其实这正是因为那是‘送来’的，而不是‘拿来’的缘故”，寥寥数字，“送来”与“拿来”之别，清楚明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五）论辩思路迂回曲折，引人入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题目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来主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上来就点明了文章的论证中心，但行文却并没有使用立论文的常见思路，而是从“闭关主义”政策的破产谈到由此产生的“送去主义”的某些做法，这更像是采用驳论的思路来引起读者的探究兴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1116000" y="64562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287280" y="244332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接着，作者又回避不谈“送去主义”而引出“拿来”，而照此思路，下文应当细论中心论题，即自己主张“拿来主义”的理由，最后再谈“送去主义”的弊端，但作者此时又绕开“拿来主义”，重新回到对“送去主义”问题的分析上，先肯定“能够只是送去，也不算坏事情”，接着又分析“只是给予，不想取得”的后果，然后才亮出论点：“送去之外，还得 ‘拿来’，是为‘拿来主义’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既然论点已亮出，本该集中笔力论证“拿来主义”的主张了，然而鲁迅先生此时又有意撂下“拿来主义”的话题，对“送去主义”这一问题举例分析，剖析其实质。至此，明确指出：“所以我们要运用脑髓、放出眼光，自己来拿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作者到这里再一次停下论证进程，转而从侧面落笔，用设喻的方法，分析了三种片面理解“拿来主义”的人：不敢吸收、徘徊不前的“孱头”，貌似革命、完全否定的“昏蛋”以及毫无分析、接受一切的“废物”。指出这三种人分别犯了怯懦的逃避主义、“左”倾的虚无主义、“右”倾的投降主义的错误，他们的做法并不是真正的“拿来主义”。作者大声疾呼：“‘拿来主义’者是全不这样的。”至此，作者才开始正面论述“拿来主义”者应该有的态度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“他占有”，还要“挑选”。接着采用设喻的方法，以“鱼翅”比喻文化遗产中有价值的东西，它有一定营养，所以要吸收；以“鸦片”比喻有毒有害但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normal</cp:lastModifiedBy>
  <dcterms:modified xsi:type="dcterms:W3CDTF">2013-08-29T08:10:01Z</dcterms:modified>
  <cp:revision>73</cp:revision>
  <dc:subject/>
  <dc:title>PURPLE PASSION</dc:title>
</cp:coreProperties>
</file>