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31D1-784C-4186-B581-70B63C705F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995E-284F-4FC2-9B66-F62F3CAE8D7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3ECD-0C92-4D25-9FB2-9275E15E557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A200-1EB5-46F1-BEFE-4A8ADF2D13A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F68A-C950-4F4F-AB20-94F245C4F36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A887-29D3-414B-8D6C-3449D955E27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2FE-B030-48C7-AD36-F8E01011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055-C2E2-46D3-B70B-8E8C868F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948-B92D-4BA4-8EC7-BFC49027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4DC-D59A-4A87-B880-0D334AB7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B154-D9C9-4609-8D56-2A7A9560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D243-19A5-4E61-B1CF-29D20157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1EE5-5A55-44A0-9FD6-5C4BA853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FAFE-0E6B-4B4E-8B2A-1ABB253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4C1B-CFA5-4BAE-9DF1-46F4763B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34E2-AEB7-4FE0-B991-11EF3A1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79B7-C5E5-4EDF-A9CB-91A225C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7C5-7B69-47EF-8D86-6DE3F360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E38E-A38C-4E9A-9E13-FB106CA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2455-8B49-472E-B77D-87C1D25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FB59-D4AA-45D5-B55D-65555F4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F7F3-ED09-4AE3-9FEC-513989A5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5744-B420-4B52-9A66-30552568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D61-35D6-4299-BEC1-B9DB4BA3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DFE-089B-4D75-8844-A5A49FBC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118-280B-4522-B7BE-FFD7A2EA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CA6-477B-49D5-AB0A-4085EA97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4CB-00BF-41BC-8205-2F061D7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D9C-871E-4FEF-B772-EDB5DBF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07D-EC11-4253-BA8F-DF0F2C5D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A61-723C-4F50-9230-24AE719A027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419D-2493-4362-8880-D7096410637C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slide6.xm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8"/>
          <p:cNvGrpSpPr/>
          <p:nvPr/>
        </p:nvGrpSpPr>
        <p:grpSpPr>
          <a:xfrm>
            <a:off x="0" y="9360"/>
            <a:ext cx="9144000" cy="6886800"/>
            <a:chOff x="0" y="9360"/>
            <a:chExt cx="9144000" cy="6886800"/>
          </a:xfrm>
        </p:grpSpPr>
        <p:pic>
          <p:nvPicPr>
            <p:cNvPr id="117" name="Picture 37" descr="bg,21"/>
            <p:cNvPicPr/>
            <p:nvPr/>
          </p:nvPicPr>
          <p:blipFill>
            <a:blip r:embed="rId1"/>
            <a:stretch/>
          </p:blipFill>
          <p:spPr>
            <a:xfrm>
              <a:off x="0" y="9360"/>
              <a:ext cx="9144000" cy="6848640"/>
            </a:xfrm>
            <a:prstGeom prst="rect">
              <a:avLst/>
            </a:prstGeom>
            <a:ln w="9360">
              <a:solidFill>
                <a:srgbClr val="ffff00"/>
              </a:solidFill>
              <a:round/>
            </a:ln>
          </p:spPr>
        </p:pic>
        <p:sp>
          <p:nvSpPr>
            <p:cNvPr id="118" name="Text Box 5"/>
            <p:cNvSpPr/>
            <p:nvPr/>
          </p:nvSpPr>
          <p:spPr>
            <a:xfrm>
              <a:off x="671760" y="38160"/>
              <a:ext cx="850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4d"/>
                  </a:solidFill>
                  <a:latin typeface="Times New Roman"/>
                  <a:ea typeface="华文行楷"/>
                </a:rPr>
                <a:t>    </a:t>
              </a:r>
              <a:r>
                <a:rPr b="1" lang="zh-CN" sz="4400" spc="-1" strike="noStrike">
                  <a:solidFill>
                    <a:srgbClr val="00004d"/>
                  </a:solidFill>
                  <a:latin typeface="Times New Roman"/>
                  <a:ea typeface="华文行楷"/>
                </a:rPr>
                <a:t>跨越百年的美丽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" name="Group 16"/>
            <p:cNvGrpSpPr/>
            <p:nvPr/>
          </p:nvGrpSpPr>
          <p:grpSpPr>
            <a:xfrm>
              <a:off x="2538360" y="1557360"/>
              <a:ext cx="2366640" cy="1773000"/>
              <a:chOff x="2538360" y="1557360"/>
              <a:chExt cx="2366640" cy="1773000"/>
            </a:xfrm>
          </p:grpSpPr>
          <p:grpSp>
            <p:nvGrpSpPr>
              <p:cNvPr id="120" name="Group 17"/>
              <p:cNvGrpSpPr/>
              <p:nvPr/>
            </p:nvGrpSpPr>
            <p:grpSpPr>
              <a:xfrm>
                <a:off x="2538360" y="1557360"/>
                <a:ext cx="2366640" cy="1773000"/>
                <a:chOff x="2538360" y="1557360"/>
                <a:chExt cx="2366640" cy="1773000"/>
              </a:xfrm>
            </p:grpSpPr>
            <p:sp>
              <p:nvSpPr>
                <p:cNvPr id="121" name="Oval 18"/>
                <p:cNvSpPr/>
                <p:nvPr/>
              </p:nvSpPr>
              <p:spPr>
                <a:xfrm>
                  <a:off x="2619000" y="2644560"/>
                  <a:ext cx="2286000" cy="68580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Text Box 19"/>
                <p:cNvSpPr/>
                <p:nvPr/>
              </p:nvSpPr>
              <p:spPr>
                <a:xfrm>
                  <a:off x="3043080" y="2601720"/>
                  <a:ext cx="15238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Oval 18"/>
                <p:cNvSpPr/>
                <p:nvPr/>
              </p:nvSpPr>
              <p:spPr>
                <a:xfrm>
                  <a:off x="2538360" y="1557360"/>
                  <a:ext cx="2286000" cy="68580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4" name="AutoShape 20">
                <a:hlinkClick r:id="rId2"/>
              </p:cNvPr>
              <p:cNvSpPr/>
              <p:nvPr/>
            </p:nvSpPr>
            <p:spPr>
              <a:xfrm>
                <a:off x="3000600" y="279576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ffffcc"/>
                    </a:solidFill>
                    <a:uFillTx/>
                    <a:latin typeface="Times New Roman"/>
                    <a:hlinkClick r:id="rId3" action="ppaction://hlinksldjump"/>
                  </a:rPr>
                  <a:t>学习建议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AutoShape 20">
                <a:hlinkClick r:id="rId4"/>
              </p:cNvPr>
              <p:cNvSpPr/>
              <p:nvPr/>
            </p:nvSpPr>
            <p:spPr>
              <a:xfrm>
                <a:off x="2919600" y="1709640"/>
                <a:ext cx="1523880" cy="38124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1240"/>
                  <a:gd name="textAreaBottom" fmla="*/ 356760 h 381240"/>
                </a:gdLst>
                <a:ahLst/>
                <a:rect l="textAreaLeft" t="textAreaTop" r="textAreaRight" b="textAreaBottom"/>
                <a:pathLst>
                  <a:path w="86278" h="21600">
                    <a:moveTo>
                      <a:pt x="0" y="0"/>
                    </a:moveTo>
                    <a:lnTo>
                      <a:pt x="86278" y="0"/>
                    </a:lnTo>
                    <a:lnTo>
                      <a:pt x="86278" y="21600"/>
                    </a:lnTo>
                    <a:lnTo>
                      <a:pt x="0" y="21600"/>
                    </a:lnTo>
                    <a:close/>
                  </a:path>
                  <a:path fill="lightenLess" w="86278" h="21600">
                    <a:moveTo>
                      <a:pt x="0" y="0"/>
                    </a:moveTo>
                    <a:lnTo>
                      <a:pt x="86278" y="0"/>
                    </a:lnTo>
                    <a:lnTo>
                      <a:pt x="84878" y="1400"/>
                    </a:lnTo>
                    <a:lnTo>
                      <a:pt x="1400" y="1400"/>
                    </a:lnTo>
                    <a:close/>
                  </a:path>
                  <a:path fill="darken" w="86278" h="21600">
                    <a:moveTo>
                      <a:pt x="86278" y="0"/>
                    </a:moveTo>
                    <a:lnTo>
                      <a:pt x="86278" y="21600"/>
                    </a:lnTo>
                    <a:lnTo>
                      <a:pt x="84878" y="20200"/>
                    </a:lnTo>
                    <a:lnTo>
                      <a:pt x="84878" y="1400"/>
                    </a:lnTo>
                    <a:close/>
                  </a:path>
                  <a:path fill="darkenLess" w="86278" h="21600">
                    <a:moveTo>
                      <a:pt x="8627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878" y="20200"/>
                    </a:lnTo>
                    <a:close/>
                  </a:path>
                  <a:path fill="lighten" w="8627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阅读赏析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6" name="Text Box 29">
              <a:hlinkClick r:id="rId5" action="ppaction://hlinksldjump"/>
            </p:cNvPr>
            <p:cNvSpPr/>
            <p:nvPr/>
          </p:nvSpPr>
          <p:spPr>
            <a:xfrm>
              <a:off x="3114720" y="504972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7" name="Group 32"/>
            <p:cNvGrpSpPr/>
            <p:nvPr/>
          </p:nvGrpSpPr>
          <p:grpSpPr>
            <a:xfrm>
              <a:off x="2538360" y="582480"/>
              <a:ext cx="2286000" cy="685800"/>
              <a:chOff x="2538360" y="582480"/>
              <a:chExt cx="2286000" cy="685800"/>
            </a:xfrm>
          </p:grpSpPr>
          <p:sp>
            <p:nvSpPr>
              <p:cNvPr id="128" name="Oval 34"/>
              <p:cNvSpPr/>
              <p:nvPr/>
            </p:nvSpPr>
            <p:spPr>
              <a:xfrm>
                <a:off x="2538360" y="582480"/>
                <a:ext cx="2286000" cy="68580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AutoShape 36">
                <a:hlinkClick r:id="rId6" action="ppaction://hlinksldjump"/>
              </p:cNvPr>
              <p:cNvSpPr/>
              <p:nvPr/>
            </p:nvSpPr>
            <p:spPr>
              <a:xfrm>
                <a:off x="2919240" y="735120"/>
                <a:ext cx="1523880" cy="380880"/>
              </a:xfrm>
              <a:custGeom>
                <a:avLst/>
                <a:gdLst>
                  <a:gd name="textAreaLeft" fmla="*/ 24480 w 1523880"/>
                  <a:gd name="textAreaRight" fmla="*/ 1499400 w 1523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6359" y="21600"/>
                    </a:lnTo>
                    <a:lnTo>
                      <a:pt x="0" y="21600"/>
                    </a:lnTo>
                    <a:close/>
                  </a:path>
                  <a:path fill="lightenLess" w="86359" h="21600">
                    <a:moveTo>
                      <a:pt x="0" y="0"/>
                    </a:moveTo>
                    <a:lnTo>
                      <a:pt x="86359" y="0"/>
                    </a:lnTo>
                    <a:lnTo>
                      <a:pt x="84959" y="1400"/>
                    </a:lnTo>
                    <a:lnTo>
                      <a:pt x="1400" y="1400"/>
                    </a:lnTo>
                    <a:close/>
                  </a:path>
                  <a:path fill="darken" w="86359" h="21600">
                    <a:moveTo>
                      <a:pt x="86359" y="0"/>
                    </a:moveTo>
                    <a:lnTo>
                      <a:pt x="86359" y="21600"/>
                    </a:lnTo>
                    <a:lnTo>
                      <a:pt x="84959" y="20200"/>
                    </a:lnTo>
                    <a:lnTo>
                      <a:pt x="84959" y="1400"/>
                    </a:lnTo>
                    <a:close/>
                  </a:path>
                  <a:path fill="darkenLess" w="86359" h="21600">
                    <a:moveTo>
                      <a:pt x="86359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4959" y="20200"/>
                    </a:lnTo>
                    <a:close/>
                  </a:path>
                  <a:path fill="lighten" w="86359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ffffcc"/>
                    </a:solidFill>
                    <a:uFillTx/>
                    <a:latin typeface="Times New Roman"/>
                    <a:hlinkClick r:id="rId7" action="ppaction://hlinksldjump"/>
                  </a:rPr>
                  <a:t>背景资料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0" name="AutoShape 41">
            <a:hlinkClick r:id="" action="ppaction://hlinkshowjump?jump=endshow"/>
          </p:cNvPr>
          <p:cNvSpPr/>
          <p:nvPr/>
        </p:nvSpPr>
        <p:spPr>
          <a:xfrm>
            <a:off x="7596360" y="587700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692360" y="4437000"/>
            <a:ext cx="71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4d"/>
                </a:solidFill>
                <a:latin typeface="Times New Roman"/>
                <a:ea typeface="华文行楷"/>
              </a:rPr>
              <a:t>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4d"/>
                </a:solidFill>
                <a:latin typeface="Times New Roman"/>
                <a:ea typeface="华文行楷"/>
              </a:rPr>
              <a:t>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380960" y="98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关于作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6">
            <a:hlinkClick r:id="" action="ppaction://hlinkshowjump?jump=firstslide"/>
          </p:cNvPr>
          <p:cNvSpPr/>
          <p:nvPr/>
        </p:nvSpPr>
        <p:spPr>
          <a:xfrm>
            <a:off x="142920" y="6067440"/>
            <a:ext cx="90000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00000" y="234936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梁衡，当代作家，山西霍州人。著名新闻理论家、散文家、科普作家和政论家。现任《人民日报》副总编辑、中国人民大学新闻学院博士生导师、中国作家协会全委会委员、中国记者协会全委会常务理事、人教版中小学教材总顾问。他的主要作品有科学史章回小说《数理化通俗演义》；新闻三部曲（《没有新闻的角落》、《新闻绿叶的脉络》、《新闻原理的思考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；散文集《夏与秋思》、《只求新去处》、《红色经典》、《名山大川感恩录》。季羡林老人称其为“政治散文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142760" y="415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背景资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1125000"/>
            <a:ext cx="26560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关于居里夫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71640" y="1989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玛丽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居里，原籍波兰，法国物理学家、化学家。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95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她与皮埃尔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居里结婚，他们共同就放射性现象进行研究，先后发现了钋和镭两种天然放射性元素。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06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居里去世后，她继续研究放射性，并著有《放射性通论》、《放射性物质的研究》等，推动了核科学的发展。由于她对放射现象研究工作的巨大贡献，和丈夫共获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03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诺贝尔物理学奖，后又获得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11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诺贝尔化学奖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142760" y="415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背景资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>
            <a:hlinkClick r:id="" action="ppaction://hlinkshowjump?jump=firstslide"/>
          </p:cNvPr>
          <p:cNvSpPr/>
          <p:nvPr/>
        </p:nvSpPr>
        <p:spPr>
          <a:xfrm>
            <a:off x="-3024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108160" y="128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阅读赏析（一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7">
            <a:hlinkClick r:id="" action="ppaction://hlinkshowjump?jump=firstslide"/>
          </p:cNvPr>
          <p:cNvSpPr/>
          <p:nvPr/>
        </p:nvSpPr>
        <p:spPr>
          <a:xfrm>
            <a:off x="-30240" y="602136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915840" y="687240"/>
            <a:ext cx="82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作者采用倒叙的手法，一开始描写了居里夫人在法国科学院作学术报告的场面，将居里夫人美丽的形象和伟大的成就凸现在读者面前。接下去的两个自然段具体描写了居里夫人为了探索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其他物质有没有放射性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而进行的艰苦的研究，直到发现了镭，这是课文的重点部分，充分表现了居里夫人坚定执著、为科学献身的科学精神。最后两个自然段写了居里夫人在名利面前的态度和做法，表现了居里夫人淡泊名利的高贵人格和全身心投身科学的忘我精神。最后引用爱因斯坦的话肯定居里夫人的人格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了解了居里夫人的光辉一生以后，我们从中得到的教益和启迪是深刻而广泛的。第一，受压迫、处于困境的人们，只要意志坚强，不畏艰难，勤奋学习，勇于攀登，胜利与成功之路是可以走通的，即使一路曲折。第二，要接受和支持新生事物，要用创新精神去从事科学研究和其他一切工作，并且要有百折不挠的毅力和勇气去完成它，才有更大的能力去做更多的事。第三，在科学的道路上，有时可能会遇到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486440" y="4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阅读赏析（二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7">
            <a:hlinkClick r:id="" action="ppaction://hlinkshowjump?jump=firstslide"/>
          </p:cNvPr>
          <p:cNvSpPr/>
          <p:nvPr/>
        </p:nvSpPr>
        <p:spPr>
          <a:xfrm>
            <a:off x="-30240" y="6093000"/>
            <a:ext cx="90036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928800" y="6238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应有的压抑和歧视，但只要有信心，有脚踏实地地忘我工作精神，保守的枷锁和禁锢是可以打破的，因为它不会永远萦绕着你。第四，在科学研究和其他工作中，一定的物质条件是必要的，但是更重要的是自己动手，自力更生地去创造条件、永远保持艰苦奋斗的精神。所以居里夫人的一生是拥有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个字的：做事高调，做人低调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居里夫人有着引人注目的红颜美貌，以至她的闺中密友需要用伞柄赶走那些追慕她的人，可她靠的不是这个，而是对理想的追求，所以，她的美是历久弥新的；居里夫人也赢得了无数的崇拜和敬意，人们用诗歌赞美她，媒体大篇幅报道她，可她不为所乱。爱因斯坦说：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所有世界著名人物中，她是唯一没有被盛名宠坏的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不求名利，不为赞扬，不怕挫折，自轻松地驾驭着自己的生命之舟，一如既往地驶向科学的彼岸，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不为物喜，不以己悲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这是何等坦荡的胸怀。跨越百年的居里夫人，你跨越那悠悠的岁月长河里，把你的青春、智慧和人性的光辉洒在百年后的今天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373040" y="9810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学习建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7">
            <a:hlinkClick r:id="" action="ppaction://hlinkshowjump?jump=firstslide"/>
          </p:cNvPr>
          <p:cNvSpPr/>
          <p:nvPr/>
        </p:nvSpPr>
        <p:spPr>
          <a:xfrm>
            <a:off x="0" y="5950080"/>
            <a:ext cx="900000" cy="35856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71640" y="2066760"/>
            <a:ext cx="7993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掌握生字新词，有感情地朗读课文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了解居里夫人高尚的品格，为科学献身的精神以及所取得的辉煌成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、联系上下文中含义深刻的句子，体会局里夫人的崇高精神和人格魅力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、感悟作者的表达方法，体会作者的语言魅力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8-18T10:34:51Z</dcterms:modified>
  <cp:revision>37</cp:revision>
  <dc:subject/>
  <dc:title>PowerPoint Presentation</dc:title>
</cp:coreProperties>
</file>