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4D1-8FD5-4BA5-8176-E8E4E09412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48C5-0D05-416B-BF0C-833E27178BA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34E2-DCB8-42E6-827E-F06EC0F8667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3D7-C77C-4E5B-8358-161177EC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589-68DA-4BC6-A634-14F29462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64B-6A8A-4051-80EB-3BC2AF83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558-906D-4A6D-9620-BA2CC98D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ED9A-80A4-4FD9-A786-6A0B6C62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F2E-6E36-437C-BAA2-E4BD6444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9C50-3BE9-42A6-9549-1374D002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E987-367F-4A75-AA3F-8B4D95B9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8F4E-3815-4318-A654-7AE4DB4F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B76-5853-4BBB-9292-D7C7A26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BAB1-C667-48E6-A8A1-9447D667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8EC-DD4A-4ED3-8E4F-6D366DD5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747-28D3-44CB-94D6-8EA533F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695A-F58C-4643-A9D0-27EE540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33CE-0C75-48E5-8504-B9D8559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CF44-F981-41FE-BECC-52C44FED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B43-F49F-417D-96FA-6FCC02A4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E0C-F660-4F68-A61A-73D2CB4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256-E0C6-4FF2-A267-7752BDB3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9F0-FC74-4617-BDF4-77842711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B06-2424-4D1D-938C-8DF43ABF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2A7-B599-4DF6-BEAF-8F5660B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59E-F313-4041-A603-E43F63E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1A6-4A25-4905-9C3A-7C73CB0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601C-5AE5-45DC-B198-47AA1C0970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3FA0-4B30-4AEF-98C1-F020AD9009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9"/>
          <p:cNvGrpSpPr/>
          <p:nvPr/>
        </p:nvGrpSpPr>
        <p:grpSpPr>
          <a:xfrm>
            <a:off x="-31680" y="0"/>
            <a:ext cx="9144000" cy="6858000"/>
            <a:chOff x="-31680" y="0"/>
            <a:chExt cx="9144000" cy="6858000"/>
          </a:xfrm>
        </p:grpSpPr>
        <p:pic>
          <p:nvPicPr>
            <p:cNvPr id="90" name="Picture 39" descr="firmchen1069580619jianjia_3"/>
            <p:cNvPicPr/>
            <p:nvPr/>
          </p:nvPicPr>
          <p:blipFill>
            <a:blip r:embed="rId1"/>
            <a:stretch/>
          </p:blipFill>
          <p:spPr>
            <a:xfrm>
              <a:off x="-316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" name="Object 48"/>
            <p:cNvGraphicFramePr/>
            <p:nvPr/>
          </p:nvGraphicFramePr>
          <p:xfrm>
            <a:off x="579600" y="5872320"/>
            <a:ext cx="3240000" cy="52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4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600" y="5872320"/>
                      <a:ext cx="324000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" name="Group 10"/>
          <p:cNvGrpSpPr/>
          <p:nvPr/>
        </p:nvGrpSpPr>
        <p:grpSpPr>
          <a:xfrm>
            <a:off x="649440" y="950760"/>
            <a:ext cx="2306160" cy="685800"/>
            <a:chOff x="649440" y="950760"/>
            <a:chExt cx="2306160" cy="685800"/>
          </a:xfrm>
        </p:grpSpPr>
        <p:grpSp>
          <p:nvGrpSpPr>
            <p:cNvPr id="94" name="Group 11"/>
            <p:cNvGrpSpPr/>
            <p:nvPr/>
          </p:nvGrpSpPr>
          <p:grpSpPr>
            <a:xfrm>
              <a:off x="649440" y="950760"/>
              <a:ext cx="2306160" cy="685800"/>
              <a:chOff x="649440" y="950760"/>
              <a:chExt cx="2306160" cy="685800"/>
            </a:xfrm>
          </p:grpSpPr>
          <p:sp>
            <p:nvSpPr>
              <p:cNvPr id="95" name="Oval 12"/>
              <p:cNvSpPr/>
              <p:nvPr/>
            </p:nvSpPr>
            <p:spPr>
              <a:xfrm>
                <a:off x="649440" y="950760"/>
                <a:ext cx="230616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13"/>
              <p:cNvSpPr/>
              <p:nvPr/>
            </p:nvSpPr>
            <p:spPr>
              <a:xfrm>
                <a:off x="1068480" y="1058760"/>
                <a:ext cx="153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AutoShape 14">
              <a:hlinkClick r:id="rId4"/>
            </p:cNvPr>
            <p:cNvSpPr/>
            <p:nvPr/>
          </p:nvSpPr>
          <p:spPr>
            <a:xfrm>
              <a:off x="1033920" y="1103400"/>
              <a:ext cx="1537200" cy="380880"/>
            </a:xfrm>
            <a:custGeom>
              <a:avLst/>
              <a:gdLst>
                <a:gd name="textAreaLeft" fmla="*/ 24480 w 1537200"/>
                <a:gd name="textAreaRight" fmla="*/ 1512720 w 153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7114" h="21600">
                  <a:moveTo>
                    <a:pt x="0" y="0"/>
                  </a:moveTo>
                  <a:lnTo>
                    <a:pt x="87114" y="0"/>
                  </a:lnTo>
                  <a:lnTo>
                    <a:pt x="87114" y="21600"/>
                  </a:lnTo>
                  <a:lnTo>
                    <a:pt x="0" y="21600"/>
                  </a:lnTo>
                  <a:close/>
                </a:path>
                <a:path fill="lightenLess" w="87114" h="21600">
                  <a:moveTo>
                    <a:pt x="0" y="0"/>
                  </a:moveTo>
                  <a:lnTo>
                    <a:pt x="87114" y="0"/>
                  </a:lnTo>
                  <a:lnTo>
                    <a:pt x="85714" y="1400"/>
                  </a:lnTo>
                  <a:lnTo>
                    <a:pt x="1400" y="1400"/>
                  </a:lnTo>
                  <a:close/>
                </a:path>
                <a:path fill="darken" w="87114" h="21600">
                  <a:moveTo>
                    <a:pt x="87114" y="0"/>
                  </a:moveTo>
                  <a:lnTo>
                    <a:pt x="87114" y="21600"/>
                  </a:lnTo>
                  <a:lnTo>
                    <a:pt x="85714" y="20200"/>
                  </a:lnTo>
                  <a:lnTo>
                    <a:pt x="85714" y="1400"/>
                  </a:lnTo>
                  <a:close/>
                </a:path>
                <a:path fill="darkenLess" w="87114" h="21600">
                  <a:moveTo>
                    <a:pt x="871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5714" y="20200"/>
                  </a:lnTo>
                  <a:close/>
                </a:path>
                <a:path fill="lighten" w="871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作者简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896760" y="2166840"/>
            <a:ext cx="2286000" cy="685800"/>
            <a:chOff x="896760" y="2166840"/>
            <a:chExt cx="2286000" cy="685800"/>
          </a:xfrm>
        </p:grpSpPr>
        <p:grpSp>
          <p:nvGrpSpPr>
            <p:cNvPr id="99" name="Group 16"/>
            <p:cNvGrpSpPr/>
            <p:nvPr/>
          </p:nvGrpSpPr>
          <p:grpSpPr>
            <a:xfrm>
              <a:off x="896760" y="2166840"/>
              <a:ext cx="2286000" cy="685800"/>
              <a:chOff x="896760" y="2166840"/>
              <a:chExt cx="2286000" cy="685800"/>
            </a:xfrm>
          </p:grpSpPr>
          <p:sp>
            <p:nvSpPr>
              <p:cNvPr id="100" name="Oval 17"/>
              <p:cNvSpPr/>
              <p:nvPr/>
            </p:nvSpPr>
            <p:spPr>
              <a:xfrm>
                <a:off x="896760" y="2166840"/>
                <a:ext cx="228600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1312200" y="227484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AutoShape 19">
              <a:hlinkClick r:id="rId5"/>
            </p:cNvPr>
            <p:cNvSpPr/>
            <p:nvPr/>
          </p:nvSpPr>
          <p:spPr>
            <a:xfrm>
              <a:off x="1278000" y="231948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阅读赏析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20"/>
          <p:cNvGrpSpPr/>
          <p:nvPr/>
        </p:nvGrpSpPr>
        <p:grpSpPr>
          <a:xfrm>
            <a:off x="2363760" y="4322880"/>
            <a:ext cx="2286000" cy="685800"/>
            <a:chOff x="2363760" y="4322880"/>
            <a:chExt cx="2286000" cy="685800"/>
          </a:xfrm>
        </p:grpSpPr>
        <p:sp>
          <p:nvSpPr>
            <p:cNvPr id="104" name="Oval 22"/>
            <p:cNvSpPr/>
            <p:nvPr/>
          </p:nvSpPr>
          <p:spPr>
            <a:xfrm>
              <a:off x="2363760" y="4322880"/>
              <a:ext cx="2286000" cy="6858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24">
              <a:hlinkClick r:id="rId6" action="ppaction://hlinksldjump"/>
            </p:cNvPr>
            <p:cNvSpPr/>
            <p:nvPr/>
          </p:nvSpPr>
          <p:spPr>
            <a:xfrm>
              <a:off x="2738520" y="448812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思考与练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 Box 35"/>
          <p:cNvSpPr/>
          <p:nvPr/>
        </p:nvSpPr>
        <p:spPr>
          <a:xfrm>
            <a:off x="5101200" y="333360"/>
            <a:ext cx="20091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南州六月荔枝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50">
            <a:hlinkClick r:id="" action="ppaction://hlinkshowjump?jump=endshow"/>
          </p:cNvPr>
          <p:cNvSpPr/>
          <p:nvPr/>
        </p:nvSpPr>
        <p:spPr>
          <a:xfrm>
            <a:off x="7812000" y="5877000"/>
            <a:ext cx="68436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5"/>
          <p:cNvGrpSpPr/>
          <p:nvPr/>
        </p:nvGrpSpPr>
        <p:grpSpPr>
          <a:xfrm>
            <a:off x="1592280" y="3213000"/>
            <a:ext cx="2304720" cy="660600"/>
            <a:chOff x="1592280" y="3213000"/>
            <a:chExt cx="2304720" cy="660600"/>
          </a:xfrm>
        </p:grpSpPr>
        <p:sp>
          <p:nvSpPr>
            <p:cNvPr id="109" name="Oval 27"/>
            <p:cNvSpPr/>
            <p:nvPr/>
          </p:nvSpPr>
          <p:spPr>
            <a:xfrm>
              <a:off x="1592280" y="3213000"/>
              <a:ext cx="2304720" cy="660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29">
              <a:hlinkClick r:id="rId7" action="ppaction://hlinksldjump"/>
            </p:cNvPr>
            <p:cNvSpPr/>
            <p:nvPr/>
          </p:nvSpPr>
          <p:spPr>
            <a:xfrm>
              <a:off x="2074320" y="3359880"/>
              <a:ext cx="1536480" cy="366840"/>
            </a:xfrm>
            <a:custGeom>
              <a:avLst/>
              <a:gdLst>
                <a:gd name="textAreaLeft" fmla="*/ 23760 w 1536480"/>
                <a:gd name="textAreaRight" fmla="*/ 1512720 w 1536480"/>
                <a:gd name="textAreaTop" fmla="*/ 23760 h 366840"/>
                <a:gd name="textAreaBottom" fmla="*/ 343080 h 366840"/>
              </a:gdLst>
              <a:ahLst/>
              <a:rect l="textAreaLeft" t="textAreaTop" r="textAreaRight" b="textAreaBottom"/>
              <a:pathLst>
                <a:path w="90402" h="21600">
                  <a:moveTo>
                    <a:pt x="0" y="0"/>
                  </a:moveTo>
                  <a:lnTo>
                    <a:pt x="90402" y="0"/>
                  </a:lnTo>
                  <a:lnTo>
                    <a:pt x="90402" y="21600"/>
                  </a:lnTo>
                  <a:lnTo>
                    <a:pt x="0" y="21600"/>
                  </a:lnTo>
                  <a:close/>
                </a:path>
                <a:path fill="lightenLess" w="90402" h="21600">
                  <a:moveTo>
                    <a:pt x="0" y="0"/>
                  </a:moveTo>
                  <a:lnTo>
                    <a:pt x="90402" y="0"/>
                  </a:lnTo>
                  <a:lnTo>
                    <a:pt x="89002" y="1400"/>
                  </a:lnTo>
                  <a:lnTo>
                    <a:pt x="1400" y="1400"/>
                  </a:lnTo>
                  <a:close/>
                </a:path>
                <a:path fill="darken" w="90402" h="21600">
                  <a:moveTo>
                    <a:pt x="90402" y="0"/>
                  </a:moveTo>
                  <a:lnTo>
                    <a:pt x="90402" y="21600"/>
                  </a:lnTo>
                  <a:lnTo>
                    <a:pt x="89002" y="20200"/>
                  </a:lnTo>
                  <a:lnTo>
                    <a:pt x="89002" y="1400"/>
                  </a:lnTo>
                  <a:close/>
                </a:path>
                <a:path fill="darkenLess" w="90402" h="21600">
                  <a:moveTo>
                    <a:pt x="904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9002" y="20200"/>
                  </a:lnTo>
                  <a:close/>
                </a:path>
                <a:path fill="lighten" w="904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学习建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20"/>
          <p:cNvGrpSpPr/>
          <p:nvPr/>
        </p:nvGrpSpPr>
        <p:grpSpPr>
          <a:xfrm>
            <a:off x="3271680" y="5388120"/>
            <a:ext cx="2286000" cy="685800"/>
            <a:chOff x="3271680" y="5388120"/>
            <a:chExt cx="2286000" cy="685800"/>
          </a:xfrm>
        </p:grpSpPr>
        <p:sp>
          <p:nvSpPr>
            <p:cNvPr id="112" name="Oval 22"/>
            <p:cNvSpPr/>
            <p:nvPr/>
          </p:nvSpPr>
          <p:spPr>
            <a:xfrm>
              <a:off x="3271680" y="5388120"/>
              <a:ext cx="2286000" cy="6858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24">
              <a:hlinkClick r:id="rId8" action="ppaction://hlinksldjump"/>
            </p:cNvPr>
            <p:cNvSpPr/>
            <p:nvPr/>
          </p:nvSpPr>
          <p:spPr>
            <a:xfrm>
              <a:off x="3646440" y="555336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拓展阅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39640" y="134136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贾祖璋，生于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0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浙江省海宁县人。我国著名科普作家。早在三十年代，他就有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国植物图鉴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专著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商务印书馆曾出版他的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鸟类概论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专著，这是我国最早的一部现代鸟类学著作。他创作了大量的科普作品，解放前曾写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鸟与文学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动物珍话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生活素描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，解放后出版有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生物学碎锦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著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贾祖璋的科普作品大多以绚烂多彩的生物为写作对象，把丰富的科学知识、历史知识和文学知识融为一体，有着相当高的思想性、科学性、艺术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0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39640" y="9810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是一篇介绍荔枝生态及生产知识的说明文，同时因其既有严谨的科学性，又有较强的文学性，故而我们也可称其为科学小品文。科学小品文即介绍科学常识的，既有很强的科学性，又有一定的文学情趣的文艺性说明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在介绍荔枝生态、生产等知识时，运用了丰富多彩的说明方法，如举例子、打比方、列数字、插图等，而最突出的是引用了大量的古代诗文、文献资料，使文章的说明生动活泼，富有文学情趣，既提高了表达效果，又增强了可读性。另外，本文虽然篇幅较短，但作者以其丰富的知识，活泼的文笔饶有兴味地介绍了有关荔枝的科学知识，既有一般说明文准确、条分缕析的特点，又有清新雅致的诗意。它寄托着作者的深情，充满时代气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24000" y="98100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可分两部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一部分（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—10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，主要说明荔枝的形态和果实的特点。可分为三个层次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一层即第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，通过回忆自己小学时代对荔枝形态的“钻牛角尖”，同时引述白居易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荔枝图序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描写荔枝的一段文字，用来总领全文。语言平白清新，亲切自然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层是第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第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，主要介绍荔枝的外部形态。课文从荔枝的外壳开始说起，照应首段白居易所言“壳如红缯”句，接着介绍成熟的荔枝的颜色“大多数深红色或紫色”，果形“呈心脏形、卵圆形或圆形”，及其尺寸大小、重量，“通常是直径三四厘米，重十多克到二十多克”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层从第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到第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，主要介绍荔枝的果实。作者首先照应首段引述白居易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荔枝图序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第二句话“膜如紫绡”，以“所谓”起句，既有总领全段的功效，又能引发读者的了解兴趣。接着，承接上文照应首段白居易所说的“莹白如冰雪”，介绍荔枝的肉，“大多数白色半透明”、“有的则略带黄色”，这一段中，运用较强的科学知识，但作者尽可能地用读者能够理解的语言来说明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一部分是本文的重点，它的各个层次分别紧承第一段白居易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荔枝图序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几句话，一一释疑，使得文章前后连接非常紧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68360" y="981000"/>
            <a:ext cx="8280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部分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1—14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主要介绍荔枝的生产情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课文先写荔枝的产地及目前的分布情况，接着，列举我国古代有关荔枝的专著，着重介绍宋朝宋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荔枝谱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文献价值、主要内容以及它对后世影响；再次，介绍荔枝的生活习性及生长北限并提出了其未来发展趋势的设想。最后，作者提出大力发展荔枝生产的建议，以逐步满足广大人民的生活需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一部分并非全文主体，但对全文组成却起着非常重要的作用。因为，这部分提出了我国荔枝生产发展的有关问题，表明了作者写作的实际意图，在当时有着相当的积极意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写作上有不少较突出的特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说明顺序上，本文是把荔枝作为水果来介绍的，按从主到次，由表及里的介绍顺序来写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说明方法丰富多彩，这是本文最突出的一个特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0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学习建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68360" y="1413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重点应放在说明方法丰富多彩这一写作特点上。学习方法与步骤建议如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进入正文前可自由描述一番荔枝的形态；也可以优美的文字来一番“荔枝颂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打开书本，看古诗文是如何描绘荔枝的形态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仔细阅读文章，分出段落层次，体会作者是如何介绍荔枝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四）把自己写的“荔枝颂”、古诗文中关于荔枝的描写诗文以及贾祖璋的介绍方法相比较，分析各自的特点。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456840"/>
            <a:ext cx="258264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思考与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539640" y="98100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请给下列加点的字注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洪缯（  ）  粗糙（  ）  萌蘖（  ）  渣滓（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龟（  ）裂  醴（  ）酪  贮（  ）藏  褐（  ）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本文分别引用了白居易、杜牧、苏轼的诗文，请简单说说他们的生平，并列举、朗读他们的代表诗作各一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0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547640" y="1674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672240" y="20620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214280" y="2043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848120" y="20937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219640" y="1693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043080" y="2052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3348000" y="1674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7020000" y="1674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87444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拓展阅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268360" y="1260360"/>
            <a:ext cx="48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陈辉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荔枝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南州六月荔枝丹，万颗累累簇更团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绛雪艳浮红锦烂，玉壶光莹水晶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高名已许传新曲，芳味曾经荐大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乌府日长霜暑静，几株斜覆石阑干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firstslide"/>
          </p:cNvPr>
          <p:cNvSpPr/>
          <p:nvPr/>
        </p:nvSpPr>
        <p:spPr>
          <a:xfrm>
            <a:off x="788508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68360" y="3716280"/>
            <a:ext cx="518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徐火勃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咏荔枝膜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曾向忠州画里描，胭脂淡扫醉容消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盈盈荷瓣风前落，片片桃花雨后娇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白玉薄笼妖色映，茜裙轻裼暗香飘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嫣红狼藉谁收拾，十八闽娘裂紫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7:54:19Z</dcterms:modified>
  <cp:revision>94</cp:revision>
  <dc:subject/>
  <dc:title>PowerPoint Presentation</dc:title>
</cp:coreProperties>
</file>