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922F-0B51-4B94-B18F-840960CBA2A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4327-677C-4B65-8763-D6F4C07EF5C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FEA-6B88-4BFB-B631-E07ED904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F82-0D03-4681-A108-C9E1888D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B6D-51B2-4B5E-A2C1-57FFC799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B0D-B729-4C59-90EE-4A75DF0C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85B1-1CE5-4467-8314-3E3B526F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3572-688E-43A3-8CA4-ED8DC59A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4F7B-3CCA-4867-BA7F-7C08314B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9826-6F05-4CE8-8649-24DFD6DA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402A-8150-4C8F-BAD5-859F066F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3CAD-69E3-4566-8C70-C9FFD5B6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7E7C-1565-4B8D-8E98-F3B77E68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391-5D0F-4CA2-BCDF-5437522E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9738-8CA2-45A4-867F-64775EAE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A654-0461-4C3F-B17E-96BA504C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7B3D-201B-4F40-865A-0D270F22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4226-857F-46AA-AD2B-B53DAB1A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2F5D-550F-4289-8949-9670F948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79D-4BF4-4419-B412-26CE7C7A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844-D49D-491B-9C66-69361562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D1F-79F4-4AE9-A8B2-EEBE5E5F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BA8-E4A8-42E3-9325-B2C97C68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A0C-6B66-4CF6-B972-B5C27F74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B8D-2C56-4807-9E29-3332EE2C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48C-5944-448A-9A2A-CB67EF29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3D48-9025-4538-958D-5583AD51F0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EA7F-7ED5-4781-8893-D8A7BBD072E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9"/>
          <p:cNvGrpSpPr/>
          <p:nvPr/>
        </p:nvGrpSpPr>
        <p:grpSpPr>
          <a:xfrm>
            <a:off x="-31680" y="0"/>
            <a:ext cx="9144000" cy="6858000"/>
            <a:chOff x="-31680" y="0"/>
            <a:chExt cx="9144000" cy="6858000"/>
          </a:xfrm>
        </p:grpSpPr>
        <p:pic>
          <p:nvPicPr>
            <p:cNvPr id="90" name="Picture 39" descr="firmchen1069580619jianjia_3"/>
            <p:cNvPicPr/>
            <p:nvPr/>
          </p:nvPicPr>
          <p:blipFill>
            <a:blip r:embed="rId1"/>
            <a:stretch/>
          </p:blipFill>
          <p:spPr>
            <a:xfrm>
              <a:off x="-3168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1" name="Object 48"/>
            <p:cNvGraphicFramePr/>
            <p:nvPr/>
          </p:nvGraphicFramePr>
          <p:xfrm>
            <a:off x="579600" y="5872320"/>
            <a:ext cx="3416040" cy="52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4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9600" y="5872320"/>
                      <a:ext cx="3416040" cy="52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3" name="Group 10"/>
          <p:cNvGrpSpPr/>
          <p:nvPr/>
        </p:nvGrpSpPr>
        <p:grpSpPr>
          <a:xfrm>
            <a:off x="649440" y="4335480"/>
            <a:ext cx="2306160" cy="685800"/>
            <a:chOff x="649440" y="4335480"/>
            <a:chExt cx="2306160" cy="685800"/>
          </a:xfrm>
        </p:grpSpPr>
        <p:grpSp>
          <p:nvGrpSpPr>
            <p:cNvPr id="94" name="Group 11"/>
            <p:cNvGrpSpPr/>
            <p:nvPr/>
          </p:nvGrpSpPr>
          <p:grpSpPr>
            <a:xfrm>
              <a:off x="649440" y="4335480"/>
              <a:ext cx="2306160" cy="685800"/>
              <a:chOff x="649440" y="4335480"/>
              <a:chExt cx="2306160" cy="685800"/>
            </a:xfrm>
          </p:grpSpPr>
          <p:sp>
            <p:nvSpPr>
              <p:cNvPr id="95" name="Oval 12"/>
              <p:cNvSpPr/>
              <p:nvPr/>
            </p:nvSpPr>
            <p:spPr>
              <a:xfrm>
                <a:off x="649440" y="4335480"/>
                <a:ext cx="2306160" cy="68580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 Box 13"/>
              <p:cNvSpPr/>
              <p:nvPr/>
            </p:nvSpPr>
            <p:spPr>
              <a:xfrm>
                <a:off x="1068480" y="4443480"/>
                <a:ext cx="153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8ac8b"/>
                    </a:solidFill>
                    <a:latin typeface="Times New Roman"/>
                  </a:rPr>
                  <a:t>背景简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AutoShape 14">
              <a:hlinkClick r:id="rId4"/>
            </p:cNvPr>
            <p:cNvSpPr/>
            <p:nvPr/>
          </p:nvSpPr>
          <p:spPr>
            <a:xfrm>
              <a:off x="1033920" y="4488120"/>
              <a:ext cx="1537200" cy="380880"/>
            </a:xfrm>
            <a:custGeom>
              <a:avLst/>
              <a:gdLst>
                <a:gd name="textAreaLeft" fmla="*/ 24480 w 1537200"/>
                <a:gd name="textAreaRight" fmla="*/ 1512720 w 153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87114" h="21600">
                  <a:moveTo>
                    <a:pt x="0" y="0"/>
                  </a:moveTo>
                  <a:lnTo>
                    <a:pt x="87114" y="0"/>
                  </a:lnTo>
                  <a:lnTo>
                    <a:pt x="87114" y="21600"/>
                  </a:lnTo>
                  <a:lnTo>
                    <a:pt x="0" y="21600"/>
                  </a:lnTo>
                  <a:close/>
                </a:path>
                <a:path fill="lightenLess" w="87114" h="21600">
                  <a:moveTo>
                    <a:pt x="0" y="0"/>
                  </a:moveTo>
                  <a:lnTo>
                    <a:pt x="87114" y="0"/>
                  </a:lnTo>
                  <a:lnTo>
                    <a:pt x="85714" y="1400"/>
                  </a:lnTo>
                  <a:lnTo>
                    <a:pt x="1400" y="1400"/>
                  </a:lnTo>
                  <a:close/>
                </a:path>
                <a:path fill="darken" w="87114" h="21600">
                  <a:moveTo>
                    <a:pt x="87114" y="0"/>
                  </a:moveTo>
                  <a:lnTo>
                    <a:pt x="87114" y="21600"/>
                  </a:lnTo>
                  <a:lnTo>
                    <a:pt x="85714" y="20200"/>
                  </a:lnTo>
                  <a:lnTo>
                    <a:pt x="85714" y="1400"/>
                  </a:lnTo>
                  <a:close/>
                </a:path>
                <a:path fill="darkenLess" w="87114" h="21600">
                  <a:moveTo>
                    <a:pt x="8711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5714" y="20200"/>
                  </a:lnTo>
                  <a:close/>
                </a:path>
                <a:path fill="lighten" w="8711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翻译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Group 15"/>
          <p:cNvGrpSpPr/>
          <p:nvPr/>
        </p:nvGrpSpPr>
        <p:grpSpPr>
          <a:xfrm>
            <a:off x="684360" y="5551560"/>
            <a:ext cx="2286000" cy="685800"/>
            <a:chOff x="684360" y="5551560"/>
            <a:chExt cx="2286000" cy="685800"/>
          </a:xfrm>
        </p:grpSpPr>
        <p:grpSp>
          <p:nvGrpSpPr>
            <p:cNvPr id="99" name="Group 16"/>
            <p:cNvGrpSpPr/>
            <p:nvPr/>
          </p:nvGrpSpPr>
          <p:grpSpPr>
            <a:xfrm>
              <a:off x="684360" y="5551560"/>
              <a:ext cx="2286000" cy="685800"/>
              <a:chOff x="684360" y="5551560"/>
              <a:chExt cx="2286000" cy="685800"/>
            </a:xfrm>
          </p:grpSpPr>
          <p:sp>
            <p:nvSpPr>
              <p:cNvPr id="100" name="Oval 17"/>
              <p:cNvSpPr/>
              <p:nvPr/>
            </p:nvSpPr>
            <p:spPr>
              <a:xfrm>
                <a:off x="684360" y="5551560"/>
                <a:ext cx="2286000" cy="68580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Text Box 18"/>
              <p:cNvSpPr/>
              <p:nvPr/>
            </p:nvSpPr>
            <p:spPr>
              <a:xfrm>
                <a:off x="1099800" y="565956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8ac8b"/>
                    </a:solidFill>
                    <a:latin typeface="Times New Roman"/>
                  </a:rPr>
                  <a:t>背景简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AutoShape 19">
              <a:hlinkClick r:id="rId5"/>
            </p:cNvPr>
            <p:cNvSpPr/>
            <p:nvPr/>
          </p:nvSpPr>
          <p:spPr>
            <a:xfrm>
              <a:off x="1065600" y="5704200"/>
              <a:ext cx="1523880" cy="380880"/>
            </a:xfrm>
            <a:custGeom>
              <a:avLst/>
              <a:gdLst>
                <a:gd name="textAreaLeft" fmla="*/ 24480 w 1523880"/>
                <a:gd name="textAreaRight" fmla="*/ 1499400 w 152388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86359" h="21600">
                  <a:moveTo>
                    <a:pt x="0" y="0"/>
                  </a:moveTo>
                  <a:lnTo>
                    <a:pt x="86359" y="0"/>
                  </a:lnTo>
                  <a:lnTo>
                    <a:pt x="86359" y="21600"/>
                  </a:lnTo>
                  <a:lnTo>
                    <a:pt x="0" y="21600"/>
                  </a:lnTo>
                  <a:close/>
                </a:path>
                <a:path fill="lightenLess" w="86359" h="21600">
                  <a:moveTo>
                    <a:pt x="0" y="0"/>
                  </a:moveTo>
                  <a:lnTo>
                    <a:pt x="86359" y="0"/>
                  </a:lnTo>
                  <a:lnTo>
                    <a:pt x="84959" y="1400"/>
                  </a:lnTo>
                  <a:lnTo>
                    <a:pt x="1400" y="1400"/>
                  </a:lnTo>
                  <a:close/>
                </a:path>
                <a:path fill="darken" w="86359" h="21600">
                  <a:moveTo>
                    <a:pt x="86359" y="0"/>
                  </a:moveTo>
                  <a:lnTo>
                    <a:pt x="86359" y="21600"/>
                  </a:lnTo>
                  <a:lnTo>
                    <a:pt x="84959" y="20200"/>
                  </a:lnTo>
                  <a:lnTo>
                    <a:pt x="84959" y="1400"/>
                  </a:lnTo>
                  <a:close/>
                </a:path>
                <a:path fill="darkenLess" w="86359" h="21600">
                  <a:moveTo>
                    <a:pt x="863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4959" y="20200"/>
                  </a:lnTo>
                  <a:close/>
                </a:path>
                <a:path fill="lighten" w="863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阅读赏析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Text Box 35"/>
          <p:cNvSpPr/>
          <p:nvPr/>
        </p:nvSpPr>
        <p:spPr>
          <a:xfrm>
            <a:off x="6311880" y="438120"/>
            <a:ext cx="10033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杨柳枝词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50">
            <a:hlinkClick r:id="" action="ppaction://hlinkshowjump?jump=endshow"/>
          </p:cNvPr>
          <p:cNvSpPr/>
          <p:nvPr/>
        </p:nvSpPr>
        <p:spPr>
          <a:xfrm>
            <a:off x="7596360" y="5805360"/>
            <a:ext cx="900000" cy="64800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6999840" y="4005360"/>
            <a:ext cx="115524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刘禹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456840"/>
            <a:ext cx="155088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翻  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1116000" y="1413000"/>
            <a:ext cx="715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起源于塞北的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梅花落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用笛子吹奏的乐曲，西汉淮南王刘安门客小山之徒作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招隐士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篇来表现对屈原的哀悼。这两部作品毕竟是前朝之曲，不要再奏了，现在还是听我改旧翻新的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杨柳枝词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吧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>
            <a:hlinkClick r:id="" action="ppaction://hlinkshowjump?jump=firstslide"/>
          </p:cNvPr>
          <p:cNvSpPr/>
          <p:nvPr/>
        </p:nvSpPr>
        <p:spPr>
          <a:xfrm>
            <a:off x="7740720" y="5950080"/>
            <a:ext cx="792000" cy="50148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115560"/>
            <a:ext cx="2171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阅读赏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0" y="598320"/>
            <a:ext cx="91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刘禹锡的乐府小章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杨柳枝词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一共有九首，这是其中的第一首，可以说是这组诗的序曲，鲜明地表现了他在文学创作上的革新精神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首句“梅花”，指汉乐府横吹曲中的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梅花落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曲，用笛子吹奏（羌笛是笛的一种），其曲调流行后世，南朝以至唐代文人鲍照、吴均、徐陵、卢照邻、沈佺期等都有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梅花落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歌词，内容都与梅花有关。这句意思说，起源于塞北的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梅花落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用笛子吹奏的乐曲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次句讲的是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楚辞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中的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招隐士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篇。相传西汉淮南王刘安门客小山之徒作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招隐士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篇来表现对屈原的哀悼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招隐士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首句云，“桂树丛生兮山之幽”，下文又两处有“攀援桂枝兮聊淹留”之句，所以刘禹锡诗中以桂树指代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招隐士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篇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招隐士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虽然篇章短小，但情辞悱恻动人，为后代所传诵。篇中“王孙游兮不归，春草生兮萋萋”两句尤为后世文人所赏爱。次句意思是说，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招隐士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淮南小山的歌词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梅花落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曲原出塞北，歌咏梅花，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招隐士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出自淮南王门下，屡屡咏及桂树，它们与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杨柳枝词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咏柳）都以树木为歌咏对象，在内容上有相通的地方，所以刘禹锡拿它们来与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杨柳枝词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相比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梅花落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招隐士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虽是产生于西汉的作品，但长久流传后世，到唐朝仍为人们所吟唱传诵。唐代文士不但写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梅花落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王孙游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乐府古题诗，而且在其他篇什中也常咏及这两个作品。如李白诗云：“黄鹤楼中吹玉笛，江城五月落梅花。”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与史郎中钦听黄鹤楼上吹笛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）“落梅花”即指奏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梅花落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曲。王维诗云：“春草明年绿，王孙归不归？”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送别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）即化用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招隐士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句意。这都可以说明这两部作品在唐代的影响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259920"/>
            <a:ext cx="2171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阅读赏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179280" y="754200"/>
            <a:ext cx="878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刘禹锡固然也重视这两部作品的历史地位和长远影响，但他本着文学必须创新的原则，向时人提出：“请君莫奏前朝曲，听唱新翻杨柳枝。”指出：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梅花落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招隐士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这两个作品毕竟是前朝之曲，不要再奏了，现在还是听他改旧翻新的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杨柳枝词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吧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折杨柳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原来也是乐府旧曲。乐府横吹曲中有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折杨柳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曲，鼓角横吹曲中有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折杨柳歌辞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折杨柳枝词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相和歌辞中有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折杨柳行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清商曲辞中有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节折杨柳歌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其歌辞大抵是汉魏六朝的作品，都用五言古体来抒写。唐代不少文人所作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杨柳枝词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从白居易、刘禹锡以至晚唐的李商隐、温庭筠、薛能等的许多作品，却都用七言近体的七绝形式来写作，虽然内容仍咏杨柳或与杨柳有关的事物，在形式上确是翻新了。唐人常用绝句配乐演唱，七绝尤多。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乐府诗集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都编入近代曲辞，表明它们是隋唐时代的新曲调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刘禹锡晚年与白居易唱和酬答，白居易有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杨柳枝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组诗八首，其第一首云：“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六么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水调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家家唱，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白雪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梅花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处处吹。古歌旧曲君休听，听取新翻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杨柳枝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”刘禹锡的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杨柳枝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组诗九首，就是与白居易唱和之作，因此首篇“塞北梅花”一章，在构思、造语上都非常接近。比较起来，刘的“请君莫奏”二句比白的“古歌旧曲”二句，语言更为精警动人，因而赢得更多读者的喜爱。这两句诗，不仅概括了诗人的创作精神，而且那些致力于推陈出新的人们，也都可以借用它们来抒发自己的胸怀，因此可说含蕴丰富，饶有启发意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0">
            <a:hlinkClick r:id="" action="ppaction://hlinkshowjump?jump=firstslide"/>
          </p:cNvPr>
          <p:cNvSpPr/>
          <p:nvPr/>
        </p:nvSpPr>
        <p:spPr>
          <a:xfrm>
            <a:off x="8352000" y="6354720"/>
            <a:ext cx="792000" cy="50328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mal</cp:lastModifiedBy>
  <dcterms:modified xsi:type="dcterms:W3CDTF">2013-08-29T08:52:54Z</dcterms:modified>
  <cp:revision>110</cp:revision>
  <dc:subject/>
  <dc:title>PowerPoint Presentation</dc:title>
</cp:coreProperties>
</file>