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EA04-CD3E-4B48-8EAC-688DCA4A17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3829-F49B-4880-9D4C-F7911621179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0BB-E0D2-4D3B-8A70-DBE98416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FC6-FFDC-4BAD-B40F-50C6634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A8D-8B4C-48D3-BEBB-0AB06458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270-14A8-4FF1-86AE-C5C948B4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B5A-6616-41D2-AF73-04FBF0BC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EAB8-23E5-4C5D-89F2-4F7E9AD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BF93-8404-4388-A68E-DB593865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6D1E-C2C0-410B-A7FF-5E09CC16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9104-0A05-4C6D-8EF9-E93296FF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B11-F6A2-4FCD-894A-EADF14F0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474D-8B4A-4031-924C-8C72986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F7B-3DD7-4D90-A289-347A428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409C-8D1E-46DF-A4BF-325E4B8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1F98-56C3-4DC3-843D-9188B339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6927-B4B5-4889-A99A-0AE9290F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87AC-8295-47EA-BEFB-ABA88711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1CE-D852-4F9D-8988-128DCC7B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224-1DD8-4B28-BDB0-012261A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094-9D2F-484C-B797-93162D42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7E2-7727-4EF5-826C-AF988A8C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96E-351E-411C-B326-85DF52A0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31F-C936-4B30-B912-A51ECC3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BE1-7E44-422E-B456-578EFEA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926-5BC3-4D63-AB93-4E78721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7279-3EE6-412F-A46C-128AE5A5EF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E1C1-DB24-459B-8C3A-93821D880C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-31680" y="0"/>
            <a:ext cx="9144000" cy="6858000"/>
            <a:chOff x="-31680" y="0"/>
            <a:chExt cx="9144000" cy="6858000"/>
          </a:xfrm>
        </p:grpSpPr>
        <p:pic>
          <p:nvPicPr>
            <p:cNvPr id="90" name="Picture 39" descr="firmchen1069580619jianjia_3"/>
            <p:cNvPicPr/>
            <p:nvPr/>
          </p:nvPicPr>
          <p:blipFill>
            <a:blip r:embed="rId1"/>
            <a:stretch/>
          </p:blipFill>
          <p:spPr>
            <a:xfrm>
              <a:off x="-31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" name="Object 48"/>
            <p:cNvGraphicFramePr/>
            <p:nvPr/>
          </p:nvGraphicFramePr>
          <p:xfrm>
            <a:off x="579600" y="5872320"/>
            <a:ext cx="3240000" cy="52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4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5872320"/>
                      <a:ext cx="324000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" name="Group 10"/>
          <p:cNvGrpSpPr/>
          <p:nvPr/>
        </p:nvGrpSpPr>
        <p:grpSpPr>
          <a:xfrm>
            <a:off x="649440" y="3471840"/>
            <a:ext cx="2306160" cy="685800"/>
            <a:chOff x="649440" y="3471840"/>
            <a:chExt cx="2306160" cy="685800"/>
          </a:xfrm>
        </p:grpSpPr>
        <p:grpSp>
          <p:nvGrpSpPr>
            <p:cNvPr id="94" name="Group 11"/>
            <p:cNvGrpSpPr/>
            <p:nvPr/>
          </p:nvGrpSpPr>
          <p:grpSpPr>
            <a:xfrm>
              <a:off x="649440" y="3471840"/>
              <a:ext cx="2306160" cy="685800"/>
              <a:chOff x="649440" y="3471840"/>
              <a:chExt cx="2306160" cy="685800"/>
            </a:xfrm>
          </p:grpSpPr>
          <p:sp>
            <p:nvSpPr>
              <p:cNvPr id="95" name="Oval 12"/>
              <p:cNvSpPr/>
              <p:nvPr/>
            </p:nvSpPr>
            <p:spPr>
              <a:xfrm>
                <a:off x="649440" y="3471840"/>
                <a:ext cx="230616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13"/>
              <p:cNvSpPr/>
              <p:nvPr/>
            </p:nvSpPr>
            <p:spPr>
              <a:xfrm>
                <a:off x="1068480" y="3579840"/>
                <a:ext cx="15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AutoShape 14">
              <a:hlinkClick r:id="rId4"/>
            </p:cNvPr>
            <p:cNvSpPr/>
            <p:nvPr/>
          </p:nvSpPr>
          <p:spPr>
            <a:xfrm>
              <a:off x="1033920" y="3624480"/>
              <a:ext cx="1537200" cy="380880"/>
            </a:xfrm>
            <a:custGeom>
              <a:avLst/>
              <a:gdLst>
                <a:gd name="textAreaLeft" fmla="*/ 24480 w 1537200"/>
                <a:gd name="textAreaRight" fmla="*/ 1512720 w 153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7114" h="21600">
                  <a:moveTo>
                    <a:pt x="0" y="0"/>
                  </a:moveTo>
                  <a:lnTo>
                    <a:pt x="87114" y="0"/>
                  </a:lnTo>
                  <a:lnTo>
                    <a:pt x="87114" y="21600"/>
                  </a:lnTo>
                  <a:lnTo>
                    <a:pt x="0" y="21600"/>
                  </a:lnTo>
                  <a:close/>
                </a:path>
                <a:path fill="lightenLess" w="87114" h="21600">
                  <a:moveTo>
                    <a:pt x="0" y="0"/>
                  </a:moveTo>
                  <a:lnTo>
                    <a:pt x="87114" y="0"/>
                  </a:lnTo>
                  <a:lnTo>
                    <a:pt x="85714" y="1400"/>
                  </a:lnTo>
                  <a:lnTo>
                    <a:pt x="1400" y="1400"/>
                  </a:lnTo>
                  <a:close/>
                </a:path>
                <a:path fill="darken" w="87114" h="21600">
                  <a:moveTo>
                    <a:pt x="87114" y="0"/>
                  </a:moveTo>
                  <a:lnTo>
                    <a:pt x="87114" y="21600"/>
                  </a:lnTo>
                  <a:lnTo>
                    <a:pt x="85714" y="20200"/>
                  </a:lnTo>
                  <a:lnTo>
                    <a:pt x="85714" y="1400"/>
                  </a:lnTo>
                  <a:close/>
                </a:path>
                <a:path fill="darkenLess" w="87114" h="21600">
                  <a:moveTo>
                    <a:pt x="871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5714" y="20200"/>
                  </a:lnTo>
                  <a:close/>
                </a:path>
                <a:path fill="lighten" w="871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作者简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684360" y="4687920"/>
            <a:ext cx="2286000" cy="685800"/>
            <a:chOff x="684360" y="4687920"/>
            <a:chExt cx="2286000" cy="685800"/>
          </a:xfrm>
        </p:grpSpPr>
        <p:grpSp>
          <p:nvGrpSpPr>
            <p:cNvPr id="99" name="Group 16"/>
            <p:cNvGrpSpPr/>
            <p:nvPr/>
          </p:nvGrpSpPr>
          <p:grpSpPr>
            <a:xfrm>
              <a:off x="684360" y="4687920"/>
              <a:ext cx="2286000" cy="685800"/>
              <a:chOff x="684360" y="4687920"/>
              <a:chExt cx="2286000" cy="685800"/>
            </a:xfrm>
          </p:grpSpPr>
          <p:sp>
            <p:nvSpPr>
              <p:cNvPr id="100" name="Oval 17"/>
              <p:cNvSpPr/>
              <p:nvPr/>
            </p:nvSpPr>
            <p:spPr>
              <a:xfrm>
                <a:off x="684360" y="4687920"/>
                <a:ext cx="228600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1099800" y="479592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AutoShape 19">
              <a:hlinkClick r:id="rId5"/>
            </p:cNvPr>
            <p:cNvSpPr/>
            <p:nvPr/>
          </p:nvSpPr>
          <p:spPr>
            <a:xfrm>
              <a:off x="1065600" y="484056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阅读赏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Text Box 35"/>
          <p:cNvSpPr/>
          <p:nvPr/>
        </p:nvSpPr>
        <p:spPr>
          <a:xfrm>
            <a:off x="6311880" y="438120"/>
            <a:ext cx="1003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乡   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0">
            <a:hlinkClick r:id="" action="ppaction://hlinkshowjump?jump=endshow"/>
          </p:cNvPr>
          <p:cNvSpPr/>
          <p:nvPr/>
        </p:nvSpPr>
        <p:spPr>
          <a:xfrm>
            <a:off x="7812000" y="5877000"/>
            <a:ext cx="68436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6999840" y="4005360"/>
            <a:ext cx="11552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余光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160" y="457200"/>
            <a:ext cx="215244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946080" y="1160640"/>
            <a:ext cx="74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余光中，祖籍福建永春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生于江苏南京，在秣陵路小学读书（原崔八巷小学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47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入金陵大学外语系（后转入厦门大学）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4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随父母迁香港，次年赴台，就读于台湾大学外文系。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2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毕业。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3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与覃子豪、钟鼎文等共创“蓝星”诗社。后赴美进修，获爱荷华大学艺术硕士学位。返台后任师大、政大、台大及香港中文大学教授，现任台湾中山大学文学院院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>
            <a:hlinkClick r:id="" action="ppaction://hlinkshowjump?jump=firstslide"/>
          </p:cNvPr>
          <p:cNvSpPr/>
          <p:nvPr/>
        </p:nvSpPr>
        <p:spPr>
          <a:xfrm>
            <a:off x="7956720" y="6021360"/>
            <a:ext cx="64764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115560"/>
            <a:ext cx="340344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（一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62080" y="5634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，是中国诗歌一个历史常新的普遍的主题，余光中多年来写了许多以乡愁为主题的诗篇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就是其中情深意长、音调动人的一曲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正像中国大地上许多江河都是黄河与长江的支流一样，余光中虽然身居海岛，但是，作为一个挚爱祖国及其文化传统的中国诗人，他的乡愁诗从内在感情上继承了我国古典诗歌中的民族感情传统，具有深厚的历史感与民族感，同时，台湾和大陆人为地长期隔绝、飘流到孤岛上去的千千万万人的思乡情怀，客观上具有以往任何时代的乡愁所不可比拟的特定的广阔内容。余光中作为一个离开大陆三十多年的当代诗人，他的作品也必然会烙上深刻的时代印记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诗，侧重写个人在大陆的经历，那年少时的一枚邮票，那青年时的一张船票，甚至那未来的一方坟墓，都寄寓了诗人的也是万千海外游子的绵长乡关之思，而这一切在诗的结尾升华到了一个新的高度：“而现在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是一湾浅浅的海峡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在这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陆在那头。”有如百川奔向东海，有如千峰朝向泰山，诗人个人的悲欢与巨大的祖国之爱、民族之恋交融在一起，而诗人个人经历的倾诉，也因为结尾的感情的燃烧而更为撩人愁思了，正如诗人自己所说：“纵的历史感，横的地域感。纵横相交而成十字路口的现实感。”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白玉苦瓜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序）这样，诗人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我国民族传统的乡愁诗在新的时代和特殊的地理条件下的变奏，具有以往的乡愁诗所不可比拟的广度和深度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0">
            <a:hlinkClick r:id="" action="ppaction://hlinkshowjump?jump=firstslide"/>
          </p:cNvPr>
          <p:cNvSpPr/>
          <p:nvPr/>
        </p:nvSpPr>
        <p:spPr>
          <a:xfrm>
            <a:off x="8028000" y="6093000"/>
            <a:ext cx="647640" cy="3171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115560"/>
            <a:ext cx="340344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（二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50920" y="67644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意象的撷取和提炼上，这首诗具有单纯而丰富之美。乡愁，本来是大家所普遍体验却难以捕捉的情绪，如果找不到与之对应的独特的美的意象来表现，那将不是流于一般化的平庸，就是堕入抽象化的空泛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从广远的时空中提炼了四个意象：邮票、船票、坟墓、海峡。它们是单纯的，所谓单纯，绝不是简单，而是明朗、集中、强烈，没有旁逸斜出意多文乱的芜蔓之感；它们又是丰富的，所谓丰富，也绝不是堆砌，而是含蓄。有张力，能诱发读者多方面的联想。在意象的组合方面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以时间的发展来综合意象，可称为意象递进。“小时候”、“长大后”、“后来呵”、“而现在”，这种表时间的时序像一条红线贯串全诗，概括了诗人漫长的生活历程和对祖国的绵绵怀念，前面三节诗如同汹涌而进的波涛，到最后轰然而汇成了全诗的九级浪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形式美也令人瞩目。它的形式美一表现为结构美，一表现为音乐美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结构上呈现出寓变化于传统的美。统一，就是相对地均衡、匀称；段式、句式比较整齐，段与段、句与句之间又比较和谐对称。变化，就是避免统一走向极端，而追逐那种活泼、流动而生机蓬勃之美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共四节。每节四行，节与节之间相当均衡对称，但是，诗人注意了长句与短句的变化调节，从而使诗的外形整齐中有参差之美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音乐美，主要表现在回旋往复、一唱三叹的美的旋律，其中的“乡愁是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——”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与“在这头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那（里）头”的四次重复，加之四段中“小小的”、“窄窄的”、“矮矮的”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0">
            <a:hlinkClick r:id="" action="ppaction://hlinkshowjump?jump=firstslide"/>
          </p:cNvPr>
          <p:cNvSpPr/>
          <p:nvPr/>
        </p:nvSpPr>
        <p:spPr>
          <a:xfrm>
            <a:off x="8101080" y="623736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1280" y="907560"/>
            <a:ext cx="340344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（三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468360" y="184464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浅浅的”在同一位置上的重叠词运用，使得全诗低回掩抑，如怨如诉。而“一枚”、“一张”、“一方”、“一湾”的数量词的运用，不仅表现了诗人的语言的功力，也加强了全诗的音韵之美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乡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有如音乐中柔美而略带哀伤的“回忆曲”，是海外游子深情而美的恋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0">
            <a:hlinkClick r:id="" action="ppaction://hlinkshowjump?jump=firstslide"/>
          </p:cNvPr>
          <p:cNvSpPr/>
          <p:nvPr/>
        </p:nvSpPr>
        <p:spPr>
          <a:xfrm>
            <a:off x="795672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49:17Z</dcterms:modified>
  <cp:revision>104</cp:revision>
  <dc:subject/>
  <dc:title>PowerPoint Presentation</dc:title>
</cp:coreProperties>
</file>