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7B5-CD89-4C17-9403-055EDA6048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7CC3-AD82-47D7-8218-1C33CCFBA6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7BC2-7A84-4BEF-9C35-D99D3BFEC25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E18-044F-48CD-8005-3B2DD1CA94B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232-7064-4A7D-945C-F65EC28F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917-2171-411D-908D-67E18EC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974-E1D1-42C7-8E2E-B668626C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20E-30CE-4795-AF4C-078FF45B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1771-58BB-4985-9CBE-E03DD1E6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33A-B9B2-4BDA-8B8E-2B2F097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C75-1070-4FAF-A311-5B0273D1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53E3-F2D9-4457-9AB5-3E37EA6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313-9C27-4D81-B75D-30771A0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3BED-610E-4309-8A53-BEA90A1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758-CBA2-40AD-AED2-4DADF5C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EF1-80EF-4AC2-94A8-98CEC1F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37EE-7558-4EFE-903A-0F31FF03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FF3-F7E9-4240-85B9-0837288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BDA-6838-48E6-A4AC-71B19BC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A004-8EEC-44DC-8ED2-8EC647B5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448-5E8F-46B9-96DB-E68218F6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270-15E7-44D7-A3B5-7F92A2A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750-102C-4986-945A-A38200A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C84-38DA-4F89-AD50-70097E28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F89-3313-4578-8A29-D161DBF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B87-D43A-4643-B7E9-6B068F9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4A7-D7F1-4193-98B3-D54A57F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254-42FD-490A-A88C-498676BC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01C-B4CB-46B1-93E5-EE0F86B2E58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025-A466-49A5-B2D5-ED000D3193F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8"/>
          <p:cNvGrpSpPr/>
          <p:nvPr/>
        </p:nvGrpSpPr>
        <p:grpSpPr>
          <a:xfrm>
            <a:off x="0" y="-93600"/>
            <a:ext cx="9144000" cy="6848280"/>
            <a:chOff x="0" y="-93600"/>
            <a:chExt cx="9144000" cy="6848280"/>
          </a:xfrm>
        </p:grpSpPr>
        <p:pic>
          <p:nvPicPr>
            <p:cNvPr id="117" name="Picture 37" descr="bg,21"/>
            <p:cNvPicPr/>
            <p:nvPr/>
          </p:nvPicPr>
          <p:blipFill>
            <a:blip r:embed="rId1"/>
            <a:stretch/>
          </p:blipFill>
          <p:spPr>
            <a:xfrm>
              <a:off x="0" y="-93600"/>
              <a:ext cx="9144000" cy="6848280"/>
            </a:xfrm>
            <a:prstGeom prst="rect">
              <a:avLst/>
            </a:prstGeom>
            <a:ln w="9360">
              <a:solidFill>
                <a:srgbClr val="ffff00"/>
              </a:solidFill>
              <a:round/>
            </a:ln>
          </p:spPr>
        </p:pic>
        <p:sp>
          <p:nvSpPr>
            <p:cNvPr id="118" name="Text Box 5"/>
            <p:cNvSpPr/>
            <p:nvPr/>
          </p:nvSpPr>
          <p:spPr>
            <a:xfrm>
              <a:off x="1440" y="38160"/>
              <a:ext cx="1521000" cy="53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假如生活把你欺骗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16"/>
            <p:cNvGrpSpPr/>
            <p:nvPr/>
          </p:nvGrpSpPr>
          <p:grpSpPr>
            <a:xfrm>
              <a:off x="2538360" y="1951200"/>
              <a:ext cx="2286000" cy="685800"/>
              <a:chOff x="2538360" y="1951200"/>
              <a:chExt cx="2286000" cy="685800"/>
            </a:xfrm>
          </p:grpSpPr>
          <p:sp>
            <p:nvSpPr>
              <p:cNvPr id="120" name="Oval 18"/>
              <p:cNvSpPr/>
              <p:nvPr/>
            </p:nvSpPr>
            <p:spPr>
              <a:xfrm>
                <a:off x="2538360" y="1951200"/>
                <a:ext cx="2286000" cy="68580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AutoShape 20">
                <a:hlinkClick r:id="rId2"/>
              </p:cNvPr>
              <p:cNvSpPr/>
              <p:nvPr/>
            </p:nvSpPr>
            <p:spPr>
              <a:xfrm>
                <a:off x="2919600" y="210348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阅读赏析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2" name="Text Box 29"/>
            <p:cNvSpPr/>
            <p:nvPr/>
          </p:nvSpPr>
          <p:spPr>
            <a:xfrm>
              <a:off x="3114720" y="504972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" name="Group 32"/>
            <p:cNvGrpSpPr/>
            <p:nvPr/>
          </p:nvGrpSpPr>
          <p:grpSpPr>
            <a:xfrm>
              <a:off x="2538360" y="582480"/>
              <a:ext cx="2286000" cy="685800"/>
              <a:chOff x="2538360" y="582480"/>
              <a:chExt cx="2286000" cy="685800"/>
            </a:xfrm>
          </p:grpSpPr>
          <p:sp>
            <p:nvSpPr>
              <p:cNvPr id="124" name="Oval 34"/>
              <p:cNvSpPr/>
              <p:nvPr/>
            </p:nvSpPr>
            <p:spPr>
              <a:xfrm>
                <a:off x="2538360" y="582480"/>
                <a:ext cx="2286000" cy="68580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AutoShape 36">
                <a:hlinkClick r:id="rId3"/>
              </p:cNvPr>
              <p:cNvSpPr/>
              <p:nvPr/>
            </p:nvSpPr>
            <p:spPr>
              <a:xfrm>
                <a:off x="2919240" y="73512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作者简介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6" name="AutoShape 41">
            <a:hlinkClick r:id="" action="ppaction://hlinkshowjump?jump=endshow"/>
          </p:cNvPr>
          <p:cNvSpPr/>
          <p:nvPr/>
        </p:nvSpPr>
        <p:spPr>
          <a:xfrm>
            <a:off x="7596360" y="587700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701720" y="430704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373040" y="98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6">
            <a:hlinkClick r:id="" action="ppaction://hlinkshowjump?jump=firstslide"/>
          </p:cNvPr>
          <p:cNvSpPr/>
          <p:nvPr/>
        </p:nvSpPr>
        <p:spPr>
          <a:xfrm>
            <a:off x="0" y="623736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00000" y="1844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普希金（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79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37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俄罗斯的伟大诗人。在俄罗斯文学中，他是积极浪漫主义的开创者，也是批判现实主义文学的奠基人。普希金坚定地站在十二月党人一边，反对专制农奴制度，热爱、追求自由，因此遭到沙皇政府的迫害。普希金写了不少形式多样、题材广泛的作品，诗体小说叶甫盖尼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奥涅金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他的代表作。普希金对俄罗斯文学的发展有很大的影响，被高尔基誉为“俄国文学之始祖”。 普希金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世纪俄国浪漫主义文学主要代表，同时也是现实主义文学的奠基人。他诸体皆擅，创立了俄罗斯民族文学和文学语言，在诗歌、小说、戏剧乃至童话等文学各个领域都给俄罗斯文学提供了典范。普希金还被高尔基誉为“一切开端的开端 ”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4992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7">
            <a:hlinkClick r:id="" action="ppaction://hlinkshowjump?jump=firstslide"/>
          </p:cNvPr>
          <p:cNvSpPr/>
          <p:nvPr/>
        </p:nvSpPr>
        <p:spPr>
          <a:xfrm>
            <a:off x="-30240" y="622152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917640" y="633240"/>
            <a:ext cx="8227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假如生活欺骗了你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选自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普希金诗集</a:t>
            </a:r>
            <a:r>
              <a:rPr b="0" lang="en-US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写于普希金被沙皇流放的日子里。那时俄国革命如火如荼，诗人却被迫与世隔绝。在这样的处境下，诗人仍没有丧失希望与斗志，他热爱生活，执著地追求理想，相信光明必来，正义必胜。诗中阐明了这样一种积极乐观的人生态度：当生活欺骗了你时，不要悲伤，不要心急；在苦恼之时要善于忍耐，一切都会过去，未来是幸福、美好的。生活中不可能没有痛苦与悲伤，欢乐不会永远被忧伤所掩盖，快乐的日子终会到来。第二节，诗人表达了心儿永远向着未来的积极人生态度，并告诉人们，当越过艰难困苦之后再回首那段往事时，那过去的一切便会变得美好起来。这是诗人人生经验的总结，也是生活的真谛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3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首诗没有什么形象可言，短短八句，都是劝告的口吻──按常理这是诗歌创作要尽力避免的，但这首诗却以说理而取得了巨大的成功。其原因在于诗人以平等的娓娓的语气写来，语调亲密和婉，热诚坦率，似乎诗人在与你交谈；诗句清新流畅，热烈深沉，有丰富的人情味和哲理意味，从中可以让人感受到诗人真诚博大的情怀和坚强乐观的思想情绪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8-18T11:26:47Z</dcterms:modified>
  <cp:revision>40</cp:revision>
  <dc:subject/>
  <dc:title>PowerPoint Presentation</dc:title>
</cp:coreProperties>
</file>