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E6D6-1EDC-4FC7-8CCE-52DD2A5325E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2350-00C3-4109-A670-C946E15DA0C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8906-78BC-4C0B-8695-A3E817B4351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2FD9-3073-4257-A3CF-5E319937C81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D0A3-9FD5-45B0-98A6-B7D82374214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8CCC-8AA1-40BE-A844-790A2558252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AF6A-B06B-4468-BB0D-57EF2BC2136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CD56-5112-4F9F-94C0-E63D67D5104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40F6-BACC-4E99-BEC2-163B697D54E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149D-9E15-4345-975C-3B2EEA8FB18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DE93-5DFD-427E-BB13-0909EB77869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66CE-0DBD-454B-B0F8-089098268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8A44-C1B5-4B5F-8284-1EAFF2F1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CF81-ECEC-4DE6-8A85-989C5820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CC99-AA6B-49BA-9FC9-CE7E3EF8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2F96-6611-415B-90A1-8BBF51FF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7D89-4181-43F3-9FB6-79BED4D9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6AB9-053E-47D9-9B33-CF1172ED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48AE-B88C-45E2-96FE-35453B70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AFF6-DB15-4FF4-B449-90492B26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ACF4-5655-4A62-94FB-FA5946C5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EC72-A7DC-4ED4-95ED-93BD3B67E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4910-64BE-488C-81A1-329AB022F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R02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R04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Picture 3" descr="R02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4" descr="R04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5" descr="R01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DAC9-53AF-4486-A312-C6A1704383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" Target="slide4.xml"/><Relationship Id="rId4" Type="http://schemas.openxmlformats.org/officeDocument/2006/relationships/image" Target="../media/image5.png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ext Box 2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359000" y="2243160"/>
            <a:ext cx="2133360" cy="192708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35">
            <a:hlinkClick r:id="" action="ppaction://hlinkshowjump?jump=endshow"/>
          </p:cNvPr>
          <p:cNvSpPr/>
          <p:nvPr/>
        </p:nvSpPr>
        <p:spPr>
          <a:xfrm>
            <a:off x="7812000" y="6093000"/>
            <a:ext cx="900360" cy="358560"/>
          </a:xfrm>
          <a:prstGeom prst="flowChartAlternateProcess">
            <a:avLst/>
          </a:prstGeom>
          <a:gradFill rotWithShape="0">
            <a:gsLst>
              <a:gs pos="0">
                <a:srgbClr val="5e2f76"/>
              </a:gs>
              <a:gs pos="50000">
                <a:srgbClr val="cc66ff"/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Text Box 2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865600" y="1352520"/>
            <a:ext cx="1895400" cy="24336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4">
            <a:hlinkClick r:id="rId5" action="ppaction://hlinksldjump"/>
          </p:cNvPr>
          <p:cNvSpPr/>
          <p:nvPr/>
        </p:nvSpPr>
        <p:spPr>
          <a:xfrm rot="546000">
            <a:off x="4975920" y="141984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学习建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Text Box 24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541840" y="1719360"/>
            <a:ext cx="2327400" cy="3047760"/>
          </a:xfrm>
          <a:prstGeom prst="rect">
            <a:avLst/>
          </a:prstGeom>
          <a:ln w="0">
            <a:noFill/>
          </a:ln>
        </p:spPr>
      </p:pic>
      <p:sp>
        <p:nvSpPr>
          <p:cNvPr id="97" name="TextBox 1"/>
          <p:cNvSpPr/>
          <p:nvPr/>
        </p:nvSpPr>
        <p:spPr>
          <a:xfrm>
            <a:off x="2303640" y="4797360"/>
            <a:ext cx="64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邹忌讽齐王纳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6254640" y="556884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刘  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689200" y="932400"/>
            <a:ext cx="6264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一、注意文中重要的实词和虚词的意义和用法，做以下练习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.</a:t>
            </a:r>
            <a:r>
              <a:rPr b="0" lang="zh-CN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指出下列各句中加点实词的意义和所属词性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朝   朝服衣冠，窥镜，谓其妻曰</a:t>
            </a:r>
            <a:r>
              <a:rPr b="0" lang="en-US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:…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     </a:t>
            </a:r>
            <a:r>
              <a:rPr b="0" lang="zh-CN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于是入朝见威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     </a:t>
            </a:r>
            <a:r>
              <a:rPr b="0" lang="zh-CN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燕、赵、韩、魏闻之，皆朝于齐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美   皆以美于徐公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     </a:t>
            </a:r>
            <a:r>
              <a:rPr b="0" lang="zh-CN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吾妻之美我者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     </a:t>
            </a:r>
            <a:r>
              <a:rPr b="0" lang="zh-CN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吾与徐公孰美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孰   孰视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     </a:t>
            </a:r>
            <a:r>
              <a:rPr b="0" lang="zh-CN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我孰与城北徐公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2 .</a:t>
            </a:r>
            <a:r>
              <a:rPr b="0" lang="zh-CN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指出下列各句加点“之”字词性及意义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宋体"/>
              </a:rPr>
              <a:t>①</a:t>
            </a:r>
            <a:r>
              <a:rPr b="0" lang="zh-CN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吾妻之美我者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宋体"/>
              </a:rPr>
              <a:t>    ②</a:t>
            </a:r>
            <a:r>
              <a:rPr b="0" lang="zh-CN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燕、赵、韩、魏闻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③</a:t>
            </a:r>
            <a:r>
              <a:rPr b="0" lang="zh-CN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城北徐公，齐国之美丽者也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④</a:t>
            </a:r>
            <a:r>
              <a:rPr b="0" lang="zh-CN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暮寝而思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⑤</a:t>
            </a:r>
            <a:r>
              <a:rPr b="0" lang="zh-CN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徐公不若君之美也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⑥</a:t>
            </a:r>
            <a:r>
              <a:rPr b="0" lang="zh-CN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由此观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二、查阅资料，了解一下我国从古至今的执政者中哪几位最开明，愿意广开言路、多方听取百姓批评意见的？其好处在哪里？联系现实和自己，或课堂讨论，或写一篇读后感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三、背诵全文，翻译全文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093320" y="994320"/>
            <a:ext cx="729000" cy="32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思考与练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6">
            <a:hlinkClick r:id="" action="ppaction://hlinkshowjump?jump=firstslide"/>
          </p:cNvPr>
          <p:cNvSpPr/>
          <p:nvPr/>
        </p:nvSpPr>
        <p:spPr>
          <a:xfrm>
            <a:off x="1373040" y="6093000"/>
            <a:ext cx="898560" cy="358560"/>
          </a:xfrm>
          <a:prstGeom prst="flowChartAlternateProcess">
            <a:avLst/>
          </a:prstGeom>
          <a:gradFill rotWithShape="0">
            <a:gsLst>
              <a:gs pos="0">
                <a:srgbClr val="5e2f76"/>
              </a:gs>
              <a:gs pos="50000">
                <a:srgbClr val="cc66ff"/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1"/>
          <p:cNvSpPr/>
          <p:nvPr/>
        </p:nvSpPr>
        <p:spPr>
          <a:xfrm>
            <a:off x="3780000" y="1197000"/>
            <a:ext cx="21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4500720" y="1500120"/>
            <a:ext cx="21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6300720" y="1843200"/>
            <a:ext cx="2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4259160" y="2038320"/>
            <a:ext cx="2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4483080" y="2276640"/>
            <a:ext cx="2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9"/>
          <p:cNvSpPr/>
          <p:nvPr/>
        </p:nvSpPr>
        <p:spPr>
          <a:xfrm flipH="1" flipV="1">
            <a:off x="4886280" y="2836440"/>
            <a:ext cx="3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3786120" y="2847960"/>
            <a:ext cx="2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4002120" y="3157560"/>
            <a:ext cx="2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3881520" y="3643200"/>
            <a:ext cx="21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13"/>
          <p:cNvSpPr/>
          <p:nvPr/>
        </p:nvSpPr>
        <p:spPr>
          <a:xfrm>
            <a:off x="5219640" y="3935520"/>
            <a:ext cx="2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14"/>
          <p:cNvSpPr/>
          <p:nvPr/>
        </p:nvSpPr>
        <p:spPr>
          <a:xfrm>
            <a:off x="5003640" y="4235400"/>
            <a:ext cx="2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4356000" y="4508640"/>
            <a:ext cx="2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16"/>
          <p:cNvSpPr/>
          <p:nvPr/>
        </p:nvSpPr>
        <p:spPr>
          <a:xfrm>
            <a:off x="4572000" y="4830840"/>
            <a:ext cx="2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17"/>
          <p:cNvSpPr/>
          <p:nvPr/>
        </p:nvSpPr>
        <p:spPr>
          <a:xfrm>
            <a:off x="4140360" y="5013360"/>
            <a:ext cx="5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2340000" y="2491920"/>
            <a:ext cx="680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一、关于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战国策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战国策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是一部战国时代的史料汇编。作者无可考证。西汉刘向整理编后，定名为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战国策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，内容分为东周、西周、秦国、齐国、楚国、赵国、魏国、韩国、燕国、宋国、卫国、中山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2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策，起于公元前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452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年（周贞定王十七年），至于公元前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216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年（秦始皇三十一年）。战国时代，社会经济日趋繁荣，阶级分化剧烈，各诸侯国之间兼并的战争频繁发生。当时各诸侯国的国君都广招贤士以佐理国政，因此也相应产生了许多能言善辩的政治活动家，也即所谓“策士”。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战国策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即是以记载战国时期策士言行为主要内容的史籍。这部书所记的事并非完全符合史实，但从文字价值而言，其中不少精辟的说理文，结构完整，论事周密，语言锋利，对人物的刻画深刻而又具体，又善于运用寓言故事来说明抽象的道理，对后世文人、文学作品都有很大的影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093320" y="105408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背景资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6">
            <a:hlinkClick r:id="" action="ppaction://hlinkshowjump?jump=firstslide"/>
          </p:cNvPr>
          <p:cNvSpPr/>
          <p:nvPr/>
        </p:nvSpPr>
        <p:spPr>
          <a:xfrm>
            <a:off x="7812000" y="6093000"/>
            <a:ext cx="900360" cy="358560"/>
          </a:xfrm>
          <a:prstGeom prst="flowChartAlternateProcess">
            <a:avLst/>
          </a:prstGeom>
          <a:gradFill rotWithShape="0">
            <a:gsLst>
              <a:gs pos="0">
                <a:srgbClr val="5e2f76"/>
              </a:gs>
              <a:gs pos="50000">
                <a:srgbClr val="cc66ff"/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2340000" y="2644200"/>
            <a:ext cx="680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二、关于邹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邹忌，齐国人，有辩才，善鼓琴。齐威王二十一年（公元前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358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年），以古琴见威王，见三日，拜为相。一年后，又封为成侯，深得信任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093320" y="105408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背景资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6">
            <a:hlinkClick r:id="" action="ppaction://hlinkshowjump?jump=firstslide"/>
          </p:cNvPr>
          <p:cNvSpPr/>
          <p:nvPr/>
        </p:nvSpPr>
        <p:spPr>
          <a:xfrm>
            <a:off x="7812000" y="6093000"/>
            <a:ext cx="900360" cy="358560"/>
          </a:xfrm>
          <a:prstGeom prst="flowChartAlternateProcess">
            <a:avLst/>
          </a:prstGeom>
          <a:gradFill rotWithShape="0">
            <a:gsLst>
              <a:gs pos="0">
                <a:srgbClr val="5e2f76"/>
              </a:gs>
              <a:gs pos="50000">
                <a:srgbClr val="cc66ff"/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2268360" y="2921040"/>
            <a:ext cx="68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（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本文通过邹忌以自己的亲身经历与感受，采用比喻、暗示的方法，劝谕齐王广开言路，纳谏除蔽，以至齐国政治修明，国势强盛，达到“四国朝齐”的威力，从而说明了只有广开言路，修明政治才能使国家强盛起来的道理。文章同时又对邹忌的敢于讽谏、善于讽谏作了充分的肯定。因为，封建君王们多是高高在上，刚愎自用，在“普天之下，莫非王土”观念的支配下，很难做到广开言路，而是常常以各种繁复的规定约束甚至迫害敢于进谏的臣子，大臣们自然多是奉迎谄媚，助纣为虐的。邹忌能在这种情况下勇于讽谏，的确是难能可贵的，当然，这也离不开他的善于纳谏的功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093320" y="105408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阅读赏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6">
            <a:hlinkClick r:id="" action="ppaction://hlinkshowjump?jump=firstslide"/>
          </p:cNvPr>
          <p:cNvSpPr/>
          <p:nvPr/>
        </p:nvSpPr>
        <p:spPr>
          <a:xfrm>
            <a:off x="7956720" y="6451560"/>
            <a:ext cx="900000" cy="358920"/>
          </a:xfrm>
          <a:prstGeom prst="flowChartAlternateProcess">
            <a:avLst/>
          </a:prstGeom>
          <a:gradFill rotWithShape="0">
            <a:gsLst>
              <a:gs pos="0">
                <a:srgbClr val="5e2f76"/>
              </a:gs>
              <a:gs pos="50000">
                <a:srgbClr val="cc66ff"/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2268360" y="2044800"/>
            <a:ext cx="6875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（二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本文可分二段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首段即第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自然段，写邹忌从比美之事悟得其中道理。文章通过邹忌关于同一问题自“三问”，得出妻妾客不同层次的“三答”，引出邹忌“孰视”徐公、“窥镜而自视”两种行为，而得出较客观的自我评价结果：“自以为弗如”和“弗如远甚”。同一问题居然会有如此“不同”的共同回答，这不能不使邹忌陷入思考：看来，妻妾客“美我”并不客观公正，那定是有原因的。于是课文由记叙过渡到说理，邹忌明白了受蒙蔽是事出有因，即妻妾客与我的亲疏远近而导致的目的之不同：“私我”、“畏我”、“有求于我”。从而为第二部分“入朝见威王”，讽喻齐王打下了关键的基础。这一段通过“三问”、“三答”而引出邹忌的“三比”可谓错落有致，层次分明。这也体现在邹忌的心理活动上：“窥镜”时的炫耀得意之情，“不自信”的患得患失，第二次“窥镜”后的疑窦丛生，以及“暮寝而思之”的醒悟，准确地画出了人物思想变化的轨迹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093320" y="105408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阅读赏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6">
            <a:hlinkClick r:id="" action="ppaction://hlinkshowjump?jump=firstslide"/>
          </p:cNvPr>
          <p:cNvSpPr/>
          <p:nvPr/>
        </p:nvSpPr>
        <p:spPr>
          <a:xfrm>
            <a:off x="7956720" y="6451560"/>
            <a:ext cx="900000" cy="358920"/>
          </a:xfrm>
          <a:prstGeom prst="flowChartAlternateProcess">
            <a:avLst/>
          </a:prstGeom>
          <a:gradFill rotWithShape="0">
            <a:gsLst>
              <a:gs pos="0">
                <a:srgbClr val="5e2f76"/>
              </a:gs>
              <a:gs pos="50000">
                <a:srgbClr val="cc66ff"/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2268360" y="2305440"/>
            <a:ext cx="6875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（二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 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第二部分（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2-3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自然段）写邹忌劝谏，齐王纳谏。这是全文的精彩部分。千古以来，劝谏君王一直都是件十分危险的事情，邹忌正因为明白这一道理，才采取了巧妙的拉家常的方式，使得齐威王顿然醒悟，从而使齐国有了令人欣喜的局面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 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君王能否纳谏除蔽，修明政治，事关国家兴亡，然而若直言进谏，往往会触怒龙颜，适得其反。于是邹忌从个人美不美的小事人手，将妻、妾、客和自己对这一问题的看法告诉齐王，从而使齐王放松戒备而且引起对事情的兴趣。时机既到，邹忌自然而然，把生活小事与国家大事之间的联系，即易“受蔽”这点，巧妙析出，收到了恰到好处的说服效果。于是齐囤局面大开，国家强盛也自是预想之中的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对邹忌的讽谏手法，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古文观上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之评可谓非常精妙：“邹忌将己之美、徐公之美，细细详勘，正欲于此参出微理。千古臣谄君蔽，兴亡关头，从闺房小语破之，快哉。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第三部分即最后一段，交待齐王纳谏后，国势强盛，“四国朝齐”的状况，从而再次强调了只有国君纳谏除蔽，修明政治，国家才能强盛的必然规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093320" y="105408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阅读赏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6">
            <a:hlinkClick r:id="" action="ppaction://hlinkshowjump?jump=firstslide"/>
          </p:cNvPr>
          <p:cNvSpPr/>
          <p:nvPr/>
        </p:nvSpPr>
        <p:spPr>
          <a:xfrm>
            <a:off x="7956720" y="6451560"/>
            <a:ext cx="900000" cy="358920"/>
          </a:xfrm>
          <a:prstGeom prst="flowChartAlternateProcess">
            <a:avLst/>
          </a:prstGeom>
          <a:gradFill rotWithShape="0">
            <a:gsLst>
              <a:gs pos="0">
                <a:srgbClr val="5e2f76"/>
              </a:gs>
              <a:gs pos="50000">
                <a:srgbClr val="cc66ff"/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2268360" y="1828080"/>
            <a:ext cx="6875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（三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 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本文在写作上的特点相当突出，且不乏值得借鉴之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（一）比喻、暗示方法的运用恰如其分，令齐王欣然纳谏。比喻说理能用具体的事实说明抽象的道理，变深奥为浅显，变复杂为简明，变逆耳忠言为顺耳忠言，委婉而说服力不减。本文设喻精当，比喻恰切，才使得讽谏有了美满的结局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（二）句式整齐，多用整句，是本文写作上的另一个显著特点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邹忌“悟理”，向齐王进谏；齐王纳谏，采取“三赏”政策；齐国在“三赏”之下，发生的“三变”，都运用整句形式表达。其中，“悟理”一个排比句，反映了不同主体（妻妾客）的共同说法（“美我”），突出了与客观事实相悖的不同原因（“私我”、“畏我”、“有求于我”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在向齐王进谏的过程中，避开“比美”过程的重复叙述，以精炼的文字，整齐的句式，说结论，点关键，强调自己受蒙蔽的原因，以此为喻体，同第二个排比句中的“官妇左右”、“朝廷之臣”、“四境之内”一一相比，以小及大，由此及彼，由家事到国事，指出齐王受蒙蔽之甚。，整齐的句式，恰当的对照，寓理于喻，含蓄委婉，令齐王欣然接受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093320" y="105408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阅读赏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6">
            <a:hlinkClick r:id="" action="ppaction://hlinkshowjump?jump=firstslide"/>
          </p:cNvPr>
          <p:cNvSpPr/>
          <p:nvPr/>
        </p:nvSpPr>
        <p:spPr>
          <a:xfrm>
            <a:off x="7956720" y="6451560"/>
            <a:ext cx="900000" cy="358920"/>
          </a:xfrm>
          <a:prstGeom prst="flowChartAlternateProcess">
            <a:avLst/>
          </a:prstGeom>
          <a:gradFill rotWithShape="0">
            <a:gsLst>
              <a:gs pos="0">
                <a:srgbClr val="5e2f76"/>
              </a:gs>
              <a:gs pos="50000">
                <a:srgbClr val="cc66ff"/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2268360" y="2285280"/>
            <a:ext cx="6875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（三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 “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三赏”整句，说出齐威王纳谏后采取的措施，三种情况无一遗漏，可见决心之大。“三变”的整句，内涵极其丰富：一、交代了全过程；二、反映不同阶段的变化情况；三、点明齐威王受蒙蔽之甚；四、赞赏齐王纳谏之心之诚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（三）通过对话刻画人物心理，塑造人物形象准确、恰当。文中第一段的三问三答，语句看似平常，但含义丰富，表现了人物不同身份和心理活动。如：答的内容都是说邹忌美，语言只有一两个字的增减变化，但却反映了人物间亲疏远近的不同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——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妻之认为“美甚”，乃是“偏爱”；妾之“何能及君也”，乃是因地位卑微而产生的畏惧、敷衍之语，其真诚显然比妻之赞美要差许多；客之回答，连句式都由反问而陈述，语气更轻，诚意自然也是更低了。“三问”、“三答”，人物形象及心理，跃然纸上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1093320" y="105408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阅读赏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">
            <a:hlinkClick r:id="" action="ppaction://hlinkshowjump?jump=firstslide"/>
          </p:cNvPr>
          <p:cNvSpPr/>
          <p:nvPr/>
        </p:nvSpPr>
        <p:spPr>
          <a:xfrm>
            <a:off x="7956720" y="6451560"/>
            <a:ext cx="900000" cy="358920"/>
          </a:xfrm>
          <a:prstGeom prst="flowChartAlternateProcess">
            <a:avLst/>
          </a:prstGeom>
          <a:gradFill rotWithShape="0">
            <a:gsLst>
              <a:gs pos="0">
                <a:srgbClr val="5e2f76"/>
              </a:gs>
              <a:gs pos="50000">
                <a:srgbClr val="cc66ff"/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2411280" y="1658880"/>
            <a:ext cx="64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本文语言不太艰深，疏通文意并不难，学习时可抓住如下重点展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（一）体会叙事说理中整句的表达作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（二）品味内容相同而说法不尽相同的句子，在表现人物不同身份、心理活动等方面的效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（三）学习恰当运用比喻、排比等修辞手法，增强语言的表现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（四）积累常用实词，归类整理一词多义、词类活用及特殊句式等语言现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学习方式可选择自读的办法，结合“思考与练习”对语言知识归纳整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093320" y="105408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学习建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6">
            <a:hlinkClick r:id="" action="ppaction://hlinkshowjump?jump=firstslide"/>
          </p:cNvPr>
          <p:cNvSpPr/>
          <p:nvPr/>
        </p:nvSpPr>
        <p:spPr>
          <a:xfrm>
            <a:off x="7812000" y="6093000"/>
            <a:ext cx="900360" cy="358560"/>
          </a:xfrm>
          <a:prstGeom prst="flowChartAlternateProcess">
            <a:avLst/>
          </a:prstGeom>
          <a:gradFill rotWithShape="0">
            <a:gsLst>
              <a:gs pos="0">
                <a:srgbClr val="5e2f76"/>
              </a:gs>
              <a:gs pos="50000">
                <a:srgbClr val="cc66ff"/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ormal</cp:lastModifiedBy>
  <dcterms:modified xsi:type="dcterms:W3CDTF">2013-08-29T08:18:40Z</dcterms:modified>
  <cp:revision>50</cp:revision>
  <dc:subject/>
  <dc:title>PowerPoint Presentation</dc:title>
</cp:coreProperties>
</file>