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2529-F648-484D-8D39-139C4B5EB98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0A56-D99C-4DEB-82A1-E56AB1F7008E}"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2A01-AF0F-461D-9D20-30FCA596F43F}"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CAA7-0DD2-471E-AEDB-E46DF725F8C2}"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C02C-7AD6-4248-A850-B8CCB5566EE0}"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194C-9CE1-4DC1-AC0F-43171CA5B513}"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7336-FD39-4A57-A199-D987D8B2E31C}"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D646-BF87-4E56-A234-C6F29D43E289}"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0A95-4FF9-4701-86A9-F91D61BAE4A8}"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50896-4116-41FD-BD74-4ECF69E62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FEC2-9F52-4979-9C29-BF107A41F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3FA39-9075-46CE-A550-87C8175D2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2C802-C733-4A28-8EE4-9A29596BA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2CF3C-4EAD-4D3D-BF0E-B7F3E98DF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D7339-021A-4B96-8D82-CA3F1BAA5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BD467-E1BE-4023-ADCB-1444B8F28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ED140-C39A-487B-BD67-55B3662AF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F00EC-D642-4057-88E5-7AE66D7CE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AD8AB-DC8C-4E2F-8BD2-E4F2CFEDF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3E8C5-4554-4FF9-A126-B7EC44486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46129-3DFA-40B5-896C-4EA12E4A8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561FC-9869-4BAC-97F9-806324ED8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171B0-8D54-4339-A018-8311E9E48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ECC7E-1006-4F1B-8A47-66AF3C413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63130-5644-469C-B3A5-69CEEA484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99B05-88BE-42F0-9D99-29159385E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8CF0E-B62C-41BE-9694-0B263315B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4E4DA-E5DB-4EBA-A369-E2C6E38F7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090AE-1038-4609-A53F-7E27CB164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C2D7D-E309-4AEA-B382-D83B0799B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B66F0-2A65-4A93-B549-4D0CA5DB0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3369-3088-46F0-AA9F-0712068B7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4FB86-4144-4452-B864-1A4352CC8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89AB-24B1-4332-83F2-02C7F0DCF8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C5E7-3668-4646-A409-7441C3BAFFC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Relationship Id="rId9" Type="http://schemas.openxmlformats.org/officeDocument/2006/relationships/slide" Target="slide8.xml"/><Relationship Id="rId10" Type="http://schemas.openxmlformats.org/officeDocument/2006/relationships/slide" Target="slide3.xml"/><Relationship Id="rId11" Type="http://schemas.openxmlformats.org/officeDocument/2006/relationships/slide" Target=""/><Relationship Id="rId12" Type="http://schemas.openxmlformats.org/officeDocument/2006/relationships/slide" Target="slide9.xml"/><Relationship Id="rId13" Type="http://schemas.openxmlformats.org/officeDocument/2006/relationships/slide" Target="slide3.xml"/><Relationship Id="rId14" Type="http://schemas.openxmlformats.org/officeDocument/2006/relationships/slide" Target=""/><Relationship Id="rId15" Type="http://schemas.openxmlformats.org/officeDocument/2006/relationships/slide" Target="slide7.xml"/><Relationship Id="rId16" Type="http://schemas.openxmlformats.org/officeDocument/2006/relationships/slideLayout" Target="../slideLayouts/slideLayout13.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49"/>
          <p:cNvGrpSpPr/>
          <p:nvPr/>
        </p:nvGrpSpPr>
        <p:grpSpPr>
          <a:xfrm>
            <a:off x="-31680" y="0"/>
            <a:ext cx="9144000" cy="6858000"/>
            <a:chOff x="-31680" y="0"/>
            <a:chExt cx="9144000" cy="6858000"/>
          </a:xfrm>
        </p:grpSpPr>
        <p:pic>
          <p:nvPicPr>
            <p:cNvPr id="90" name="Picture 39" descr="firmchen1069580619jianjia_3"/>
            <p:cNvPicPr/>
            <p:nvPr/>
          </p:nvPicPr>
          <p:blipFill>
            <a:blip r:embed="rId1"/>
            <a:stretch/>
          </p:blipFill>
          <p:spPr>
            <a:xfrm>
              <a:off x="-31680" y="0"/>
              <a:ext cx="9144000" cy="6858000"/>
            </a:xfrm>
            <a:prstGeom prst="rect">
              <a:avLst/>
            </a:prstGeom>
            <a:ln w="0">
              <a:noFill/>
            </a:ln>
          </p:spPr>
        </p:pic>
        <p:graphicFrame>
          <p:nvGraphicFramePr>
            <p:cNvPr id="91" name="Object 48"/>
            <p:cNvGraphicFramePr/>
            <p:nvPr/>
          </p:nvGraphicFramePr>
          <p:xfrm>
            <a:off x="579600" y="5872320"/>
            <a:ext cx="3240000" cy="522000"/>
          </p:xfrm>
          <a:graphic>
            <a:graphicData uri="http://schemas.openxmlformats.org/presentationml/2006/ole">
              <p:oleObj r:id="rId2" spid="">
                <p:embed/>
                <p:pic>
                  <p:nvPicPr>
                    <p:cNvPr id="92" name="Object 48" descr=""/>
                    <p:cNvPicPr/>
                    <p:nvPr/>
                  </p:nvPicPr>
                  <p:blipFill>
                    <a:blip r:embed="rId3"/>
                    <a:stretch/>
                  </p:blipFill>
                  <p:spPr>
                    <a:xfrm>
                      <a:off x="579600" y="5872320"/>
                      <a:ext cx="3240000" cy="522000"/>
                    </a:xfrm>
                    <a:prstGeom prst="rect">
                      <a:avLst/>
                    </a:prstGeom>
                    <a:ln w="0">
                      <a:noFill/>
                    </a:ln>
                  </p:spPr>
                </p:pic>
              </p:oleObj>
            </a:graphicData>
          </a:graphic>
        </p:graphicFrame>
      </p:grpSp>
      <p:grpSp>
        <p:nvGrpSpPr>
          <p:cNvPr id="93" name="Group 10"/>
          <p:cNvGrpSpPr/>
          <p:nvPr/>
        </p:nvGrpSpPr>
        <p:grpSpPr>
          <a:xfrm>
            <a:off x="649440" y="950760"/>
            <a:ext cx="2306160" cy="685800"/>
            <a:chOff x="649440" y="950760"/>
            <a:chExt cx="2306160" cy="685800"/>
          </a:xfrm>
        </p:grpSpPr>
        <p:grpSp>
          <p:nvGrpSpPr>
            <p:cNvPr id="94" name="Group 11"/>
            <p:cNvGrpSpPr/>
            <p:nvPr/>
          </p:nvGrpSpPr>
          <p:grpSpPr>
            <a:xfrm>
              <a:off x="649440" y="950760"/>
              <a:ext cx="2306160" cy="685800"/>
              <a:chOff x="649440" y="950760"/>
              <a:chExt cx="2306160" cy="685800"/>
            </a:xfrm>
          </p:grpSpPr>
          <p:sp>
            <p:nvSpPr>
              <p:cNvPr id="95" name="Oval 12"/>
              <p:cNvSpPr/>
              <p:nvPr/>
            </p:nvSpPr>
            <p:spPr>
              <a:xfrm>
                <a:off x="649440" y="950760"/>
                <a:ext cx="230616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Text Box 13"/>
              <p:cNvSpPr/>
              <p:nvPr/>
            </p:nvSpPr>
            <p:spPr>
              <a:xfrm>
                <a:off x="1068480" y="1058760"/>
                <a:ext cx="15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97" name="AutoShape 14">
              <a:hlinkClick r:id="rId4"/>
            </p:cNvPr>
            <p:cNvSpPr/>
            <p:nvPr/>
          </p:nvSpPr>
          <p:spPr>
            <a:xfrm>
              <a:off x="1033920" y="1103400"/>
              <a:ext cx="1537200" cy="380880"/>
            </a:xfrm>
            <a:custGeom>
              <a:avLst/>
              <a:gdLst>
                <a:gd name="textAreaLeft" fmla="*/ 24480 w 1537200"/>
                <a:gd name="textAreaRight" fmla="*/ 1512720 w 1537200"/>
                <a:gd name="textAreaTop" fmla="*/ 24480 h 380880"/>
                <a:gd name="textAreaBottom" fmla="*/ 356400 h 380880"/>
              </a:gdLst>
              <a:ahLst/>
              <a:rect l="textAreaLeft" t="textAreaTop" r="textAreaRight" b="textAreaBottom"/>
              <a:pathLst>
                <a:path w="87114" h="21600">
                  <a:moveTo>
                    <a:pt x="0" y="0"/>
                  </a:moveTo>
                  <a:lnTo>
                    <a:pt x="87114" y="0"/>
                  </a:lnTo>
                  <a:lnTo>
                    <a:pt x="87114" y="21600"/>
                  </a:lnTo>
                  <a:lnTo>
                    <a:pt x="0" y="21600"/>
                  </a:lnTo>
                  <a:close/>
                </a:path>
                <a:path fill="lightenLess" w="87114" h="21600">
                  <a:moveTo>
                    <a:pt x="0" y="0"/>
                  </a:moveTo>
                  <a:lnTo>
                    <a:pt x="87114" y="0"/>
                  </a:lnTo>
                  <a:lnTo>
                    <a:pt x="85714" y="1400"/>
                  </a:lnTo>
                  <a:lnTo>
                    <a:pt x="1400" y="1400"/>
                  </a:lnTo>
                  <a:close/>
                </a:path>
                <a:path fill="darken" w="87114" h="21600">
                  <a:moveTo>
                    <a:pt x="87114" y="0"/>
                  </a:moveTo>
                  <a:lnTo>
                    <a:pt x="87114" y="21600"/>
                  </a:lnTo>
                  <a:lnTo>
                    <a:pt x="85714" y="20200"/>
                  </a:lnTo>
                  <a:lnTo>
                    <a:pt x="85714" y="1400"/>
                  </a:lnTo>
                  <a:close/>
                </a:path>
                <a:path fill="darkenLess" w="87114" h="21600">
                  <a:moveTo>
                    <a:pt x="87114" y="21600"/>
                  </a:moveTo>
                  <a:lnTo>
                    <a:pt x="0" y="21600"/>
                  </a:lnTo>
                  <a:lnTo>
                    <a:pt x="1400" y="20200"/>
                  </a:lnTo>
                  <a:lnTo>
                    <a:pt x="85714" y="20200"/>
                  </a:lnTo>
                  <a:close/>
                </a:path>
                <a:path fill="lighten" w="87114"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资料</a:t>
              </a:r>
              <a:endParaRPr b="0" lang="en-US" sz="2400" spc="-1" strike="noStrike">
                <a:solidFill>
                  <a:srgbClr val="ffffff"/>
                </a:solidFill>
                <a:latin typeface="Arial"/>
              </a:endParaRPr>
            </a:p>
          </p:txBody>
        </p:sp>
      </p:grpSp>
      <p:grpSp>
        <p:nvGrpSpPr>
          <p:cNvPr id="98" name="Group 15"/>
          <p:cNvGrpSpPr/>
          <p:nvPr/>
        </p:nvGrpSpPr>
        <p:grpSpPr>
          <a:xfrm>
            <a:off x="896760" y="2166840"/>
            <a:ext cx="2286000" cy="685800"/>
            <a:chOff x="896760" y="2166840"/>
            <a:chExt cx="2286000" cy="685800"/>
          </a:xfrm>
        </p:grpSpPr>
        <p:grpSp>
          <p:nvGrpSpPr>
            <p:cNvPr id="99" name="Group 16"/>
            <p:cNvGrpSpPr/>
            <p:nvPr/>
          </p:nvGrpSpPr>
          <p:grpSpPr>
            <a:xfrm>
              <a:off x="896760" y="2166840"/>
              <a:ext cx="2286000" cy="685800"/>
              <a:chOff x="896760" y="2166840"/>
              <a:chExt cx="2286000" cy="685800"/>
            </a:xfrm>
          </p:grpSpPr>
          <p:sp>
            <p:nvSpPr>
              <p:cNvPr id="100" name="Oval 17"/>
              <p:cNvSpPr/>
              <p:nvPr/>
            </p:nvSpPr>
            <p:spPr>
              <a:xfrm>
                <a:off x="896760" y="216684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ext Box 18"/>
              <p:cNvSpPr/>
              <p:nvPr/>
            </p:nvSpPr>
            <p:spPr>
              <a:xfrm>
                <a:off x="1312200" y="227484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102" name="AutoShape 19">
              <a:hlinkClick r:id="rId5"/>
            </p:cNvPr>
            <p:cNvSpPr/>
            <p:nvPr/>
          </p:nvSpPr>
          <p:spPr>
            <a:xfrm>
              <a:off x="1278000" y="231948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6" action="ppaction://hlinksldjump"/>
                </a:rPr>
                <a:t>阅读赏析</a:t>
              </a:r>
              <a:endParaRPr b="0" lang="en-US" sz="2400" spc="-1" strike="noStrike">
                <a:solidFill>
                  <a:srgbClr val="ffffff"/>
                </a:solidFill>
                <a:latin typeface="Arial"/>
              </a:endParaRPr>
            </a:p>
          </p:txBody>
        </p:sp>
      </p:grpSp>
      <p:grpSp>
        <p:nvGrpSpPr>
          <p:cNvPr id="103" name="Group 20"/>
          <p:cNvGrpSpPr/>
          <p:nvPr/>
        </p:nvGrpSpPr>
        <p:grpSpPr>
          <a:xfrm>
            <a:off x="2363760" y="4322880"/>
            <a:ext cx="2286000" cy="685800"/>
            <a:chOff x="2363760" y="4322880"/>
            <a:chExt cx="2286000" cy="685800"/>
          </a:xfrm>
        </p:grpSpPr>
        <p:grpSp>
          <p:nvGrpSpPr>
            <p:cNvPr id="104" name="Group 21"/>
            <p:cNvGrpSpPr/>
            <p:nvPr/>
          </p:nvGrpSpPr>
          <p:grpSpPr>
            <a:xfrm>
              <a:off x="2363760" y="4322880"/>
              <a:ext cx="2286000" cy="685800"/>
              <a:chOff x="2363760" y="4322880"/>
              <a:chExt cx="2286000" cy="685800"/>
            </a:xfrm>
          </p:grpSpPr>
          <p:sp>
            <p:nvSpPr>
              <p:cNvPr id="105" name="Oval 22"/>
              <p:cNvSpPr/>
              <p:nvPr/>
            </p:nvSpPr>
            <p:spPr>
              <a:xfrm>
                <a:off x="2363760" y="432288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Text Box 23">
                <a:hlinkClick r:id="rId7" action="ppaction://hlinksldjump"/>
              </p:cNvPr>
              <p:cNvSpPr/>
              <p:nvPr/>
            </p:nvSpPr>
            <p:spPr>
              <a:xfrm>
                <a:off x="2779200" y="44308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107" name="AutoShape 24">
              <a:hlinkClick r:id="rId8" action="ppaction://hlinksldjump"/>
            </p:cNvPr>
            <p:cNvSpPr/>
            <p:nvPr/>
          </p:nvSpPr>
          <p:spPr>
            <a:xfrm>
              <a:off x="2745000" y="447552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9" action="ppaction://hlinksldjump"/>
                </a:rPr>
                <a:t>思考与练习</a:t>
              </a:r>
              <a:endParaRPr b="0" lang="en-US" sz="2400" spc="-1" strike="noStrike">
                <a:solidFill>
                  <a:srgbClr val="ffffff"/>
                </a:solidFill>
                <a:latin typeface="Arial"/>
              </a:endParaRPr>
            </a:p>
          </p:txBody>
        </p:sp>
      </p:grpSp>
      <p:grpSp>
        <p:nvGrpSpPr>
          <p:cNvPr id="108" name="Group 25"/>
          <p:cNvGrpSpPr/>
          <p:nvPr/>
        </p:nvGrpSpPr>
        <p:grpSpPr>
          <a:xfrm>
            <a:off x="3541680" y="5216400"/>
            <a:ext cx="2304720" cy="660600"/>
            <a:chOff x="3541680" y="5216400"/>
            <a:chExt cx="2304720" cy="660600"/>
          </a:xfrm>
        </p:grpSpPr>
        <p:grpSp>
          <p:nvGrpSpPr>
            <p:cNvPr id="109" name="Group 26"/>
            <p:cNvGrpSpPr/>
            <p:nvPr/>
          </p:nvGrpSpPr>
          <p:grpSpPr>
            <a:xfrm>
              <a:off x="3541680" y="5216400"/>
              <a:ext cx="2304720" cy="660600"/>
              <a:chOff x="3541680" y="5216400"/>
              <a:chExt cx="2304720" cy="660600"/>
            </a:xfrm>
          </p:grpSpPr>
          <p:sp>
            <p:nvSpPr>
              <p:cNvPr id="110" name="Oval 27"/>
              <p:cNvSpPr/>
              <p:nvPr/>
            </p:nvSpPr>
            <p:spPr>
              <a:xfrm>
                <a:off x="3541680" y="5216400"/>
                <a:ext cx="2304720" cy="6606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Text Box 28">
                <a:hlinkClick r:id="rId10" action="ppaction://hlinksldjump"/>
              </p:cNvPr>
              <p:cNvSpPr/>
              <p:nvPr/>
            </p:nvSpPr>
            <p:spPr>
              <a:xfrm>
                <a:off x="3960720" y="5321520"/>
                <a:ext cx="153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112" name="AutoShape 29">
              <a:hlinkClick r:id="rId11" action="ppaction://hlinksldjump"/>
            </p:cNvPr>
            <p:cNvSpPr/>
            <p:nvPr/>
          </p:nvSpPr>
          <p:spPr>
            <a:xfrm>
              <a:off x="3925800" y="5363280"/>
              <a:ext cx="1536480" cy="366840"/>
            </a:xfrm>
            <a:custGeom>
              <a:avLst/>
              <a:gdLst>
                <a:gd name="textAreaLeft" fmla="*/ 23760 w 1536480"/>
                <a:gd name="textAreaRight" fmla="*/ 1512720 w 1536480"/>
                <a:gd name="textAreaTop" fmla="*/ 23760 h 366840"/>
                <a:gd name="textAreaBottom" fmla="*/ 343080 h 366840"/>
              </a:gdLst>
              <a:ahLst/>
              <a:rect l="textAreaLeft" t="textAreaTop" r="textAreaRight" b="textAreaBottom"/>
              <a:pathLst>
                <a:path w="90402" h="21600">
                  <a:moveTo>
                    <a:pt x="0" y="0"/>
                  </a:moveTo>
                  <a:lnTo>
                    <a:pt x="90402" y="0"/>
                  </a:lnTo>
                  <a:lnTo>
                    <a:pt x="90402" y="21600"/>
                  </a:lnTo>
                  <a:lnTo>
                    <a:pt x="0" y="21600"/>
                  </a:lnTo>
                  <a:close/>
                </a:path>
                <a:path fill="lightenLess" w="90402" h="21600">
                  <a:moveTo>
                    <a:pt x="0" y="0"/>
                  </a:moveTo>
                  <a:lnTo>
                    <a:pt x="90402" y="0"/>
                  </a:lnTo>
                  <a:lnTo>
                    <a:pt x="89002" y="1400"/>
                  </a:lnTo>
                  <a:lnTo>
                    <a:pt x="1400" y="1400"/>
                  </a:lnTo>
                  <a:close/>
                </a:path>
                <a:path fill="darken" w="90402" h="21600">
                  <a:moveTo>
                    <a:pt x="90402" y="0"/>
                  </a:moveTo>
                  <a:lnTo>
                    <a:pt x="90402" y="21600"/>
                  </a:lnTo>
                  <a:lnTo>
                    <a:pt x="89002" y="20200"/>
                  </a:lnTo>
                  <a:lnTo>
                    <a:pt x="89002" y="1400"/>
                  </a:lnTo>
                  <a:close/>
                </a:path>
                <a:path fill="darkenLess" w="90402" h="21600">
                  <a:moveTo>
                    <a:pt x="90402" y="21600"/>
                  </a:moveTo>
                  <a:lnTo>
                    <a:pt x="0" y="21600"/>
                  </a:lnTo>
                  <a:lnTo>
                    <a:pt x="1400" y="20200"/>
                  </a:lnTo>
                  <a:lnTo>
                    <a:pt x="89002" y="20200"/>
                  </a:lnTo>
                  <a:close/>
                </a:path>
                <a:path fill="lighten" w="90402"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12" action="ppaction://hlinksldjump"/>
                </a:rPr>
                <a:t>拓展阅读</a:t>
              </a:r>
              <a:endParaRPr b="0" lang="en-US" sz="2400" spc="-1" strike="noStrike">
                <a:solidFill>
                  <a:srgbClr val="ffffff"/>
                </a:solidFill>
                <a:latin typeface="Arial"/>
              </a:endParaRPr>
            </a:p>
          </p:txBody>
        </p:sp>
      </p:grpSp>
      <p:sp>
        <p:nvSpPr>
          <p:cNvPr id="113" name="Text Box 35"/>
          <p:cNvSpPr/>
          <p:nvPr/>
        </p:nvSpPr>
        <p:spPr>
          <a:xfrm>
            <a:off x="5832720" y="333360"/>
            <a:ext cx="1277640" cy="5759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00"/>
                </a:solidFill>
                <a:latin typeface="Times New Roman"/>
              </a:rPr>
              <a:t>    </a:t>
            </a:r>
            <a:r>
              <a:rPr b="0" lang="zh-CN" sz="7200" spc="-1" strike="noStrike">
                <a:solidFill>
                  <a:srgbClr val="ffff00"/>
                </a:solidFill>
                <a:latin typeface="Times New Roman"/>
              </a:rPr>
              <a:t>掌    声</a:t>
            </a:r>
            <a:endParaRPr b="0" lang="en-US" sz="7200" spc="-1" strike="noStrike">
              <a:solidFill>
                <a:srgbClr val="ffffff"/>
              </a:solidFill>
              <a:latin typeface="Arial"/>
            </a:endParaRPr>
          </a:p>
        </p:txBody>
      </p:sp>
      <p:sp>
        <p:nvSpPr>
          <p:cNvPr id="114" name="AutoShape 50">
            <a:hlinkClick r:id="" action="ppaction://hlinkshowjump?jump=endshow"/>
          </p:cNvPr>
          <p:cNvSpPr/>
          <p:nvPr/>
        </p:nvSpPr>
        <p:spPr>
          <a:xfrm>
            <a:off x="7812000" y="5877000"/>
            <a:ext cx="68436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grpSp>
        <p:nvGrpSpPr>
          <p:cNvPr id="115" name="Group 25"/>
          <p:cNvGrpSpPr/>
          <p:nvPr/>
        </p:nvGrpSpPr>
        <p:grpSpPr>
          <a:xfrm>
            <a:off x="1592280" y="3213000"/>
            <a:ext cx="2304720" cy="660600"/>
            <a:chOff x="1592280" y="3213000"/>
            <a:chExt cx="2304720" cy="660600"/>
          </a:xfrm>
        </p:grpSpPr>
        <p:grpSp>
          <p:nvGrpSpPr>
            <p:cNvPr id="116" name="Group 26"/>
            <p:cNvGrpSpPr/>
            <p:nvPr/>
          </p:nvGrpSpPr>
          <p:grpSpPr>
            <a:xfrm>
              <a:off x="1592280" y="3213000"/>
              <a:ext cx="2304720" cy="660600"/>
              <a:chOff x="1592280" y="3213000"/>
              <a:chExt cx="2304720" cy="660600"/>
            </a:xfrm>
          </p:grpSpPr>
          <p:sp>
            <p:nvSpPr>
              <p:cNvPr id="117" name="Oval 27"/>
              <p:cNvSpPr/>
              <p:nvPr/>
            </p:nvSpPr>
            <p:spPr>
              <a:xfrm>
                <a:off x="1592280" y="3213000"/>
                <a:ext cx="2304720" cy="6606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 Box 28">
                <a:hlinkClick r:id="rId13" action="ppaction://hlinksldjump"/>
              </p:cNvPr>
              <p:cNvSpPr/>
              <p:nvPr/>
            </p:nvSpPr>
            <p:spPr>
              <a:xfrm>
                <a:off x="2011320" y="3318120"/>
                <a:ext cx="153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119" name="AutoShape 29">
              <a:hlinkClick r:id="rId14" action="ppaction://hlinksldjump"/>
            </p:cNvPr>
            <p:cNvSpPr/>
            <p:nvPr/>
          </p:nvSpPr>
          <p:spPr>
            <a:xfrm>
              <a:off x="1976400" y="3359880"/>
              <a:ext cx="1536480" cy="366840"/>
            </a:xfrm>
            <a:custGeom>
              <a:avLst/>
              <a:gdLst>
                <a:gd name="textAreaLeft" fmla="*/ 23760 w 1536480"/>
                <a:gd name="textAreaRight" fmla="*/ 1512720 w 1536480"/>
                <a:gd name="textAreaTop" fmla="*/ 23760 h 366840"/>
                <a:gd name="textAreaBottom" fmla="*/ 343080 h 366840"/>
              </a:gdLst>
              <a:ahLst/>
              <a:rect l="textAreaLeft" t="textAreaTop" r="textAreaRight" b="textAreaBottom"/>
              <a:pathLst>
                <a:path w="90402" h="21600">
                  <a:moveTo>
                    <a:pt x="0" y="0"/>
                  </a:moveTo>
                  <a:lnTo>
                    <a:pt x="90402" y="0"/>
                  </a:lnTo>
                  <a:lnTo>
                    <a:pt x="90402" y="21600"/>
                  </a:lnTo>
                  <a:lnTo>
                    <a:pt x="0" y="21600"/>
                  </a:lnTo>
                  <a:close/>
                </a:path>
                <a:path fill="lightenLess" w="90402" h="21600">
                  <a:moveTo>
                    <a:pt x="0" y="0"/>
                  </a:moveTo>
                  <a:lnTo>
                    <a:pt x="90402" y="0"/>
                  </a:lnTo>
                  <a:lnTo>
                    <a:pt x="89002" y="1400"/>
                  </a:lnTo>
                  <a:lnTo>
                    <a:pt x="1400" y="1400"/>
                  </a:lnTo>
                  <a:close/>
                </a:path>
                <a:path fill="darken" w="90402" h="21600">
                  <a:moveTo>
                    <a:pt x="90402" y="0"/>
                  </a:moveTo>
                  <a:lnTo>
                    <a:pt x="90402" y="21600"/>
                  </a:lnTo>
                  <a:lnTo>
                    <a:pt x="89002" y="20200"/>
                  </a:lnTo>
                  <a:lnTo>
                    <a:pt x="89002" y="1400"/>
                  </a:lnTo>
                  <a:close/>
                </a:path>
                <a:path fill="darkenLess" w="90402" h="21600">
                  <a:moveTo>
                    <a:pt x="90402" y="21600"/>
                  </a:moveTo>
                  <a:lnTo>
                    <a:pt x="0" y="21600"/>
                  </a:lnTo>
                  <a:lnTo>
                    <a:pt x="1400" y="20200"/>
                  </a:lnTo>
                  <a:lnTo>
                    <a:pt x="89002" y="20200"/>
                  </a:lnTo>
                  <a:close/>
                </a:path>
                <a:path fill="lighten" w="90402"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ffff"/>
                  </a:solidFill>
                  <a:uFillTx/>
                  <a:latin typeface="Times New Roman"/>
                  <a:hlinkClick r:id="rId15" action="ppaction://hlinksldjump"/>
                </a:rPr>
                <a:t>学习建议</a:t>
              </a:r>
              <a:endParaRPr b="0" lang="en-US" sz="2400" spc="-1" strike="noStrike">
                <a:solidFill>
                  <a:srgbClr val="ffffff"/>
                </a:solidFill>
                <a:latin typeface="Arial"/>
              </a:endParaRPr>
            </a:p>
          </p:txBody>
        </p:sp>
      </p:grpSp>
    </p:spTree>
  </p:cSld>
  <p:transition spd="slow">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247840" y="1844640"/>
            <a:ext cx="2395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Text Box 4"/>
          <p:cNvSpPr/>
          <p:nvPr/>
        </p:nvSpPr>
        <p:spPr>
          <a:xfrm>
            <a:off x="8744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行楷"/>
              </a:rPr>
              <a:t>拓展阅读</a:t>
            </a:r>
            <a:endParaRPr b="0" lang="en-US" sz="3200" spc="-1" strike="noStrike">
              <a:solidFill>
                <a:srgbClr val="ffffff"/>
              </a:solidFill>
              <a:latin typeface="Arial"/>
            </a:endParaRPr>
          </a:p>
        </p:txBody>
      </p:sp>
      <p:sp>
        <p:nvSpPr>
          <p:cNvPr id="146" name="Rectangle 7"/>
          <p:cNvSpPr/>
          <p:nvPr/>
        </p:nvSpPr>
        <p:spPr>
          <a:xfrm>
            <a:off x="539640" y="981000"/>
            <a:ext cx="82105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                    </a:t>
            </a:r>
            <a:r>
              <a:rPr b="1" lang="zh-CN" sz="2000" spc="-1" strike="noStrike">
                <a:solidFill>
                  <a:srgbClr val="ffffff"/>
                </a:solidFill>
                <a:latin typeface="宋体"/>
              </a:rPr>
              <a:t>周恩来生活简朴</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800" spc="-1" strike="noStrike">
                <a:solidFill>
                  <a:srgbClr val="ffffff"/>
                </a:solidFill>
                <a:latin typeface="仿宋_GB2312"/>
                <a:ea typeface="仿宋_GB2312"/>
              </a:rPr>
              <a:t>周恩来卧室内家具陈设极其简单，因为他一进卧室就上床，身后用枕头垫着斜靠在床头继续办公。他睡的是一张普通木床，下面用的是南方人喜爱的棕绷床垫。</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周恩来居住在西花厅，一直过着俭朴的生活。这从他居住的房屋及院落都可以看得出来。自他住进来以后，不许装修与翻新房屋及庭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en-US" sz="1800" spc="-1" strike="noStrike">
                <a:solidFill>
                  <a:srgbClr val="ffffff"/>
                </a:solidFill>
                <a:latin typeface="仿宋_GB2312"/>
                <a:ea typeface="仿宋_GB2312"/>
              </a:rPr>
              <a:t>60</a:t>
            </a:r>
            <a:r>
              <a:rPr b="0" lang="zh-CN" sz="1800" spc="-1" strike="noStrike">
                <a:solidFill>
                  <a:srgbClr val="ffffff"/>
                </a:solidFill>
                <a:latin typeface="仿宋_GB2312"/>
                <a:ea typeface="仿宋_GB2312"/>
              </a:rPr>
              <a:t>年代初，周恩来身边工作人员趁总理到广东从化组织阅读、讨论苏联政治经济学教科书的机会，为了保护和加固建筑物，他们抢时间搞了点简单的内装修，更换了窗帘、洗脸池与浴缸。周恩来回来见了十分生气，将他们狠狠地批评了一顿。事后，他语重心长地对身边人员说：“我身为总理，带一个好头，影响一大片；带一个坏头，也影响一大片。所以，我必须严格要求自己</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你们花那么多钱，把我的房子搞得那么好，群众怎么看？一旦大家都学着修起房子来，在群众中会造成什么样的影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周恩来的这一番话发人深省。自此以后，再也没有人敢提及装修房屋之事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邓颖超在悼念周恩来的文中说：“解放初期，你偶然看到这个海棠花盛开的院落，就爱上了海棠花，也就爱上了这个院落，选定这个院落，到这个盛开着海棠花的院落来居住，整整居住了</a:t>
            </a:r>
            <a:r>
              <a:rPr b="0" lang="en-US" sz="1800" spc="-1" strike="noStrike">
                <a:solidFill>
                  <a:srgbClr val="ffffff"/>
                </a:solidFill>
                <a:latin typeface="仿宋_GB2312"/>
                <a:ea typeface="仿宋_GB2312"/>
              </a:rPr>
              <a:t>26</a:t>
            </a:r>
            <a:r>
              <a:rPr b="0" lang="zh-CN" sz="1800" spc="-1" strike="noStrike">
                <a:solidFill>
                  <a:srgbClr val="ffffff"/>
                </a:solidFill>
                <a:latin typeface="仿宋_GB2312"/>
                <a:ea typeface="仿宋_GB2312"/>
              </a:rPr>
              <a:t>年。”这里始终保持着庄严、幽静、美丽与朴素的开国总理风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正如陈毅元帅所说：“廉洁奉公，以正治国者，周恩来也。”</a:t>
            </a:r>
            <a:endParaRPr b="0" lang="en-US" sz="1800" spc="-1" strike="noStrike">
              <a:solidFill>
                <a:srgbClr val="ffffff"/>
              </a:solidFill>
              <a:latin typeface="Arial"/>
            </a:endParaRPr>
          </a:p>
        </p:txBody>
      </p:sp>
    </p:spTree>
  </p:cSld>
  <p:transition spd="slow">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2247840" y="1844640"/>
            <a:ext cx="2395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Text Box 4"/>
          <p:cNvSpPr/>
          <p:nvPr/>
        </p:nvSpPr>
        <p:spPr>
          <a:xfrm>
            <a:off x="874440" y="71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行楷"/>
              </a:rPr>
              <a:t>拓展阅读</a:t>
            </a:r>
            <a:endParaRPr b="0" lang="en-US" sz="3200" spc="-1" strike="noStrike">
              <a:solidFill>
                <a:srgbClr val="ffffff"/>
              </a:solidFill>
              <a:latin typeface="Arial"/>
            </a:endParaRPr>
          </a:p>
        </p:txBody>
      </p:sp>
      <p:sp>
        <p:nvSpPr>
          <p:cNvPr id="149" name="Rectangle 7"/>
          <p:cNvSpPr/>
          <p:nvPr/>
        </p:nvSpPr>
        <p:spPr>
          <a:xfrm>
            <a:off x="324000" y="428760"/>
            <a:ext cx="8640720" cy="341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             </a:t>
            </a:r>
            <a:r>
              <a:rPr b="1" lang="zh-CN" sz="2000" spc="-1" strike="noStrike">
                <a:solidFill>
                  <a:srgbClr val="ffffff"/>
                </a:solidFill>
                <a:latin typeface="宋体"/>
              </a:rPr>
              <a:t>周恩来冒着余震的危险视察邢台地震灾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en-US" sz="1800" spc="-1" strike="noStrike">
                <a:solidFill>
                  <a:srgbClr val="ffffff"/>
                </a:solidFill>
                <a:latin typeface="仿宋_GB2312"/>
                <a:ea typeface="仿宋_GB2312"/>
              </a:rPr>
              <a:t>1966</a:t>
            </a:r>
            <a:r>
              <a:rPr b="0" lang="zh-CN" sz="1800" spc="-1" strike="noStrike">
                <a:solidFill>
                  <a:srgbClr val="ffffff"/>
                </a:solidFill>
                <a:latin typeface="仿宋_GB2312"/>
                <a:ea typeface="仿宋_GB2312"/>
              </a:rPr>
              <a:t>年一开春就没有春意。人们正在呼呼熟睡的时候，河北省邢台地区突然发生六七级强烈地震，这是全国解放后第一次发生在人口较稠密地区的强震，遭灾面积达三十多个公社、近四十万人口，损失严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周恩来得知邢台地区发生地震的消息后，当天在国务院会议厅召开紧急会议。他了解震情、灾情及商定抗震救灾工作部署，并向党中央和毛主席报送了书面材料。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他促请以国家科委和中国科学院为主同有关部门组织科研力量赴地震现场进行观察、探测和研究，判定地震范围、性质和方向等详细情况，将我国地震预测预报工作大大地推进一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这一年春天，河北省可说是祸不单行。石家庄与邢台地区发生流行性脑膜炎大流行。我随周恩来出发赴邢台之前，从卫生防疫部门了解疫情并作了相应的准备。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en-US"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月</a:t>
            </a:r>
            <a:r>
              <a:rPr b="0" lang="en-US" sz="1800" spc="-1" strike="noStrike">
                <a:solidFill>
                  <a:srgbClr val="ffffff"/>
                </a:solidFill>
                <a:latin typeface="仿宋_GB2312"/>
                <a:ea typeface="仿宋_GB2312"/>
              </a:rPr>
              <a:t>9</a:t>
            </a:r>
            <a:r>
              <a:rPr b="0" lang="zh-CN" sz="1800" spc="-1" strike="noStrike">
                <a:solidFill>
                  <a:srgbClr val="ffffff"/>
                </a:solidFill>
                <a:latin typeface="仿宋_GB2312"/>
                <a:ea typeface="仿宋_GB2312"/>
              </a:rPr>
              <a:t>日是农历二月十八日，惊蛰后第四天，天气还很冷，年近古稀的周恩来穿着一套丝绵质地的中山装上了路。他冒着余震的危险赶赴灾区视察慰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他轻装简从，只带少数随行人员乘专列向石家庄疾驶而去。他在列车上办公，不时打电话了解灾区情况，并同中央书记处主持日常工作的彭真通电话沟通情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当天下午，专列在石家庄停了下来，专列上的人都感到列车时有轻微的晃动，表明余震未息。周恩来下车听取了地方领导人简短的汇报后，不顾自己的疲劳即乘直升飞机去视察震情最严重的地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受灾地区余震阵阵，大地在颤动；少数地段震开了长达一米多宽的地面裂缝，正在冒着带热气的黑水。寒冷刺骨的西北风紧吹着，干部和群众见到周总理亲自来灾区视察慰问，一股暖流涌向心间。党和政府对老百姓的关怀，极大地鼓舞了人民抗震救灾的信心和决心，他让老乡们背北面南以避寒风，自己迎着北风站在木头箱子上向灾区人民作了真切而感人的讲话，使到会的人感动得热泪盈眶。 </a:t>
            </a:r>
            <a:r>
              <a:rPr b="0" lang="en-US" sz="1800" spc="-1" strike="noStrike">
                <a:solidFill>
                  <a:srgbClr val="ffffff"/>
                </a:solidFill>
                <a:latin typeface="仿宋_GB2312"/>
                <a:ea typeface="仿宋_GB2312"/>
              </a:rPr>
              <a:t> </a:t>
            </a:r>
            <a:endParaRPr b="0" lang="en-US" sz="1800" spc="-1" strike="noStrike">
              <a:solidFill>
                <a:srgbClr val="ffffff"/>
              </a:solidFill>
              <a:latin typeface="Arial"/>
            </a:endParaRPr>
          </a:p>
        </p:txBody>
      </p:sp>
    </p:spTree>
  </p:cSld>
  <p:transition spd="slow">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2247840" y="1844640"/>
            <a:ext cx="2395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Text Box 4"/>
          <p:cNvSpPr/>
          <p:nvPr/>
        </p:nvSpPr>
        <p:spPr>
          <a:xfrm>
            <a:off x="874440" y="71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行楷"/>
              </a:rPr>
              <a:t>拓展阅读</a:t>
            </a:r>
            <a:endParaRPr b="0" lang="en-US" sz="3200" spc="-1" strike="noStrike">
              <a:solidFill>
                <a:srgbClr val="ffffff"/>
              </a:solidFill>
              <a:latin typeface="Arial"/>
            </a:endParaRPr>
          </a:p>
        </p:txBody>
      </p:sp>
      <p:sp>
        <p:nvSpPr>
          <p:cNvPr id="152" name="Rectangle 7"/>
          <p:cNvSpPr/>
          <p:nvPr/>
        </p:nvSpPr>
        <p:spPr>
          <a:xfrm>
            <a:off x="285840" y="642960"/>
            <a:ext cx="8643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在这幅感人至深的照片上，见到旷野里的群众席地而坐，周恩来不穿大衣不戴帽子站在木箱上，神情严肃，那只人们熟悉的右臂弯曲地垂在胸前。他举起左手伸出食指比划着讲话，在他的背后停着一架直升机。这就是领袖同人民在一起的千万个历史镜头中的一幅真实写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周恩来察看老乡们倒塌了的房屋、毁坏了的田园庄稼，关切地同他们交谈，要求干部具体安排好群众的生活和生产。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在视察中，他向干部和群众提出了“自力更生，奋发图强，发展生产，重建家园”的指导救灾工作方针，并具体规划了灾后的生产与群众的衣食住行。老乡们在激动之余亦不免为总理的安全担忧，告别时依依不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至傍晚，周恩来一行回到石家庄继续开会，夜间专列停到铁路支线上，他办公至深夜，住宿列车上。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en-US"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月</a:t>
            </a:r>
            <a:r>
              <a:rPr b="0" lang="en-US" sz="1800" spc="-1" strike="noStrike">
                <a:solidFill>
                  <a:srgbClr val="ffffff"/>
                </a:solidFill>
                <a:latin typeface="仿宋_GB2312"/>
                <a:ea typeface="仿宋_GB2312"/>
              </a:rPr>
              <a:t>10</a:t>
            </a:r>
            <a:r>
              <a:rPr b="0" lang="zh-CN" sz="1800" spc="-1" strike="noStrike">
                <a:solidFill>
                  <a:srgbClr val="ffffff"/>
                </a:solidFill>
                <a:latin typeface="仿宋_GB2312"/>
                <a:ea typeface="仿宋_GB2312"/>
              </a:rPr>
              <a:t>日，余震依然不断，大地时时在颤抖，当地领导同志陪同周恩来继续视察灾情与抗震救灾工作进展情况。正当汽车往前直驶时，周恩来忽然叫司机停车，他要下车去亲自看看地方上没有安排他视察的小村子。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这里是一个小村庄，地震后留下一片破败荒凉的景象。周恩来踏过残砖断瓦进入村庄看望群众。他走进一家农户，房子是北方农村常见的用泥坯建成的土房，房顶开着“天窗”，不知道是地震破坏的还是原来就这个样子。房主人不在家，屋子里有一个衣服破旧、微敞胸怀、头发蓬乱、约莫三十来岁的农妇坐在炕沿上怀里奶着婴儿，脸部菜色，身上脏兮兮，另有一个两三岁的小男孩趴在她的膝上。屋子里只有一个炕、一个灶和几只旧的木头板凳，墙旮旯里竖放着几把锄锨等简单农具，有人赶到她面前说：“周总理看你来了！”她听了既不惊也不喜，一声不吭地用两只眼睛直盯着说话人；看上去有点胆怯的样子，她听不懂那个人说话的意思。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endParaRPr b="0" lang="en-US" sz="1800" spc="-1" strike="noStrike">
              <a:solidFill>
                <a:srgbClr val="ffffff"/>
              </a:solidFill>
              <a:latin typeface="Arial"/>
            </a:endParaRPr>
          </a:p>
        </p:txBody>
      </p:sp>
    </p:spTree>
  </p:cSld>
  <p:transition spd="slow">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2247840" y="1844640"/>
            <a:ext cx="2395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Text Box 4"/>
          <p:cNvSpPr/>
          <p:nvPr/>
        </p:nvSpPr>
        <p:spPr>
          <a:xfrm>
            <a:off x="874440" y="71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行楷"/>
              </a:rPr>
              <a:t>拓展阅读</a:t>
            </a:r>
            <a:endParaRPr b="0" lang="en-US" sz="3200" spc="-1" strike="noStrike">
              <a:solidFill>
                <a:srgbClr val="ffffff"/>
              </a:solidFill>
              <a:latin typeface="Arial"/>
            </a:endParaRPr>
          </a:p>
        </p:txBody>
      </p:sp>
      <p:sp>
        <p:nvSpPr>
          <p:cNvPr id="155" name="Rectangle 7"/>
          <p:cNvSpPr/>
          <p:nvPr/>
        </p:nvSpPr>
        <p:spPr>
          <a:xfrm>
            <a:off x="285840" y="642960"/>
            <a:ext cx="8643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北京来的周总理，来看你们来了！”那人又加重语气大声说了这么一句话。她仍未开口说话，只是欠了一下身子，往旁边稍微挪动了一点。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周恩来见此情景便主动走过去坐到炕沿上，他用手轻轻地抚摸着趴在母亲膝头那个男孩的头。地方上的领导和随同人员站在屋子里，门口已聚集了许多人，都是闻讯赶来看“热闹”的。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你家有几个孩子啊？”总理问道。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三个。”这时她低着头轻声回答道。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你男人呢？” “他出去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你家每年从地里收的粮食够吃吗？”周恩来见了这个没有文化但质朴的农民，便直奔主题。 “不够吃。”她答道。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年底能分到多少工分？”总理再次细问道。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我家年底没有工分，还欠三四十块钱。”这一次，她听明白了，或许，她知道是北京的“大官”来了。她直率地回答了周恩来的提问。这也是周恩来视察灾情顺便想了解农民生产、收入和生活的真实情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这个时候，农妇站起身来走到灶台边拿起一只粗瓷碗，从水缸里舀了一碗水端到周恩来面前。他接过瓷碗说了声“谢谢你”就喝了一口，他看了我一眼。我见到那只瓷碗边上有未洗净的玉米面，碗边有多个破损缺口，但我不敢言语，更不敢朝前去阻拦他喝这碗里的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我是保健医生，自然担心他传染上肝炎或其他胃肠道传染病。西花厅素有保安全、保健康和保工作的“三保”之规，但我怎能妨碍领袖同人民群众的联系呢。周恩来又简单地问了几句话便告辞出来，坐上汽车继续视察灾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 </a:t>
            </a:r>
            <a:endParaRPr b="0" lang="en-US" sz="1800" spc="-1" strike="noStrike">
              <a:solidFill>
                <a:srgbClr val="ffffff"/>
              </a:solidFill>
              <a:latin typeface="Arial"/>
            </a:endParaRPr>
          </a:p>
        </p:txBody>
      </p:sp>
    </p:spTree>
  </p:cSld>
  <p:transition spd="slow">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2247840" y="1844640"/>
            <a:ext cx="2395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Text Box 4"/>
          <p:cNvSpPr/>
          <p:nvPr/>
        </p:nvSpPr>
        <p:spPr>
          <a:xfrm>
            <a:off x="874440" y="71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行楷"/>
              </a:rPr>
              <a:t>拓展阅读</a:t>
            </a:r>
            <a:endParaRPr b="0" lang="en-US" sz="3200" spc="-1" strike="noStrike">
              <a:solidFill>
                <a:srgbClr val="ffffff"/>
              </a:solidFill>
              <a:latin typeface="Arial"/>
            </a:endParaRPr>
          </a:p>
        </p:txBody>
      </p:sp>
      <p:sp>
        <p:nvSpPr>
          <p:cNvPr id="158" name="Rectangle 7"/>
          <p:cNvSpPr/>
          <p:nvPr/>
        </p:nvSpPr>
        <p:spPr>
          <a:xfrm>
            <a:off x="285840" y="64296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周恩来清楚地知道一户公社农民，在面向黄土背朝天地干了整整一年之后，仍然解决不了温饱问题。可见中国的农业问题是何等的严重。这使他对农业生产状况陷入了更深层次的思考和忧虑。我国人口中百分之八十是农民， 农业始终是个大问题！周恩来的心情更加沉重起来。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近中午时刻，车队到了一个水库工地。周恩来走下汽车，修水库的人群老远就看到了他们所熟悉的身影。工人们狂蹦乱跳地欢呼着，也许他们事先得知周总理要到工地来。周恩来向大家挥手致意，水电部钱正英副部长也在工地上。周总理过去同他们握手过后，带头盘腿席地而坐，大家紧挨他坐下围成一圈。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喔，已经十二点多了，大家一起吃午饭吧！”周恩来看了一下手表同身旁的人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大家相视了一下，一个干部模样的人高兴地叫人把饭菜端上来。工地上吃的当然是大锅饭，用脸盆盛的煮白菜，主食是玉米面饼子，大家没有洗手擦脸的讲究，我们围坐在另一个圈子里，各人拿起饼子掰开便吃，大家有说有笑的吃得很开心。饭后开会座谈，进一步了解水库建设和地震对水库的影响等情况，发言者畅所欲言不感到拘束，我们直至傍晚才离开工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你今天表现不错嘛，没有来干涉我喝水吃饭是对的。你要懂得，我们不能脱离群众。”晚上回到专列上更衣洗漱时，周恩来对我这样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我到西花厅工作不久，就有人跟我交代总理办公室立下的“三保”规矩。我只有好好执行的义务，绝对没有违反它的权力。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当汽车离开水库工地返回石家庄途中，已是日落西山、晚霞满天时刻，在一处距公路</a:t>
            </a:r>
            <a:r>
              <a:rPr b="0" lang="en-US" sz="1800" spc="-1" strike="noStrike">
                <a:solidFill>
                  <a:srgbClr val="ffffff"/>
                </a:solidFill>
                <a:latin typeface="仿宋_GB2312"/>
                <a:ea typeface="仿宋_GB2312"/>
              </a:rPr>
              <a:t>100</a:t>
            </a:r>
            <a:r>
              <a:rPr b="0" lang="zh-CN" sz="1800" spc="-1" strike="noStrike">
                <a:solidFill>
                  <a:srgbClr val="ffffff"/>
                </a:solidFill>
                <a:latin typeface="仿宋_GB2312"/>
                <a:ea typeface="仿宋_GB2312"/>
              </a:rPr>
              <a:t>米左右的田野平台上有四五个妇女在推水车。周恩来看着觉得有些奇怪，她们为什么还不收工？他让司机停下车来，走过去看个究竟。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endParaRPr b="0" lang="en-US" sz="1800" spc="-1" strike="noStrike">
              <a:solidFill>
                <a:srgbClr val="ffffff"/>
              </a:solidFill>
              <a:latin typeface="Arial"/>
            </a:endParaRPr>
          </a:p>
        </p:txBody>
      </p:sp>
    </p:spTree>
  </p:cSld>
  <p:transition spd="slow">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2247840" y="1844640"/>
            <a:ext cx="2395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Text Box 4"/>
          <p:cNvSpPr/>
          <p:nvPr/>
        </p:nvSpPr>
        <p:spPr>
          <a:xfrm>
            <a:off x="874440" y="71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行楷"/>
              </a:rPr>
              <a:t>拓展阅读</a:t>
            </a:r>
            <a:endParaRPr b="0" lang="en-US" sz="3200" spc="-1" strike="noStrike">
              <a:solidFill>
                <a:srgbClr val="ffffff"/>
              </a:solidFill>
              <a:latin typeface="Arial"/>
            </a:endParaRPr>
          </a:p>
        </p:txBody>
      </p:sp>
      <p:sp>
        <p:nvSpPr>
          <p:cNvPr id="161" name="Rectangle 7"/>
          <p:cNvSpPr/>
          <p:nvPr/>
        </p:nvSpPr>
        <p:spPr>
          <a:xfrm>
            <a:off x="395280" y="642960"/>
            <a:ext cx="842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周恩来打开车门，立时听到妇女们在边推水车边唱歌。他下了汽车朝她们走过去。由于农村生产落后生活穷苦，不要说是女的就是男的也大多读不起书，她们没有文化，加之交通及通讯不发达，听不到广播，没有、也看不懂报纸，那时更没有电视机，所以，她们不认识周总理。周恩来走到她们跟前亦未引起惊讶或兴奋，而只是停止推水车，站在那里出神地看着我们这些陌生人。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你们是哪一个村的？这么晚了还不收工啊？”周恩来问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你们不认识啊？这是北京来的周总理。”旁边有人告诉她们。她们中好像有人知道周总理是谁，是“大人物”，她们都大声的笑着，大家都笑了起来，周恩来也跟着笑了。“咱们就住在那一个村，今天的活儿没有干完咋能回去哩。”她们中有人用手指着前面不远处的一个村子说。这里受地震灾害小一些，未见到明显的破败现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你们为什么一面推水车一面唱歌，这是谁规定的？这么做很累。你们可以喊劳动号子嘛，也可以什么都不喊。”周恩来又问又解释道。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哈哈，哈哈哈，我们不累</a:t>
            </a:r>
            <a:r>
              <a:rPr b="0" lang="en-US"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她们没有回答周恩来的问题，只是笑着，周恩来同她们一一握手告辞。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不知道这是哪个人规定的，边劳动边唱歌，搞形式主义，妇女能参加这么重的体力劳动已经不容易了，你们不能强加于人嘛。”他回到汽车旁跟地方上的领导同志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此次，周恩来亲自到地震灾区视察工作，顺便了解国家的农业政策（如工分制）、农业生产、农民生活、干部作风等一定程度上带有普遍性的民情，他为老乡，为中国农民的状况在深刻地思考着。 </a:t>
            </a:r>
            <a:endParaRPr b="0" lang="en-US" sz="1800" spc="-1" strike="noStrike">
              <a:solidFill>
                <a:srgbClr val="ffffff"/>
              </a:solidFill>
              <a:latin typeface="Arial"/>
            </a:endParaRPr>
          </a:p>
        </p:txBody>
      </p:sp>
      <p:sp>
        <p:nvSpPr>
          <p:cNvPr id="162" name="AutoShape 10">
            <a:hlinkClick r:id="" action="ppaction://hlinkshowjump?jump=firstslide"/>
          </p:cNvPr>
          <p:cNvSpPr/>
          <p:nvPr/>
        </p:nvSpPr>
        <p:spPr>
          <a:xfrm>
            <a:off x="8496360" y="648180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533520" y="456840"/>
            <a:ext cx="217152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背景资料</a:t>
            </a:r>
            <a:endParaRPr b="0" lang="en-US" sz="3200" spc="-1" strike="noStrike">
              <a:solidFill>
                <a:srgbClr val="ffffff"/>
              </a:solidFill>
              <a:latin typeface="Arial"/>
            </a:endParaRPr>
          </a:p>
        </p:txBody>
      </p:sp>
      <p:sp>
        <p:nvSpPr>
          <p:cNvPr id="121" name="TextBox 3"/>
          <p:cNvSpPr/>
          <p:nvPr/>
        </p:nvSpPr>
        <p:spPr>
          <a:xfrm>
            <a:off x="946080" y="1160640"/>
            <a:ext cx="7155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一）关于作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关汝松，生于</a:t>
            </a:r>
            <a:r>
              <a:rPr b="0" lang="en-US" sz="2000" spc="-1" strike="noStrike">
                <a:solidFill>
                  <a:srgbClr val="ffffff"/>
                </a:solidFill>
                <a:latin typeface="仿宋_GB2312"/>
                <a:ea typeface="仿宋_GB2312"/>
              </a:rPr>
              <a:t>1943</a:t>
            </a:r>
            <a:r>
              <a:rPr b="0" lang="zh-CN" sz="2000" spc="-1" strike="noStrike">
                <a:solidFill>
                  <a:srgbClr val="ffffff"/>
                </a:solidFill>
                <a:latin typeface="仿宋_GB2312"/>
                <a:ea typeface="仿宋_GB2312"/>
              </a:rPr>
              <a:t>年，广东省开平县人，当代作家，目前正活跃于文坛。代表作有短片小说集</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农家少妇</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草民</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等。其在长篇小说方面也取得了喜人成就，长篇小说</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风暴潮</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获得</a:t>
            </a:r>
            <a:r>
              <a:rPr b="0" lang="en-US" sz="2000" spc="-1" strike="noStrike">
                <a:solidFill>
                  <a:srgbClr val="ffffff"/>
                </a:solidFill>
                <a:latin typeface="仿宋_GB2312"/>
                <a:ea typeface="仿宋_GB2312"/>
              </a:rPr>
              <a:t>2000</a:t>
            </a:r>
            <a:r>
              <a:rPr b="0" lang="zh-CN" sz="2000" spc="-1" strike="noStrike">
                <a:solidFill>
                  <a:srgbClr val="ffffff"/>
                </a:solidFill>
                <a:latin typeface="仿宋_GB2312"/>
                <a:ea typeface="仿宋_GB2312"/>
              </a:rPr>
              <a:t>年度“矛盾文学奖”。新作</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河葬</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也有较大影响。</a:t>
            </a:r>
            <a:endParaRPr b="0" lang="en-US" sz="2000" spc="-1" strike="noStrike">
              <a:solidFill>
                <a:srgbClr val="ffffff"/>
              </a:solidFill>
              <a:latin typeface="Arial"/>
            </a:endParaRPr>
          </a:p>
        </p:txBody>
      </p:sp>
      <p:sp>
        <p:nvSpPr>
          <p:cNvPr id="122" name="AutoShape 10">
            <a:hlinkClick r:id="" action="ppaction://hlinkshowjump?jump=firstslide"/>
          </p:cNvPr>
          <p:cNvSpPr/>
          <p:nvPr/>
        </p:nvSpPr>
        <p:spPr>
          <a:xfrm>
            <a:off x="324000" y="609300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
        <p:nvSpPr>
          <p:cNvPr id="123" name="TextBox 3"/>
          <p:cNvSpPr/>
          <p:nvPr/>
        </p:nvSpPr>
        <p:spPr>
          <a:xfrm>
            <a:off x="946080" y="2906640"/>
            <a:ext cx="715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二）关于周恩来总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周恩来（</a:t>
            </a:r>
            <a:r>
              <a:rPr b="0" lang="en-US" sz="2000" spc="-1" strike="noStrike">
                <a:solidFill>
                  <a:srgbClr val="ffffff"/>
                </a:solidFill>
                <a:latin typeface="仿宋_GB2312"/>
                <a:ea typeface="仿宋_GB2312"/>
              </a:rPr>
              <a:t>1898-1976</a:t>
            </a:r>
            <a:r>
              <a:rPr b="0" lang="zh-CN" sz="2000" spc="-1" strike="noStrike">
                <a:solidFill>
                  <a:srgbClr val="ffffff"/>
                </a:solidFill>
                <a:latin typeface="仿宋_GB2312"/>
                <a:ea typeface="仿宋_GB2312"/>
              </a:rPr>
              <a:t>），中国无产阶级革命家、政治家、军事家、外交家，中国共产党和中华人民共和国的主要领导人，中国人民解放军的创建人之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周恩来总理在全世界都享有极高的声誉，他在中国和世界人民心目中有着别人无法比拟的崇高威望。</a:t>
            </a:r>
            <a:r>
              <a:rPr b="0" lang="en-US" sz="2000" spc="-1" strike="noStrike">
                <a:solidFill>
                  <a:srgbClr val="ffffff"/>
                </a:solidFill>
                <a:latin typeface="仿宋_GB2312"/>
                <a:ea typeface="仿宋_GB2312"/>
              </a:rPr>
              <a:t>1976</a:t>
            </a:r>
            <a:r>
              <a:rPr b="0" lang="zh-CN" sz="2000" spc="-1" strike="noStrike">
                <a:solidFill>
                  <a:srgbClr val="ffffff"/>
                </a:solidFill>
                <a:latin typeface="仿宋_GB2312"/>
                <a:ea typeface="仿宋_GB2312"/>
              </a:rPr>
              <a:t>年</a:t>
            </a: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月，周恩来总理去世时，联合国曾降半旗以示最大的哀思。他在人们心中之所以有着如此崇高的威望，不仅仅因为他为党、为国家、为全国人民乃至全世界的和平所作出的巨大贡献，更是因为他平易近人、和蔼可亲，与人民打成一片，融成一个整体的风格，使得他在人民心中有着如此巨大的人格魅力。</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3520" y="456840"/>
            <a:ext cx="217152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阅读赏析</a:t>
            </a:r>
            <a:endParaRPr b="0" lang="en-US" sz="3200" spc="-1" strike="noStrike">
              <a:solidFill>
                <a:srgbClr val="ffffff"/>
              </a:solidFill>
              <a:latin typeface="Arial"/>
            </a:endParaRPr>
          </a:p>
        </p:txBody>
      </p:sp>
      <p:sp>
        <p:nvSpPr>
          <p:cNvPr id="125" name="TextBox 3"/>
          <p:cNvSpPr/>
          <p:nvPr/>
        </p:nvSpPr>
        <p:spPr>
          <a:xfrm>
            <a:off x="826920" y="981000"/>
            <a:ext cx="7490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本文是一片叙事性散文。它通过记叙</a:t>
            </a:r>
            <a:r>
              <a:rPr b="0" lang="en-US" sz="2000" spc="-1" strike="noStrike">
                <a:solidFill>
                  <a:srgbClr val="ffffff"/>
                </a:solidFill>
                <a:latin typeface="仿宋_GB2312"/>
                <a:ea typeface="仿宋_GB2312"/>
              </a:rPr>
              <a:t>1966</a:t>
            </a:r>
            <a:r>
              <a:rPr b="0" lang="zh-CN" sz="2000" spc="-1" strike="noStrike">
                <a:solidFill>
                  <a:srgbClr val="ffffff"/>
                </a:solidFill>
                <a:latin typeface="仿宋_GB2312"/>
                <a:ea typeface="仿宋_GB2312"/>
              </a:rPr>
              <a:t>年河北邢台大地震后，周恩来总理在余震未消时，带着党和政府的关怀，亲临灾区慰问受灾群众时发生的一件极小的小事，突出了“人民的总理人民爱，人民的总理爱人民”的这一感人主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文章通过两次“掌声”的响起，把群众和领袖之间心心相印、息息相通的深厚感情淋漓尽致地表现出来了。文章通过选取平常小事表现了深刻主题，起到了相当好的效果，这是我们在学习本课时应予认真体会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endParaRPr b="0" lang="en-US" sz="2000" spc="-1" strike="noStrike">
              <a:solidFill>
                <a:srgbClr val="ffffff"/>
              </a:solidFill>
              <a:latin typeface="Arial"/>
            </a:endParaRPr>
          </a:p>
        </p:txBody>
      </p:sp>
      <p:sp>
        <p:nvSpPr>
          <p:cNvPr id="126" name="AutoShape 10">
            <a:hlinkClick r:id="" action="ppaction://hlinkshowjump?jump=firstslide"/>
          </p:cNvPr>
          <p:cNvSpPr/>
          <p:nvPr/>
        </p:nvSpPr>
        <p:spPr>
          <a:xfrm>
            <a:off x="324000" y="609300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3520" y="456840"/>
            <a:ext cx="217152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阅读赏析</a:t>
            </a:r>
            <a:endParaRPr b="0" lang="en-US" sz="3200" spc="-1" strike="noStrike">
              <a:solidFill>
                <a:srgbClr val="ffffff"/>
              </a:solidFill>
              <a:latin typeface="Arial"/>
            </a:endParaRPr>
          </a:p>
        </p:txBody>
      </p:sp>
      <p:sp>
        <p:nvSpPr>
          <p:cNvPr id="128" name="TextBox 3"/>
          <p:cNvSpPr/>
          <p:nvPr/>
        </p:nvSpPr>
        <p:spPr>
          <a:xfrm>
            <a:off x="611280" y="820800"/>
            <a:ext cx="8064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文章可分为两部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第一部分（</a:t>
            </a: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13</a:t>
            </a:r>
            <a:r>
              <a:rPr b="0" lang="zh-CN" sz="2000" spc="-1" strike="noStrike">
                <a:solidFill>
                  <a:srgbClr val="ffffff"/>
                </a:solidFill>
                <a:latin typeface="仿宋_GB2312"/>
                <a:ea typeface="仿宋_GB2312"/>
              </a:rPr>
              <a:t>自然段）记叙人民群众冒着风沙在打谷场上迎候周总理。这一部分分为两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第一层（</a:t>
            </a:r>
            <a:r>
              <a:rPr b="0" lang="en-US"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自然段），主要是通过场面描写（人民群众的欢腾气氛）、环境描写和人物特写（县委书记张建）来表达人民群众对周恩来总理亲临灾区慰问的激动心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本文开篇并没有直接写总理出现时人民群众的欢呼场面，而是以充满激情的笔调极力渲染灾区人民的心情。作者给读者留下了一个个问号，能使人们“从震后的悲痛气氛中挣脱出来”、“欢腾”、“激荡”的，到底是什么消息？一县之长</a:t>
            </a:r>
            <a:r>
              <a:rPr b="0" lang="zh-CN" sz="2000" spc="-1" strike="noStrike">
                <a:solidFill>
                  <a:srgbClr val="ffffff"/>
                </a:solidFill>
                <a:latin typeface="Arial"/>
              </a:rPr>
              <a:t>“</a:t>
            </a:r>
            <a:r>
              <a:rPr b="0" lang="zh-CN" sz="2000" spc="-1" strike="noStrike">
                <a:solidFill>
                  <a:srgbClr val="ffffff"/>
                </a:solidFill>
                <a:latin typeface="仿宋_GB2312"/>
                <a:ea typeface="仿宋_GB2312"/>
              </a:rPr>
              <a:t>两眼布满血丝；穿在身上的那件粗布黑袄，不知什么时候被钉子剐破前襟，露出了棉花套子；</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仿佛苍老了十岁。”然而，“他的目光却</a:t>
            </a:r>
            <a:r>
              <a:rPr b="0" lang="zh-CN" sz="2000" spc="-1" strike="noStrike">
                <a:solidFill>
                  <a:srgbClr val="ffffff"/>
                </a:solidFill>
                <a:latin typeface="Arial"/>
              </a:rPr>
              <a:t>闪着</a:t>
            </a:r>
            <a:r>
              <a:rPr b="0" lang="zh-CN" sz="2000" spc="-1" strike="noStrike">
                <a:solidFill>
                  <a:srgbClr val="ffffff"/>
                </a:solidFill>
                <a:latin typeface="仿宋_GB2312"/>
                <a:ea typeface="仿宋_GB2312"/>
              </a:rPr>
              <a:t>抑制不住的兴奋神采”至此，作者才抖开迷团：原来，周总理来到了他们身边。难怪人们都这么不平静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作者这种人未至而势先来的写法一下子把读者的情绪调动起来，也为文章定下了感情基调：充满激动、包含深情，这就使得后文的小事自然而然蓄满了深情厚意而无小题大做之嫌。</a:t>
            </a:r>
            <a:r>
              <a:rPr b="0" lang="zh-CN" sz="2000" spc="-1" strike="noStrike">
                <a:solidFill>
                  <a:srgbClr val="ffffff"/>
                </a:solidFill>
                <a:latin typeface="Arial"/>
              </a:rPr>
              <a:t> </a:t>
            </a:r>
            <a:br>
              <a:rPr sz="2000"/>
            </a:br>
            <a:r>
              <a:rPr b="0" lang="zh-CN" sz="2000" spc="-1" strike="noStrike">
                <a:solidFill>
                  <a:srgbClr val="ffffff"/>
                </a:solidFill>
                <a:latin typeface="仿宋_GB2312"/>
                <a:ea typeface="仿宋_GB2312"/>
              </a:rPr>
              <a:t>   </a:t>
            </a:r>
            <a:endParaRPr b="0" lang="en-US" sz="2000" spc="-1" strike="noStrike">
              <a:solidFill>
                <a:srgbClr val="ffffff"/>
              </a:solidFill>
              <a:latin typeface="Arial"/>
            </a:endParaRPr>
          </a:p>
        </p:txBody>
      </p:sp>
      <p:sp>
        <p:nvSpPr>
          <p:cNvPr id="129" name="AutoShape 10">
            <a:hlinkClick r:id="" action="ppaction://hlinkshowjump?jump=firstslide"/>
          </p:cNvPr>
          <p:cNvSpPr/>
          <p:nvPr/>
        </p:nvSpPr>
        <p:spPr>
          <a:xfrm>
            <a:off x="324000" y="609300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23520" y="188640"/>
            <a:ext cx="217188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阅读赏析</a:t>
            </a:r>
            <a:endParaRPr b="0" lang="en-US" sz="3200" spc="-1" strike="noStrike">
              <a:solidFill>
                <a:srgbClr val="ffffff"/>
              </a:solidFill>
              <a:latin typeface="Arial"/>
            </a:endParaRPr>
          </a:p>
        </p:txBody>
      </p:sp>
      <p:sp>
        <p:nvSpPr>
          <p:cNvPr id="131" name="TextBox 3"/>
          <p:cNvSpPr/>
          <p:nvPr/>
        </p:nvSpPr>
        <p:spPr>
          <a:xfrm>
            <a:off x="431640" y="692280"/>
            <a:ext cx="846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第二层（</a:t>
            </a:r>
            <a:r>
              <a:rPr b="0" lang="en-US" sz="2000" spc="-1" strike="noStrike">
                <a:solidFill>
                  <a:srgbClr val="ffffff"/>
                </a:solidFill>
                <a:latin typeface="仿宋_GB2312"/>
                <a:ea typeface="仿宋_GB2312"/>
              </a:rPr>
              <a:t>6</a:t>
            </a: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13</a:t>
            </a:r>
            <a:r>
              <a:rPr b="0" lang="zh-CN" sz="2000" spc="-1" strike="noStrike">
                <a:solidFill>
                  <a:srgbClr val="ffffff"/>
                </a:solidFill>
                <a:latin typeface="仿宋_GB2312"/>
                <a:ea typeface="仿宋_GB2312"/>
              </a:rPr>
              <a:t>自然段）主要写干群不约而同，选择了面对风沙而把好的地理位置留给了周总理。表达了人民群众对总理的深深拥戴之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文中第一部分通过作者对环境的描写和人民群众的表现，将人民对总理的热爱有力地表达了出来。而在第二部分，则通过总理执意要自己面对风沙的举动，把爱民如子、与人民心心相印的总理形象栩栩如生的刻画出来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在描写这件事情时，作者抓住周恩来总理的两个细节动作，人民群众的两次掌声，使一件小事的意义得到了升华。</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第一次掌声，是表达对总理冒着余震的危险亲临灾区慰问的敬意，它是发自内心的，由总理素来在人民心中的地位自发引起的。从这次掌声中，我们听到的是人们对仰慕已久的亲人的热爱的心声，他既展示了人民的淳朴、憨厚，更向我们展示了共和国领导人在人民心中的崇高形象。 </a:t>
            </a:r>
            <a:br>
              <a:rPr sz="2000"/>
            </a:br>
            <a:r>
              <a:rPr b="0" lang="zh-CN" sz="2000" spc="-1" strike="noStrike">
                <a:solidFill>
                  <a:srgbClr val="ffffff"/>
                </a:solidFill>
                <a:latin typeface="仿宋_GB2312"/>
                <a:ea typeface="仿宋_GB2312"/>
              </a:rPr>
              <a:t>    第二次掌声，则由总理的一次并无豪言壮语的小小举动引发的，它是人民对久已仰慕的总理的认识深化后发自肺腑的感动和激动，他们不会多说什么，但从这掌声中，我们可以听到，灾区的这些质朴的老百姓，在面对他们热爱而且实在值得他们热爱的总理时，有着怎样的心情，又有着怎样的决心！于是掌声的意义得到升华：它是对总理朴实、高尚、无私品德的最高礼赞，也是对灾区人民质朴、憨厚、坚强品德的颂扬。它反映着流传人民中间的一个永不褪色的话题：“人民的总理人民爱，人民的总理爱人民”。</a:t>
            </a:r>
            <a:endParaRPr b="0" lang="en-US" sz="2000" spc="-1" strike="noStrike">
              <a:solidFill>
                <a:srgbClr val="ffffff"/>
              </a:solidFill>
              <a:latin typeface="Arial"/>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3520" y="456840"/>
            <a:ext cx="217152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阅读赏析</a:t>
            </a:r>
            <a:endParaRPr b="0" lang="en-US" sz="3200" spc="-1" strike="noStrike">
              <a:solidFill>
                <a:srgbClr val="ffffff"/>
              </a:solidFill>
              <a:latin typeface="Arial"/>
            </a:endParaRPr>
          </a:p>
        </p:txBody>
      </p:sp>
      <p:sp>
        <p:nvSpPr>
          <p:cNvPr id="133" name="TextBox 3"/>
          <p:cNvSpPr/>
          <p:nvPr/>
        </p:nvSpPr>
        <p:spPr>
          <a:xfrm>
            <a:off x="468360" y="836640"/>
            <a:ext cx="8207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三）</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写作上的一些特点也有值得借鉴之处：</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以小见大的选材手法。 一滴水可以照见整个太阳，作者深谙此理。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在邢台大地震这样惊天动地的特殊背景下，作者却选取一件似乎不足挂齿的小事，反而更能把叱咤政治舞台的大人物写得真实、感人。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抓住细节描写，塑造人物形象，也是本文的一个较突出的特点。 本文因为作者选材立意就着眼于小处，那么行文时，自然也就于小处见功力了。周恩来总理的两次眉毛这样微小的动，就被作者的慧眼抓住，有力地刻画出了总理的伟大人格。可是，细节描写往往能起到渲染甚至突出大事的神奇作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endParaRPr b="0" lang="en-US" sz="2400" spc="-1" strike="noStrike">
              <a:solidFill>
                <a:srgbClr val="ffffff"/>
              </a:solidFill>
              <a:latin typeface="Arial"/>
            </a:endParaRPr>
          </a:p>
        </p:txBody>
      </p:sp>
      <p:sp>
        <p:nvSpPr>
          <p:cNvPr id="134" name="AutoShape 10">
            <a:hlinkClick r:id="" action="ppaction://hlinkshowjump?jump=firstslide"/>
          </p:cNvPr>
          <p:cNvSpPr/>
          <p:nvPr/>
        </p:nvSpPr>
        <p:spPr>
          <a:xfrm>
            <a:off x="8028000" y="6451560"/>
            <a:ext cx="647640" cy="35892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3520" y="456840"/>
            <a:ext cx="217152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学习建议</a:t>
            </a:r>
            <a:endParaRPr b="0" lang="en-US" sz="3200" spc="-1" strike="noStrike">
              <a:solidFill>
                <a:srgbClr val="ffffff"/>
              </a:solidFill>
              <a:latin typeface="Arial"/>
            </a:endParaRPr>
          </a:p>
        </p:txBody>
      </p:sp>
      <p:sp>
        <p:nvSpPr>
          <p:cNvPr id="136" name="TextBox 3"/>
          <p:cNvSpPr/>
          <p:nvPr/>
        </p:nvSpPr>
        <p:spPr>
          <a:xfrm>
            <a:off x="755640" y="981000"/>
            <a:ext cx="76327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的学习重点及学习建议有如下几点，仅供参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因文章主旨非常鲜明，所以学习时不必在此花多大功夫。“以小见大”是本文的一个突出特点，同学们要围绕这一特点，学会留意捕捉生活和视野中有意义、有价值的小事情、小细节，以自己的亲身感受来思考、反映，并自然而然地升华其意义。</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表达方式上，通过细节描写和场面描写来反映人物品格也是本文的一个特点，学习中可与同学找出并讨论它们的表达效果，以此促进和提高自己的写作水平。</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endParaRPr b="0" lang="en-US" sz="2000" spc="-1" strike="noStrike">
              <a:solidFill>
                <a:srgbClr val="ffffff"/>
              </a:solidFill>
              <a:latin typeface="Arial"/>
            </a:endParaRPr>
          </a:p>
        </p:txBody>
      </p:sp>
      <p:sp>
        <p:nvSpPr>
          <p:cNvPr id="137" name="AutoShape 10">
            <a:hlinkClick r:id="" action="ppaction://hlinkshowjump?jump=firstslide"/>
          </p:cNvPr>
          <p:cNvSpPr/>
          <p:nvPr/>
        </p:nvSpPr>
        <p:spPr>
          <a:xfrm>
            <a:off x="324000" y="609300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3520" y="456840"/>
            <a:ext cx="258264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思考与练习</a:t>
            </a:r>
            <a:endParaRPr b="0" lang="en-US" sz="3200" spc="-1" strike="noStrike">
              <a:solidFill>
                <a:srgbClr val="ffffff"/>
              </a:solidFill>
              <a:latin typeface="Arial"/>
            </a:endParaRPr>
          </a:p>
        </p:txBody>
      </p:sp>
      <p:sp>
        <p:nvSpPr>
          <p:cNvPr id="139" name="TextBox 3"/>
          <p:cNvSpPr/>
          <p:nvPr/>
        </p:nvSpPr>
        <p:spPr>
          <a:xfrm>
            <a:off x="971640" y="981000"/>
            <a:ext cx="698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请以口语练习的形式讨论一下作文选材过程中的“以小见大”问题。</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周恩来总理在中国和世界人民心目中有着别人无法比拟的崇高威望。请查看相关电影、电视及书籍资料，了解其中的主要原因是什么？用作文表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endParaRPr b="0" lang="en-US" sz="2400" spc="-1" strike="noStrike">
              <a:solidFill>
                <a:srgbClr val="ffffff"/>
              </a:solidFill>
              <a:latin typeface="Arial"/>
            </a:endParaRPr>
          </a:p>
        </p:txBody>
      </p:sp>
      <p:sp>
        <p:nvSpPr>
          <p:cNvPr id="140" name="AutoShape 10">
            <a:hlinkClick r:id="" action="ppaction://hlinkshowjump?jump=firstslide"/>
          </p:cNvPr>
          <p:cNvSpPr/>
          <p:nvPr/>
        </p:nvSpPr>
        <p:spPr>
          <a:xfrm>
            <a:off x="324000" y="609300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2247840" y="1844640"/>
            <a:ext cx="2395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Text Box 4"/>
          <p:cNvSpPr/>
          <p:nvPr/>
        </p:nvSpPr>
        <p:spPr>
          <a:xfrm>
            <a:off x="8744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行楷"/>
              </a:rPr>
              <a:t>拓展阅读</a:t>
            </a:r>
            <a:endParaRPr b="0" lang="en-US" sz="3200" spc="-1" strike="noStrike">
              <a:solidFill>
                <a:srgbClr val="ffffff"/>
              </a:solidFill>
              <a:latin typeface="Arial"/>
            </a:endParaRPr>
          </a:p>
        </p:txBody>
      </p:sp>
      <p:sp>
        <p:nvSpPr>
          <p:cNvPr id="143" name="Rectangle 7"/>
          <p:cNvSpPr/>
          <p:nvPr/>
        </p:nvSpPr>
        <p:spPr>
          <a:xfrm>
            <a:off x="684360" y="981000"/>
            <a:ext cx="8065800" cy="246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Arial"/>
              </a:rPr>
              <a:t>周恩来的“第二办公室”和“第三办公室”</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zh-CN" sz="1600" spc="-1" strike="noStrike">
                <a:solidFill>
                  <a:srgbClr val="ffffff"/>
                </a:solidFill>
                <a:latin typeface="仿宋_GB2312"/>
                <a:ea typeface="仿宋_GB2312"/>
              </a:rPr>
              <a:t>解放初期就在西花厅工作的老同志把周恩来的卫生间戏称为“第二办公室”。正如邓颖超所说：“他呀，一天到晚只知道忙于工作，就是不注意自己的身体。”</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周总理每天起居作息等生活习惯与工作安排是，“早晨”醒来一睁开眼睛便看手表。他偶尔按电铃叫人进去询问有何急事需要处理，要是时间许可，他也觉得困乏而没有睡够便接着睡。不然，他便按枕头边的电铃呼叫值班警卫人员。他们听到铃声，便进周恩来卧室随他一起到洗手间。</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周恩来进卫生间后，有时坐在抽水马桶上就按电铃（电铃按钮在马桶旁的小条几上），把值班秘书叫进来，向他报告电话记录、待批阅的紧急文件和一天的工作安排等。有时候，他叫人（多半是周恩来熟悉的老部下）到卫生间来汇报工作，交谈的时间是几分钟，也可长达几十分钟。所以，日子一长，西花厅的工作人员赋予卫生间一个雅号叫做“第二办公室”。</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假如“老资格”的周恩来办公室工作人员将卫生间戏称为“第二办公室”的话，那么卧室就被称之为“第三办公室”。周恩来起床后便到“第二办公室”开始了一天的工作日程，但周恩来是在卧室的床上结束一天工作的。</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周总理每天深夜或凌晨离开办公室去卧室时总抱着一大摞文件。邓颖超戏称为“他每天总抱着金娃娃”去睡觉。</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周恩来洗漱完毕进卧室躺到床上，继续看着“金娃娃”，批阅文件，常常在疲惫不堪时打瞌睡。手里拿着的红铅笔在文件上圈、点、画，到后来则画出一道道弯弯曲曲不规则的线条。有时，工作人员站在旁边劝他休息。他很少答应，只是叫人拿热毛巾擦一把脸，拿点花生米或者苏打饼干给他“充饥”，工作人员看出，其实他是想借此驱除“瞌睡虫”。有时，等工作人员取来花生米，他已呼呼地靠在床头睡着了，握在手里的铅笔已掉在了地上。</a:t>
            </a:r>
            <a:endParaRPr b="0" lang="en-US" sz="1600" spc="-1" strike="noStrike">
              <a:solidFill>
                <a:srgbClr val="ffffff"/>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8:59:02Z</dcterms:modified>
  <cp:revision>93</cp:revision>
  <dc:subject/>
  <dc:title>PowerPoint Presentation</dc:title>
</cp:coreProperties>
</file>