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自定义放映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A8D-824B-4514-B7C9-2FE981B587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758-6CD5-4398-80EC-16BFC4FAC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E85E-10EE-47ED-A997-62FCD89406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F50-6649-4BA3-BABE-2D55BB0CA1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7BD-9AD3-4D38-8FA5-27A39C17DB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5429-5B11-483C-A4C9-393E4AB304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3D1-5A27-4A07-AA66-224867F42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5B2-3984-418A-A27F-0CA9B61635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D1A1-EE44-4086-915C-5E59D96C1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15BE-43B0-4F10-ADBD-309C060B9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A4F-B630-4C70-AB8F-67203F4D3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2B5-6CFF-47D1-B5FD-1F8184097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A74D-ACE2-4C8E-82D2-FED7387FA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50D-398B-4A40-80D2-ECB09C84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1DF-F45C-4AA1-9D0A-BC1F1386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2E7-09D2-4A2D-881D-9AF9759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B38-D9CA-4830-B4FB-EDA82002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383-7B94-47BB-A3F9-9E5D08A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D78-8FEF-4CB3-8DAE-C7609CA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6C7-E29F-436B-BFBD-933B1EF9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45E-D8B4-4F97-BBB5-AA7A0EB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8C5-F1BC-4B01-A970-AB18D117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E02-ED60-4FD8-9224-A15BD33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66F-CCF1-4319-A96B-5AFAEB8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DA2-6501-47DB-8A3E-25924DA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3A9D-646E-43F3-A25F-E3125C935E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&#27867;&#35835;-&#31532;&#22235;&#21333;&#20803;/1&#20877;&#21035;&#24247;&#26725;.ppt" TargetMode="External"/><Relationship Id="rId3" Type="http://schemas.openxmlformats.org/officeDocument/2006/relationships/hyperlink" Target="file:///&#27867;&#35835;-&#31532;&#22235;&#21333;&#20803;/2&#26118;&#26126;&#21363;&#26223;.ppt" TargetMode="External"/><Relationship Id="rId4" Type="http://schemas.openxmlformats.org/officeDocument/2006/relationships/hyperlink" Target="file:///&#27867;&#35835;-&#31532;&#22235;&#21333;&#20803;/2&#26118;&#26126;&#21363;&#26223;.ppt" TargetMode="External"/><Relationship Id="rId5" Type="http://schemas.openxmlformats.org/officeDocument/2006/relationships/hyperlink" Target="file:///&#27867;&#35835;-&#31532;&#22235;&#21333;&#20803;/2&#26118;&#26126;&#21363;&#26223;.ppt" TargetMode="External"/><Relationship Id="rId6" Type="http://schemas.openxmlformats.org/officeDocument/2006/relationships/hyperlink" Target="file:///&#27867;&#35835;-&#31532;&#22235;&#21333;&#20803;/3&#36861;&#27714;.ppt" TargetMode="External"/><Relationship Id="rId7" Type="http://schemas.openxmlformats.org/officeDocument/2006/relationships/hyperlink" Target="file:///&#27867;&#35835;-&#31532;&#22235;&#21333;&#20803;/4&#24215;&#23458;&#38382;&#31572;.ppt" TargetMode="External"/><Relationship Id="rId8" Type="http://schemas.openxmlformats.org/officeDocument/2006/relationships/hyperlink" Target="file:///&#27867;&#35835;-&#31532;&#22235;&#21333;&#20803;/5&#20065;&#24833;.ppt" TargetMode="External"/><Relationship Id="rId9" Type="http://schemas.openxmlformats.org/officeDocument/2006/relationships/slide" Target="slide2.xml"/><Relationship Id="rId10" Type="http://schemas.openxmlformats.org/officeDocument/2006/relationships/hyperlink" Target="file:///&#27867;&#35835;-&#31532;&#22235;&#21333;&#20803;/6&#20551;&#22914;&#29983;&#27963;&#25226;&#20320;&#27450;&#39575;.ppt" TargetMode="External"/><Relationship Id="rId11" Type="http://schemas.openxmlformats.org/officeDocument/2006/relationships/hyperlink" Target="file:///&#27867;&#35835;-&#31532;&#22235;&#21333;&#20803;/7&#25105;&#24895;&#24847;&#26159;&#28608;&#27969;.pp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hyperlink" Target="file:///&#27867;&#35835;-&#31532;&#20116;&#21333;&#20803;/1&#19978;&#37034;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934;&#35835;-&#31532;&#22235;&#21333;&#20803;" TargetMode="External"/><Relationship Id="rId2" Type="http://schemas.openxmlformats.org/officeDocument/2006/relationships/hyperlink" Target="file:///&#31934;&#35835;-&#31532;&#22235;&#21333;&#20803;" TargetMode="External"/><Relationship Id="rId3" Type="http://schemas.openxmlformats.org/officeDocument/2006/relationships/hyperlink" Target="file:///&#31934;&#35835;-&#31532;&#20108;&#21333;&#20803;" TargetMode="External"/><Relationship Id="rId4" Type="http://schemas.openxmlformats.org/officeDocument/2006/relationships/hyperlink" Target="file:///&#27867;&#35835;-&#31532;&#19968;&#21333;&#20803;" TargetMode="External"/><Relationship Id="rId5" Type="http://schemas.openxmlformats.org/officeDocument/2006/relationships/hyperlink" Target="file:///&#27867;&#35835;-&#31532;&#19968;&#21333;&#20803;" TargetMode="External"/><Relationship Id="rId6" Type="http://schemas.openxmlformats.org/officeDocument/2006/relationships/hyperlink" Target="file:///&#27867;&#35835;-&#31532;&#22235;&#21333;&#20803;" TargetMode="Externa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hyperlink" Target="file:///&#31934;&#35835;-&#31532;&#19968;&#21333;&#20803;" TargetMode="External"/><Relationship Id="rId10" Type="http://schemas.openxmlformats.org/officeDocument/2006/relationships/hyperlink" Target="file:///&#31934;&#35835;-&#31532;&#19968;&#21333;&#20803;" TargetMode="External"/><Relationship Id="rId11" Type="http://schemas.openxmlformats.org/officeDocument/2006/relationships/hyperlink" Target="file:///&#31934;&#35835;-&#31532;&#19968;&#21333;&#20803;" TargetMode="External"/><Relationship Id="rId12" Type="http://schemas.openxmlformats.org/officeDocument/2006/relationships/hyperlink" Target="file:///&#31934;&#35835;-&#31532;&#19977;&#21333;&#20803;" TargetMode="External"/><Relationship Id="rId13" Type="http://schemas.openxmlformats.org/officeDocument/2006/relationships/slide" Target="slide6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hyperlink" Target="file:///&#27867;&#35835;-&#31532;&#20108;&#21333;&#20803;" TargetMode="External"/><Relationship Id="rId17" Type="http://schemas.openxmlformats.org/officeDocument/2006/relationships/hyperlink" Target="file:///&#27867;&#35835;-&#31532;&#20116;&#21333;&#20803;" TargetMode="External"/><Relationship Id="rId18" Type="http://schemas.openxmlformats.org/officeDocument/2006/relationships/hyperlink" Target="file:///&#27867;&#35835;-&#31532;&#19977;&#21333;&#20803;" TargetMode="External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hyperlink" Target="file:///&#26222;&#36890;&#35805;&#19982;&#21475;&#35821;&#34920;&#36798;.ppt" TargetMode="Externa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file:///&#31934;&#35835;-&#31532;&#19968;&#21333;&#20803;/1&#25484;&#22768;.ppt" TargetMode="External"/><Relationship Id="rId6" Type="http://schemas.openxmlformats.org/officeDocument/2006/relationships/hyperlink" Target="file:///&#31934;&#35835;-&#31532;&#19968;&#21333;&#20803;/2&#28165;&#22616;&#33655;&#38901;.ppt" TargetMode="External"/><Relationship Id="rId7" Type="http://schemas.openxmlformats.org/officeDocument/2006/relationships/hyperlink" Target="file:///&#31934;&#35835;-&#31532;&#19968;&#21333;&#20803;/3&#31085;&#39532;&#24605;&#32874;&#25991;.ppt" TargetMode="External"/><Relationship Id="rId8" Type="http://schemas.openxmlformats.org/officeDocument/2006/relationships/hyperlink" Target="file:///&#31934;&#35835;-&#31532;&#19968;&#21333;&#20803;/4&#31069;&#31119;&#25289;&#33832;.ppt" TargetMode="External"/><Relationship Id="rId9" Type="http://schemas.openxmlformats.org/officeDocument/2006/relationships/hyperlink" Target="file:///&#31934;&#35835;-&#31532;&#19968;&#21333;&#20803;/6&#19981;&#35114;&#33394;&#30340;&#36855;&#22833;.ppt" TargetMode="External"/><Relationship Id="rId10" Type="http://schemas.openxmlformats.org/officeDocument/2006/relationships/slide" Target="slide2.xml"/><Relationship Id="rId11" Type="http://schemas.openxmlformats.org/officeDocument/2006/relationships/hyperlink" Target="file:///&#31934;&#35835;-&#31532;&#19968;&#21333;&#20803;/5&#36947;&#22763;&#22612;.ppt" TargetMode="Externa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file:///&#31934;&#35835;-&#31532;&#20108;&#21333;&#20803;/1.&#21335;&#24030;&#20845;&#26376;&#33620;&#26525;&#20025;.ppt" TargetMode="External"/><Relationship Id="rId4" Type="http://schemas.openxmlformats.org/officeDocument/2006/relationships/hyperlink" Target="file:///&#31934;&#35835;-&#31532;&#20108;&#21333;&#20803;/2.&#28459;&#35805;&#29305;&#31181;&#37096;&#38431;.ppt" TargetMode="External"/><Relationship Id="rId5" Type="http://schemas.openxmlformats.org/officeDocument/2006/relationships/hyperlink" Target="file:///&#31934;&#35835;-&#31532;&#20108;&#21333;&#20803;/3.21&#19990;&#32426;&#20154;&#31867;&#29983;&#23384;&#26032;&#31354;&#38388;--&#28023;&#27915;&#23478;&#22253;.ppt" TargetMode="External"/><Relationship Id="rId6" Type="http://schemas.openxmlformats.org/officeDocument/2006/relationships/hyperlink" Target="file:///&#31934;&#35835;-&#31532;&#20108;&#21333;&#20803;/3.21&#19990;&#32426;&#20154;&#31867;&#29983;&#23384;&#26032;&#31354;&#38388;--&#28023;&#27915;&#23478;&#22253;.ppt" TargetMode="External"/><Relationship Id="rId7" Type="http://schemas.openxmlformats.org/officeDocument/2006/relationships/hyperlink" Target="file:///&#31934;&#35835;-&#31532;&#20108;&#21333;&#20803;/3.21&#19990;&#32426;&#20154;&#31867;&#29983;&#23384;&#26032;&#31354;&#38388;--&#28023;&#27915;&#23478;&#22253;.ppt" TargetMode="External"/><Relationship Id="rId8" Type="http://schemas.openxmlformats.org/officeDocument/2006/relationships/hyperlink" Target="file:///&#31934;&#35835;-&#31532;&#20108;&#21333;&#20803;/3.21&#19990;&#32426;&#20154;&#31867;&#29983;&#23384;&#26032;&#31354;&#38388;--&#28023;&#27915;&#23478;&#22253;.ppt" TargetMode="External"/><Relationship Id="rId9" Type="http://schemas.openxmlformats.org/officeDocument/2006/relationships/hyperlink" Target="file:///&#31934;&#35835;-&#31532;&#20108;&#21333;&#20803;/4.&#20320;&#20250;&#20859;&#33041;&#21527;&#65311;.ppt" TargetMode="External"/><Relationship Id="rId10" Type="http://schemas.openxmlformats.org/officeDocument/2006/relationships/hyperlink" Target="file:///&#31934;&#35835;-&#31532;&#20108;&#21333;&#20803;/5.&#30333;&#34433;&#29579;&#22269;.ppt" TargetMode="External"/><Relationship Id="rId11" Type="http://schemas.openxmlformats.org/officeDocument/2006/relationships/hyperlink" Target="file:///&#31934;&#35835;-&#31532;&#20108;&#21333;&#20803;/6.WTO&#23558;&#32473;&#20013;&#22269;&#24102;&#26469;&#20160;&#20040;.ppt" TargetMode="External"/><Relationship Id="rId12" Type="http://schemas.openxmlformats.org/officeDocument/2006/relationships/hyperlink" Target="file:///&#31934;&#35835;-&#31532;&#20108;&#21333;&#20803;/6.WTO&#23558;&#32473;&#20013;&#22269;&#24102;&#26469;&#20160;&#20040;.ppt" TargetMode="Externa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hyperlink" Target="file:///&#31934;&#35835;-&#31532;&#19977;&#21333;&#20803;/1&#25343;&#26469;&#20027;&#20041;.ppt" TargetMode="External"/><Relationship Id="rId5" Type="http://schemas.openxmlformats.org/officeDocument/2006/relationships/hyperlink" Target="file:///&#31934;&#35835;-&#31532;&#19977;&#21333;&#20803;/2&#30495;&#8220;&#37325;&#29702;&#8221;&#23601;&#19981;&#35813;&#8220;&#36731;&#25991;&#8221;.ppt" TargetMode="External"/><Relationship Id="rId6" Type="http://schemas.openxmlformats.org/officeDocument/2006/relationships/hyperlink" Target="file:///&#31934;&#35835;-&#31532;&#19977;&#21333;&#20803;/3&#26377;&#29289;&#12289;&#20999;&#39064;&#12289;&#30495;&#23454;&#12289;&#36866;&#37327;.ppt" TargetMode="External"/><Relationship Id="rId7" Type="http://schemas.openxmlformats.org/officeDocument/2006/relationships/hyperlink" Target="file:///&#31934;&#35835;-&#31532;&#19977;&#21333;&#20803;/4&#25442;&#20010;&#35282;&#24230;&#30475;&#38382;&#39064;.ppt" TargetMode="External"/><Relationship Id="rId8" Type="http://schemas.openxmlformats.org/officeDocument/2006/relationships/hyperlink" Target="file:///&#31934;&#35835;-&#31532;&#19977;&#21333;&#20803;/5&#32435;&#35855;&#19982;&#27490;&#35876;.ppt" TargetMode="External"/><Relationship Id="rId9" Type="http://schemas.openxmlformats.org/officeDocument/2006/relationships/hyperlink" Target="file:///&#31934;&#35835;-&#31532;&#19977;&#21333;&#20803;/6&#40723;&#19978;&#34468;&#21478;&#26377;&#37325;&#29992;.ppt" TargetMode="Externa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hyperlink" Target="file:///&#31934;&#35835;-&#31532;&#22235;&#21333;&#20803;/1&#37049;&#24524;&#39118;&#40784;&#29579;&#32435;&#35855;.ppt" TargetMode="External"/><Relationship Id="rId4" Type="http://schemas.openxmlformats.org/officeDocument/2006/relationships/hyperlink" Target="file:///&#31934;&#35835;-&#31532;&#22235;&#21333;&#20803;/2&#33433;&#34134;.ppt" TargetMode="External"/><Relationship Id="rId5" Type="http://schemas.openxmlformats.org/officeDocument/2006/relationships/hyperlink" Target="file:///&#31934;&#35835;-&#31532;&#22235;&#21333;&#20803;/3&#20848;&#20141;&#38598;&#24207;.ppt" TargetMode="External"/><Relationship Id="rId6" Type="http://schemas.openxmlformats.org/officeDocument/2006/relationships/hyperlink" Target="file:///&#31934;&#35835;-&#31532;&#22235;&#21333;&#20803;/4&#22419;&#19979;&#20043;&#22260;.ppt" TargetMode="External"/><Relationship Id="rId7" Type="http://schemas.openxmlformats.org/officeDocument/2006/relationships/hyperlink" Target="file:///&#31934;&#35835;-&#31532;&#22235;&#21333;&#20803;/5&#21149;&#23398;.ppt" TargetMode="External"/><Relationship Id="rId8" Type="http://schemas.openxmlformats.org/officeDocument/2006/relationships/hyperlink" Target="file:///&#31934;&#35835;-&#31532;&#22235;&#21333;&#20803;/6&#19982;&#22971;&#20070;.ppt" TargetMode="Externa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hyperlink" Target="file:///&#27867;&#35835;-&#31532;&#19968;&#21333;&#20803;/1&#22810;&#22810;&#26410;&#24517;&#30410;&#21892;.ppt" TargetMode="External"/><Relationship Id="rId6" Type="http://schemas.openxmlformats.org/officeDocument/2006/relationships/hyperlink" Target="file:///&#27867;&#35835;-&#31532;&#19968;&#21333;&#20803;/2&#38271;&#27743;&#24551;&#24605;&#24405;.ppt" TargetMode="External"/><Relationship Id="rId7" Type="http://schemas.openxmlformats.org/officeDocument/2006/relationships/hyperlink" Target="file:///&#27867;&#35835;-&#31532;&#19968;&#21333;&#20803;/3&#33258;&#26432;&#30340;&#40479;&#20799;.ppt" TargetMode="External"/><Relationship Id="rId8" Type="http://schemas.openxmlformats.org/officeDocument/2006/relationships/hyperlink" Target="file:///&#27867;&#35835;-&#31532;&#19968;&#21333;&#20803;/4&#34987;&#32531;&#35299;&#31232;&#37322;&#21644;&#20914;&#28129;&#20102;&#30340;&#29615;&#22659;.ppt" TargetMode="External"/><Relationship Id="rId9" Type="http://schemas.openxmlformats.org/officeDocument/2006/relationships/slide" Target="slide2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file:///&#27867;&#35835;-&#31532;&#20108;&#21333;&#20803;/1&#36328;&#36234;&#30334;&#24180;&#30340;&#32654;&#20029;.ppt" TargetMode="External"/><Relationship Id="rId4" Type="http://schemas.openxmlformats.org/officeDocument/2006/relationships/hyperlink" Target="file:///&#27867;&#35835;-&#31532;&#20108;&#21333;&#20803;/2&#31532;&#20108;&#27425;&#32771;&#35797;.ppt" TargetMode="External"/><Relationship Id="rId5" Type="http://schemas.openxmlformats.org/officeDocument/2006/relationships/hyperlink" Target="file:///&#27867;&#35835;-&#31532;&#20108;&#21333;&#20803;/3&#36523;&#21518;&#24847;&#35782;.ppt" TargetMode="External"/><Relationship Id="rId6" Type="http://schemas.openxmlformats.org/officeDocument/2006/relationships/hyperlink" Target="file:///&#27867;&#35835;-&#31532;&#20108;&#21333;&#20803;/4&#29983;&#27515;&#26102;&#36895;.ppt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27867;&#35835;-&#31532;&#19977;&#21333;&#20803;/1.21&#19990;&#32426;&#8212;&#8212;&#20154;&#31867;&#34892;&#36208;&#22826;&#31354;.ppt" TargetMode="External"/><Relationship Id="rId3" Type="http://schemas.openxmlformats.org/officeDocument/2006/relationships/hyperlink" Target="file:///&#27867;&#35835;-&#31532;&#19977;&#21333;&#20803;/1.21&#19990;&#32426;&#8212;&#8212;&#20154;&#31867;&#34892;&#36208;&#22826;&#31354;.ppt" TargetMode="External"/><Relationship Id="rId4" Type="http://schemas.openxmlformats.org/officeDocument/2006/relationships/hyperlink" Target="file:///&#27867;&#35835;-&#31532;&#19977;&#21333;&#20803;/1.21&#19990;&#32426;&#8212;&#8212;&#20154;&#31867;&#34892;&#36208;&#22826;&#31354;.ppt" TargetMode="External"/><Relationship Id="rId5" Type="http://schemas.openxmlformats.org/officeDocument/2006/relationships/hyperlink" Target="file:///&#27867;&#35835;-&#31532;&#19977;&#21333;&#20803;/1.21&#19990;&#32426;&#8212;&#8212;&#20154;&#31867;&#34892;&#36208;&#22826;&#31354;.ppt" TargetMode="External"/><Relationship Id="rId6" Type="http://schemas.openxmlformats.org/officeDocument/2006/relationships/hyperlink" Target="file:///&#27867;&#35835;-&#31532;&#19977;&#21333;&#20803;/2.&#20010;&#20154;&#26426;&#22120;&#20154;&#23853;&#38706;&#22836;&#35282;.ppt" TargetMode="External"/><Relationship Id="rId7" Type="http://schemas.openxmlformats.org/officeDocument/2006/relationships/hyperlink" Target="file:///&#27867;&#35835;-&#31532;&#19977;&#21333;&#20803;/3.&#21448;&#34394;&#21448;&#23454;&#65292;&#20134;&#24187;&#20134;&#30495;&#8212;&#8212;&#8220;&#34394;&#25311;&#29616;&#23454;&#8221;&#19990;&#30028;&#25506;&#31192;.ppt" TargetMode="External"/><Relationship Id="rId8" Type="http://schemas.openxmlformats.org/officeDocument/2006/relationships/hyperlink" Target="file:///&#27867;&#35835;-&#31532;&#19977;&#21333;&#20803;/3.&#21448;&#34394;&#21448;&#23454;&#65292;&#20134;&#24187;&#20134;&#30495;&#8212;&#8212;&#8220;&#34394;&#25311;&#29616;&#23454;&#8221;&#19990;&#30028;&#25506;&#31192;.ppt" TargetMode="External"/><Relationship Id="rId9" Type="http://schemas.openxmlformats.org/officeDocument/2006/relationships/hyperlink" Target="file:///&#27867;&#35835;-&#31532;&#19977;&#21333;&#20803;/3.&#21448;&#34394;&#21448;&#23454;&#65292;&#20134;&#24187;&#20134;&#30495;&#8212;&#8212;&#8220;&#34394;&#25311;&#29616;&#23454;&#8221;&#19990;&#30028;&#25506;&#31192;.ppt" TargetMode="External"/><Relationship Id="rId10" Type="http://schemas.openxmlformats.org/officeDocument/2006/relationships/hyperlink" Target="file:///&#27867;&#35835;-&#31532;&#19977;&#21333;&#20803;/4.&#30495;&#20551;&#39072;&#20498;&#30340;&#19990;&#30028;.ppt" TargetMode="External"/><Relationship Id="rId11" Type="http://schemas.openxmlformats.org/officeDocument/2006/relationships/hyperlink" Target="file:///&#27867;&#35835;-&#31532;&#19977;&#21333;&#20803;/4.&#30495;&#20551;&#39072;&#20498;&#30340;&#19990;&#30028;.ppt" TargetMode="External"/><Relationship Id="rId12" Type="http://schemas.openxmlformats.org/officeDocument/2006/relationships/hyperlink" Target="file:///&#27867;&#35835;-&#31532;&#19977;&#21333;&#20803;/4.&#30495;&#20551;&#39072;&#20498;&#30340;&#19990;&#30028;.ppt" TargetMode="Externa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s_kgy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411280" y="1773360"/>
            <a:ext cx="4392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实用语文教学课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54936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教育部高职高专规划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五年制高等职业教育适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usic01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2627280" y="4653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华东师范大学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20061102074013276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619280" y="98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057040" y="206064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再别康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63640" y="2637000"/>
            <a:ext cx="316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昆明即景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4"/>
              </a:rPr>
              <a:t>·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/>
              </a:rPr>
              <a:t>茶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763640" y="3213000"/>
            <a:ext cx="30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763640" y="3846600"/>
            <a:ext cx="396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客店问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765440" y="4508640"/>
            <a:ext cx="27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乡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>
            <a:hlinkClick r:id="rId9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763640" y="5157720"/>
            <a:ext cx="30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如果生活把你欺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763640" y="5789520"/>
            <a:ext cx="27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我愿意是激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5" name="Picture 17" descr="2006716163245719"/>
            <p:cNvPicPr/>
            <p:nvPr/>
          </p:nvPicPr>
          <p:blipFill>
            <a:blip r:embed="rId1"/>
            <a:stretch/>
          </p:blipFill>
          <p:spPr>
            <a:xfrm>
              <a:off x="6037200" y="0"/>
              <a:ext cx="3106800" cy="685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6" name="Object 18"/>
            <p:cNvGraphicFramePr/>
            <p:nvPr/>
          </p:nvGraphicFramePr>
          <p:xfrm>
            <a:off x="0" y="0"/>
            <a:ext cx="6012000" cy="685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" name="Object 1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601200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Text Box 9"/>
          <p:cNvSpPr/>
          <p:nvPr/>
        </p:nvSpPr>
        <p:spPr>
          <a:xfrm>
            <a:off x="1835280" y="1197000"/>
            <a:ext cx="239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上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908000" y="46188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835280" y="1846440"/>
            <a:ext cx="23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田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835280" y="2494080"/>
            <a:ext cx="23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杨柳枝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835280" y="30700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观书有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835280" y="3646440"/>
            <a:ext cx="23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蜀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4"/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835280" y="4294080"/>
            <a:ext cx="23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玉案（元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835280" y="4941720"/>
            <a:ext cx="23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虞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1835280" y="5575320"/>
            <a:ext cx="23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踏鹊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1187280" y="1628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普通话与口语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95640" y="1773360"/>
            <a:ext cx="316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/>
              </a:rPr>
              <a:t>第四单元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916360" y="909720"/>
            <a:ext cx="34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第二单元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140360" y="2924280"/>
            <a:ext cx="316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第一单元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627280" y="4292640"/>
            <a:ext cx="302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第四单元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68360" y="-27000"/>
            <a:ext cx="1440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精  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 action="ppaction://hlinksldjump"/>
              </a:rPr>
              <a:t>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 action="ppaction://hlinksldjump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84360" y="549360"/>
            <a:ext cx="28814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第一单元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492360" y="1413000"/>
            <a:ext cx="302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/>
              </a:rPr>
              <a:t>第三单元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219640" y="2421000"/>
            <a:ext cx="16574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泛 读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3" action="ppaction://hlinksldjump"/>
              </a:rPr>
              <a:t>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4" action="ppaction://hlinksldjump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5" action="ppaction://hlinksldjump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851280" y="3429000"/>
            <a:ext cx="302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6"/>
              </a:rPr>
              <a:t>第二单元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268360" y="4724280"/>
            <a:ext cx="27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7"/>
              </a:rPr>
              <a:t>第五单元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276720" y="3860640"/>
            <a:ext cx="172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8"/>
              </a:rPr>
              <a:t>第三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Picture 15" descr="2007126171406-35"/>
            <p:cNvPicPr/>
            <p:nvPr/>
          </p:nvPicPr>
          <p:blipFill>
            <a:blip r:embed="rId19"/>
            <a:stretch/>
          </p:blipFill>
          <p:spPr>
            <a:xfrm>
              <a:off x="0" y="0"/>
              <a:ext cx="234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6" descr="2007126171406-35"/>
            <p:cNvPicPr/>
            <p:nvPr/>
          </p:nvPicPr>
          <p:blipFill>
            <a:blip r:embed="rId20"/>
            <a:stretch/>
          </p:blipFill>
          <p:spPr>
            <a:xfrm>
              <a:off x="6804000" y="0"/>
              <a:ext cx="23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 Box 10"/>
          <p:cNvSpPr/>
          <p:nvPr/>
        </p:nvSpPr>
        <p:spPr>
          <a:xfrm>
            <a:off x="2475000" y="5541840"/>
            <a:ext cx="421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1"/>
              </a:rPr>
              <a:t>普通话与口语表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10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15"/>
          <p:cNvGraphicFramePr/>
          <p:nvPr/>
        </p:nvGraphicFramePr>
        <p:xfrm>
          <a:off x="-135000" y="-684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000" y="-684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6" descr=""/>
          <p:cNvPicPr/>
          <p:nvPr/>
        </p:nvPicPr>
        <p:blipFill>
          <a:blip r:embed="rId3"/>
          <a:srcRect l="77401" t="12197" r="2749" b="61337"/>
          <a:stretch/>
        </p:blipFill>
        <p:spPr>
          <a:xfrm>
            <a:off x="0" y="5168880"/>
            <a:ext cx="1542960" cy="151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HH02-01709_01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239920" y="701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70160" y="1630440"/>
            <a:ext cx="266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97000" y="2243160"/>
            <a:ext cx="2158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清塘荷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74840" y="2916360"/>
            <a:ext cx="216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祭马思聪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097000" y="3546360"/>
            <a:ext cx="237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祝福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751480" y="4680000"/>
            <a:ext cx="146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不褪色的迷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>
            <a:hlinkClick r:id="rId10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33680" y="406548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道士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-11160" y="0"/>
            <a:ext cx="1440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精  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 action="ppaction://hlinksldjump"/>
              </a:rPr>
              <a:t>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3" action="ppaction://hlinksldjump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4" descr="06031318290132656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8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9" descr=""/>
            <p:cNvPicPr/>
            <p:nvPr/>
          </p:nvPicPr>
          <p:blipFill>
            <a:blip r:embed="rId2"/>
            <a:srcRect l="73145" t="78359" r="2849" b="2753"/>
            <a:stretch/>
          </p:blipFill>
          <p:spPr>
            <a:xfrm>
              <a:off x="6659640" y="4730760"/>
              <a:ext cx="2484360" cy="212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 Box 10"/>
          <p:cNvSpPr/>
          <p:nvPr/>
        </p:nvSpPr>
        <p:spPr>
          <a:xfrm>
            <a:off x="363528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二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987640" y="162864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南州六月荔枝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987640" y="2276640"/>
            <a:ext cx="3384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漫话特种部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87640" y="2997360"/>
            <a:ext cx="6410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21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世纪人类生存新空间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海洋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205080" y="3625920"/>
            <a:ext cx="259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你会养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203640" y="4292640"/>
            <a:ext cx="2087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白蚁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276720" y="4994280"/>
            <a:ext cx="439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WTO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/>
              </a:rPr>
              <a:t>将给中国带来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>
            <a:hlinkClick r:id="rId13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8"/>
          <p:cNvGrpSpPr/>
          <p:nvPr/>
        </p:nvGrpSpPr>
        <p:grpSpPr>
          <a:xfrm>
            <a:off x="179280" y="0"/>
            <a:ext cx="8964720" cy="6858000"/>
            <a:chOff x="179280" y="0"/>
            <a:chExt cx="8964720" cy="6858000"/>
          </a:xfrm>
        </p:grpSpPr>
        <p:graphicFrame>
          <p:nvGraphicFramePr>
            <p:cNvPr id="93" name="Object 15"/>
            <p:cNvGraphicFramePr/>
            <p:nvPr/>
          </p:nvGraphicFramePr>
          <p:xfrm>
            <a:off x="2627280" y="0"/>
            <a:ext cx="6516720" cy="685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7280" y="0"/>
                      <a:ext cx="651672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" name="Picture 4" descr="CD003073-0399"/>
            <p:cNvPicPr/>
            <p:nvPr/>
          </p:nvPicPr>
          <p:blipFill>
            <a:blip r:embed="rId3"/>
            <a:stretch/>
          </p:blipFill>
          <p:spPr>
            <a:xfrm>
              <a:off x="179280" y="0"/>
              <a:ext cx="2270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 Box 5"/>
          <p:cNvSpPr/>
          <p:nvPr/>
        </p:nvSpPr>
        <p:spPr>
          <a:xfrm>
            <a:off x="7960680" y="1773360"/>
            <a:ext cx="606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三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967800" y="1773360"/>
            <a:ext cx="6634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拿来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175440" y="1773360"/>
            <a:ext cx="663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真“重理”就不该“轻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83440" y="1773360"/>
            <a:ext cx="6634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有物、切题、真实、适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664160" y="1773360"/>
            <a:ext cx="663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换个角度看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943440" y="1773360"/>
            <a:ext cx="6634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纳谏与止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079800" y="1773360"/>
            <a:ext cx="663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鼓上蚤另有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>
            <a:hlinkClick r:id="rId10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Picture 9" descr="国画-人物050"/>
            <p:cNvPicPr/>
            <p:nvPr/>
          </p:nvPicPr>
          <p:blipFill>
            <a:blip r:embed="rId1"/>
            <a:stretch/>
          </p:blipFill>
          <p:spPr>
            <a:xfrm>
              <a:off x="0" y="4191120"/>
              <a:ext cx="26668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HH02-01709_01"/>
            <p:cNvPicPr/>
            <p:nvPr/>
          </p:nvPicPr>
          <p:blipFill>
            <a:blip r:embed="rId2"/>
            <a:stretch/>
          </p:blipFill>
          <p:spPr>
            <a:xfrm>
              <a:off x="7243920" y="0"/>
              <a:ext cx="1900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10"/>
          <p:cNvSpPr/>
          <p:nvPr/>
        </p:nvSpPr>
        <p:spPr>
          <a:xfrm>
            <a:off x="305784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771640" y="2349360"/>
            <a:ext cx="410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邹忌讽齐王纳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771640" y="2924280"/>
            <a:ext cx="3313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芙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065040" y="350028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兰亭集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65040" y="407664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垓下之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2771640" y="4653000"/>
            <a:ext cx="439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劝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992320" y="522936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与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>
            <a:hlinkClick r:id="rId9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6" name="Group 2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aphicFrame>
            <p:nvGraphicFramePr>
              <p:cNvPr id="117" name="Object 20"/>
              <p:cNvGraphicFramePr/>
              <p:nvPr/>
            </p:nvGraphicFramePr>
            <p:xfrm>
              <a:off x="0" y="0"/>
              <a:ext cx="4422600" cy="685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8" name="Object 2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0"/>
                        <a:ext cx="4422600" cy="68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9" name="Picture 12" descr="诗背景"/>
              <p:cNvPicPr/>
              <p:nvPr/>
            </p:nvPicPr>
            <p:blipFill>
              <a:blip r:embed="rId3"/>
              <a:srcRect l="30430" t="860" r="1814" b="2112"/>
              <a:stretch/>
            </p:blipFill>
            <p:spPr>
              <a:xfrm>
                <a:off x="4284720" y="0"/>
                <a:ext cx="485928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" name="Picture 13" descr=""/>
            <p:cNvPicPr/>
            <p:nvPr/>
          </p:nvPicPr>
          <p:blipFill>
            <a:blip r:embed="rId4"/>
            <a:srcRect l="77401" t="12197" r="2749" b="61337"/>
            <a:stretch/>
          </p:blipFill>
          <p:spPr>
            <a:xfrm>
              <a:off x="0" y="5168880"/>
              <a:ext cx="1542960" cy="151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24"/>
          <p:cNvSpPr/>
          <p:nvPr/>
        </p:nvSpPr>
        <p:spPr>
          <a:xfrm>
            <a:off x="1332000" y="105264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24000" y="1773360"/>
            <a:ext cx="326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多多未必益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484360" y="2492280"/>
            <a:ext cx="326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长江忧思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484360" y="3213000"/>
            <a:ext cx="424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自杀的鸟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2124000" y="393372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被缓解稀释和冲淡了的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2">
            <a:hlinkClick r:id="rId9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08000" y="115920"/>
            <a:ext cx="16574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泛 读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 action="ppaction://hlinksldjump"/>
              </a:rPr>
              <a:t>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 action="ppaction://hlinksldjump"/>
              </a:rPr>
              <a:t>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 action="ppaction://hlinksldjump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9" name="Picture 15" descr=""/>
            <p:cNvPicPr/>
            <p:nvPr/>
          </p:nvPicPr>
          <p:blipFill>
            <a:blip r:embed="rId1"/>
            <a:srcRect l="7322" t="1134" r="39761" b="0"/>
            <a:stretch/>
          </p:blipFill>
          <p:spPr>
            <a:xfrm>
              <a:off x="0" y="0"/>
              <a:ext cx="5219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6" descr=""/>
            <p:cNvPicPr/>
            <p:nvPr/>
          </p:nvPicPr>
          <p:blipFill>
            <a:blip r:embed="rId2"/>
            <a:srcRect l="73145" t="78359" r="2849" b="2753"/>
            <a:stretch/>
          </p:blipFill>
          <p:spPr>
            <a:xfrm>
              <a:off x="7045200" y="5060880"/>
              <a:ext cx="2098800" cy="17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7"/>
          <p:cNvSpPr/>
          <p:nvPr/>
        </p:nvSpPr>
        <p:spPr>
          <a:xfrm>
            <a:off x="3419640" y="836640"/>
            <a:ext cx="23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二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780000" y="1557360"/>
            <a:ext cx="3260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跨越百年的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780000" y="2349360"/>
            <a:ext cx="3260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第二次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780000" y="3068640"/>
            <a:ext cx="42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身后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780000" y="3860640"/>
            <a:ext cx="59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生死时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>
            <a:hlinkClick r:id="rId7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国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619280" y="98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第三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456200" y="2060640"/>
            <a:ext cx="299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21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世纪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人类行走太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96760" y="2637000"/>
            <a:ext cx="3961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个人机器人崭露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60400" y="3213000"/>
            <a:ext cx="7993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又虚又实，亦幻亦真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“虚拟现实”世界探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26920" y="3860640"/>
            <a:ext cx="7777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真假颠倒的世界（节选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/>
              </a:rPr>
              <a:t>游狄斯尼乐园有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>
            <a:hlinkClick r:id="rId13" action="ppaction://hlinksldjump"/>
          </p:cNvPr>
          <p:cNvSpPr/>
          <p:nvPr/>
        </p:nvSpPr>
        <p:spPr>
          <a:xfrm>
            <a:off x="5940360" y="6308640"/>
            <a:ext cx="719280" cy="287280"/>
          </a:xfrm>
          <a:prstGeom prst="flowChartAlternateProcess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宋体"/>
              </a:rPr>
              <a:t>回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6:00:01Z</dcterms:created>
  <dc:creator>耿德旭</dc:creator>
  <dc:description/>
  <dc:language>en-US</dc:language>
  <cp:lastModifiedBy>微软用户</cp:lastModifiedBy>
  <dcterms:modified xsi:type="dcterms:W3CDTF">2013-08-15T11:29:00Z</dcterms:modified>
  <cp:revision>153</cp:revision>
  <dc:subject/>
  <dc:title>幻灯片 1</dc:title>
</cp:coreProperties>
</file>