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B6AD-03EA-4F88-9D31-20BF0755054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5EE2-5E8C-4351-97AC-2DCC5B7DCC3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EE67-9E44-4986-900A-6091F92715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6206-F2F7-4167-8C17-C2D2541CA38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6B2A-5C1A-4CCE-89FB-D671B2A3FE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F1FB-03E7-4F0A-B809-64A64D0EAA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08A9-7DED-4432-B1A2-511EC0A0BED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B28F-A812-4B5A-B7E5-61606746417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FC16-2D80-4469-A0B4-D42B7506C0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D696-F585-4278-872C-A5CD9F9A9E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8FF5-7158-4DA4-A8F2-1B43FEBF16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314D-ACEE-4913-842F-F575E00CCC0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332-38A9-4817-A20B-26FE9D12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822-6C13-47D6-A2AA-C9729220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3E5-D6C3-4681-9964-BC6A22A1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58B-13C2-4CC3-B712-16830385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47B9-18D8-40DB-8FE8-01319AA1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730-286C-43B6-9963-873907A6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96F-3DB8-47E5-B220-8ADBEDD9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553-5BF6-4EC2-B456-16D0B49B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F40-BACB-4579-BF99-9210F40C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DE0-2CAA-4FF5-A731-4B30CD42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3D8-DE80-4665-B7FF-C381B199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4DD-0856-4168-9DD9-1D7CE236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04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Picture 3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4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70C9-6896-4A92-A269-CA31412E19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4.xml"/><Relationship Id="rId4" Type="http://schemas.openxmlformats.org/officeDocument/2006/relationships/image" Target="../media/image5.png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10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Box 2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8520" y="2590920"/>
            <a:ext cx="1882800" cy="17366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35">
            <a:hlinkClick r:id="" action="ppaction://hlinkshowjump?jump=endshow"/>
          </p:cNvPr>
          <p:cNvSpPr/>
          <p:nvPr/>
        </p:nvSpPr>
        <p:spPr>
          <a:xfrm>
            <a:off x="781200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Text Box 2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51240" y="1809720"/>
            <a:ext cx="1603080" cy="2079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4">
            <a:hlinkClick r:id="rId5" action="ppaction://hlinksldjump"/>
          </p:cNvPr>
          <p:cNvSpPr/>
          <p:nvPr/>
        </p:nvSpPr>
        <p:spPr>
          <a:xfrm>
            <a:off x="4269240" y="13255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习建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Text Box 24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41800" y="1620720"/>
            <a:ext cx="1608120" cy="239076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2587680" y="4672080"/>
            <a:ext cx="6408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纳谏与止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重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邹忌讽齐王纳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有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Text Box 24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035760" y="2401920"/>
            <a:ext cx="1644480" cy="1932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556000" y="2176560"/>
            <a:ext cx="633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召公谏厉王止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厉王虐，国人谤王，召公告曰：“民不堪命矣！”王怒，得卫巫，使监谤者。以告，则杀之。国人莫敢言，道路以目。    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王喜，告召公曰：“吾能弭谤矣，乃不敢言。” 召公曰：“是障之也，防民之口，甚於防川。川壅而溃，伤人必多，民亦如之。是故为川者决之使导；为民者宣之使言。故天子听政，使公卿至於列士献诗；瞽献曲；史献书；师箴；瞍赋；蒙诵；百工谏；庶人传语；近臣尽辨；亲戚补察；瞽史教诲；耆艾修之；而後王斟酌焉，是以事行而不悖。民之有口，犹土之有山川也，财用於是乎出；犹其原隰之有衍沃也，衣食於是乎生；口之宣言也，善败於是乎兴。行善而备败，其所以阜财用衣食者也。夫民虑之於心，而宣之於口，成而行之胡可壅也。若壅其口，其与能几何？”  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    王弗听，於是国人莫敢出言。叁年，乃流王於彘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>
            <a:hlinkClick r:id="" action="ppaction://hlinkshowjump?jump=firstslide"/>
          </p:cNvPr>
          <p:cNvSpPr/>
          <p:nvPr/>
        </p:nvSpPr>
        <p:spPr>
          <a:xfrm>
            <a:off x="781200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2266920" y="2463120"/>
            <a:ext cx="70581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参考译文：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17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厉王暴虐，百姓都在暗地里说厉王的不是。召公将这一切告诉厉王：“百姓不能忍受您暴虐的政令。”厉王大怒，找了个卫国的巫师，让他来监督说谤言的人。只要卫国的巫师将说谤言的人告诉厉王，厉王就把那个人杀掉。（于是）百姓都不敢随便说话了，路上相见只是彼此交换眼光而已。 </a:t>
            </a:r>
            <a:br>
              <a:rPr sz="1700"/>
            </a:br>
            <a:r>
              <a:rPr b="0" lang="zh-CN" sz="17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    厉王很高兴，对召公说：“我能够消除谤言，（使百姓）不敢说话。” 召公说：“只是堵住百姓的口啊。限制言论，比预防河水泛滥还要重要。河流堵塞使堤坝崩溃，一定会伤害好多人，（限制言论）也一样。所以治水的人用疏导的方法使水流入大海；治理国家的人让百姓评论政事得失。像这样的话，天子处理政事时，公卿和列士可以进献讽谏的诗歌；乐师可以进献歌曲；史官可以进献史书；乐师进言规劝天子，大家朗读出来。平民百姓没有机会见到国君，因此他们把对政事的意见间接地传达给国君知道。亲近的大臣要尽规劝国君的责任。和国君同宗的大臣要弥补国君的过失和监督国君的行为。乐师和史官要用乐曲和史书来对国君进行教诲。朝中元老们要整理朝政，使国君处理政事可以仔细考虑，使自己的处理与常理不相违背。老百姓有口，就像大地有高山河流一样，社会的物资财富全靠它出产；又像高原和低地都有平坦肥沃的良田一样，人类的衣食物品全靠它产生。由于百姓用口发表言论，国家政事的好坏就能从他们的言论中得到体现。百姓认为好的就推行，百姓认为坏的就防范。如同土地能使衣食丰富一样，百姓发表的言论是考虑成熟后的自然流露。如果堵塞了百姓的口，会有多少人赞同呢？ </a:t>
            </a:r>
            <a:br>
              <a:rPr sz="1700"/>
            </a:br>
            <a:r>
              <a:rPr b="0" lang="zh-CN" sz="17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    厉王不听召公的劝导，从这以后百姓再也不敢公开发表言论指斥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他了。三年后，厉王被国人流放到了彘地。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>
            <a:hlinkClick r:id="" action="ppaction://hlinkshowjump?jump=firstslide"/>
          </p:cNvPr>
          <p:cNvSpPr/>
          <p:nvPr/>
        </p:nvSpPr>
        <p:spPr>
          <a:xfrm>
            <a:off x="8263080" y="6524640"/>
            <a:ext cx="898560" cy="35892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340000" y="2034360"/>
            <a:ext cx="680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臧克家，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05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0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月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8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日出生于山东省诸城县臧家庄的一个封建地主家庭。祖父和父亲都爱诗。他九岁入私塾启蒙。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19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,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考入县立第一高小。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23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考入山东省立第一师范，开始学写新诗。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03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考入国立青岛大学（后改名为国立同东大学），从闻一多先生学写新诗。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33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出版第一部诗集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烙印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，得到文学前辈的好评，被称为“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33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文坛上的新人”。次年又出版诗集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罪恶的黑手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，蜚声诗坛。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34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大学毕业，任教省立临清中学，出版了诗集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运河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长诗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自己的写照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抗战军兴，奔赴前方从事抗日文化宣传工作，曾任第五战区文化工作委员会委员、战时文化工作团团长要职。出版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津浦北线血战记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从军行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淮上吟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等诗文集。曾任中华全国文艺界抗敌协会襄樊、宜昌两分会理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42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5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月，在三一出版社因所办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大地文丛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被查禁，愤而辞职。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8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月到重庆，专事创作，并参加文艺界活动及争民主运动，任“文协”候补理事；出版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古树的花朵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泥土的歌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我的诗生活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等多本诗文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44680" y="1054080"/>
            <a:ext cx="12776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>
            <a:hlinkClick r:id="" action="ppaction://hlinkshowjump?jump=firstslide"/>
          </p:cNvPr>
          <p:cNvSpPr/>
          <p:nvPr/>
        </p:nvSpPr>
        <p:spPr>
          <a:xfrm>
            <a:off x="781200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340000" y="1840680"/>
            <a:ext cx="680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46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秋抵上海，先后主编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侨声报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文艺副刊、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文讯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月刊，协助有人创办星群出版公司，出版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诗创造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丛刊，并主编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创造诗丛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十二本，一一作序。抗战后期，国民党的独裁统治，激起诗人的愤怒，开始大量创作政治讽刺诗，结集为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宝贝儿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生命的零度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出版，还出版有散文，小说集多本。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48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年底，被迫潜往香港。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49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3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月，在党组织安排下乘船到北平。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5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月，入华北大学文艺学院任研究员。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7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月，出席第一次文代会，同时当选为全国文协委员。后调出版总署、人民出版社任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新华月报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编委，主编文艺栏，被聘为编审。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51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参加中国民主同盟。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76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后，任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诗刊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顾问兼编委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81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起任中国作协顾问。他年逾古稀，仍致力于散文、旧体诗词及诗论的写作，出版了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怀人集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诗与生活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等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0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余部著作。并于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85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高龄，亲自主编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毛泽东诗词鉴赏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。如今他仍以那枝不倦的彩笔，为晚霞增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建国后，曾任第一、二、三届中国作协理事，第三、四届全国文联委员，第二、三届全国人大代表，第五、六、七、八届全国政协委员（其中六、七届为常委）。现任中国作协名誉副主席、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诗刊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顾问、中国文联荣誉委员、中国毛泽东诗词研究会名誉会长、中国诗歌学会会长等职。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44680" y="1054080"/>
            <a:ext cx="12776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>
            <a:hlinkClick r:id="" action="ppaction://hlinkshowjump?jump=firstslide"/>
          </p:cNvPr>
          <p:cNvSpPr/>
          <p:nvPr/>
        </p:nvSpPr>
        <p:spPr>
          <a:xfrm>
            <a:off x="7827840" y="6451560"/>
            <a:ext cx="900360" cy="35892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68360" y="2189520"/>
            <a:ext cx="68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本文是一篇读后感。读后感的重点在于有感而发。作者在重读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邹忌讽齐王纳谏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后，以齐威王勇于纳谏的难能可贵之举立论，结合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国语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中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召公谏厉王止谤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的故事，两相对照，展开论述，高度赞扬勇于纳谏精神的明智和磊落胸怀，并由此引出古今对比，联系实际阐发感想，希望领导者能向齐威王学习，勇于“纳谏”，从而使工作改进，效率提高，受到广大群众的鼓励与表扬，而不要做周厉王，千方百计“止谤”，采取荒谬绝伦的“防民之口，甚于防川”之举，以致最终被流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本文语言表达生动形象，富于文采，且流畅明快，简洁有力，加之对比论证方法的巧妙运用和持之有效、言之有理的说理风格的展示，使得文章的可读性大大增强，感染力和说服、教育意义也极易为人们所接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阅读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>
            <a:hlinkClick r:id="" action="ppaction://hlinkshowjump?jump=firstslide"/>
          </p:cNvPr>
          <p:cNvSpPr/>
          <p:nvPr/>
        </p:nvSpPr>
        <p:spPr>
          <a:xfrm>
            <a:off x="7956720" y="6451560"/>
            <a:ext cx="900000" cy="35892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68360" y="1739880"/>
            <a:ext cx="6875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二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本文可分为五部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一部分（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自然段），介绍重读篇目，抒发重读感受。这一段写得自然得体，引人入胜：既点明了是重读，又表达了重读之后新有的感觉，必与原来“故事性强，引人入胜”的意思不同的意味，为下文的展开埋下伏笔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二部分（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-6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自然段），表达重读感觉并联想到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召公谏厉王止谤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，进行对比，指出“齐威王纳谏而使国家强盛，周厉王止谤最终导致垮台”的历史教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三部分（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7-9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自然段），以史为镜，阐明我们当前某些领导同志怕听“逆耳忠言”的行为及其后果，并以典型事例（“四人帮”的所作所为）印证，强调不肯纳谏，没有善听的耳朵的严重危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四部分（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0-11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自然段），再次回到重读文章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邹忌风齐王纳谏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中去，从写作方法、艺术特色上评述重读感觉，在肯定齐王纳谏勇气的前提下，大力赞颂文章的构思、笔法。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五部分（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2-13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自然段），再次照应文章开头，同时再次点明写此篇读后感的目的：希望当今的“某个部门或机关”，也能“悬赏纳谏”，改进工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阅读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>
            <a:hlinkClick r:id="" action="ppaction://hlinkshowjump?jump=firstslide"/>
          </p:cNvPr>
          <p:cNvSpPr/>
          <p:nvPr/>
        </p:nvSpPr>
        <p:spPr>
          <a:xfrm>
            <a:off x="7956720" y="6451560"/>
            <a:ext cx="900000" cy="35892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2268360" y="1828080"/>
            <a:ext cx="6875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三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写作特色上，本文也有不少直接借鉴之处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一）语言表达生动形象，富于文采且流畅明快，简介有力。如文章开篇，作者写读好文章的感觉是“如饮醇酒，其味无穷，久而弥笃”，全是四字句，可谓流畅明快、简洁有力地将心中之言尽现于纸上，而同时，我们读者却也在为其比喻之形象、生动，文采斐然而止不住地较好。对重读感觉，“如故人重逢，格外亲切”也具有同样出色的语言表达效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二）四字句、四字成语的大量运用，使得本文颇具特色，给人言简意明，干脆利落之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从文章开篇的“如饮醇酒，其味无穷，久而弥笃”到文章结尾的“如若不信，盍试为之”，全文运用四字句及四字成语共有八九十处，再加之与它们相呼应的“五字句”及短句的运用，无疑使得文章的整体风格趋向干净利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三）说理风格持之有故，言之有理，自成一体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文章说理并无强加于人之嫌，处处引用，都有明显的出处，时时说理，都是水到渠成，令人不得不信服；为说明君甚少，连唐太宗与魏征这样少见的例子也拿了出来；为说明史可以为镜，今人应需多多借鉴，作者还列举了臭名昭著的“四人帮”的故事加以证明等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阅读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>
            <a:hlinkClick r:id="" action="ppaction://hlinkshowjump?jump=firstslide"/>
          </p:cNvPr>
          <p:cNvSpPr/>
          <p:nvPr/>
        </p:nvSpPr>
        <p:spPr>
          <a:xfrm>
            <a:off x="7956720" y="6451560"/>
            <a:ext cx="900000" cy="35892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279520" y="1158480"/>
            <a:ext cx="687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四）运用对比论证方法，使得所论鲜明突出，这是本文写作特色上最突出的一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对比论证方法不仅体现在文中，从题目上看，也自有发现。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纳谏与止谤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，“纳谏”、“止谤”，态度相反，意义对立，揭示了鲜明的对比寓意。至于文中，少数从谏如流的明君之国而是政治稳定、国泰民安的示例与“忠臣义士，赤心耿耿，进忠进谏”，而被挖心、放逐的强烈对比；齐威王与周厉王态度不同，结果相反的对比等等，无不使得文章欲抒之感，欲达之意明了、深刻，充分体现了对比论证方法的巨大作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阅读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>
            <a:hlinkClick r:id="" action="ppaction://hlinkshowjump?jump=firstslide"/>
          </p:cNvPr>
          <p:cNvSpPr/>
          <p:nvPr/>
        </p:nvSpPr>
        <p:spPr>
          <a:xfrm>
            <a:off x="7956720" y="6451560"/>
            <a:ext cx="900000" cy="35892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2556000" y="1151280"/>
            <a:ext cx="64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本课论点并不难把握，关键是要学习作者写作读后感的语言及论证方法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学习方法及步骤建议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一）先预习、阅读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邹忌风齐王纳谏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，要求理解体会文章主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二）抓住本文对比论证特色，找出文中对比事例，从对比过程中归纳出主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三）归纳并解释四字句及四字成语，并体会语言简洁明快的特色及好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学习建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>
            <a:hlinkClick r:id="" action="ppaction://hlinkshowjump?jump=firstslide"/>
          </p:cNvPr>
          <p:cNvSpPr/>
          <p:nvPr/>
        </p:nvSpPr>
        <p:spPr>
          <a:xfrm>
            <a:off x="781200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700360" y="216504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、本文语言表达生动形象，富于文采。文中多次使用了四字句和四字构成的成语、短语。例如：逆耳之言、一概而论、言者无罪、责无旁贷、久而弥笃、门庭若市、掩卷沉思、忽发奇想、娓娓动听、天渊之别等。请把这种词汇收集起来，并联系上下文，理解它们和学会运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二、练习用对比论证的方法写一篇议论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093320" y="99432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思考与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>
            <a:hlinkClick r:id="" action="ppaction://hlinkshowjump?jump=firstslide"/>
          </p:cNvPr>
          <p:cNvSpPr/>
          <p:nvPr/>
        </p:nvSpPr>
        <p:spPr>
          <a:xfrm>
            <a:off x="781200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8-18T06:41:14Z</dcterms:modified>
  <cp:revision>39</cp:revision>
  <dc:subject/>
  <dc:title>PowerPoint Presentation</dc:title>
</cp:coreProperties>
</file>