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3D8C-212C-4E23-A157-4BFB4D9025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55B4-9A68-4917-AE1A-487641B115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BC25-4E27-4C0B-A6CA-6ED8F2E676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4B25-798F-455F-BA0A-B3A791B866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F55B-F93D-442E-8916-A2D55A7697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DC0-AB4A-4F72-AFEE-D9597427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B86-C53A-454A-9C21-6EF5765F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9C8-0006-4E23-9709-7E664743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12A-2209-4146-8F14-C29DAE07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87DD-A341-4915-AF22-AB327B23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C1F2-2949-43A9-B22B-8DCB47E9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AB6A-6297-42CC-B527-7DB1CA78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61C7-6015-43E0-A062-39287C3F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C5AA-2D29-4B68-B876-8E6D51DB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0852-12DF-437A-B1A0-EF6A336F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BFF1-8700-41F9-93CE-E92C837D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A38-9A29-4EE3-BEEA-A80F8C25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2E01-61BE-4343-BF5B-62F466D0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2DA5-B3F5-485B-9D78-5B8BF3A8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E70C-483E-45D7-9FCC-331C62D2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868F-187F-4515-AEEF-C162992A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8B07-32B1-473C-9608-7D918CD4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E5A-A896-4E42-A583-2552BCE1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5B1-354B-4486-ABBD-A43C10B6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E89-2338-4357-A575-8507FC68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539-AF19-408C-B4A6-674B61FB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6C8-30EF-4DC6-B384-3812AE6D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897-B97F-4AD9-9DE3-52A1251A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413-6986-44B4-875B-83BA1A2D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D155-51C2-42E2-BC04-EB96159BC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0C5D-1AF6-44C5-BDFB-83A531D0C6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7" descr=""/>
          <p:cNvPicPr/>
          <p:nvPr/>
        </p:nvPicPr>
        <p:blipFill>
          <a:blip r:embed="rId1"/>
          <a:stretch/>
        </p:blipFill>
        <p:spPr>
          <a:xfrm>
            <a:off x="0" y="14400"/>
            <a:ext cx="8244000" cy="68436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1"/>
          <p:cNvSpPr/>
          <p:nvPr/>
        </p:nvSpPr>
        <p:spPr>
          <a:xfrm>
            <a:off x="0" y="3789360"/>
            <a:ext cx="1440000" cy="647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889" y="0"/>
                </a:lnTo>
                <a:lnTo>
                  <a:pt x="21600" y="10800"/>
                </a:lnTo>
                <a:lnTo>
                  <a:pt x="118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Times New Roman"/>
              </a:rPr>
              <a:t>翻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2"/>
          <p:cNvSpPr/>
          <p:nvPr/>
        </p:nvSpPr>
        <p:spPr>
          <a:xfrm>
            <a:off x="0" y="4653000"/>
            <a:ext cx="1440000" cy="647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889" y="0"/>
                </a:lnTo>
                <a:lnTo>
                  <a:pt x="21600" y="10800"/>
                </a:lnTo>
                <a:lnTo>
                  <a:pt x="118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Times New Roman"/>
              </a:rPr>
              <a:t>文章赏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7403040" y="429804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宋体"/>
              </a:rPr>
              <a:t>朱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2" descr="C:\Documents and Settings\Administrator\Application Data\Tencent\Users\32230271\QQ\WinTemp\RichOle\QQ9NF6OYK89M9IQG1P[31EE.jpg"/>
          <p:cNvPicPr/>
          <p:nvPr/>
        </p:nvPicPr>
        <p:blipFill>
          <a:blip r:embed="rId2"/>
          <a:stretch/>
        </p:blipFill>
        <p:spPr>
          <a:xfrm>
            <a:off x="0" y="0"/>
            <a:ext cx="752400" cy="552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C:\Documents and Settings\Administrator\Application Data\Tencent\Users\32230271\QQ\WinTemp\RichOle\QQ9NF6OYK89M9IQG1P[31EE.jpg"/>
          <p:cNvPicPr/>
          <p:nvPr/>
        </p:nvPicPr>
        <p:blipFill>
          <a:blip r:embed="rId3"/>
          <a:stretch/>
        </p:blipFill>
        <p:spPr>
          <a:xfrm>
            <a:off x="152280" y="152280"/>
            <a:ext cx="752760" cy="55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4" descr="C:\Documents and Settings\Administrator\Application Data\Tencent\Users\32230271\QQ\WinTemp\RichOle\QQ9NF6OYK89M9IQG1P[31EE.jpg"/>
          <p:cNvPicPr/>
          <p:nvPr/>
        </p:nvPicPr>
        <p:blipFill>
          <a:blip r:embed="rId4"/>
          <a:stretch/>
        </p:blipFill>
        <p:spPr>
          <a:xfrm>
            <a:off x="304920" y="304920"/>
            <a:ext cx="752400" cy="5522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" descr=""/>
          <p:cNvPicPr/>
          <p:nvPr/>
        </p:nvPicPr>
        <p:blipFill>
          <a:blip r:embed="rId5"/>
          <a:stretch/>
        </p:blipFill>
        <p:spPr>
          <a:xfrm>
            <a:off x="0" y="5300640"/>
            <a:ext cx="1539720" cy="13683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" descr=""/>
          <p:cNvPicPr/>
          <p:nvPr/>
        </p:nvPicPr>
        <p:blipFill>
          <a:blip r:embed="rId6"/>
          <a:stretch/>
        </p:blipFill>
        <p:spPr>
          <a:xfrm>
            <a:off x="8178840" y="14400"/>
            <a:ext cx="1073160" cy="6843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9"/>
          <p:cNvSpPr/>
          <p:nvPr/>
        </p:nvSpPr>
        <p:spPr>
          <a:xfrm>
            <a:off x="8032680" y="44280"/>
            <a:ext cx="1003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宋体"/>
              </a:rPr>
              <a:t>观书有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1">
            <a:hlinkClick r:id="" action="ppaction://hlinkshowjump?jump=endshow"/>
          </p:cNvPr>
          <p:cNvSpPr/>
          <p:nvPr/>
        </p:nvSpPr>
        <p:spPr>
          <a:xfrm>
            <a:off x="8486640" y="6165720"/>
            <a:ext cx="657360" cy="443160"/>
          </a:xfrm>
          <a:prstGeom prst="flowChartAlternateProcess">
            <a:avLst/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Arial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7"/>
          <p:cNvSpPr/>
          <p:nvPr/>
        </p:nvSpPr>
        <p:spPr>
          <a:xfrm>
            <a:off x="6967800" y="33336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华文行楷"/>
              </a:rPr>
              <a:t>翻  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42880" y="1755720"/>
            <a:ext cx="780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半亩方塘像镜子一样清澈明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天光云影全被它反映了出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问这池塘里的水为什么这样清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是因为有永不枯竭的源头不断为它送来活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8028000" y="6165720"/>
            <a:ext cx="720720" cy="503280"/>
          </a:xfrm>
          <a:prstGeom prst="flowChartAlternateProcess">
            <a:avLst/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Arial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6"/>
          <p:cNvSpPr/>
          <p:nvPr/>
        </p:nvSpPr>
        <p:spPr>
          <a:xfrm>
            <a:off x="716220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华文行楷"/>
              </a:rPr>
              <a:t>文章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0"/>
          <p:cNvSpPr/>
          <p:nvPr/>
        </p:nvSpPr>
        <p:spPr>
          <a:xfrm>
            <a:off x="8172360" y="6237360"/>
            <a:ext cx="720720" cy="504720"/>
          </a:xfrm>
          <a:prstGeom prst="flowChartAlternateProcess">
            <a:avLst/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Arial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69920" y="3007440"/>
            <a:ext cx="8964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1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首诗是抒发读书体会的哲理诗，描绘事物本身感性的形象时，又蕴涵了理性的东西。“半亩方塘一鉴开，天光云影共徘徊”，半亩的“方塘”不算大，只有半亩地的一个方方的池塘，但它像一面镜子那样澄澈明净，“一鉴”的“鉴”，就是“镜”，照人的镜子，“镜”和“鉴”是一个意思。“半亩方塘”像一面镜子那样打开了。“半亩方塘”虽然不算大，但它却像一面镜子那样澄澈明净，“天光云影”都被它反映出来了。闪耀浮动，情态毕见。作为一种景物的描写，这也可以说是写得十分生动的。这两句展现的形象本身就能给人以美感，能使人心情澄净，心胸开阔。这一种感性的形象本身，它还蕴涵着一种理性的东西。很明显的一点是，“半亩方塘”里边的水很深、很清，所以它能够反映“天光云影”；反之，如果很浅、很污浊，它就不能反映，或者是不能准确地反映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6"/>
          <p:cNvSpPr/>
          <p:nvPr/>
        </p:nvSpPr>
        <p:spPr>
          <a:xfrm>
            <a:off x="7149600" y="120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华文行楷"/>
              </a:rPr>
              <a:t>文章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0"/>
          <p:cNvSpPr/>
          <p:nvPr/>
        </p:nvSpPr>
        <p:spPr>
          <a:xfrm>
            <a:off x="8101080" y="6308640"/>
            <a:ext cx="647640" cy="465120"/>
          </a:xfrm>
          <a:prstGeom prst="flowChartAlternateProcess">
            <a:avLst/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Arial"/>
                <a:ea typeface="隶书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98360" y="251316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1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诗人正是抓住了这一点进一步地挖掘，写出了颇有哲理的三、四两句：“问渠那得清如许？为有源头活水来。”“问渠”的“渠”，不是“一渠水”的“渠”，它相当于“它”的意思，这里是指方塘。“问渠”就是“问它”。在这个地方“它”指代的是“方塘”。诗人并没有说“方塘”有多深，第三句诗里边突出了一个“清”字，“清”就已经包含了“深”。因为塘水如果没有一定的深度的话，即使很“清”也反映不出“天光云影共徘徊”的情态。诗人抓住了塘水“深”而且“清”，就能反映“天光云影”的特点。但是到此诗人并没有结束，他进一步地提出了一个问题。“问”那个“方塘”“那得清如许？”问它为什么这么“清”，能够反映出“天光云影”来。而这个问题孤立地看这个“方塘”的本身没有法子来回答。诗人于是放开了眼界，从远处看，终于，他看到了“方塘”的“源头”，找到了答案。就因为“方塘”不是无源之水，而是有那永不枯竭的“源头”，源源不断地给它输送了“活水”。这个“方塘”由于有“源头活水”的不断输入，所以它永不枯竭，永不陈腐，永不污浊，永远“深”而且“清”。“清”得不仅能反映出“天光云影”，而且能反映出“天光”和“云影”“共徘徊”这么一种细致的情态。这就是这一首小诗所展现的形象和它的思想意义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53:55Z</dcterms:modified>
  <cp:revision>26</cp:revision>
  <dc:subject/>
  <dc:title>PowerPoint Presentation</dc:title>
</cp:coreProperties>
</file>