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54A9-B19E-4270-B1CA-6332F87D11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BBD9-FB98-4E13-915E-992839AC242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5E1-053A-4238-B72B-1D84C771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8AA-044E-4731-98E8-F30F2CA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0AF-3AB9-4588-8ABA-6B1DF74C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20D-1167-4514-B9B3-8615F19B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BD4E-B2CC-4531-BB6C-14AA6AE6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7AB2-3F18-4558-ACA9-318BE87E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B2B3-9B3D-44EA-B9EE-580C51A7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46D8-E18C-40E7-A242-FBF211E1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129E-4162-4143-B704-944B9986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BB64-57E0-4576-9799-14898467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ABD6-262A-4202-A379-3AB3ACCF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EF2-8E80-420F-A0F6-AAAD7AB3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6361-FC40-4108-BADF-554C0527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B55B-A114-4343-B900-FF420FE3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1698-1A68-49AA-AFCB-68C8850A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BCEB-0809-4335-8338-BE583E15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948-0961-48CD-BC67-BBA35475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C47-213E-4C59-A8E8-ED92BE95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D37-ED57-4113-A476-838B541C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7AD-353B-4CD2-BC4A-08151B98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CEE-E0BF-438E-9734-CA40AF6A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276-CC8A-4EDD-92D2-7AA6BF1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3C8-7249-4640-9ECA-BA8078CF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D0E-D624-4824-A0C4-F11925F1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6EEC-144E-4A85-851D-3834092B3E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3F9A-33BC-467F-A1DB-75C96C15D72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"/><Relationship Id="rId9" Type="http://schemas.openxmlformats.org/officeDocument/2006/relationships/slide" Target="slide7.xml"/><Relationship Id="rId10" Type="http://schemas.openxmlformats.org/officeDocument/2006/relationships/slide" Target="slide3.xml"/><Relationship Id="rId11" Type="http://schemas.openxmlformats.org/officeDocument/2006/relationships/slide" Target=""/><Relationship Id="rId12" Type="http://schemas.openxmlformats.org/officeDocument/2006/relationships/slide" Target="slide6.xml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9"/>
          <p:cNvGrpSpPr/>
          <p:nvPr/>
        </p:nvGrpSpPr>
        <p:grpSpPr>
          <a:xfrm>
            <a:off x="-31680" y="0"/>
            <a:ext cx="9144000" cy="6858000"/>
            <a:chOff x="-31680" y="0"/>
            <a:chExt cx="9144000" cy="6858000"/>
          </a:xfrm>
        </p:grpSpPr>
        <p:pic>
          <p:nvPicPr>
            <p:cNvPr id="90" name="Picture 39" descr="firmchen1069580619jianjia_3"/>
            <p:cNvPicPr/>
            <p:nvPr/>
          </p:nvPicPr>
          <p:blipFill>
            <a:blip r:embed="rId1"/>
            <a:stretch/>
          </p:blipFill>
          <p:spPr>
            <a:xfrm>
              <a:off x="-3168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1" name="Object 48"/>
            <p:cNvGraphicFramePr/>
            <p:nvPr/>
          </p:nvGraphicFramePr>
          <p:xfrm>
            <a:off x="579600" y="5872320"/>
            <a:ext cx="3240000" cy="52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4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600" y="5872320"/>
                      <a:ext cx="3240000" cy="52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3" name="Group 10"/>
          <p:cNvGrpSpPr/>
          <p:nvPr/>
        </p:nvGrpSpPr>
        <p:grpSpPr>
          <a:xfrm>
            <a:off x="649440" y="950760"/>
            <a:ext cx="2306160" cy="685800"/>
            <a:chOff x="649440" y="950760"/>
            <a:chExt cx="2306160" cy="685800"/>
          </a:xfrm>
        </p:grpSpPr>
        <p:grpSp>
          <p:nvGrpSpPr>
            <p:cNvPr id="94" name="Group 11"/>
            <p:cNvGrpSpPr/>
            <p:nvPr/>
          </p:nvGrpSpPr>
          <p:grpSpPr>
            <a:xfrm>
              <a:off x="649440" y="950760"/>
              <a:ext cx="2306160" cy="685800"/>
              <a:chOff x="649440" y="950760"/>
              <a:chExt cx="2306160" cy="685800"/>
            </a:xfrm>
          </p:grpSpPr>
          <p:sp>
            <p:nvSpPr>
              <p:cNvPr id="95" name="Oval 12"/>
              <p:cNvSpPr/>
              <p:nvPr/>
            </p:nvSpPr>
            <p:spPr>
              <a:xfrm>
                <a:off x="649440" y="950760"/>
                <a:ext cx="230616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 Box 13"/>
              <p:cNvSpPr/>
              <p:nvPr/>
            </p:nvSpPr>
            <p:spPr>
              <a:xfrm>
                <a:off x="1068480" y="1058760"/>
                <a:ext cx="153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AutoShape 14">
              <a:hlinkClick r:id="rId4"/>
            </p:cNvPr>
            <p:cNvSpPr/>
            <p:nvPr/>
          </p:nvSpPr>
          <p:spPr>
            <a:xfrm>
              <a:off x="1033920" y="1103400"/>
              <a:ext cx="1537200" cy="380880"/>
            </a:xfrm>
            <a:custGeom>
              <a:avLst/>
              <a:gdLst>
                <a:gd name="textAreaLeft" fmla="*/ 24480 w 1537200"/>
                <a:gd name="textAreaRight" fmla="*/ 1512720 w 153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7114" h="21600">
                  <a:moveTo>
                    <a:pt x="0" y="0"/>
                  </a:moveTo>
                  <a:lnTo>
                    <a:pt x="87114" y="0"/>
                  </a:lnTo>
                  <a:lnTo>
                    <a:pt x="87114" y="21600"/>
                  </a:lnTo>
                  <a:lnTo>
                    <a:pt x="0" y="21600"/>
                  </a:lnTo>
                  <a:close/>
                </a:path>
                <a:path fill="lightenLess" w="87114" h="21600">
                  <a:moveTo>
                    <a:pt x="0" y="0"/>
                  </a:moveTo>
                  <a:lnTo>
                    <a:pt x="87114" y="0"/>
                  </a:lnTo>
                  <a:lnTo>
                    <a:pt x="85714" y="1400"/>
                  </a:lnTo>
                  <a:lnTo>
                    <a:pt x="1400" y="1400"/>
                  </a:lnTo>
                  <a:close/>
                </a:path>
                <a:path fill="darken" w="87114" h="21600">
                  <a:moveTo>
                    <a:pt x="87114" y="0"/>
                  </a:moveTo>
                  <a:lnTo>
                    <a:pt x="87114" y="21600"/>
                  </a:lnTo>
                  <a:lnTo>
                    <a:pt x="85714" y="20200"/>
                  </a:lnTo>
                  <a:lnTo>
                    <a:pt x="85714" y="1400"/>
                  </a:lnTo>
                  <a:close/>
                </a:path>
                <a:path fill="darkenLess" w="87114" h="21600">
                  <a:moveTo>
                    <a:pt x="8711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5714" y="20200"/>
                  </a:lnTo>
                  <a:close/>
                </a:path>
                <a:path fill="lighten" w="8711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背景资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15"/>
          <p:cNvGrpSpPr/>
          <p:nvPr/>
        </p:nvGrpSpPr>
        <p:grpSpPr>
          <a:xfrm>
            <a:off x="896760" y="2166840"/>
            <a:ext cx="2286000" cy="685800"/>
            <a:chOff x="896760" y="2166840"/>
            <a:chExt cx="2286000" cy="685800"/>
          </a:xfrm>
        </p:grpSpPr>
        <p:grpSp>
          <p:nvGrpSpPr>
            <p:cNvPr id="99" name="Group 16"/>
            <p:cNvGrpSpPr/>
            <p:nvPr/>
          </p:nvGrpSpPr>
          <p:grpSpPr>
            <a:xfrm>
              <a:off x="896760" y="2166840"/>
              <a:ext cx="2286000" cy="685800"/>
              <a:chOff x="896760" y="2166840"/>
              <a:chExt cx="2286000" cy="685800"/>
            </a:xfrm>
          </p:grpSpPr>
          <p:sp>
            <p:nvSpPr>
              <p:cNvPr id="100" name="Oval 17"/>
              <p:cNvSpPr/>
              <p:nvPr/>
            </p:nvSpPr>
            <p:spPr>
              <a:xfrm>
                <a:off x="896760" y="2166840"/>
                <a:ext cx="228600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18"/>
              <p:cNvSpPr/>
              <p:nvPr/>
            </p:nvSpPr>
            <p:spPr>
              <a:xfrm>
                <a:off x="1312200" y="227484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AutoShape 19">
              <a:hlinkClick r:id="rId5"/>
            </p:cNvPr>
            <p:cNvSpPr/>
            <p:nvPr/>
          </p:nvSpPr>
          <p:spPr>
            <a:xfrm>
              <a:off x="1278000" y="2319480"/>
              <a:ext cx="1523880" cy="380880"/>
            </a:xfrm>
            <a:custGeom>
              <a:avLst/>
              <a:gdLst>
                <a:gd name="textAreaLeft" fmla="*/ 24480 w 1523880"/>
                <a:gd name="textAreaRight" fmla="*/ 1499400 w 152388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6359" h="21600">
                  <a:moveTo>
                    <a:pt x="0" y="0"/>
                  </a:moveTo>
                  <a:lnTo>
                    <a:pt x="86359" y="0"/>
                  </a:lnTo>
                  <a:lnTo>
                    <a:pt x="86359" y="21600"/>
                  </a:lnTo>
                  <a:lnTo>
                    <a:pt x="0" y="21600"/>
                  </a:lnTo>
                  <a:close/>
                </a:path>
                <a:path fill="lightenLess" w="86359" h="21600">
                  <a:moveTo>
                    <a:pt x="0" y="0"/>
                  </a:moveTo>
                  <a:lnTo>
                    <a:pt x="86359" y="0"/>
                  </a:lnTo>
                  <a:lnTo>
                    <a:pt x="84959" y="1400"/>
                  </a:lnTo>
                  <a:lnTo>
                    <a:pt x="1400" y="1400"/>
                  </a:lnTo>
                  <a:close/>
                </a:path>
                <a:path fill="darken" w="86359" h="21600">
                  <a:moveTo>
                    <a:pt x="86359" y="0"/>
                  </a:moveTo>
                  <a:lnTo>
                    <a:pt x="86359" y="21600"/>
                  </a:lnTo>
                  <a:lnTo>
                    <a:pt x="84959" y="20200"/>
                  </a:lnTo>
                  <a:lnTo>
                    <a:pt x="84959" y="1400"/>
                  </a:lnTo>
                  <a:close/>
                </a:path>
                <a:path fill="darkenLess" w="86359" h="21600">
                  <a:moveTo>
                    <a:pt x="863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959" y="20200"/>
                  </a:lnTo>
                  <a:close/>
                </a:path>
                <a:path fill="lighten" w="863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66ffff"/>
                  </a:solidFill>
                  <a:uFillTx/>
                  <a:latin typeface="Times New Roman"/>
                  <a:hlinkClick r:id="rId6" action="ppaction://hlinksldjump"/>
                </a:rPr>
                <a:t>阅读赏析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20"/>
          <p:cNvGrpSpPr/>
          <p:nvPr/>
        </p:nvGrpSpPr>
        <p:grpSpPr>
          <a:xfrm>
            <a:off x="2363760" y="4322880"/>
            <a:ext cx="2286000" cy="685800"/>
            <a:chOff x="2363760" y="4322880"/>
            <a:chExt cx="2286000" cy="685800"/>
          </a:xfrm>
        </p:grpSpPr>
        <p:grpSp>
          <p:nvGrpSpPr>
            <p:cNvPr id="104" name="Group 21"/>
            <p:cNvGrpSpPr/>
            <p:nvPr/>
          </p:nvGrpSpPr>
          <p:grpSpPr>
            <a:xfrm>
              <a:off x="2363760" y="4322880"/>
              <a:ext cx="2286000" cy="685800"/>
              <a:chOff x="2363760" y="4322880"/>
              <a:chExt cx="2286000" cy="685800"/>
            </a:xfrm>
          </p:grpSpPr>
          <p:sp>
            <p:nvSpPr>
              <p:cNvPr id="105" name="Oval 22"/>
              <p:cNvSpPr/>
              <p:nvPr/>
            </p:nvSpPr>
            <p:spPr>
              <a:xfrm>
                <a:off x="2363760" y="4322880"/>
                <a:ext cx="228600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23">
                <a:hlinkClick r:id="rId7" action="ppaction://hlinksldjump"/>
              </p:cNvPr>
              <p:cNvSpPr/>
              <p:nvPr/>
            </p:nvSpPr>
            <p:spPr>
              <a:xfrm>
                <a:off x="2779200" y="443088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AutoShape 24">
              <a:hlinkClick r:id="rId8" action="ppaction://hlinksldjump"/>
            </p:cNvPr>
            <p:cNvSpPr/>
            <p:nvPr/>
          </p:nvSpPr>
          <p:spPr>
            <a:xfrm>
              <a:off x="2745000" y="4475520"/>
              <a:ext cx="1523880" cy="380880"/>
            </a:xfrm>
            <a:custGeom>
              <a:avLst/>
              <a:gdLst>
                <a:gd name="textAreaLeft" fmla="*/ 24480 w 1523880"/>
                <a:gd name="textAreaRight" fmla="*/ 1499400 w 152388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6359" h="21600">
                  <a:moveTo>
                    <a:pt x="0" y="0"/>
                  </a:moveTo>
                  <a:lnTo>
                    <a:pt x="86359" y="0"/>
                  </a:lnTo>
                  <a:lnTo>
                    <a:pt x="86359" y="21600"/>
                  </a:lnTo>
                  <a:lnTo>
                    <a:pt x="0" y="21600"/>
                  </a:lnTo>
                  <a:close/>
                </a:path>
                <a:path fill="lightenLess" w="86359" h="21600">
                  <a:moveTo>
                    <a:pt x="0" y="0"/>
                  </a:moveTo>
                  <a:lnTo>
                    <a:pt x="86359" y="0"/>
                  </a:lnTo>
                  <a:lnTo>
                    <a:pt x="84959" y="1400"/>
                  </a:lnTo>
                  <a:lnTo>
                    <a:pt x="1400" y="1400"/>
                  </a:lnTo>
                  <a:close/>
                </a:path>
                <a:path fill="darken" w="86359" h="21600">
                  <a:moveTo>
                    <a:pt x="86359" y="0"/>
                  </a:moveTo>
                  <a:lnTo>
                    <a:pt x="86359" y="21600"/>
                  </a:lnTo>
                  <a:lnTo>
                    <a:pt x="84959" y="20200"/>
                  </a:lnTo>
                  <a:lnTo>
                    <a:pt x="84959" y="1400"/>
                  </a:lnTo>
                  <a:close/>
                </a:path>
                <a:path fill="darkenLess" w="86359" h="21600">
                  <a:moveTo>
                    <a:pt x="863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959" y="20200"/>
                  </a:lnTo>
                  <a:close/>
                </a:path>
                <a:path fill="lighten" w="863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66ffff"/>
                  </a:solidFill>
                  <a:uFillTx/>
                  <a:latin typeface="Times New Roman"/>
                  <a:hlinkClick r:id="rId9" action="ppaction://hlinksldjump"/>
                </a:rPr>
                <a:t>思考与练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Text Box 35"/>
          <p:cNvSpPr/>
          <p:nvPr/>
        </p:nvSpPr>
        <p:spPr>
          <a:xfrm>
            <a:off x="5488920" y="438120"/>
            <a:ext cx="1826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鼓上蚤另有重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50">
            <a:hlinkClick r:id="" action="ppaction://hlinkshowjump?jump=endshow"/>
          </p:cNvPr>
          <p:cNvSpPr/>
          <p:nvPr/>
        </p:nvSpPr>
        <p:spPr>
          <a:xfrm>
            <a:off x="7812000" y="5877000"/>
            <a:ext cx="68436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592280" y="3213000"/>
            <a:ext cx="2304720" cy="660600"/>
            <a:chOff x="1592280" y="3213000"/>
            <a:chExt cx="2304720" cy="660600"/>
          </a:xfrm>
        </p:grpSpPr>
        <p:grpSp>
          <p:nvGrpSpPr>
            <p:cNvPr id="111" name="Group 26"/>
            <p:cNvGrpSpPr/>
            <p:nvPr/>
          </p:nvGrpSpPr>
          <p:grpSpPr>
            <a:xfrm>
              <a:off x="1592280" y="3213000"/>
              <a:ext cx="2304720" cy="660600"/>
              <a:chOff x="1592280" y="3213000"/>
              <a:chExt cx="2304720" cy="660600"/>
            </a:xfrm>
          </p:grpSpPr>
          <p:sp>
            <p:nvSpPr>
              <p:cNvPr id="112" name="Oval 27"/>
              <p:cNvSpPr/>
              <p:nvPr/>
            </p:nvSpPr>
            <p:spPr>
              <a:xfrm>
                <a:off x="1592280" y="3213000"/>
                <a:ext cx="2304720" cy="6606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 Box 28">
                <a:hlinkClick r:id="rId10" action="ppaction://hlinksldjump"/>
              </p:cNvPr>
              <p:cNvSpPr/>
              <p:nvPr/>
            </p:nvSpPr>
            <p:spPr>
              <a:xfrm>
                <a:off x="2011320" y="3318120"/>
                <a:ext cx="153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AutoShape 29">
              <a:hlinkClick r:id="rId11" action="ppaction://hlinksldjump"/>
            </p:cNvPr>
            <p:cNvSpPr/>
            <p:nvPr/>
          </p:nvSpPr>
          <p:spPr>
            <a:xfrm>
              <a:off x="1976400" y="3359880"/>
              <a:ext cx="1536480" cy="366840"/>
            </a:xfrm>
            <a:custGeom>
              <a:avLst/>
              <a:gdLst>
                <a:gd name="textAreaLeft" fmla="*/ 23760 w 1536480"/>
                <a:gd name="textAreaRight" fmla="*/ 1512720 w 1536480"/>
                <a:gd name="textAreaTop" fmla="*/ 23760 h 366840"/>
                <a:gd name="textAreaBottom" fmla="*/ 343080 h 366840"/>
              </a:gdLst>
              <a:ahLst/>
              <a:rect l="textAreaLeft" t="textAreaTop" r="textAreaRight" b="textAreaBottom"/>
              <a:pathLst>
                <a:path w="90402" h="21600">
                  <a:moveTo>
                    <a:pt x="0" y="0"/>
                  </a:moveTo>
                  <a:lnTo>
                    <a:pt x="90402" y="0"/>
                  </a:lnTo>
                  <a:lnTo>
                    <a:pt x="90402" y="21600"/>
                  </a:lnTo>
                  <a:lnTo>
                    <a:pt x="0" y="21600"/>
                  </a:lnTo>
                  <a:close/>
                </a:path>
                <a:path fill="lightenLess" w="90402" h="21600">
                  <a:moveTo>
                    <a:pt x="0" y="0"/>
                  </a:moveTo>
                  <a:lnTo>
                    <a:pt x="90402" y="0"/>
                  </a:lnTo>
                  <a:lnTo>
                    <a:pt x="89002" y="1400"/>
                  </a:lnTo>
                  <a:lnTo>
                    <a:pt x="1400" y="1400"/>
                  </a:lnTo>
                  <a:close/>
                </a:path>
                <a:path fill="darken" w="90402" h="21600">
                  <a:moveTo>
                    <a:pt x="90402" y="0"/>
                  </a:moveTo>
                  <a:lnTo>
                    <a:pt x="90402" y="21600"/>
                  </a:lnTo>
                  <a:lnTo>
                    <a:pt x="89002" y="20200"/>
                  </a:lnTo>
                  <a:lnTo>
                    <a:pt x="89002" y="1400"/>
                  </a:lnTo>
                  <a:close/>
                </a:path>
                <a:path fill="darkenLess" w="90402" h="21600">
                  <a:moveTo>
                    <a:pt x="904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9002" y="20200"/>
                  </a:lnTo>
                  <a:close/>
                </a:path>
                <a:path fill="lighten" w="904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66ffff"/>
                  </a:solidFill>
                  <a:uFillTx/>
                  <a:latin typeface="Times New Roman"/>
                  <a:hlinkClick r:id="rId12" action="ppaction://hlinksldjump"/>
                </a:rPr>
                <a:t>学习建议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7487280" y="4005360"/>
            <a:ext cx="6678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牧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背景资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946080" y="1160640"/>
            <a:ext cx="71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本文选自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歪批水浒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群言出版社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3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底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版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牧惠，当代作家。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28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生，广东祈会人，以写杂文见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>
            <a:hlinkClick r:id="" action="ppaction://hlinkshowjump?jump=firstslide"/>
          </p:cNvPr>
          <p:cNvSpPr/>
          <p:nvPr/>
        </p:nvSpPr>
        <p:spPr>
          <a:xfrm>
            <a:off x="32400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39640" y="98100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通过评论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水浒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的人物形象鼓上蚤时迁，借题发挥，嬉笑怒骂，挥洒成篇，丝毫不见一般文艺评论的学究气和枯燥感，反而能使读者在文章看似荒诞怪异的地方领悟到作者思想、治学的严谨、认真，于作者对古典小说的怪论调侃中体会到杂文亦庄亦谐，说理生动形象的风格，感受到作者对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水浒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作品理解的深透，见解的独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可以说，本文是一篇融知识性、学术性、趣味性、讽刺性于一体的好评论。而在这几个特点之中，其针砭时弊，讽刺当今某些巨贪的手法令人拍案叫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0">
            <a:hlinkClick r:id="" action="ppaction://hlinkshowjump?jump=firstslide"/>
          </p:cNvPr>
          <p:cNvSpPr/>
          <p:nvPr/>
        </p:nvSpPr>
        <p:spPr>
          <a:xfrm>
            <a:off x="8028000" y="6451560"/>
            <a:ext cx="647640" cy="35892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611280" y="98100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文章可分为两部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一部分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），从鼓上蚤时迁排名倒数第二的故事谈起，揣测原因，并为之抱不平。本段可说与一般文艺评论风格迥异，既无篇目章回的介绍，也无引言、序言之类的开场白，上来就直入主题，直接品评人物，体现了作者的语言风格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二部分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），以替时迁的“想想出路”为由，联系现实，借古讽今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8028000" y="6451560"/>
            <a:ext cx="647640" cy="35892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74840" y="181080"/>
            <a:ext cx="217152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50920" y="51264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人写作上的一些特点也有值得借鉴之处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亦庄亦谐的杂文风格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反腐倡廉本事一项十分严肃的事情，文艺评论更是非要有严谨的治学态度不能完成的学术样式。然而，阅读此文，我们却不能不随着作者的走笔时而仰天大笑，时而频频颔首。严谨的治学态度没有变，史实仍然是确凿无疑的史实，然后作者谐谑的口气却令人在轻松的笑声中不知不觉接受了这些。谐谑的口气并不掩盖作者严肃的思考、独到的见地而又能令人欣然接受，这正是本文的风格特点。若举例，从推测时迁排名居后原因，到替时迁想出路，再到欲委任其为“肃贪局局长”或“总顾问”，再到最后对当前报上一些故事新编的希望时迁从事“老本行”是“下下之策，突不破旧框框”的评论，无不洋溢着这种令人耳、目、心俱受益的语气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时叙时议，叙议相融的写作手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文章是文艺评论。文体的要求使得作者必须要以所评的对象为中心铺展文章。作者做得可谓自然得当。所有的典故都概括得相当简洁，三言两语而恰到好处，令读者丝毫无生涩之感，而作者的议论则仿佛就事而论，却又能适时放开，适时收回，收放自如，既做到了文艺评论对内容的要求，又实现了杂文针砭时弊的目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另外，感情色彩鲜明也是本文的一个突出之特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>
            <a:hlinkClick r:id="" action="ppaction://hlinkshowjump?jump=firstslide"/>
          </p:cNvPr>
          <p:cNvSpPr/>
          <p:nvPr/>
        </p:nvSpPr>
        <p:spPr>
          <a:xfrm>
            <a:off x="8028000" y="6451560"/>
            <a:ext cx="647640" cy="35892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学习建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647640" y="981000"/>
            <a:ext cx="7812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的学习重点应着眼于文章的体裁风格和作者的思想特点，故学习时可以此两点为中心铺展开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学习方法和步骤建议如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谈谈对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水浒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认识和了解情况，随后列举出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水浒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物印象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查阅时迁在一百零八将中的排名情况，引发思考：为何时迁排名如此之后，而留给众人印象却如此之深？从而导入课文学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作假设：时迁假如“失业”了（或曰主动下岗了）还有何职业比较适合他？比较一下自己的想法和作者的安排之间的本质区别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四）比较、分析文章的语言风格、思想特色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0">
            <a:hlinkClick r:id="" action="ppaction://hlinkshowjump?jump=firstslide"/>
          </p:cNvPr>
          <p:cNvSpPr/>
          <p:nvPr/>
        </p:nvSpPr>
        <p:spPr>
          <a:xfrm>
            <a:off x="32400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456840"/>
            <a:ext cx="258264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思考与练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68360" y="981000"/>
            <a:ext cx="82072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、本文通过评论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水浒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的任务形象鼓上蚤时迁，体现了杂文说理方面的显著特点，即说理的形象化。结合课文，说说下面两段文字通过勾勒形象阐发联想，表现了作者的哪些观点，并体现了怎样的感情色彩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.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于是忽然想到，以“替天行道” 、“单杀赃官污吏”为己任的梁山泊，何不委任时迁为肃贪局局长或总顾问，施展他的特技，到高太尉等大官僚府邸去实地察看，或把详情报告朝廷，或公之于众，岂不妙哉？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.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论功行赏，粉碎高太尉第一次围剿，时迁立了别人不可代替的汗马功劳。孟尝君靠鸡鸣狗盗之徒逃命，宋江靠鸡鸣狗盗之徒打胜仗。可见，只要使用得当，小偷也有妙用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、课外查阅资料，把文中引用的典故出处和意思搞清楚。熟读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水浒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积累古代文化知识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0">
            <a:hlinkClick r:id="" action="ppaction://hlinkshowjump?jump=firstslide"/>
          </p:cNvPr>
          <p:cNvSpPr/>
          <p:nvPr/>
        </p:nvSpPr>
        <p:spPr>
          <a:xfrm>
            <a:off x="32400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16:05Z</dcterms:modified>
  <cp:revision>97</cp:revision>
  <dc:subject/>
  <dc:title>PowerPoint Presentation</dc:title>
</cp:coreProperties>
</file>