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D3B3-1834-45BE-B0B6-5F0547B5C0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E86-D616-4C19-A2BB-CC641866AD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3F1-C1A2-4A62-8272-B9CF72C0D9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31DF-5533-41D5-846D-430AE5A95C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5F7-DBDF-45A0-91DF-991DA267E2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E6C-C524-4ADB-88C2-BD77DFA2B9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42D-B14B-42FC-A872-6AF4D2804A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B33-CF04-4E20-9D74-76310CFFE9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1A2-95BE-4CD9-AA36-62BE5DA9D3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328E-B570-4CB2-A9CB-5C2E76C2FE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326A-507E-4059-A9CF-BBA53307CE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0BF-CC41-4E12-90F2-BCF3962802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5DF-D485-4E1E-A46A-CA78383B0E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C3A-A923-4B61-8FE5-AC8235B3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7B8-3D5B-48C5-9E95-62E331A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6C6-82AD-4D74-90A4-28F7E18E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259-096B-4BBB-BC22-5DA7728D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094-484C-48CC-8A4D-4A284DC5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0AD-65AE-4C1C-B047-6447A07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E54-BB9B-42F7-B410-B0C38E5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BAA-DD96-4283-ABDD-6E31941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C0E-0FEB-4456-B280-7FFD63D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FA-C414-47C0-8C60-39F94D2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18B-7695-482B-89AE-26031755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DD9-36BC-42F2-844D-07FEA611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142-A41A-4000-A484-79653D4E7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2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8520" y="2590920"/>
            <a:ext cx="1882800" cy="1736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5">
            <a:hlinkClick r:id="" action="ppaction://hlinkshowjump?jump=endshow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ext Box 2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51240" y="1809720"/>
            <a:ext cx="1603080" cy="207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4">
            <a:hlinkClick r:id="rId5" action="ppaction://hlinksldjump"/>
          </p:cNvPr>
          <p:cNvSpPr/>
          <p:nvPr/>
        </p:nvSpPr>
        <p:spPr>
          <a:xfrm>
            <a:off x="4269240" y="1325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ext Box 2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41800" y="1620720"/>
            <a:ext cx="1608120" cy="2390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398680" y="51688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不褪色的迷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 Box 2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35760" y="2401920"/>
            <a:ext cx="164448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340000" y="256356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见到父亲时，我已经是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的少年了，是个初三学生。他给我由美国带回来的礼物是一盒矿石标本，里面有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块可爱的小石头，闪着各种异样的光彩，每一块都有学名，还有简单的说明。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奇怪地发现，此时此刻的父亲已经把我当成了一个独立的大人，采取了一种异乎寻常的大人对大人的平等态度。他见到我，不再叫“小乙”，而是称呼“舒乙”，而且伸出手来和我握手，好像彼此是朋友一样。高中毕业后，我通过了留学苏联的考试，父亲很高兴。五年里，他三次到苏联开会，都要专程到列宁格勒去看我。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虽然父亲诚心诚意地把我当成大人和朋友对待，还常常和我讨论一些严肃的问题，我反而常常强烈地感觉到，在他的内心里我还是他的小孩子。有一次，我要去东北出差，临行前向他告别，他很关切地问车票带了吗？我说带好了，他说：“拿给我瞧瞧！”直到我由口袋中掏出车票，知道准有车票，放得也是地方，他才放心了。接着又问：“你带了几根皮带？”我说：“一根。”他说：“不成，要两根！”干吗要两根？他说：“万一那根断了呢，非抓瞎不可！来，把我这根也拿上。”父亲问的这两个问题，让我笑了一路，男人之间的爱，父爱、深厚的父爱表达得竟是如此奇特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父亲死后，我一个人曾在太平湖畔陪伴他度过了一个漆黑的夜晚，我摸了他的脸，拉了他的手，把泪洒在他满是伤痕的身上，我把人间的一点热气当作爱回报给他。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很悲伤，我也很幸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firstslide"/>
          </p:cNvPr>
          <p:cNvSpPr/>
          <p:nvPr/>
        </p:nvSpPr>
        <p:spPr>
          <a:xfrm>
            <a:off x="1373040" y="6423120"/>
            <a:ext cx="8985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279520" y="1843200"/>
            <a:ext cx="6872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亲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鲁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“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父亲已经上了六十岁了。还想做一点事业，积一点钱，给我造起屋子来。”一个朋友从北方来，告诉了我这样的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的话使我想起了我的父亲。我的父亲正是和他的父亲完全一样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的父亲曾经为我苦了一生，把我养大，送我进学校，为我造了屋子，买了几亩地。六十岁那一年，还到汉口去做生意，怕人家嫌他年老，只说五十几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家都劝他不要出门，他背着包裹走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我再帮儿子几年！”他只是这样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后来屋子被火烧掉了，他还想再做生意，把屋子重造起来。我安慰他说，三年以后我自己就可积起钱造屋了，还是等一等吧。他答应了。他给我留下了许多造屋的材料，告诉我这样可以做什么那样可以做什么。他死的以前不久，还对我说：“早一点造起来吧，我可以给你监工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但是他终于没有看见屋子重造起来就死了。他弥留的时候对我说，一切都满足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但是我知道他倘能再活几年我把屋子造起来，是他所最心愿的。我听到他弥留时的呻吟和叹息，我相信那不是病的痛苦的呻吟和叹息。我知道他还想再活几年，帮我造起屋子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现在我自己已是几个孩子的父亲了。我爱孩子，但我没有前一辈父亲的想法，帮孩子一直帮到老，帮到死还不足。我赞美前一辈父亲的美德，而自己却不能跟着他们的步伐走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>
            <a:hlinkClick r:id="" action="ppaction://hlinkshowjump?jump=firstslide"/>
          </p:cNvPr>
          <p:cNvSpPr/>
          <p:nvPr/>
        </p:nvSpPr>
        <p:spPr>
          <a:xfrm>
            <a:off x="1373040" y="6423120"/>
            <a:ext cx="8985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290680" y="837000"/>
            <a:ext cx="68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觉得我的孩子累我，使我受到极大的束缚。我没有对他们的永久的计划，甚至连最短促的也没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倘使有人要，我愿意把他们送给人家！”我常常这样说，当我厌烦孩子的时候。唉，和前一辈做父亲的一比，我觉得我们这一辈生命力薄弱得可怜，我们二三十岁的人比不上六七十岁的前辈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们虽然老的老死的死了，但是他们才是真正活着到现在到将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我们呢，虽然活着，却是早已死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>
            <a:hlinkClick r:id="" action="ppaction://hlinkshowjump?jump=firstslide"/>
          </p:cNvPr>
          <p:cNvSpPr/>
          <p:nvPr/>
        </p:nvSpPr>
        <p:spPr>
          <a:xfrm>
            <a:off x="1373040" y="6423120"/>
            <a:ext cx="8985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556000" y="2738160"/>
            <a:ext cx="61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赵丽宏，散文家，诗人。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52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出生于上海。“文革”期间曾下乡“插队”，种过田，当过教师和县政府机关干部。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77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考入华东师范大学中文系，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82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毕业后曾从事多年文学编辑工作。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87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任上海作家协会专业作家，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88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被选为全国政协委员。共发表作品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0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余万字，其中有散文、诗、报告文学、剧本、小说、评论和儿童文学作品，成就以散文最为突出，其多部作品曾二十余次在国内外各种文学评奖中获奖（其中散文集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诗魂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获全国新时期优秀散文集奖），并被翻译成英、法、俄、意、日等多种文字介绍到国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4680" y="105408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56000" y="27381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是一片刻画细腻、感情真挚的叙事散文。作者通过对一张儿时照片的回忆，记叙了一段感人至深的童年往事，表达了父子间深挚动人的父子亲情。本文的故事情节并不复杂，但由于作者满含深情，文笔细腻，却将父子间在一天中的一次散聚，写得一波三折，情绪跌宕起伏，而且引发出感人的思绪。叶圣陶先生在评价朱自清散文名篇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背影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时，有言：“做到了文质并茂，全凭真感受、真性情取胜。”套用此评语评价本文，绝不为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411280" y="2004480"/>
            <a:ext cx="65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课文可分为三个部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一部分第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到第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。叙述照片的神奇作用。这部分起着引出下文故事情节的作用。作者首先以优美、深情的文字描述过去的美好却又往往无法清晰地留下这样一种缺憾，然后笔锋一转，把摄影的妙处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可以弥补这种美丽的缺憾，表现出来，作者随即以八岁儿子的童言无忌来进一步证明摄影的好处，并由此引发感慨，引出本文的主体部分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对由一张照片而引发的一段父子情深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部分从第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到第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1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。写父子一日里的一次散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部分从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3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然段到文末。从照片的故事中回到现实，再次表达父子之间深挚的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556000" y="2372400"/>
            <a:ext cx="611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本文学习重点应放在体会作者所表达的父子亲情这一点上，故而在学习时应围绕这一点而展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习方法与步骤建议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当堂回忆所学过的，表达父子之间感情的课文，如朱自清的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背影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舒乙的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父子情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鲁彦的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父亲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等，从主题思想上比较它们的共同之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再次阅读课文，并选取一篇较为熟悉的文章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背影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从描写、叙事手法上比较异同之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三）训练自己写情景交融文章的能力或以书面形式完成“思考与练习一”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556000" y="2738160"/>
            <a:ext cx="61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本课文是一篇描述父子情的叙事散文，请与朱自清的散文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背影</a:t>
            </a:r>
            <a:r>
              <a:rPr b="0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作比较，两者在描写手法上有何异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课文的题目为什么叫“不褪色的迷失”，对于文中“照片”的呼应起到了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320" y="9943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思考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firstslide"/>
          </p:cNvPr>
          <p:cNvSpPr/>
          <p:nvPr/>
        </p:nvSpPr>
        <p:spPr>
          <a:xfrm>
            <a:off x="781200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71600" y="2225520"/>
            <a:ext cx="69804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背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朱自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与父亲不相见已二年余了，我最不能忘记的是他的背影。 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那年冬天，祖母死了，父亲的差使也交卸了，正是祸不单行的日子。我从北京到徐州，打算跟着父亲奔丧回家。到徐州见着父亲，看见满院狼籍的东西，又想起祖母，不禁簌簌地流下眼泪。父亲说：“事已如此，不必难过，好在天无绝人之路！” 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回家变卖典质，父亲还了亏空；又借钱办了丧事。这些日子，家中光景很是惨淡，一半为了丧事，一半为了父亲赋闲。丧事完毕，父亲要到南京谋事，我也要回北京念书，我们便同行。 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到南京时，有朋友约去游逛，勾留了一日；第二日上午便须渡江到浦口，下午上车北去。父亲因为事忙，本已说定不送我，叫旅馆里一个熟识的茶房陪我同去。他再三嘱咐茶房，甚是仔细。但他终于不放心，怕茶房不妥贴；颇踌躇了一会。其实我那年已二十岁，北京已来往过两三次，是没有什么要紧的了。他踌躇了一会，终于决定还是自己送我去。我再三劝他不必去；他只说：“不要紧，他们去不好！” 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我们过了江，进了车站。我买票，他忙着照看行李。行李太多了，得向脚夫行些小费才可过去。他便又忙着和他们讲价钱。我那时真是聪明过分，总觉他说话不大漂亮，非自己插嘴不可，但他终于讲定了价钱；就送我上车。他给我拣定了靠车门的一张椅子；我将他给我做的紫毛大衣铺好座位。他嘱我路上小心，夜里要警醒些，不要受凉。又嘱托茶房好好照应我。我心里暗笑他的迂；他们只认得钱，托他们只是白托！而且我这样大年纪的人，难道还不能料理自己么？唉，我现在想想，那时真是太聪明了！ </a:t>
            </a:r>
            <a:br>
              <a:rPr sz="1700"/>
            </a:b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>
            <a:hlinkClick r:id="" action="ppaction://hlinkshowjump?jump=firstslide"/>
          </p:cNvPr>
          <p:cNvSpPr/>
          <p:nvPr/>
        </p:nvSpPr>
        <p:spPr>
          <a:xfrm>
            <a:off x="1373040" y="6419880"/>
            <a:ext cx="89856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306520" y="2722680"/>
            <a:ext cx="691056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</a:t>
            </a: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说道：“爸爸，你走吧。”他往车外看了看说：“我买几个橘子去。你就在此地，不要走动。”我看那边月台的栅栏外有几个卖东西的等着顾客。走到那边月台，须穿过铁道，须跳下去又爬上去。父亲是一个胖子，走过去自然要费事些。我本来要去的，他不肯，只好让他去。我看见他戴着黑布小帽，穿着黑布大马褂，深青布棉袍，蹒跚地走到铁道边，慢慢探身下去，尚不大难。可是他穿过铁道，要爬上那边月台，就不容易了。他用两手攀着上面，两脚再向上缩；他肥胖的身子向左微倾，显出努力的样子，这时我看见他的背影，我的泪很快地流下来了。我赶紧拭干了泪。怕他看见，也怕别人看见。我再向外看时，他已抱了朱红的橘子往回走了。过铁道时，他先将桔子散放在地上，自己慢慢爬下，再抱起橘子走。到这边时，我赶紧去搀他。他和我走到车上，将橘子一股脑儿放在我的皮大衣上。于是扑扑衣上的泥土，心里很轻松似的。过一会说：“我走了，到那边来信！”我望着他走出去。他走了几步，回过头看见我，说：“进去吧，里边没人。”等他的背影混入来来往往的人里，再找不着了，我便进来坐下，我的眼泪又来了。 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近几年来，父亲和我都是东奔西走，家中光景是一日不如一日。他少年出外谋生，独立支持，做了许多大事。哪知老境却如此颓唐！他触目伤怀，自然情不能自已。情郁于中，自然要发之于外；家庭琐屑便往往触他之怒。他待我渐渐不同往日。但最近两年不见，他终于忘却我的不好，只是惦记着我，惦记着我的儿子。我北来后，他写了一信给我，信中说道：“我身体平安，惟膀子疼痛厉害，举箸提笔，诸多不便，大约大去之期不远矣。”我读到此处，在晶莹的泪光中，又看见那肥胖的、青布棉袍黑布马褂的背影。唉！我不知何时再能与他相见！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>
            <a:hlinkClick r:id="" action="ppaction://hlinkshowjump?jump=firstslide"/>
          </p:cNvPr>
          <p:cNvSpPr/>
          <p:nvPr/>
        </p:nvSpPr>
        <p:spPr>
          <a:xfrm>
            <a:off x="1373040" y="6357960"/>
            <a:ext cx="898560" cy="35892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340000" y="2271240"/>
            <a:ext cx="6696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子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舒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我两岁零三个月的时候，父亲离开济南南下武汉加入到抗战洪流中。再见到父亲时，我已经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。见头一面时，我觉得父亲很苍老，他刚割完阑尾，腰直不起来，站在那里两只手一齐压在手杖上。我怯生生地喊他一声“爸”，他抬起一只手臂，摸摸我的头，叫我“小乙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发现，在家里他很严肃，并不和孩子们随便说话，也没有什么特别亲昵的动作。他当时严重贫血，整天抱怨头昏，但还是天天不离书桌，写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世同堂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他对孩子们的功课和成绩毫无兴趣，一次也没问过，也没辅导过，完全不放在心上，采取了一种绝对超然的放任自流态度。他表示赞同的，在我当时看来，几乎都是和玩有关的事情，比如他十分欣赏我对画画有兴趣，对刻图章有兴趣，对收集邮票有兴趣，对唱歌有兴趣，对参加学生会的社会活动有兴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很爱带我去访朋友，坐茶馆，上澡堂子，走在路上，总是他拄着手杖在前面，我紧紧地跟在后面，他从不拉我的手，也不和我说话。我个子矮，跟在他后面，看见的总是他的腿和脚，还有那双磨歪了后跟的旧皮鞋。就这样，跟着他的脚印，我走了两年多，直到他去了美国。现在，一闭眼，我还能看见那双歪歪的鞋跟。我愿跟着它走到天涯海角，不必担心，不必说话，不必思索，却能知道整个世界。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93320" y="1054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1373040" y="6423120"/>
            <a:ext cx="898560" cy="3585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8-17T13:36:39Z</dcterms:modified>
  <cp:revision>39</cp:revision>
  <dc:subject/>
  <dc:title>PowerPoint Presentation</dc:title>
</cp:coreProperties>
</file>