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3007-E707-4533-981C-AC168B22647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9057-DD73-45A7-B278-8617C6A04CA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AF77-03EC-4574-BF5F-3B5CEEFABD9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F75A-AADB-4172-B243-F85386C33EF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7D4-BF99-4929-ABE5-83FA8ADE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842-B554-4229-AB1C-6BD1713D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4DF-177D-4EBD-A057-437746DD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D55-82C4-4CC3-A23C-F3DCA16D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FAFC-1088-4C8F-96A3-26A4CC59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6D53-6396-468A-B87C-9E1179DA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4BE1-5408-4F77-9726-D3F2F473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14CC-2177-4F29-8178-8A20CDD8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08D2-EE08-4410-9BD4-6DD820AE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1689-E6AA-4A74-B96B-10093570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2D57-B495-4B19-BA6F-91FADF36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D33-51D6-4883-97CB-EC0681B7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B938-B982-4387-BA2A-E2F86172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0E3B-103B-4A7B-872F-07308DDA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F493-83B9-479F-8FB4-F5933F0F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F414-2A91-45A3-9FA0-13A27795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6599-38A3-46A5-8085-805E86C4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CA5-7640-483B-A3A9-66D5EA9E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C85-4887-45E8-9285-7F6188C1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3FD-700F-4401-9060-A2D05214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23E-3CB4-43EF-84FF-C7B130EF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9DB-9842-4D8C-BCF9-3855F40B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478-D286-4DD6-A28B-8AC03C4D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E85-C532-469D-8548-9390838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181C-DA31-4AE4-8DF9-4E9BA6A4EE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259B-E1D0-4B44-A2E8-CB12CBF17E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99ff"/>
                </a:solidFill>
                <a:latin typeface="Arial"/>
                <a:ea typeface="宋体"/>
              </a:rPr>
              <a:t>客店问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43664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李  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95280" y="476280"/>
            <a:ext cx="1960560" cy="43164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95280" y="1125360"/>
            <a:ext cx="1960560" cy="43200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阅读赏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1">
            <a:hlinkClick r:id="" action="ppaction://hlinkshowjump?jump=endshow"/>
          </p:cNvPr>
          <p:cNvSpPr/>
          <p:nvPr/>
        </p:nvSpPr>
        <p:spPr>
          <a:xfrm>
            <a:off x="7596360" y="6021360"/>
            <a:ext cx="647640" cy="43020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539640" y="302976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李季（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22—1980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），现代著名诗人，河南唐河县祁仪镇人。原名李振鹏，笔名里计、于一帆等。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8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在延安抗日军政大学学习，次年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加入中国共产党，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48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任《群众日报》副刊编辑。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49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任中南文艺工作者联合会编辑出版部部长，主编《长江文艺》，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55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至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57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，在北京任作协创作委员会副主任，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62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任《人民文学》副主编、主编。粉碎“四人帮”后，任《诗刊》主编，第五届全国政协委员会委员，主要作品有：优秀长篇叙事诗《王贵与李香香》《杨高传》，短诗集《玉门诗抄》《海誓》等。出版有《李季文集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6"/>
          <p:cNvSpPr/>
          <p:nvPr/>
        </p:nvSpPr>
        <p:spPr>
          <a:xfrm>
            <a:off x="7740720" y="6021360"/>
            <a:ext cx="720720" cy="43020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7740720" y="6093000"/>
            <a:ext cx="720720" cy="43020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1258920" y="349812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这首诗用新颖的一问一答的对话形式，描写了在新疆的客店里一位好心的老大娘和一位姑娘的对话。从对话中我们慢慢知道姑娘千辛万苦乘轮船、火车到汽车只身一人是要去新疆，去同自己正在建设新疆的恋人完婚的一个简单场景。语言虽然质朴无华，甚至并无诗歌常见的抒情议论，但交谈之中展现的是姑娘对爱情的坚贞执着，是其恋人支援祖国新疆建设的爱国之心，真挚的情感和无私奉献的精神都令人动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22:02:32Z</dcterms:created>
  <dc:creator>eclipse</dc:creator>
  <dc:description/>
  <dc:language>en-US</dc:language>
  <cp:lastModifiedBy>normal</cp:lastModifiedBy>
  <dcterms:modified xsi:type="dcterms:W3CDTF">2013-08-29T08:48:09Z</dcterms:modified>
  <cp:revision>74</cp:revision>
  <dc:subject/>
  <dc:title>PURPLE PASSION</dc:title>
</cp:coreProperties>
</file>