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68B0-4686-4AB7-A38C-5534E9EC21D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3AA6-8B52-4BAE-A5DB-753A1091461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6BDA-3564-42E2-9CA6-ABD74EA7C4D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FEBD-8407-4747-9798-39013FAAD06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7A4D-11E8-477E-AF07-9DD7122B127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F6C9-BE7F-4E57-BD47-E159FAFC38C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AB20-1C78-431A-A749-DBE2D3E92E0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32CD-F3B1-456F-88B6-19FA2DB2384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9C2E-622A-4471-92AD-D2F5957DC2C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28A5-839D-4C9C-B14B-DFDE5447AFD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1181-5512-44EC-89E3-83DB56D5CE5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1A1E-5D22-46EE-A5CD-F40AB578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CF6-919F-4DF8-B87A-9610317A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4B14-DA63-42F5-A459-2D01254D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135-24D6-4A07-A33A-A0AC8F85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B10D-8AC0-4338-9C65-65428EF0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5A43-5F73-4291-B52D-1E965644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BD1D-EF16-4531-8AFE-6C8E9B5C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0469-ACC7-43DF-BB18-EDC00B05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BD85-ECDE-4F17-B7EC-853E7F8E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DFEC-95EE-4B13-BFB3-EC2EBFE7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4E7C-1694-4F0C-9D60-7D1CD053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C72-87A6-460D-A885-4B48564A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E550-4A3C-44DB-BE0F-6C428706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1BAE-40EF-46F2-A862-0DE81FA7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4411-D664-403E-AB64-D49EFC31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AAFC-7820-4F18-93B0-91B81E27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E0C2-FEFA-4ED5-9251-965AD04B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447-2FE0-4783-BCE1-1D7129D0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DFD-0285-4C18-A07B-E175048D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50A-5232-439B-BC60-18C8CA07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F5A2-7AFA-486F-A9C2-974AE43E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208-451D-40A0-A69B-D3BC500D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9F45-1EAE-4FFA-8A91-2022EDD7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5D74-2686-428E-BCCE-0C72D769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66A8-078B-4D15-B8E5-A106F37985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5A0A-B7BF-4B5E-A848-A192E6BD627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5.xml"/><Relationship Id="rId5" Type="http://schemas.openxmlformats.org/officeDocument/2006/relationships/slide" Target="slide9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997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99ff"/>
                </a:solidFill>
                <a:latin typeface="Arial"/>
                <a:ea typeface="宋体"/>
              </a:rPr>
              <a:t>祭马思聪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436640"/>
            <a:ext cx="64008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徐  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6">
            <a:hlinkClick r:id="rId1" action="ppaction://hlinksldjump"/>
          </p:cNvPr>
          <p:cNvSpPr/>
          <p:nvPr/>
        </p:nvSpPr>
        <p:spPr>
          <a:xfrm>
            <a:off x="395280" y="476280"/>
            <a:ext cx="1960560" cy="43164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背景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>
            <a:hlinkClick r:id="rId3" action="ppaction://hlinksldjump"/>
          </p:cNvPr>
          <p:cNvSpPr/>
          <p:nvPr/>
        </p:nvSpPr>
        <p:spPr>
          <a:xfrm>
            <a:off x="395280" y="981000"/>
            <a:ext cx="1960560" cy="3603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阅读赏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8">
            <a:hlinkClick r:id="rId5" action="ppaction://hlinksldjump"/>
          </p:cNvPr>
          <p:cNvSpPr/>
          <p:nvPr/>
        </p:nvSpPr>
        <p:spPr>
          <a:xfrm>
            <a:off x="395280" y="1413000"/>
            <a:ext cx="1943280" cy="43164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6" action="ppaction://hlinksldjump"/>
              </a:rPr>
              <a:t>学习建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378000" y="1916280"/>
            <a:ext cx="1942920" cy="43308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7" action="ppaction://hlinksldjump"/>
              </a:rPr>
              <a:t>思考与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1">
            <a:hlinkClick r:id="" action="ppaction://hlinkshowjump?jump=endshow"/>
          </p:cNvPr>
          <p:cNvSpPr/>
          <p:nvPr/>
        </p:nvSpPr>
        <p:spPr>
          <a:xfrm>
            <a:off x="7667640" y="6165720"/>
            <a:ext cx="57636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395280" y="2421000"/>
            <a:ext cx="1943280" cy="43164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8" action="ppaction://hlinksldjump"/>
              </a:rPr>
              <a:t>拓展阅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拓展阅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916360" y="191628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99ff"/>
                </a:solidFill>
                <a:latin typeface="Times New Roman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8459640" y="6527880"/>
            <a:ext cx="57636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6360" y="770040"/>
            <a:ext cx="910764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关于“文化大革命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66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至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76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，由毛泽东错误发动和领导，被林彪、江青两个反革命集团利用，给党、国家和各族人民带来严重灾难的内乱。发动的指导思想是所谓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无产阶级专政下继续革命的理论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文化大革命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共分三个阶段。第一阶段：从开始发动到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69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党的第九次全国代表大会。这一阶段，林彪、江青、康生、张春桥等利用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文革小组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名义，趁机煽动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打倒一切，全面内战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各部门、各地方的党政领导机构几乎都被夺权或改组。第二阶段：从党的“九大”到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73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党的第十次全国代表大会。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70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至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71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间发生了林彪反革命集团阴谋夺取最高权力、策动反革命武装政变的事件。毛泽东、周恩来机智地粉碎了这次叛变。周恩来主持中央日常工作后，使各方面的工作有了转机。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72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批判林彪过程中，周恩来提出批判极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左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思潮的正确意见，但毛泽东认为当时的任务仍是反对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极右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党的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十大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继续了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九大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左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倾错误，江青等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四人帮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反革命集团的势力又得到加强。第三阶段：从党的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十大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到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76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。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74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初，江青等提出开展所谓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批林批孔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运动，把矛头指向周恩来。毛泽东先同意，后又对江青作了严厉批评，宣布他们是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四人帮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指出江青有野心。邓小平同志在周恩来病重时主持中央日常工作，使形势有了明显好转。但是毛泽东同志不能容忍邓小平同志系统地纠正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文化大革命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错误，又发动了所谓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批邓、反击右倾翻案风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运动，全国因而再度陷入混乱。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76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9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，毛泽东主席逝世后，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四人帮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加紧阴谋夺权活动。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上旬，中央政治局粉碎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四人帮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结束了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文化大革命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这场灾难。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78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2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党的十一届三中全会开始全面纠正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文化大革命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错误。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81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，党的十一届六中全会对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文化大革命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错误及其发生原因和危害性作了系统总结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66"/>
                </a:solidFill>
                <a:latin typeface="Arial"/>
                <a:ea typeface="宋体"/>
              </a:rPr>
              <a:t>  </a:t>
            </a:r>
            <a:r>
              <a:rPr b="0" lang="zh-CN" sz="4800" spc="-1" strike="noStrike">
                <a:solidFill>
                  <a:srgbClr val="660066"/>
                </a:solidFill>
                <a:latin typeface="Arial"/>
                <a:ea typeface="宋体"/>
              </a:rPr>
              <a:t>背景资料（一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539640" y="2999160"/>
            <a:ext cx="80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徐迟，原名商寿，浙江吴兴人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31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至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33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，曾先后就读于苏州东吴大学和燕京大学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33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开始写诗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36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出版第一部诗集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二十岁人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    抗战爆发后，辗转与上海、香港、重庆。这期间，曾与戴望舒、叶居祁健合编英文版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中国作家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协助郭沫若编辑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中原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刊。创作和翻译了不少作品。抗战胜利后，由重庆抵上海，曾一度回故乡教书。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    全国解放后，先后任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人民中国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英文版）编辑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诗刊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副主编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60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调湖北文联专业创作。创作了大量的诗、散文和特写。其中反映画家常书鸿献身于祖国艺术事业的报告文学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祁连山下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引起读者热烈反响。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    粉碎四人帮以后，创作了一系列脍炙人口的报告文学。描写科学家生活的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地质之光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歌德巴赫猜想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等，将科学抽象化为艺术的图画，受到广泛好评，曾获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81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全国优秀报告文学一等奖。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圆角矩形 3"/>
          <p:cNvSpPr/>
          <p:nvPr/>
        </p:nvSpPr>
        <p:spPr>
          <a:xfrm>
            <a:off x="0" y="620640"/>
            <a:ext cx="2411280" cy="6476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关于作者徐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26">
            <a:hlinkClick r:id="rId1" action="ppaction://hlinksldjump"/>
          </p:cNvPr>
          <p:cNvSpPr/>
          <p:nvPr/>
        </p:nvSpPr>
        <p:spPr>
          <a:xfrm>
            <a:off x="8317080" y="6456240"/>
            <a:ext cx="57600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8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66"/>
                </a:solidFill>
                <a:latin typeface="Arial"/>
                <a:ea typeface="宋体"/>
              </a:rPr>
              <a:t>背景资料（二）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916360" y="191628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99ff"/>
                </a:solidFill>
                <a:latin typeface="Times New Roman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539640" y="2998800"/>
            <a:ext cx="80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发表于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78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的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哥德巴赫猜想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被誉为新时期报告文学繁荣的报春花。它叙述了数学家陈景润的传奇经历，多方面展示了他的个人遭遇，揭示了知识分子的不幸与民族命运的关系。在新时期文学中它率先展现了“文革”给知识分子带来的时代烙印和心灵伤痕，呼唤对人的价值、科学、知识的尊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　　徐迟按自己的创作个性，在刻画主人公不屈不挠的攀登精神的同时，还写出了他善良、坚韧、孤僻、内向的性格特征。作者这种不把作品写成先进事迹介绍，而突出人物鲜明个性的写法，在当时颇为叛经离道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　　在艺术手法上，作品在介绍“数学家”经历、精神的过程中，着意书写他的品格气质。作者还创造性地将枯燥、抽象的数学计算式大段地以生动的文学语言表现出来，做出了成功的尝试，使读者迷惑于数学王国的高深时，领略科学家研究、探索的艰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　　作者诗人的气质在这篇作品中更多地体现在语言上，该文辞采华丽典雅，恣肆放达，并常常能将抽象的科学研究具体形象化，文中描述陈景润数学研究成果的一段文字早已脍炙人口。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圆角矩形 6"/>
          <p:cNvSpPr/>
          <p:nvPr/>
        </p:nvSpPr>
        <p:spPr>
          <a:xfrm>
            <a:off x="0" y="620640"/>
            <a:ext cx="3059280" cy="6476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关于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哥德巴赫猜想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6"/>
          <p:cNvSpPr/>
          <p:nvPr/>
        </p:nvSpPr>
        <p:spPr>
          <a:xfrm>
            <a:off x="8317080" y="6456240"/>
            <a:ext cx="57600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3040" y="4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66"/>
                </a:solidFill>
                <a:latin typeface="Arial"/>
                <a:ea typeface="宋体"/>
              </a:rPr>
              <a:t>背景资料（三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2916360" y="191628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99ff"/>
                </a:solidFill>
                <a:latin typeface="Times New Roman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133200" y="2781360"/>
            <a:ext cx="8785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马思聪，杰出的小提琴演奏家、著名的作曲家和音乐教育家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12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日出生于广东海丰海城镇一书香官宦人家。马思聪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1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岁时随大哥马思齐到法国学奏小提琴，不久考进巴黎音乐学院提琴班，成为该校唯一的黄种人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31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学成回国，创办广东音乐学院，继而在香港创办华南音乐学院，兼任院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抗日战争时期，在重庆创办中华交响乐团，亲任指挥。同时受聘于中央大学、中山大学、桂林大学任教授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52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至“文革”前，马思聪一直任中央音乐学院副院长、院长、中国音乐家协会副主席，曾选为全国人大代表、全国政协委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“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文革”初期，马思聪深受迫害，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67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携家眷从广州逃到香港地区，后长期旅居在美国费城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84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，马思聪在政治上得到平反，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87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0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日，马思聪病逝，享年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76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马思聪才华横溢、创作甚丰，他的小提琴作品在中国近代音乐史上影响最突出。小提琴曲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内蒙组曲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是马思聪的成名之作，作于 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37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．尤其是其中的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思乡曲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和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塞外舞曲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创作技法精湛，民族风格鲜明，成为饮誉中外的优秀中国小提琴代表作。马思聪不仅是一位饮誉乐坛的小提琴作曲家、演奏家，而且又是知名的音乐教育家，为培养音乐人才，发展中国的音乐教育事业，弘扬祖国的民族文化作出了积极的贡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圆角矩形 6"/>
          <p:cNvSpPr/>
          <p:nvPr/>
        </p:nvSpPr>
        <p:spPr>
          <a:xfrm>
            <a:off x="0" y="620640"/>
            <a:ext cx="2411280" cy="6476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关于马思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6"/>
          <p:cNvSpPr/>
          <p:nvPr/>
        </p:nvSpPr>
        <p:spPr>
          <a:xfrm>
            <a:off x="8317080" y="6456240"/>
            <a:ext cx="57600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阅读赏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2916360" y="191628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99ff"/>
                </a:solidFill>
                <a:latin typeface="Times New Roman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6"/>
          <p:cNvSpPr/>
          <p:nvPr/>
        </p:nvSpPr>
        <p:spPr>
          <a:xfrm>
            <a:off x="8028000" y="6308640"/>
            <a:ext cx="57636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539640" y="2343600"/>
            <a:ext cx="80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本文是一篇悼念客死他乡的挚友的散文，它通过作者追忆马思聪“文革”被迫暗走他乡，身在国外而心眷故乡的几件小事，表达了作者对马思聪的深切同情，同时，也对马思聪对祖国的拳拳赤子之心表达了深深的敬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这篇文章虽是有感而发，语言朴质平实，取材多为琐事，但由于作者所融入的深厚的思想感情和对马思聪人格的思考，因而使得文章的立意超越平凡而达到了深远的境界。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阅读赏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6"/>
          <p:cNvSpPr/>
          <p:nvPr/>
        </p:nvSpPr>
        <p:spPr>
          <a:xfrm>
            <a:off x="8172360" y="6308640"/>
            <a:ext cx="57636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539640" y="1908360"/>
            <a:ext cx="80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二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全文可分为三部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一部分为第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自然段，简要概述马思聪“文革”远走他乡而蒙受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不白之冤的经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二部分为第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自然段到第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9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自然段。通过回忆与马思聪相关的人、事、文及与马思聪的书信交往等，具体表露出对马思聪遭遇的深深同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三部分即最后一段。再次总结马思聪的坎坷人生，并作文祭奠、文辞感天动地，令人为之唏嘘不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阅读赏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7812000" y="6308640"/>
            <a:ext cx="57636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539640" y="263988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从写作特色而言，感情浓郁，发自肺腑的语言大大增强了这篇悼文的表现力，这可视为一个突出的特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立意貌似平实，实则深远。从平常书信往来、友人致文、亲人回忆、交往琐事中反映主人公的巨大痛苦及痛苦中仍不改爱国之情，这使得人们更易于接受并产生共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选材得当也是本文的特点之一。文章材料虽然很多，但却都是从各个方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不同角度来表现主题的，因而毫无重复、啰嗦之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学习建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916360" y="191628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99ff"/>
                </a:solidFill>
                <a:latin typeface="Times New Roman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8244000" y="6237360"/>
            <a:ext cx="57600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0" y="1268280"/>
            <a:ext cx="914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学习本文时，有如下重点需要把握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一）于平常琐事中寄深情，从而表现主题是本文写作的一个突出特点，应掌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二）体会作者对马思聪“在无可奈何中生。在无可奈何中死”的遭遇的深切同情以及对他人品的赞颂和无限怜惜之情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学习方法与步骤建议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一）可先行查阅有关“文化大革命”的资料，让自己对马思聪所受冤屈的时代有个大致的了解，然后再进一步分析、理解本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二）也可采用另一学习思路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）倾听马思聪作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思乡曲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从中品位音乐中所蕴含的思想感情并在课堂上表达出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）在乐曲声中阅读课文，体会作者的思想感情。（可以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思乡曲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或别的相关音乐为背景音乐。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）分析写作方面的特点，促进同学们对写作理论知识的体会并写作散文一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马思聪《思乡曲》.mp3" descr=""/>
          <p:cNvPicPr/>
          <p:nvPr/>
        </p:nvPicPr>
        <p:blipFill>
          <a:blip r:embed="rId1"/>
          <a:stretch/>
        </p:blipFill>
        <p:spPr>
          <a:xfrm>
            <a:off x="4260960" y="3925800"/>
            <a:ext cx="622080" cy="622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190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思考与练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916360" y="191628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99ff"/>
                </a:solidFill>
                <a:latin typeface="Times New Roman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8244000" y="6237360"/>
            <a:ext cx="576000" cy="2858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0" y="1557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、作者的成名作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报告文学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哥德巴赫猜想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曾轰动神州，你知道它的内容吗？请查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二、查阅资料，了解“文化大革命”是怎么回事，它对我们国家和人民带来了哪些灾难和危害？请组织口头或书面的讨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22:02:32Z</dcterms:created>
  <dc:creator>eclipse</dc:creator>
  <dc:description/>
  <dc:language>en-US</dc:language>
  <cp:lastModifiedBy>normal</cp:lastModifiedBy>
  <dcterms:modified xsi:type="dcterms:W3CDTF">2013-08-29T09:00:58Z</dcterms:modified>
  <cp:revision>51</cp:revision>
  <dc:subject/>
  <dc:title>PURPLE PASSION</dc:title>
</cp:coreProperties>
</file>