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766D-D86D-4D0E-AD5E-41AA4409BA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829-561A-42DA-8D46-5640CB19E5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211C-5642-4898-AE5B-5CDC02890D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AFCB-8E95-4C5A-8F59-19CFEF1DC7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9850-D2D7-4234-8E25-1C701AC4A1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39A-156D-448E-AB3D-2DE7505A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89C-C287-4D31-9FAA-3F5A311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C75-01F5-4598-AF5A-E96B493C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B8B-04EC-4739-B3F5-D0366D73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F8A3-C5A4-4514-8F93-7CEE303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5F09-EEFA-4952-905F-ED382CFC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B6A6-805C-44B1-B66A-A05A855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E9DD-2B60-4C71-B493-16BCCA4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C7C-C614-4A5B-84AE-9703B8D2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987D-4D38-439D-BB24-A76E60D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B74-6AA4-45B3-B90E-C3294266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6C1-DBD8-417D-8732-CC6BDF22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19E-BF91-4E81-83F7-63C04CE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AF7-D789-4A9B-A496-82E08F6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8E0E-30AE-4B80-BD8A-55AD9D8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60E-54B2-41E6-AD34-741CB470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A940-FADE-40D0-A50D-FC078289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DAA-11FE-49B8-9393-F3AFE4DF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8C9-AE40-4B95-8336-70E18B0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062-23DE-484C-A02F-A527652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5B3-E200-4345-A1EC-6A8DF306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4D6-B2EF-40B3-9EA6-4A79A09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902-F51D-45D5-832A-106B8D2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DB7-2D75-48C3-A3CC-577DC83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F554-40AC-4496-96E3-E71D272E65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810-7FB3-468B-AD76-A04CD786C6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ff"/>
                </a:solidFill>
                <a:latin typeface="Arial"/>
                <a:ea typeface="宋体"/>
              </a:rPr>
              <a:t>伤田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聂夷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95280" y="476280"/>
            <a:ext cx="1960560" cy="43164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翻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95280" y="981000"/>
            <a:ext cx="1960560" cy="360360"/>
          </a:xfrm>
          <a:prstGeom prst="flowChartAlternateProcess">
            <a:avLst/>
          </a:prstGeom>
          <a:gradFill rotWithShape="0">
            <a:gsLst>
              <a:gs pos="0">
                <a:srgbClr val="5e2f76"/>
              </a:gs>
              <a:gs pos="5000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阅读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>
            <a:hlinkClick r:id="" action="ppaction://hlinkshowjump?jump=endshow"/>
          </p:cNvPr>
          <p:cNvSpPr/>
          <p:nvPr/>
        </p:nvSpPr>
        <p:spPr>
          <a:xfrm>
            <a:off x="7667640" y="5950080"/>
            <a:ext cx="865080" cy="50148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翻  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916360" y="191628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99ff"/>
                </a:solidFill>
                <a:latin typeface="Times New Roman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571680" y="22957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月里蚕儿刚刚出子，就早早地卖掉了一年的新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月里秧苗还在地里，又早早地卖去了一年的新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只顾医治眼下的毒疮，也只有剜去自己心上的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但愿君王的心啊，能够变成一支光明的蜡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要再去照亮那穿着绫罗绸缎的富贵人家的筵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而只是来照看照看这无衣无食的逃亡庄户的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6"/>
          <p:cNvSpPr/>
          <p:nvPr/>
        </p:nvSpPr>
        <p:spPr>
          <a:xfrm>
            <a:off x="7885080" y="6021360"/>
            <a:ext cx="685800" cy="4320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8385120" y="6453360"/>
            <a:ext cx="758880" cy="40464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0" y="295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咏田家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聂夷中的代表作，也是晚唐诗歌创作中的艺术佳品。诗中运用形象生动的比喻和鲜明对比的表现手法，愤怒地控诉了形形色色的高利贷给唐末农民所带来的深重苦难，表达了诗人对广大农民的深厚同情。此诗问世后，深受唐末统治者重视。据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资治通鉴</a:t>
            </a:r>
            <a:r>
              <a:rPr b="0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卷载，宰相冯道向后唐皇帝李嗣源述说农民痛苦之时，就在朝堂上诵读了这首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的前四句为第一层，主要描写残酷的高利贷剥削给广大农民所带来的剜心割肉般的痛楚。“二月卖新丝，五月粜新谷”，写出了农民在青黄不接之时被迫借贷的悲惨境地。二月还未着手养蚕，五月稻子尚处青苗期，然而，贫苦的农民迫于生计，为济燃眉之急，竟不得不以未来的新丝、新谷作抵押，借上“驴打滚”的高利贷。“二”、“五”月极言时间之早，这么早就背上阎王债，足以说明农民已到了山穷水尽、骨枯髓干的地步。      “卖”、“粜”状其只出不入，深刻反映了农民的辛酸血泪和无比痛苦。“医得眼前疮，剜却心头肉”两句，运用比喻的手法，形象地揭示出高利贷吮血噬骨的残酷剥削本质。剜却性命攸关的“心头肉”以疗眼前毒疮，是迫不得已，其后果更是不堪想象。旧伤未愈添新伤，穷困伴着死亡行，这就是对当时广大农民濒临绝境的高度概括和生动写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的后四句为第二层，主要是直抒胸臆，尽吐胸中块垒，表达诗人对解决正在激化中的社会矛盾的希望和设想，深寄对“君主”的讥刺之意。诗人把解决矛盾的希望寄托在“君王”身上，这反映出作者存在一定的时代和阶级的局限性，但是，也从另一个侧面深刻地揭露了封建社会最高统治者“君王”所代表的个人利益。“君王”之“烛”只照地主豪绅，权贵达官，而其光不可射及逃亡的农舍，这就含蓄而尖锐地讥刺了“君王”的不恤黎庶，使读者能够透过黑暗的社会现实，思味出那激化社会矛盾的真正罪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宋体"/>
              </a:rPr>
              <a:t>阅读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8317080" y="6308640"/>
            <a:ext cx="685800" cy="4302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3076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首诗之所以向为人们所传诵，除了它真实而带有高度概括性地再现了封建社会的黑暗现实、反映了农民的痛苦生活、具有高度的思想性之外，还在于它有高超的表现技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首先，形象的比喻，高度的概括，使得诗歌的容量更为广阔。对农民被迫借取高利贷及其更惨痛的后果，诗人并未明白道出，而是用“剜却心头肉”以“医得眼前疮”来比喻。剜肉补疮，并非根本的疗毒之策，它只会造成更加严重的新局面。这样以剜肉补疮来比喻农民以借高利贷济燃眉之急，是再形象不过了，也是再具有高度概括力不过的了。这个比喻，一方面使诗歌的形象具备了可感性，另一方面也深刻地揭示了问题的本质，使有限的形式容纳了无限广阔深厚的社会内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其次，鲜明的对比手法的运用，把封建社会中贫富悬殊的阶级差别给历历如绘的描写出来了。“不照绮罗筵，只照逃亡屋”，本是对“君王”的希冀之语，但其中却包含了双重对比的意味。从“君王”的角度来说，恩泽不均，只顾富室，不恤贫苦，这一对比，就把“君王”的阶级立场给鲜明地展示在读者面前；从社会现实的角度来看，一边是权贵豪门华丽的衣着，丰盛的筵宴，一边却是无衣无食，贫困破产，逃亡在外。这一对比，就把地主富室用高利贷剥削农民的严重恶果给突现出来了。如此形象的对比，也把作者鲜明的爱憎之情给烘托得淋漓尽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此外，这首诗的语言颇质朴通俗，感情也很真诚感人，充分显示了聂夷中驾驭语言、节制感情的功力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normal</cp:lastModifiedBy>
  <dcterms:modified xsi:type="dcterms:W3CDTF">2013-08-29T08:51:55Z</dcterms:modified>
  <cp:revision>76</cp:revision>
  <dc:subject/>
  <dc:title>PURPLE PASSION</dc:title>
</cp:coreProperties>
</file>