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18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1.jpeg" ContentType="image/jpeg"/>
  <Override PartName="/ppt/media/image2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150-5729-4B7A-9C30-DC0CF04B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8A1-097F-423F-9FA1-207BA8B1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F50-2CB6-4BF1-96D9-E6A0B8B3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0EB-20D1-40D5-927F-0A5DFB82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824C-0F0A-4F8E-A2AD-E122ED6C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AA16-EB17-4A10-B4F0-54DB8284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DBEF-2D86-4FFA-89E6-CC84DAF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F1DC-4BF6-4181-9EB4-A4B08D39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A50D-EBC1-4849-B16A-C9F74089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3256-A5F3-4D13-8F0C-2DBB52DC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C44C-5A6C-44C6-8013-E660921A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1EF-5FE5-4AA1-BC13-FEEE315D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DA79-7AD0-4411-950F-A23C43B6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5FDC-F3ED-4868-9EB4-62A286DC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16FC-D88A-44EA-9EF7-78FD6837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BB41-9873-40D6-AB06-0C380C7F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F209-2258-4067-BCF0-5EF03815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7FE0-31E3-4EBF-B129-72F9F0B0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7FBE-F8EE-4F96-8308-E554FBAD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AB7F-6E88-44AF-B642-51B1EF94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84DA-B5F0-40CC-A834-80CCFE33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4596-611E-4DC5-9A2C-DBEDAC19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26F-02C9-455F-B2FC-483B1502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8B68-5C88-4C33-9A3F-82C41F02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B138-6EB3-4CD6-B286-2C768F9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A965-3B7D-4046-AC5C-1650DCAE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6A8D-7D4B-4BAC-A5BF-F96AF465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5061-5751-40BB-99A2-6A3FE367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4EC1-F501-4F01-B952-632B48C4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0E44-95AE-4550-B36C-2DA34D8E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73F1-2D98-4ED6-8D90-A9376705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26B4-B691-4D50-ABBE-EB7B3F14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378C0-718D-4264-8CDD-FEED65DE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56D-1162-4509-B39E-3086AF52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15266-642E-47A0-9111-F8784372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597A-FC92-4975-BAA8-22D6DC6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3BC8-1619-4801-9A40-AE7B4047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D48E-3877-49C8-ADA4-7FA1530D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86183-F89F-4510-8419-37ABFCE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4DE2-0DE7-4E7A-9F9F-9B701F73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A4DD0-24E6-4153-A492-3D5C379B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1E60-3E0E-446B-8F3C-28EEB55B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75471-074B-41EF-9BF6-F8657453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F9016-118B-4738-B906-EF01D4AD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133-481C-426D-9E59-F70EA4F1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29D48-4A4E-45E5-A165-917A137F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E239-D57A-4358-BA73-415FCCA4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6B645-A20E-4983-A45B-0109ADB2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B5F4-663E-436F-8315-A5522EA4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60E8-01CB-441C-B184-8CEFD568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F7A5-1641-401F-BED5-EF63B4D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6C80-59C2-476B-BD29-C1E360D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7815A-E8DD-4A50-9012-CA5A2124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7749-F160-42B9-BACB-17E32FAC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0D01-F46F-464C-A7F5-4E6C9B6A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52E-C174-4336-B3C8-39636E31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DA27-4BAB-41A4-997B-7605450E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9925-E8E5-4FE2-9185-825D37B4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2EC33-8292-4FF9-8805-83D720C6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D4056-DBBC-4372-ACD7-92B2AA5E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4F702-3D37-4623-8901-E721D735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837D5-62DB-4ACF-AA5D-F88908E6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7846-2A22-443D-BDA8-58C60E0D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E9497-D71D-48EC-94A3-782BC7A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1316-4A66-4DA2-BD22-FF0C7CDC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1C56F-EA8D-4967-B2DD-BFEC25EF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E1A-6CC6-4D1D-BF9B-10500122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42F6E-B51E-4B49-B5DC-8E9421D6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71D3A-37C7-4754-80AD-8DA2CC1E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AE9B-55DB-4749-B4EB-B1FA1F45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F4A83-FF7B-4C17-871B-6F28B4B2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E05F3-2DEE-4264-8CE6-5ED0F9CB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ED8E9-82B7-42F3-8D32-D568C868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C909D-1B97-4C3E-948D-9EA5C06A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6A6CD-1B4D-4679-BD41-E21F8716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81B2-C729-49F8-971A-551111D4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EB344-F773-47D7-9879-92E1AC9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E9F-7CC2-4923-AB7C-426139C1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81FB8-A792-4806-A9E2-1357C06C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56F17-626C-4554-A958-9FA39B9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58F7D-21DC-4B0C-B41D-6931D50F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60429-32AF-408C-88BD-C5574532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288C8-53A6-44CE-B6F5-CEA4E71E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2F6-C2F5-4B0D-B850-F673B2BB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B210-5056-47AF-84B1-D541FDD523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5C8-BCB9-44CC-A3E5-76BF7FCFE22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9599-2660-4353-B42D-5A52F3F47E9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2FDD-C186-4F41-B13D-13B81AB6AD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FE12-24EF-4534-B2FE-F070DC8D30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F51-C489-4674-889E-7F32BF5A26F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4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7956-1A27-42FA-BB64-C9B44FC0736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1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9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65280" y="1725480"/>
            <a:ext cx="92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1676520"/>
            <a:ext cx="838440" cy="3657600"/>
          </a:xfrm>
          <a:prstGeom prst="flowChartTerminator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1905120"/>
            <a:ext cx="92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介绍了什么知识？重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白蚁的生态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白蚁的社会性特征（王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初读课文，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2857680" cy="16938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685800" y="3962520"/>
            <a:ext cx="316224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038480" y="114300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提出说明的对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4419720" y="1600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过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28320" y="2133720"/>
            <a:ext cx="22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介绍蚁巢的外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95200" y="259092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介绍副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19240" y="3048120"/>
            <a:ext cx="16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介绍主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25320" y="3505320"/>
            <a:ext cx="9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介绍白蚁的蚁种、分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27760" y="4038480"/>
            <a:ext cx="26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介绍白蚁的繁殖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41080" y="4572000"/>
            <a:ext cx="26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介绍繁殖蚁出飞情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新王国诞生过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121932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43400" y="236232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67080" y="41911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1371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概括介绍白蚁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25909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介绍白蚁的蚁种分工，紧扣其社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6668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介绍白蚁的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17480" y="5130720"/>
            <a:ext cx="31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介绍白蚁和人类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及白蚁防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7924680" y="5981760"/>
            <a:ext cx="876600" cy="876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初读课文，梳理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第一部分（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1-2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）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者以</a:t>
            </a:r>
            <a:r>
              <a:rPr b="1" lang="zh-CN" sz="3600" spc="-1" strike="noStrike" u="sng">
                <a:solidFill>
                  <a:srgbClr val="d11f07"/>
                </a:solidFill>
                <a:uFillTx/>
                <a:latin typeface="微软雅黑"/>
              </a:rPr>
              <a:t>拟人化的手法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向我们展示了白蚁“地下王国”的生活概况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精读课文，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38480" y="762120"/>
            <a:ext cx="2590920" cy="914400"/>
          </a:xfrm>
          <a:prstGeom prst="wedgeEllipseCallout">
            <a:avLst>
              <a:gd name="adj1" fmla="val -67277"/>
              <a:gd name="adj2" fmla="val 1267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白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VS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蚂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8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白蚁多为白色、淡黄色，也有褐色、黑褐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蚂蚁多为黄色、褐色、黑色或橘红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白蚁表皮角质化程度不高，畏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蚂蚁表皮角质化程度高，不畏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01880" y="1828800"/>
            <a:ext cx="3779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3743280" cy="1943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精读课文，合作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白蚁王国的建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3026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第二部分（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3-8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者以详尽的语言、活泼的文字、准确清晰而有条理的说明方法</a:t>
            </a:r>
            <a:r>
              <a:rPr b="1" lang="zh-CN" sz="3600" spc="-1" strike="noStrike">
                <a:solidFill>
                  <a:srgbClr val="c0230e"/>
                </a:solidFill>
                <a:latin typeface="Comic Sans MS"/>
              </a:rPr>
              <a:t>展示了白蚁的生活实况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。全面地向我们揭开了一个生动而有趣的白蚁王国生态图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精读课文，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38480" y="762120"/>
            <a:ext cx="2590920" cy="914400"/>
          </a:xfrm>
          <a:prstGeom prst="wedgeEllipseCallout">
            <a:avLst>
              <a:gd name="adj1" fmla="val -67277"/>
              <a:gd name="adj2" fmla="val 1267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体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  <a:ea typeface="黑体"/>
              </a:rPr>
              <a:t>白蚁的生活环境与领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8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温度：喜温性的昆虫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湿度：蚁巢需水量高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空气：蚁巢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含量高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光线：营巢内隐蔽生活 ，畏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木栖性白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土栖性白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土木两栖性白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601880" y="1828800"/>
            <a:ext cx="3779640" cy="36576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4643280" y="2492280"/>
            <a:ext cx="4248360" cy="2637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精读课文，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白蚁王国的宫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8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宫殿内部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交通”四通八达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农田”星罗密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温度”冬暖夏凉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后宫”一夫一妻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宫殿外观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高达近十米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地下约五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5257800" y="19051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精读课文，合作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03360" y="13712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使用大量的叙述手法，这种叙述有什么好处？与记叙文中的叙述有什么不同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可以使介绍更加生动形象，便于理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目的不同，这里的叙述为了让读者更直观的看到蚁巢的特征和白蚁的活动情况，不是让读者了解挖掘本身的意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924680" y="56386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精读课文，合作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第三部分（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）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作者以生动活泼的拟人化手法向我们介绍了白蚁王国的生态图之后，在本部分，则尽量以准确、科学的态度</a:t>
            </a:r>
            <a:r>
              <a:rPr b="1" lang="zh-CN" sz="3200" spc="-1" strike="noStrike">
                <a:solidFill>
                  <a:srgbClr val="c0230e"/>
                </a:solidFill>
                <a:latin typeface="Comic Sans MS"/>
              </a:rPr>
              <a:t>介绍了白蚁与人类的关系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（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两处引用专家介绍，体现了说明文的科学性特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精读课文，合作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3276720"/>
            <a:ext cx="27432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楷体"/>
              </a:rPr>
              <a:t>赵立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6765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白蚁王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114480" y="0"/>
            <a:ext cx="90295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230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30e"/>
                </a:solidFill>
                <a:latin typeface="Comic Sans MS"/>
                <a:ea typeface="黑体"/>
              </a:rPr>
              <a:t>（一）说明内容准确、清晰而有条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既符合一般读者的认知过程和认知规律，又使得整个了解白蚁的过程准确、自然、清晰而且条理分明，的确是十分巧妙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小结：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001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总说白蚁王国概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→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段过渡段）跟随作者做一番游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→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进入白蚁王国，这是距离上的接近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→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（安排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段）“几把银锄同时挥舞”情节设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→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跟随银锄所指，一步步深入了解王国由巢到蚁再到蚁的各种生活状态、习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→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适时介绍白蚁放飞、求偶、繁殖直至整个王国的形成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→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</a:rPr>
              <a:t>解释白蚁的危害，介绍人类与白蚁的关系及防治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4038480" y="762120"/>
            <a:ext cx="2590920" cy="914400"/>
          </a:xfrm>
          <a:prstGeom prst="wedgeEllipseCallout">
            <a:avLst>
              <a:gd name="adj1" fmla="val -67277"/>
              <a:gd name="adj2" fmla="val 1267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顺理成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小结：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32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11f0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11f07"/>
                </a:solidFill>
                <a:latin typeface="Comic Sans MS"/>
                <a:ea typeface="黑体"/>
              </a:rPr>
              <a:t>（二）表达方式多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说明、记叙、描写，三者相结合，大大增强了说明文语言的丰富性，体现了文艺性说明文的突出特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如：（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段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行）“巢内有一块灰黄色的东西…雕刻品”采用了详写的描写手法，语言相当优美又不失准确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小结：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11f07"/>
                </a:solidFill>
                <a:latin typeface="Comic Sans MS"/>
                <a:ea typeface="黑体"/>
              </a:rPr>
              <a:t>（三）语言生动有趣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拟人化的手法使得本文有如童话般美丽，大大增强了文章的可读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230e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230e"/>
                </a:solidFill>
                <a:latin typeface="微软雅黑"/>
              </a:rPr>
              <a:t>如：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白蚁群居生活状况</a:t>
            </a:r>
            <a:r>
              <a:rPr b="1" lang="zh-CN" sz="3200" spc="-1" strike="noStrike">
                <a:solidFill>
                  <a:srgbClr val="0a0b0b"/>
                </a:solidFill>
                <a:latin typeface="微软雅黑"/>
              </a:rPr>
              <a:t>→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称之为“白蚁王国”、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“蚁王”和“蚁后”</a:t>
            </a:r>
            <a:r>
              <a:rPr b="1" lang="zh-CN" sz="3200" spc="-1" strike="noStrike">
                <a:solidFill>
                  <a:srgbClr val="0a0b0b"/>
                </a:solidFill>
                <a:latin typeface="微软雅黑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“国王”和“王后”（把蚁类人格化，增加读者阅读兴趣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小结：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408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统治者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   ——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蚁后和蚁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士兵”——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兵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农民”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——工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601880" y="1828800"/>
            <a:ext cx="3779640" cy="36576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4495680" y="1219320"/>
            <a:ext cx="3672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比欣赏《小昆虫大智慧》、《微观世界》等经典纪录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家园周围的昆虫，择一介绍，创作一篇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国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3429000" cy="91440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白蚁的危害与防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文艺性说明文的写作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掌握分析说明顺序和说明方法的能力，培养探索精神，提升科学认知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648320" y="179064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导入：你见过“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白蚁世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533520" y="37339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文是一篇文艺性说明文，它像童话一样，向我们展示了白蚁王国的洞穴状况、白蚁种类、生活习性及群居情况以及防治白蚁的方法策略等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  <a:ea typeface="黑体"/>
              </a:rPr>
              <a:t>文艺性说明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运用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形象化的手法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来介绍事物、阐述事理的说明文叫文艺性说明文。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以</a:t>
            </a:r>
            <a:r>
              <a:rPr b="1" lang="zh-CN" sz="2400" spc="-1" strike="noStrike">
                <a:solidFill>
                  <a:srgbClr val="eb0101"/>
                </a:solidFill>
                <a:latin typeface="Comic Sans MS"/>
              </a:rPr>
              <a:t>说明为主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2400" spc="-1" strike="noStrike">
                <a:solidFill>
                  <a:srgbClr val="eb0101"/>
                </a:solidFill>
                <a:latin typeface="Comic Sans MS"/>
              </a:rPr>
              <a:t>辅以叙述，描写，抒情等多种表达方式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并常用借助一些修辞方法，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这类说明文具有较多的文学色彩，富有情趣，多采用文艺笔调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知识小品（或叫科学小品）、名胜古迹、文物的说明简介等常属于这一类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7620120" y="5105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文体常识小引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  <a:ea typeface="黑体"/>
              </a:rPr>
              <a:t>平实性说明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0101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语言准确、周密；</a:t>
            </a:r>
            <a:r>
              <a:rPr b="1" lang="zh-CN" sz="3200" spc="-1" strike="noStrike">
                <a:solidFill>
                  <a:srgbClr val="eb0101"/>
                </a:solidFill>
                <a:latin typeface="Comic Sans MS"/>
              </a:rPr>
              <a:t>很少用修辞手法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多用</a:t>
            </a:r>
            <a:r>
              <a:rPr b="1" lang="zh-CN" sz="3200" spc="-1" strike="noStrike">
                <a:solidFill>
                  <a:srgbClr val="eb0101"/>
                </a:solidFill>
                <a:latin typeface="Comic Sans MS"/>
              </a:rPr>
              <a:t>列数字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明方法，</a:t>
            </a:r>
            <a:r>
              <a:rPr b="1" lang="zh-CN" sz="3200" spc="-1" strike="noStrike">
                <a:solidFill>
                  <a:srgbClr val="eb0101"/>
                </a:solidFill>
                <a:latin typeface="Comic Sans MS"/>
              </a:rPr>
              <a:t>多用带有限制性的词语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单纯用说明的表达方式，语言朴实简明，内容具体，切实使人读了就能明白，</a:t>
            </a:r>
            <a:r>
              <a:rPr b="1" lang="zh-CN" sz="3200" spc="-1" strike="noStrike">
                <a:solidFill>
                  <a:srgbClr val="eb0101"/>
                </a:solidFill>
                <a:latin typeface="Comic Sans MS"/>
              </a:rPr>
              <a:t>如同自然科学的各类教科书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例如：科技信息资料，实验报告，说明书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620120" y="5105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文体常识小引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254160" y="1752480"/>
            <a:ext cx="835632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《南州六月荔枝丹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《漫话特种部队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世纪人类生存新空间——海洋家园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《你会养脑吗？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《白蚁王国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WTO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将给中国带来什么》</a:t>
            </a:r>
            <a:r>
              <a:rPr b="1" lang="zh-CN" sz="3200" spc="-1" strike="noStrike">
                <a:solidFill>
                  <a:srgbClr val="eb0101"/>
                </a:solidFill>
                <a:latin typeface="微软雅黑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609480"/>
            <a:ext cx="4800600" cy="1828800"/>
          </a:xfrm>
          <a:prstGeom prst="wedgeRoundRectCallout">
            <a:avLst>
              <a:gd name="adj1" fmla="val -44046"/>
              <a:gd name="adj2" fmla="val 92537"/>
              <a:gd name="adj3" fmla="val 16667"/>
            </a:avLst>
          </a:prstGeom>
          <a:solidFill>
            <a:srgbClr val="ffef6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0101"/>
                </a:solidFill>
                <a:latin typeface="Arial"/>
              </a:rPr>
              <a:t>文艺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文：</a:t>
            </a:r>
            <a:r>
              <a:rPr b="1" lang="zh-CN" sz="2800" spc="-1" strike="noStrike">
                <a:solidFill>
                  <a:srgbClr val="0a0b0b"/>
                </a:solidFill>
                <a:latin typeface="Arial"/>
              </a:rPr>
              <a:t>① 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0101"/>
                </a:solidFill>
                <a:latin typeface="Arial"/>
              </a:rPr>
              <a:t>平实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文：</a:t>
            </a:r>
            <a:r>
              <a:rPr b="1" lang="zh-CN" sz="2800" spc="-1" strike="noStrike">
                <a:solidFill>
                  <a:srgbClr val="0a0b0b"/>
                </a:solidFill>
                <a:latin typeface="Arial"/>
              </a:rPr>
              <a:t>② ③ ④ 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文体常识小引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0b0b"/>
                </a:solidFill>
                <a:latin typeface="微软雅黑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皎洁  天工神斧   无瑕   凌波仙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飘逸   细腻    朴实   凋谢   飘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惋惜   神韵    镌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初读课文，掌握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03T10:14:4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