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109-41DB-41F5-943B-5F25C44F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252-5135-4A52-84D5-1448846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44C-E22E-43DD-AD86-0E8752DD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D91-2281-4929-8374-F7E3EDBD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8A3F-FA3B-457A-995B-CDDD5ABD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DDF6-8780-48A4-8AEC-4854389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F061-AD0C-4A5D-8174-B47C143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0BB8-3F8E-4E98-A3B1-2C9DF160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EFCC-B0F0-4C95-8399-745FC6E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ED03-509E-4E92-AA75-CD7C19CA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C322-6F75-4158-906B-57BBF94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D19-6AC1-4F09-841C-F1F17A0D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5561-B6F6-4B45-B58F-E5E48189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8202-5431-4257-A1D6-17AC752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7D37-61F3-4FEA-834D-585721C4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672-8DC5-466F-8B9D-19CC3A23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306-D349-475D-8839-5777B3EA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B007-1EBB-4545-AF52-3D41D37D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3EE0-91CB-42DE-BB52-D2D42951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B89C-07F9-4C5F-AAFF-B5B44BFF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FBC8-D8F5-470F-B329-DF836565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E949-2A08-4D2F-BC5E-DA814E6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D93-81EF-4CC8-97E1-264DC7C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BCE5-6A6E-4436-9BBA-040B363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12A3-B5A8-49D5-AE78-0F486BB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4126-7767-4F7B-82C9-E363F7B6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72E4-0139-403A-8FE1-F8A0CF8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6101-FEBD-4B0C-B2B8-5A1BE1DC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B8ED-D3B7-46F6-BF09-4F84B744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F0EC-12BA-4DEB-977A-0A5EF235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CE19-7D64-4BF0-A54D-936FCA57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B7BC-7BF8-44F7-BB74-0AE2B43D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C031-29B6-4788-A8FC-E240CDD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03D-01DD-457E-88DA-D40BE00E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2372-666A-4399-98E6-9ED109C0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71DF-9187-40D7-9CFA-9AD5564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A095-0AB6-4F21-B9E2-BE7D9917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264B-33CF-4DC2-A06E-5DEC620E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1599-547B-4A37-80DD-517EE1E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4F5C-50B4-4D45-83D0-418F8A9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DC10-1E86-41A6-9A58-3CC77D08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9341-81FC-4749-AB48-E0743CFD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A1F2-5824-4270-823A-EBB491EF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703DD-568A-4B3B-8B78-C492ABE4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07A-C92E-4E6C-A8D0-134FB68B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6EB9-03D6-4B44-95C7-26562CD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F82A-8BAC-4816-9C13-19EDA6E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067E-BAFB-4D0C-A329-FF04F37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EE6D-F736-41BB-A538-9DA6DA3E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50BD-94B2-4D7B-841C-35BDA04C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F628A-E650-4D6B-95FD-B7895E43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15336-5455-4DCB-B867-D3ED5FB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3BA9-B0EE-451A-9B37-85070B44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6D19-35C0-4EC2-9DF5-0E7A3D93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1DB5-C841-428D-B44A-46A1FE38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73A-9B31-404E-BC1A-83175839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395E-E42B-456D-9924-7C3C18F4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D1A8-1732-4C1A-AF58-0F856DE0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3C33F-D31A-47C4-9DCE-20DEDBA3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A2E2-6867-4E03-91AB-3093EAD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3A52-CC14-4CD3-8CC1-20326E6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3D491-C1CE-4C69-80E7-3129B9E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5F4C-962E-45F0-B7A3-A7F6F9B5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CDB89-8A80-4D78-B0F0-9B2D7DD9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BF8F-1E7E-4362-957D-7D78E99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761C7-5F01-494D-B5E2-C9D01C9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3C5-B22F-493E-B2EF-38F3D45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2B75-67A3-48B1-8A9B-3D8D852D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1A8C6-6BD5-4947-8556-D9A32C99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A8808-C6E3-4222-8703-C606A333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8C186-5B7F-4CF6-9E51-67EE2504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FACF-1763-4D4F-A0E3-C0D1B39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2AA9-CED1-4540-91BE-18B468BC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A8A0-E8F2-4570-B71D-7BCB14FC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2965C-ABBD-428A-84BA-B14BEAEF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5619-56D5-4633-98CC-1C22989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1A9F7-CC43-41BB-85BD-9DC3010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F22-D3EF-4074-9109-03C7172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EEF19-ACDF-45F9-A531-53CEC9E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F0F93-57AA-4B6E-8B73-6EC2679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E43B-08BA-4DBB-B837-88B9EC4F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62B3A-B84E-45D7-A9CC-BB9B4AFF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1D62E-EA7A-470F-B530-950356B4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D8088-853B-439C-A542-1ED7F442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DB43-CABC-4D34-9834-C5FD17A5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970CC-FFAD-48D8-A2D3-9D266E0F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B6E8-16FE-44C0-8EA8-63A55B2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30DD9-FC9D-42A2-B9B9-6EAAE35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14A-5571-4835-A658-73D2B97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2DFE5-FD2B-4D70-93A2-FF963C11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4609B-386B-438D-8EC6-DFECEBF9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93AAE-3325-44CD-BD39-54BC1BA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D57BD-7D24-4D3B-B9EF-B9B1C5A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96F5-F570-45AF-902D-8496E83C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B161-CCF9-40A8-8521-82972243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0D136-4025-40DD-BFE1-9BE49985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2E25-A7F6-4175-86BD-B2322E5D4E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ccff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64D-16A9-4109-8E82-870E0C021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424-6D7A-412B-B039-9A43BA1FD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F690-F569-433A-BB99-57E1BF6BF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CBD-E925-43C0-92EB-CE3E290C67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0189-B647-4A3C-895A-6A7AC3595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C11-662A-48FE-938C-171FA142F8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CD49-CB54-4F34-BCF1-5939EF728A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gr.netor.com/m/box200310/m30616.asp?BoardID=30616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五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古诗词一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03360" y="1447920"/>
            <a:ext cx="82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）、作者是通过哪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写“愁”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209680"/>
            <a:ext cx="5332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春花秋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往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东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故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雕栏玉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朱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4720" y="501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意象中变的是什么？不变的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3716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永恒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春花秋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62440" y="3235320"/>
            <a:ext cx="990720" cy="0"/>
          </a:xfrm>
          <a:prstGeom prst="line">
            <a:avLst/>
          </a:prstGeom>
          <a:ln w="381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今非昔比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24160" y="39211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年到来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东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62440" y="4378320"/>
            <a:ext cx="990720" cy="0"/>
          </a:xfrm>
          <a:prstGeom prst="line">
            <a:avLst/>
          </a:prstGeom>
          <a:ln w="381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39974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堪回首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故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24160" y="51404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应犹在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雕栏玉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62440" y="5597640"/>
            <a:ext cx="990720" cy="0"/>
          </a:xfrm>
          <a:prstGeom prst="line">
            <a:avLst/>
          </a:prstGeom>
          <a:ln w="381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528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改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朱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2514600"/>
            <a:ext cx="6933960" cy="3962520"/>
          </a:xfrm>
          <a:prstGeom prst="rect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809880" y="1657080"/>
            <a:ext cx="0" cy="480060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66880" y="457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不变的“外物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181480" y="1657080"/>
            <a:ext cx="0" cy="480060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95680" y="4856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巨变的“人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81532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27261" y="10800"/>
                </a:moveTo>
                <a:lnTo>
                  <a:pt x="16756" y="17806"/>
                </a:lnTo>
                <a:lnTo>
                  <a:pt x="16756" y="3794"/>
                </a:lnTo>
                <a:close/>
              </a:path>
              <a:path fill="darken" w="47524" h="21600">
                <a:moveTo>
                  <a:pt x="29106" y="3794"/>
                </a:moveTo>
                <a:lnTo>
                  <a:pt x="29106" y="17806"/>
                </a:lnTo>
                <a:lnTo>
                  <a:pt x="30769" y="17806"/>
                </a:lnTo>
                <a:lnTo>
                  <a:pt x="30769" y="3794"/>
                </a:lnTo>
                <a:close/>
              </a:path>
            </a:pathLst>
          </a:custGeom>
          <a:solidFill>
            <a:srgbClr val="f9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03360" y="182880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、那些层层叠叠、排山倒海、接踵而来的忧愁，我们虽看不见，摸不着，却能真切地感受到。那么，作者运用了哪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手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他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愁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实可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0880" y="21621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作者将一腔愁绪化为有形的流水，无穷无尽，无边无际，丰盈而且沉重。这样的比喻，一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春水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就是一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愁水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一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苦水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。使得抒发的感情兼有了无边无际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广度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深度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比喻、夸张、设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1371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问君能有几多愁，恰似一江春水向东流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53341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把抽象的感情形象化、具体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1880" y="4006800"/>
            <a:ext cx="8301240" cy="947160"/>
          </a:xfrm>
          <a:prstGeom prst="rect">
            <a:avLst/>
          </a:prstGeom>
          <a:solidFill>
            <a:srgbClr val="aa947e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用远离自己而代表故土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长江喻愁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当然含有怀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故国之情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情感更为深沉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62120" y="182880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、春花秋月        </a:t>
            </a: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——  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往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69280" y="10666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84520" y="274320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、小楼东风        </a:t>
            </a: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——   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故国明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84520" y="374796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、雕栏玉砌        </a:t>
            </a: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——   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已改朱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96760" y="4876920"/>
            <a:ext cx="36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宇宙永恒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4800600"/>
            <a:ext cx="36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人生短暂无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4267080"/>
            <a:ext cx="0" cy="6098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426708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846000" y="4037040"/>
            <a:ext cx="73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问天</a:t>
            </a:r>
            <a:r>
              <a:rPr b="1" lang="en-US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问人</a:t>
            </a:r>
            <a:r>
              <a:rPr b="1" lang="en-US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问自己，一唱三叹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问天天不应，问人人不知，问己泪满面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。凄楚中，造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曲折回旋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流走自如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的艺术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27080" y="199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天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春花秋月何时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37840" y="260496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人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往事知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27080" y="3290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己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问君能有几多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609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设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1"/>
          <p:cNvSpPr/>
          <p:nvPr/>
        </p:nvSpPr>
        <p:spPr>
          <a:xfrm>
            <a:off x="838080" y="1828800"/>
            <a:ext cx="4191120" cy="990720"/>
          </a:xfrm>
          <a:prstGeom prst="rect">
            <a:avLst/>
          </a:prstGeom>
          <a:solidFill>
            <a:srgbClr val="aa947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写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春花秋月、小楼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东风、明月、雕栏玉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85800" y="3581280"/>
            <a:ext cx="4444920" cy="457200"/>
          </a:xfrm>
          <a:prstGeom prst="rect">
            <a:avLst/>
          </a:prstGeom>
          <a:solidFill>
            <a:srgbClr val="aa947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虚写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往事、故国、朱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5257800" y="2057400"/>
            <a:ext cx="3124080" cy="533520"/>
          </a:xfrm>
          <a:prstGeom prst="rect">
            <a:avLst/>
          </a:prstGeom>
          <a:solidFill>
            <a:srgbClr val="aa947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物是（自然永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5257800" y="3581280"/>
            <a:ext cx="3124080" cy="533520"/>
          </a:xfrm>
          <a:prstGeom prst="rect">
            <a:avLst/>
          </a:prstGeom>
          <a:solidFill>
            <a:srgbClr val="aa947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非（人生无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4600" y="1905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比喻、夸张、设问、借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260496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14600" y="3276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虚实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6858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艺术手法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80360" cy="1584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这首词到底是一首什么词，竟会招来杀身之祸？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2708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本词表现了一个亡国国君的故国之恋。念念不忘过去的美好生活，念念不忘东风是故国吹来，春水又向故乡流去，这在宋太祖看来是不是会有“东归故国”之意呢？可以这样说，两个“东”字，断送了一代文章圣手的性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82655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3520" y="16765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法国作家缪塞尔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“最美丽的诗歌是最绝望的诗歌，有些不朽的篇章是纯粹的眼泪。’’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   尼采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“在所有文学作品中，我尤其喜欢那些用血写出来的文字。”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词中有不堪回首的回忆，有痛苦难耐的现实，作者以赤子之心写惨痛的国破家亡之痛，写出了一种通向宇宙人生的普遍悲剧情感，引起后人的强烈共鸣。后主之词就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自己的血写出来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。作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字一泪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读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字一泪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歌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字一泪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3200400" y="625320"/>
            <a:ext cx="24382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6012000" cy="4454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42920" y="1916280"/>
            <a:ext cx="40388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虞美人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32" name=""/>
          <p:cNvSpPr/>
          <p:nvPr/>
        </p:nvSpPr>
        <p:spPr>
          <a:xfrm>
            <a:off x="2462400" y="4149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Arial"/>
              </a:rPr>
              <a:t>李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44280"/>
            <a:ext cx="885672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组合作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春花秋月”本是美好的事物，词人为何希望它早点结束？“往事知多少”中的“往事”具体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小楼昨夜又东风”中的“又”字有什么深刻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雕栏玉砌应犹在“反应了作者什么样的心理活动？如果将”只是朱颜改”中的“只是”二字换成“可惜”行不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问君能有几多愁？恰似一江春水向东流”是千古名句，抒发了作者怎样的情感？你认为它好在哪里？（对比“离愁渐远渐无穷，迢迢不断如春水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77560" y="277920"/>
            <a:ext cx="8373960" cy="1669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、“春花秋月”是美好的事物，谁人不怜，但作者为何偏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诘问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苍天“何时了”呢？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2349360"/>
            <a:ext cx="8426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李煜虽名为王侯，实为亡国奴、阶下囚。在对人生已经绝望之时，曾经拥有的春花秋月对他来说，不过是一种“过去的美好已永远失去”的感情折磨，不能不让他悲痛，希望这一切都结束。奇语劈空而下，问得很奇，却又在情理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87600" y="5661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cc"/>
                </a:solidFill>
                <a:latin typeface="Arial"/>
              </a:rPr>
              <a:t>以乐景写哀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耐人寻味之春花秋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春花秋月代表自然界的时序变换，代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宇宙的永恒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诗人只看见人生的无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春花秋月是一年中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好的景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常与人生中最美好的事情联系在一起。春花秋月年年相似，而诗人往日的快乐却不复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春花秋月是极美好的事物，且多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情的象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情人咫尺天涯，不得相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11280" y="119700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“往事知多少”中的“往事”所具体指什么？即作者怀念的是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2666880"/>
            <a:ext cx="7101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物质上：锦衣玉食、后宫佳丽、一国之君的尊荣富贵的生活；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4800" y="4321080"/>
            <a:ext cx="72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-PUA"/>
              </a:rPr>
              <a:t>精神上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-PUA"/>
              </a:rPr>
              <a:t>欢乐、自由、尊严、生存的安全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08000" y="117360"/>
            <a:ext cx="8569440" cy="1828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、“小楼昨夜又东风”中的“又”有什么深刻含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24360" y="1917720"/>
            <a:ext cx="525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“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东风”表示</a:t>
            </a: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季节更替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“又”则说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囚宋后又过了一年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时光飞逝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这引起他无限的感慨，感慨</a:t>
            </a: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人的生命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花谢月残而</a:t>
            </a: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长逝不返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复国之梦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花开月圆而逐渐</a:t>
            </a: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破灭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8600" y="304920"/>
            <a:ext cx="8534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、词中出现“月”这一意象，在中国古典诗词中，“月”这个意象有什么特殊固定的涵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03280" y="19890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月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怀念亲人，怀念故乡之意</a:t>
            </a:r>
            <a:r>
              <a:rPr b="0" lang="zh-CN" sz="1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2852640"/>
            <a:ext cx="705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举头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明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低头思故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寄愁心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明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随风直到夜郎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海上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明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天涯共此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但愿人长久，千里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婵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95241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795241"/>
                </a:solidFill>
                <a:latin typeface="Times New Roman"/>
              </a:rPr>
              <a:t>、</a:t>
            </a:r>
            <a:r>
              <a:rPr b="0" lang="zh-CN" sz="4400" spc="-1" strike="noStrike">
                <a:solidFill>
                  <a:srgbClr val="79524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朱颜</a:t>
            </a:r>
            <a:r>
              <a:rPr b="0" lang="zh-CN" sz="4400" spc="-1" strike="noStrike">
                <a:solidFill>
                  <a:srgbClr val="795241"/>
                </a:solidFill>
                <a:latin typeface="宋体"/>
              </a:rPr>
              <a:t>”的含义是什么</a:t>
            </a:r>
            <a:r>
              <a:rPr b="0" lang="zh-CN" sz="4400" spc="-1" strike="noStrike">
                <a:solidFill>
                  <a:srgbClr val="795241"/>
                </a:solidFill>
                <a:latin typeface="宋体"/>
              </a:rPr>
              <a:t>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后宫佳丽的容颜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词人的容颜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国家的容颜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6560" y="314172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改变的仅仅是“朱颜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91360" y="4365720"/>
            <a:ext cx="9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27280" y="39337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朱颜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经历风吹雨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地位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国之君沦为阶下之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心情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尊荣显贵到忍辱蒙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rot="10800000">
            <a:off x="2195640" y="4076640"/>
            <a:ext cx="288720" cy="115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2"/>
                </a:lnTo>
                <a:cubicBezTo>
                  <a:pt x="10800" y="10162"/>
                  <a:pt x="5400" y="11062"/>
                  <a:pt x="0" y="11062"/>
                </a:cubicBezTo>
                <a:cubicBezTo>
                  <a:pt x="5400" y="11062"/>
                  <a:pt x="10800" y="11962"/>
                  <a:pt x="10800" y="128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39640" y="227664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江水奔腾流淌，一泻千里，如愁思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；江水昼夜不停，长流不息，无穷无尽，如愁思的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32846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以水喻愁的名句。化无形的愁思为有形的江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示愁思如春水汪洋恣肆，奔放倾泻，又如春水之不舍昼夜，长流不尽，语句形象而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远离自己而代表故土的长江喻愁，当然含有怀念故国之情，情感更为深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有不顾一切的感情冲动，大胆抒发了亡国之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6920" y="60213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幼圆"/>
              </a:rPr>
              <a:t>你还能说出写愁的句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19280" y="33336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君能有几多愁？恰似一江春水向东流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58920" y="162864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问（自问自答）、比喻（以水喻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80920" cy="15112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-75960" y="476280"/>
            <a:ext cx="127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24000" y="333360"/>
            <a:ext cx="8820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恐双溪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zé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ěng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舟，载不动许多愁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清照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武陵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梧桐更兼细雨，到黄昏、点点滴滴。这次第，怎一个愁字了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清照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声声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花自飘零水自流，一种相思，两处闲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清照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剪梅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白发三千丈，缘愁似个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白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秋浦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抽刀断水水更流，举杯销愁愁更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白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宣州谢眺楼饯别校书叔云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剪不断，理还乱，是离愁。别是一般滋味在心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相见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日暮乡关何处是？烟波江上使人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崔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黄鹤楼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66560" y="1341360"/>
            <a:ext cx="7772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60000"/>
                </a:solidFill>
                <a:latin typeface="Times New Roman"/>
                <a:ea typeface="隶书"/>
              </a:rPr>
              <a:t>*</a:t>
            </a:r>
            <a:r>
              <a:rPr b="1" lang="zh-CN" sz="5400" spc="-1" strike="noStrike">
                <a:solidFill>
                  <a:srgbClr val="560000"/>
                </a:solidFill>
                <a:latin typeface="Times New Roman"/>
                <a:ea typeface="隶书"/>
              </a:rPr>
              <a:t>虚实结合，情景交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2709720"/>
            <a:ext cx="410184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春花秋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   小楼           “物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东风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自然永恒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明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427640" y="2709720"/>
            <a:ext cx="4343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往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虚    故国            “人非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雕栏玉砌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人生无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朱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江春水         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6920" y="2925720"/>
            <a:ext cx="76320" cy="152388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2925720"/>
            <a:ext cx="76320" cy="2057400"/>
          </a:xfrm>
          <a:custGeom>
            <a:avLst/>
            <a:gdLst>
              <a:gd name="textAreaLeft" fmla="*/ 22320 w 76320"/>
              <a:gd name="textAreaRight" fmla="*/ 76320 w 7632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82920" y="2925720"/>
            <a:ext cx="75960" cy="1523880"/>
          </a:xfrm>
          <a:custGeom>
            <a:avLst/>
            <a:gdLst>
              <a:gd name="textAreaLeft" fmla="*/ 0 w 75960"/>
              <a:gd name="textAreaRight" fmla="*/ 53280 w 7596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04000" y="2925720"/>
            <a:ext cx="76320" cy="2133720"/>
          </a:xfrm>
          <a:custGeom>
            <a:avLst/>
            <a:gdLst>
              <a:gd name="textAreaLeft" fmla="*/ 0 w 76320"/>
              <a:gd name="textAreaRight" fmla="*/ 53640 w 76320"/>
              <a:gd name="textAreaTop" fmla="*/ 88920 h 2133720"/>
              <a:gd name="textAreaBottom" fmla="*/ 204516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60720" y="42210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96360" y="414972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9640" y="47628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探讨本词的艺术特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770280" cy="2513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042920" y="2124000"/>
            <a:ext cx="3452760" cy="25891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11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植物名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虞美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6920" y="501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 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虞美人在古代寓意着生离死别、悲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403280" y="1052640"/>
            <a:ext cx="712944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浪淘沙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帘外雨潺潺，春意阑珊。罗衾不耐五更寒。梦里不知身是客，一晌贪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独自莫凭栏，无限江山，别时容易见时难。流水落花春去也，天上人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9640" y="40464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阅读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763640" y="2276640"/>
            <a:ext cx="601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“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美丽的诗歌是最绝望的诗歌，有些不朽篇章是纯粹的眼泪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——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法） 缪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4360" y="2924280"/>
            <a:ext cx="79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一无名氏根据项羽和虞姬的悲剧故事写了一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虞美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词牌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源于此。因李煜填此词的名句，又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江春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因周紫芝词有“只恐怕寒，难近玉壶冰”句，又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玉壶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1268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教坊曲，初咏项羽的宠姬虞美人而得名。在四面楚歌中，项羽拔剑自刎，虞姬亦拔剑自刎。后来虞姬血染之地，长出一种鲜红的花，后人为了纪念她，便把这种花叫做“虞美人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4941720"/>
            <a:ext cx="28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虞美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292720" y="4764240"/>
            <a:ext cx="3284640" cy="123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87280" y="981000"/>
            <a:ext cx="767088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”又称“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诗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、“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曲子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、“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长短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是隋唐时兴起的一种合乐可歌、句式长短不一的诗体。就作家创作风格而言，习惯上分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婉约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豪放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在形式上的特点是“调有定格，句有定数，字有定声”。词一般分为两段，一段就是一个乐段，叫“片”或“阕”。分两片的词最为常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按字数的多少分为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小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5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以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中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59~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长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9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以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981000"/>
            <a:ext cx="720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696000" cy="50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3348000" y="1219320"/>
            <a:ext cx="54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李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7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字重光，初名从嘉，自号钟隐、莲峰居士，徐州人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南唐中主李璟第六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宋建隆二年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6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六月李璟去世，李煜嗣位于金陵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位十五年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史称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南唐后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李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性格软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迫于形势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宋称臣纳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苟且求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借佛教安慰精神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宋太祖开宝八年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97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宋军长驱直入，围攻金陵，李煜被迫肉袒出降，随即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送解到汴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受封右千牛卫上将军、违命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mmm30616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981000"/>
            <a:ext cx="2544840" cy="45799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8"/>
          <p:cNvSpPr/>
          <p:nvPr/>
        </p:nvSpPr>
        <p:spPr>
          <a:xfrm>
            <a:off x="4952880" y="228600"/>
            <a:ext cx="2590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知人论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　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开宝八年，宋兵攻克金陵，李煜投降，被送往汴京，过着“日夕以泪洗面”的软禁生活。两年后，他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4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岁生日时（七夕之夜）作《虞美人》词，并令歌伎演唱，此曲触怒了宋太宗，不久，李煜饮所赐牵机药酒被毒死，该词便成了后主的绝笔之作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 rot="5400000">
            <a:off x="-1477080" y="2853360"/>
            <a:ext cx="51850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作个词人真绝代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51" name=""/>
          <p:cNvSpPr txBox="1"/>
          <p:nvPr/>
        </p:nvSpPr>
        <p:spPr>
          <a:xfrm rot="5400000">
            <a:off x="5435280" y="2709720"/>
            <a:ext cx="496908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可怜薄命作君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3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1700280"/>
            <a:ext cx="7416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花秋月何时了？往事知多少？小楼昨夜又东风，故国不堪回首月明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雕阑玉砌应犹在，只是朱颜改。问君能有几多愁？恰似一江春水向东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836640"/>
            <a:ext cx="1371600" cy="642600"/>
          </a:xfrm>
          <a:prstGeom prst="rect">
            <a:avLst/>
          </a:prstGeom>
          <a:noFill/>
          <a:ln w="9360">
            <a:solidFill>
              <a:srgbClr val="dac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诵 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9:41:09Z</dcterms:created>
  <dc:creator>豆豆</dc:creator>
  <dc:description/>
  <cp:keywords/>
  <dc:language>en-US</dc:language>
  <cp:lastModifiedBy>user</cp:lastModifiedBy>
  <cp:lastPrinted>1899-12-30T00:00:00Z</cp:lastPrinted>
  <dcterms:modified xsi:type="dcterms:W3CDTF">2017-12-21T00:35:50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