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BFD-A76D-4C26-A25A-D918691D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215-CE89-4A70-896F-DD438D4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398-06C5-4861-A720-9C86FEA1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B82-C64C-47AA-8C0C-2047F725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172-1DDF-4E01-A6C4-012F914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5C9-677D-473A-A78C-848B58B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544-FAD9-4300-B00F-3D38D4AA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619-422F-43CA-B0E1-7168690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0C2-5A6B-4112-AE31-79F940B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D02-C1F1-4353-94A2-97693185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6D5-47A1-44A1-9432-1F87EDA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32D-6E51-4F78-AC89-F2C63BD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157-C4A5-43B7-9970-4734FF0E5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5800" y="1295280"/>
            <a:ext cx="79200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蜀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丞相祠堂何处寻，锦官城外柏森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映阶碧草自春色，隔叶黄鹂空好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三顾频烦天下计，两朝开济老臣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出师未捷身先死，长使英雄泪满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477-FE65-4A91-B879-7FDE73071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52578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丞相——不称“蜀相”，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亲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寻——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有目的的专程来访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，对诸葛亮的强烈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景仰和缅怀、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显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访庙吊古心思的急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柏森森——自为问答，记祠堂之所在、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景，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渲染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安谧、肃穆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的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05748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35120" y="503280"/>
            <a:ext cx="3787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丞相祠堂何处寻，锦官城外柏森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题为“蜀相”，应重在写人，为何从祠堂写起？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059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由写武侯祠引入，因武侯祠庙而思蜀相，亦理之必然。表达了诗人对诸葛亮的景仰之情。人物千古风流已去，而祠庙长存，写祠堂实为伤情，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为下文写心志作铺垫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祠堂冷落荒凉的环境，表现了诗人追怀诸葛亮的寂寞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3E0-FF4D-4FE8-8795-41F245B38B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835280" y="1989000"/>
            <a:ext cx="318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2286000"/>
            <a:ext cx="87138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探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两个字与境界的关系最为密切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141300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2240" y="1301760"/>
            <a:ext cx="4813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映阶碧草自春色，隔叶黄鹂空好音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46B-C61B-4169-AC76-2E215355B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1676520"/>
            <a:ext cx="8893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：独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：徒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碧草映阶，黄鹂隔叶，本是一种赏心悦目的景象，然而用这二字修饰，而所含之情就大有转折：青草自绿，无人光顾；黄鹂好音，无人倾听，这是何等凄凉伤感。丞相庙宇幽静、寂寞，先贤的功绩被人遗忘；碧草与黄鹂并不理解人事的变迁和朝代的更替。景中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含有诗人对忧国忧民的热血知音少的感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587-0873-412B-BACC-0E0AECF99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三顾频繁天下计，两朝开济老臣心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凝练的笔墨概括了诸葛亮一生的功绩和才德。这里突出诸葛亮一生中的三件大事：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宋体"/>
              </a:rPr>
              <a:t>一是定天下鼎足三分之大计；二是辅助刘备开创蜀汉政权；三是辅佐后主刘禅巩固帝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诗人最为羡慕的是诸葛亮能与刘备的君臣际会，共创大业，一生才学得以施展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下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天下大计。指《隆中对》中所言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东连孙权，北抗曹操，西取刘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老臣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意指诸葛亮功成不居、忠心谋国之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0240" y="1905120"/>
            <a:ext cx="252756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探究：此联概括了诸葛亮一生中哪几件大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表达了作者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D14-8EB4-42AF-AF8E-21934DFE1A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85672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《三国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诸葛亮传》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先主病笃，谓亮日：‘嗣子可辅，辅之；如其不才，君可自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涕泣日：‘臣敢效忠贞之节，继之以死。’初，亮自表后主曰：‘臣死之日，不使内有余帛，外有盈财，以负陛下。’及卒，如其所言。”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此联既是对诸葛亮高尚人格的赞美，也寄寓了自己生不逢时、抱负难施的隐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7A6-3B52-468E-B1DC-A7AB860DD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30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诸葛亮一生对蜀汉政权耿耿忠心，最后病逝军中。这年春天，诸葛亮第六次兵出祁山，与魏司马懿军在陕西渭南对垒，相持百余日，终因操劳过度，八月于五丈原离世，年五十四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师未捷身先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的就是这段史实。诸葛亮虽未能伐魏功成，却践行了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鞠躬尽瘁、死而后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誓言，崇高精神和品质光照千古，千百年来后人无不为此感动流泪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1295280"/>
            <a:ext cx="8305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出师未捷身先死，长使英雄泪满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DDA-5F83-441C-92B4-E1274AE743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2945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探究：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中的“英雄”指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359460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那些壮志未酬含恨终身的英雄人物，也包括诗人自己。从抒情的角度看，更多地抒发了自己的感慨。既表达了他对诸葛亮的敬仰和对诸葛亮大业未成人已去的叹惋之情，又跟自己壮志难酬的痛苦融为一体，含蓄地表达了自己请缨无路，报国无门的情怀。抒写自己对诸葛亮一生遭际的沉痛感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5960" y="3222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鉴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E47-2CEB-4B9D-B073-A895BB5C2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449280"/>
            <a:ext cx="38862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丞相祠堂何处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锦官城外柏森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映阶碧草自春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隔叶黄鹂空好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三顾频烦天下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两朝开济老臣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出师未捷身先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隶书"/>
              </a:rPr>
              <a:t>长使英雄泪满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2920" y="1828800"/>
            <a:ext cx="911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Times New Roman"/>
                <a:ea typeface="华文彩云"/>
              </a:rPr>
              <a:t>蜀        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762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066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问自答    点明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3623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描述景象    凄凉冷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9625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称赞业绩    表达仰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5562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壮志未酬    痛苦伤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1880" y="457200"/>
            <a:ext cx="424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0800" y="1981080"/>
            <a:ext cx="424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40800" y="3581280"/>
            <a:ext cx="424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7120" y="5105520"/>
            <a:ext cx="424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43200" y="19810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《蜀相》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000066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3733920"/>
            <a:ext cx="146520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杜甫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65760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971800"/>
            <a:ext cx="671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43000" y="3049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结： 本诗的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143000" y="33526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2209680"/>
            <a:ext cx="813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</a:rPr>
              <a:t>诗人借歌颂诸葛亮的过人才智和丰功伟绩，惋惜诸葛亮的壮志未酬，抒发了自己的功业未就的深沉感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5D3-FA63-4F0A-A307-3301EDB85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情景交融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起承转合，笔路清晰，结构严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以动衬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借古抒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鉴赏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对这首诗中词句解释不恰当的一项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蜀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蜀汉丞相诸葛亮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锦官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成都的别称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柏森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即柏树茂盛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映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句是说祠堂内碧草空有春色，黄鹂徒有好音，却没有多少人去欣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频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连续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下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统一中国，兴复汉室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东汉和蜀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诸葛亮出兵伐魏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英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诸葛亮和千古以来为国为民的仁人志士，也包括诗人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187280" y="591192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答案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先主刘备和后主刘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135-4CFF-4C6D-9370-CF0600EAA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184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、对这首诗的赏析不恰当的一项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首联以设问引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门见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字表达了诗人对诸葛亮的仰慕之情向往之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颔联由远及近，以草绿莺啼的美景衬托诸葛亮人格的清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颈联高度概括了诸葛亮一生的业绩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下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见匡时雄略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臣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先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显报国忠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诗的前四句写祠堂之景，后四句写丞相之事。全诗通过对历史人物的缅怀和赞颂，寄托了诗人忧心忧国，痛感济世无人的哀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6021360"/>
            <a:ext cx="867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答案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颔联表面写景，实是慨叹前贤祠庙的荒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5B4-384A-4C70-B3CF-50F2E98E0F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0920" y="3284280"/>
            <a:ext cx="7777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庙丹青落，空山草木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犹闻辞后主，不复卧南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484360" y="1341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武侯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03640" y="220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杜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72000" y="2286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对比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F1B-E168-4400-AA4B-E6F708D38F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葛亮（公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1--2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），字孔明。琅琊阳都（今山东省沂南县）人。三国蜀汉政治家、军事家。他曾经为刘备制定了一系列统一天下的方针、策略，辅佐刘备振兴汉室，建立了蜀汉政权，形成了与曹魏、孙吴三足鼎立的局面。刘备去世后，诸葛亮又辅佐他的儿子刘禅，多次出师北伐中原，因身心交瘁，积劳成疾，最后死于军中，实现了他“鞠躬尽瘁，死而后已”的铿锵誓言，赢得了后世人们的景仰和推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37160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安四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诸葛亮与友人徐庶等从师于水镜先生司马徽。刘备屯兵新野时，徐庶为幕僚，向刘推荐诸葛亮。刘备三顾茅庐，诸葛亮才与其相见，并立刻提出了著名的《隆中对》。即占据荆、益二州，联合孙权，对抗曹操，统一天下的建议，深得刘备的赞赏。自此开始辅佐刘备。后助刘备败曹操于赤壁，佐定益州，使蜀与魏、吴成鼎足之势。曹丕代汉为帝后，刘备也称帝，诸葛亮出任丞相，总理国家大事。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1371600"/>
            <a:ext cx="8610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章武三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），刘备在永安病危，召诸葛亮瞩托后事。后主即位，诸葛亮受封武乡侯，建立丞相府以处理日常事务，又兼任益州牧。当时，全国的军、政、财，事无大小，皆由诸葛亮决定。在公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先后指挥五次北伐曹魏。建兴十二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）八月，诸葛亮患疾病，暴卒于前线，时年五十四岁。他死后葬在陕西勉县定军山下。他在遗嘱里要求依山造墓，墓穴能容下棺材就行，入殓时穿平常的衣服，不需要随葬器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2133720"/>
            <a:ext cx="4876920" cy="3046680"/>
            <a:chOff x="0" y="2133720"/>
            <a:chExt cx="4876920" cy="3046680"/>
          </a:xfrm>
        </p:grpSpPr>
        <p:sp>
          <p:nvSpPr>
            <p:cNvPr id="132" name=""/>
            <p:cNvSpPr/>
            <p:nvPr/>
          </p:nvSpPr>
          <p:spPr>
            <a:xfrm>
              <a:off x="0" y="2133720"/>
              <a:ext cx="4876920" cy="30466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0" y="2133720"/>
              <a:ext cx="4876920" cy="3045600"/>
              <a:chOff x="0" y="2133720"/>
              <a:chExt cx="4876920" cy="304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133720"/>
                <a:ext cx="487692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133720"/>
                <a:ext cx="4876920" cy="304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三顾堂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建于清康熙五十八年（公元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1719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年），是刘备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"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三顾茅庐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"</a:t>
                </a:r>
                <a:r>
                  <a:rPr b="1" lang="zh-CN" sz="2800" spc="-1" strike="noStrike">
                    <a:solidFill>
                      <a:srgbClr val="333399"/>
                    </a:solidFill>
                    <a:latin typeface="楷体_GB2312"/>
                    <a:ea typeface="楷体_GB2312"/>
                  </a:rPr>
                  <a:t>、诸葛亮作《隆中对》的纪念堂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3160" y="1219320"/>
            <a:ext cx="429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371600"/>
            <a:ext cx="8686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《唐诗钞》语“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宋体"/>
                <a:ea typeface="黑体"/>
              </a:rPr>
              <a:t>公之为武侯恨，正所以自恨也”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_x000b__x000c_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2863800" cy="3200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2876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通过合作探讨，理解诗歌厚实的思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结合诗歌的内容和艺术，赏析杜甫诗歌“沉郁顿挫”的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418-4B88-407C-A4DD-832B298691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本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搜集与诸葛亮有关的名诗名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1680" y="1219320"/>
            <a:ext cx="299232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6172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杜甫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十五岁以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书与游历。天宝年间到长安，仕进无门，困顿了十年，才获得右卫率府胄曹参军的小职。安史之乱开始，他流亡颠沛，曾为叛军所俘；脱险后，授官左拾遗。乾元二年，他弃官西行，最后到四川定居成都，一度在剑南节度使严武幕中任检校工部员外郎，故又有杜工部之称。晚年东迁，途中留滞夔州二年，出峡。漂泊鄂、湘一带，贫病而卒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写作背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0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此诗作于唐肃宗上元元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760)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杜甫避乱成都的次年春天，安史之乱仍未平息，唐王朝仍处于风雨飘摇之中；唐肃宗信任宦官，猜忌如杜甫这样真正忧国忧民的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杜甫经历了一系列仕途打击，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致君尧舜上，再使风俗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理想彻底落空。诗人流落蜀地，寄人篱下，困厄穷途，家事、国事均忧心忡忡，苦闷彷徨。这段时间，他创作了一系列赞扬诸葛亮的诗篇，《蜀相》为其中最著名的一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F4B-CA3D-45B2-8E42-69E5585B8B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067280" cy="6858000"/>
          </a:xfrm>
          <a:prstGeom prst="rect">
            <a:avLst/>
          </a:prstGeom>
          <a:solidFill>
            <a:srgbClr val="a42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3313080" cy="242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5661000"/>
            <a:ext cx="273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杜甫草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637000"/>
            <a:ext cx="5076720" cy="144360"/>
          </a:xfrm>
          <a:prstGeom prst="rect">
            <a:avLst/>
          </a:prstGeom>
          <a:solidFill>
            <a:srgbClr val="a42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53352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杜子美生活在唐朝由盛转衰的历史时期，其诗多涉笔社会动荡、政治黑暗、人民疾苦，被誉为“诗史”。他忧国忧民，人格高尚，诗艺精湛，被奉为“诗圣”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85264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是新乐府诗体的开路人。他的乐府诗促成了中唐时期新乐府运动的发展。他的五七古长篇，亦诗亦史，标志着我国诗歌艺术的高度成就。杜甫在五七律上也表现出显著的创造性，使这一体裁达到完全成熟的阶段。有《杜工部集》传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6093000"/>
            <a:ext cx="22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杜甫草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6480" cy="573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40360" y="3130560"/>
            <a:ext cx="50036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20T13:01:40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