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3" descr=""/>
          <p:cNvPicPr/>
          <p:nvPr/>
        </p:nvPicPr>
        <p:blipFill>
          <a:blip r:embed="rId6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134136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565360"/>
            <a:ext cx="561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47640" y="1700280"/>
            <a:ext cx="838440" cy="3657600"/>
          </a:xfrm>
          <a:prstGeom prst="flowChartTerminator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905120"/>
            <a:ext cx="92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549360"/>
            <a:ext cx="765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三、深入探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0960" y="29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胎儿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2205000"/>
            <a:ext cx="505080" cy="2232000"/>
          </a:xfrm>
          <a:custGeom>
            <a:avLst/>
            <a:gdLst>
              <a:gd name="textAreaLeft" fmla="*/ 322920 w 505080"/>
              <a:gd name="textAreaRight" fmla="*/ 505440 w 505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989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两个半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四个半月期间第一高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孕期最后三个月，进入快速发育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分娩时胎儿脑细胞达到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亿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-140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亿</a:t>
            </a:r>
            <a:r>
              <a:rPr b="1" lang="zh-CN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522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所以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.....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孕妇的营养与孩子智力关系甚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38760" y="227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婴幼儿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1773360"/>
            <a:ext cx="360360" cy="172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5640" y="17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出生后第</a:t>
            </a: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个月到第</a:t>
            </a: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个月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</a:rPr>
              <a:t>第二高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70600" y="242100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微软雅黑"/>
                <a:ea typeface="微软雅黑"/>
              </a:rPr>
              <a:t>周岁时脑发育基本完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26960" y="321300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微软雅黑"/>
                <a:ea typeface="微软雅黑"/>
              </a:rPr>
              <a:t>岁后缺陷已很难弥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186516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780000" y="4365720"/>
            <a:ext cx="2968560" cy="223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549360"/>
            <a:ext cx="765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三、深入探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00536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孕后两个半月——胎儿出生后</a:t>
            </a: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个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脑发育的最旺盛时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622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10160" y="23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青少年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1720" y="364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老年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3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消耗记忆素即乙酰胆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357336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微软雅黑"/>
              </a:rPr>
              <a:t>脑神经细胞减少、出现老年色素即脂质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2421000"/>
            <a:ext cx="216000" cy="1871640"/>
          </a:xfrm>
          <a:custGeom>
            <a:avLst/>
            <a:gdLst>
              <a:gd name="textAreaLeft" fmla="*/ 0 w 216000"/>
              <a:gd name="textAreaRight" fmla="*/ 7812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31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微软雅黑"/>
              </a:rPr>
              <a:t>饮食调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95640" y="4726080"/>
            <a:ext cx="2737080" cy="2055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42920" y="549360"/>
            <a:ext cx="765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三、深入探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-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6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总说对脑发育有重要作用的营养成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种：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脂质、维生素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、钙、糖类、蛋白质、维生素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族、维生素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、维生素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。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然后分别说明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4425840"/>
            <a:ext cx="3313440" cy="2432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549360"/>
            <a:ext cx="765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三、深入探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117000"/>
            <a:ext cx="8281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脂质：作用使脑健全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脂质类食品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2720" y="1413000"/>
            <a:ext cx="351972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211640" y="4221000"/>
            <a:ext cx="3056040" cy="23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861080" y="1413000"/>
            <a:ext cx="328284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81080" y="429264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3478320" cy="252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3956040" cy="259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81080" y="3822840"/>
            <a:ext cx="3743280" cy="2919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0720" y="190080"/>
            <a:ext cx="87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维生素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：使脑的功能敏锐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类食品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17360"/>
            <a:ext cx="4067280" cy="302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003640" y="117360"/>
            <a:ext cx="3470400" cy="288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81080" y="3357720"/>
            <a:ext cx="4032000" cy="3243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93236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2602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芫荽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yán s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钙：保证脑顽强工作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钙类食品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270080"/>
            <a:ext cx="429588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16360" y="1270080"/>
            <a:ext cx="4294440" cy="2855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3887640" cy="2503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645080" y="4149720"/>
            <a:ext cx="436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7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糖类：脑活动的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60360" y="1413000"/>
            <a:ext cx="64422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2360" y="1341360"/>
            <a:ext cx="5540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您会养脑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84360" y="2852280"/>
            <a:ext cx="331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欧阳军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616572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科普说明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2448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1700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蛋白质：脑保持复杂智力活动的基本物质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优质蛋白质食品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241440" cy="23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3313080" cy="206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042920" y="1484280"/>
            <a:ext cx="2951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维生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促进脑的发达，缺乏致脑发育迟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93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天然维生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只存在于动物性食品，植物所含的胡萝卜素进入人体可在肝中转变为维生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动物性食物——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动物肝脏、鱼类、海产品、奶油和鸡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富含胡萝卜素的食物——橙黄色和绿色蔬菜、水果。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菠菜、胡萝卜、韭菜、油菜、荠菜、马兰头、辣椒、芒果、红心红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2614680" cy="216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51280" y="42926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维生素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：保持脑的活力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类食品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168720" cy="3135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43783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麦胚芽又称麦芽粉、胚芽，金黄色颗粒状，是小麦发芽及生长的器官之一，约占整个麦粒的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含丰富的维他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蛋白质，营养价值非常高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说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列数字。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等自然段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类别。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举例子。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自然段：比如，人在思维记过程忆中，大量消耗“记忆素”，即乙酰胆碱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86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写作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文章结构严谨，总分得当，条理清晰，详略分明。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构上，文章采取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总分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先</a:t>
            </a:r>
            <a:r>
              <a:rPr b="1" lang="zh-CN" sz="2800" spc="-1" strike="noStrike" u="sng">
                <a:solidFill>
                  <a:srgbClr val="99cc00"/>
                </a:solidFill>
                <a:uFillTx/>
                <a:latin typeface="Arial"/>
              </a:rPr>
              <a:t>总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营养的重要性，然后分别从两个方面进行</a:t>
            </a:r>
            <a:r>
              <a:rPr b="1" lang="zh-CN" sz="2800" spc="-1" strike="noStrike" u="sng">
                <a:solidFill>
                  <a:srgbClr val="99cc00"/>
                </a:solidFill>
                <a:uFillTx/>
                <a:latin typeface="Arial"/>
              </a:rPr>
              <a:t>分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而这两个方面，同样采取总分式，各段结构也保持基本相同——先总后分。整篇文章整体感非常鲜明，文章条理清晰，层次感强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六、语言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、准确性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、周密性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、科学性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99640" y="1413000"/>
            <a:ext cx="8137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灵丹妙药</a:t>
            </a:r>
            <a:r>
              <a:rPr b="1" lang="zh-CN" sz="2800" spc="-1" strike="noStrike">
                <a:solidFill>
                  <a:srgbClr val="969696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莫达非尼、利他林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、越吃越智慧</a:t>
            </a:r>
            <a:r>
              <a:rPr b="1" lang="zh-CN" sz="2800" spc="-1" strike="noStrike">
                <a:solidFill>
                  <a:srgbClr val="969696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餐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谷物）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午餐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蛋白质类）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晚饭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清淡）。鱼类是最佳的健脑食物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莫扎特效应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上音乐课的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岁儿童比其他孩子的智商要高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个百分点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四、暂存记忆练习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暂存记忆能够增强，那么智商也会提高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2881440" cy="1914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40464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认知拓展：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健脑十大秘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610240" y="4437000"/>
            <a:ext cx="35337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71640" y="1484280"/>
            <a:ext cx="77263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五、联想记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——即用形象次序来记忆东西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六、充足睡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——注重力更集中，有助于激发灵感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七、体力和脑力体育锻炼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——既能增加你的肌肉，也能提高智商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八、有节制的生活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——心无杂念，行无恶事，耳无杂音，淡泊名利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九、让注重力更集中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——提高大脑的苏醒程度、避免被打搅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十、神经反馈疗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0464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认知拓展：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健脑十大秘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知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谈谈你所了解的健脑知识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你知道人的身高有哪些因素决定？请收集相关资料，尝试做一篇科普小品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570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了解科学说明文的一般写法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梳理说明顺序，掌握说明方法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了解养脑护脑的知识，激发科学探索精神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42080" y="601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50480" cy="6165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5280" y="1125360"/>
            <a:ext cx="4176720" cy="237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了解我们的大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会养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、重点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813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脂鞘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ià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榛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ē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子   牡蛎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辅酶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龋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齿    金橘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芫荽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án su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四烯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酸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陨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ǔ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落    色氨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酸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7979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文章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文分为三个部分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概说脑结构基本原理，提出饮食健脑对脑功能优劣所起的决定作用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-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从合理的营养对人的生长发育各阶段的影响，分别说明营养合理、均衡的重要性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-1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分别说明对脑发育有着重要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作用的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种营养成分及含有各类营养成分较多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的食品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655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、深入探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013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一部分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作诠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方法，说明脑的结构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两个数字来界定营养对脑功能的巨大影响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38512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1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141264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第二部分（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2-5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）分层次说明——脑的发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549360"/>
            <a:ext cx="765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三、深入探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user</cp:lastModifiedBy>
  <dcterms:modified xsi:type="dcterms:W3CDTF">2017-10-06T15:07:09Z</dcterms:modified>
  <cp:revision>8</cp:revision>
  <dc:subject/>
  <dc:title>4.您会养脑吗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37</vt:lpwstr>
  </property>
</Properties>
</file>