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19D9-79C6-4233-AC34-E1BBE364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9A9-DED6-4CD2-86B0-D2C96FAB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DC28-8C86-45CE-BA7E-22A08110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028B-ECC8-47A4-B51F-6CBDDADF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7D58-8C87-462D-85CD-CB67389B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466E-D2BF-4173-A514-A56006F5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5AA4-D4F4-4B55-B62B-F9AC06D3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6D04-1292-4698-BA62-58B72955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AA34-C0B9-4EA4-9BAD-5179C278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CAC5-FE7A-4151-94F5-39089CF9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989A-4F58-460C-A317-4732F0F7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90D-E95D-4707-9160-E4D29609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ED78-1AD0-4190-BAB7-C227D180B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945560" y="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实用语文（第一册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第五单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古诗词一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900000" y="1125360"/>
            <a:ext cx="6804000" cy="52056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本诗抒发了怎样的思想情感？诗中是如何表达这些情感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755640" y="2349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确：本诗借用一个女子之口抒发了对所爱男子的强烈的、忠贞不渝的爱情。她借用五件不可能发生的事情。即山无陵，江水竭，冬雷震，夏雨雪，天地合，直接又独特地表达了“与君相知，长命无绝衰”的愿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780000" y="189000"/>
            <a:ext cx="2879640" cy="6426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品读诗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7"/>
          <p:cNvSpPr/>
          <p:nvPr/>
        </p:nvSpPr>
        <p:spPr>
          <a:xfrm>
            <a:off x="3203640" y="333360"/>
            <a:ext cx="2771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黑体"/>
              </a:rPr>
              <a:t>深入感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102760" y="12675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黑体"/>
              </a:rPr>
              <a:t>、祈祷、盟誓、仪式与情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9"/>
          <p:cNvGrpSpPr/>
          <p:nvPr/>
        </p:nvGrpSpPr>
        <p:grpSpPr>
          <a:xfrm>
            <a:off x="0" y="1773360"/>
            <a:ext cx="9575640" cy="4176720"/>
            <a:chOff x="0" y="1773360"/>
            <a:chExt cx="9575640" cy="4176720"/>
          </a:xfrm>
        </p:grpSpPr>
        <p:sp>
          <p:nvSpPr>
            <p:cNvPr id="82" name="Rectangle 10"/>
            <p:cNvSpPr/>
            <p:nvPr/>
          </p:nvSpPr>
          <p:spPr>
            <a:xfrm>
              <a:off x="0" y="1773360"/>
              <a:ext cx="9144000" cy="41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1"/>
            <p:cNvSpPr/>
            <p:nvPr/>
          </p:nvSpPr>
          <p:spPr>
            <a:xfrm>
              <a:off x="108000" y="2276640"/>
              <a:ext cx="9467640" cy="31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60093"/>
                  </a:solidFill>
                  <a:latin typeface="楷体_GB2312"/>
                  <a:ea typeface="楷体_GB2312"/>
                </a:rPr>
                <a:t>上邪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60093"/>
                  </a:solidFill>
                  <a:latin typeface="楷体_GB2312"/>
                  <a:ea typeface="楷体_GB2312"/>
                </a:rPr>
                <a:t>我欲与君相知，长命无绝衰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山无陵，江水为竭，冬雷震震，夏雨雪，天地合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乃敢与君绝！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79280" y="1268280"/>
            <a:ext cx="57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黑体"/>
              </a:rPr>
              <a:t>、自然时空与情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55640" y="2205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黑体"/>
              </a:rPr>
              <a:t>）物象与空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7"/>
          <p:cNvGrpSpPr/>
          <p:nvPr/>
        </p:nvGrpSpPr>
        <p:grpSpPr>
          <a:xfrm>
            <a:off x="4427640" y="1197000"/>
            <a:ext cx="3529080" cy="4854600"/>
            <a:chOff x="4427640" y="1197000"/>
            <a:chExt cx="3529080" cy="4854600"/>
          </a:xfrm>
        </p:grpSpPr>
        <p:sp>
          <p:nvSpPr>
            <p:cNvPr id="87" name="Rectangle 5"/>
            <p:cNvSpPr/>
            <p:nvPr/>
          </p:nvSpPr>
          <p:spPr>
            <a:xfrm>
              <a:off x="4427640" y="1227240"/>
              <a:ext cx="3529080" cy="48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6"/>
            <p:cNvSpPr/>
            <p:nvPr/>
          </p:nvSpPr>
          <p:spPr>
            <a:xfrm>
              <a:off x="5191200" y="1197000"/>
              <a:ext cx="2376720" cy="47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60093"/>
                  </a:solidFill>
                  <a:latin typeface="楷体_GB2312"/>
                  <a:ea typeface="楷体_GB2312"/>
                </a:rPr>
                <a:t>山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无陵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60093"/>
                  </a:solidFill>
                  <a:latin typeface="楷体_GB2312"/>
                  <a:ea typeface="楷体_GB2312"/>
                </a:rPr>
                <a:t>江水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为竭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冬</a:t>
              </a:r>
              <a:r>
                <a:rPr b="1" lang="zh-CN" sz="3200" spc="-1" strike="noStrike">
                  <a:solidFill>
                    <a:srgbClr val="d60093"/>
                  </a:solidFill>
                  <a:latin typeface="楷体_GB2312"/>
                  <a:ea typeface="楷体_GB2312"/>
                </a:rPr>
                <a:t>雷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震震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夏</a:t>
              </a:r>
              <a:r>
                <a:rPr b="1" lang="zh-CN" sz="32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雨</a:t>
              </a:r>
              <a:r>
                <a:rPr b="1" lang="zh-CN" sz="3200" spc="-1" strike="noStrike">
                  <a:solidFill>
                    <a:srgbClr val="d60093"/>
                  </a:solidFill>
                  <a:latin typeface="楷体_GB2312"/>
                  <a:ea typeface="楷体_GB2312"/>
                </a:rPr>
                <a:t>雪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60093"/>
                  </a:solidFill>
                  <a:latin typeface="楷体_GB2312"/>
                  <a:ea typeface="楷体_GB2312"/>
                </a:rPr>
                <a:t>天地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合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7"/>
          <p:cNvSpPr/>
          <p:nvPr/>
        </p:nvSpPr>
        <p:spPr>
          <a:xfrm>
            <a:off x="3203640" y="333360"/>
            <a:ext cx="2771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黑体"/>
              </a:rPr>
              <a:t>深入感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4"/>
          <p:cNvGrpSpPr/>
          <p:nvPr/>
        </p:nvGrpSpPr>
        <p:grpSpPr>
          <a:xfrm>
            <a:off x="3851280" y="907920"/>
            <a:ext cx="3600360" cy="5185080"/>
            <a:chOff x="3851280" y="907920"/>
            <a:chExt cx="3600360" cy="5185080"/>
          </a:xfrm>
        </p:grpSpPr>
        <p:sp>
          <p:nvSpPr>
            <p:cNvPr id="91" name="Rectangle 13"/>
            <p:cNvSpPr/>
            <p:nvPr/>
          </p:nvSpPr>
          <p:spPr>
            <a:xfrm>
              <a:off x="3851280" y="907920"/>
              <a:ext cx="3600360" cy="51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3"/>
            <p:cNvSpPr/>
            <p:nvPr/>
          </p:nvSpPr>
          <p:spPr>
            <a:xfrm>
              <a:off x="4556160" y="1123920"/>
              <a:ext cx="2376360" cy="47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山</a:t>
              </a:r>
              <a:r>
                <a:rPr b="1" lang="zh-CN" sz="3200" spc="-1" strike="noStrike">
                  <a:solidFill>
                    <a:srgbClr val="d60093"/>
                  </a:solidFill>
                  <a:latin typeface="楷体_GB2312"/>
                  <a:ea typeface="楷体_GB2312"/>
                </a:rPr>
                <a:t>无陵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江水</a:t>
              </a:r>
              <a:r>
                <a:rPr b="1" lang="zh-CN" sz="3200" spc="-1" strike="noStrike">
                  <a:solidFill>
                    <a:srgbClr val="d60093"/>
                  </a:solidFill>
                  <a:latin typeface="楷体_GB2312"/>
                  <a:ea typeface="楷体_GB2312"/>
                </a:rPr>
                <a:t>为竭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60093"/>
                  </a:solidFill>
                  <a:latin typeface="楷体_GB2312"/>
                  <a:ea typeface="楷体_GB2312"/>
                </a:rPr>
                <a:t>冬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雷震震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60093"/>
                  </a:solidFill>
                  <a:latin typeface="楷体_GB2312"/>
                  <a:ea typeface="楷体_GB2312"/>
                </a:rPr>
                <a:t>夏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雨雪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天地</a:t>
              </a:r>
              <a:r>
                <a:rPr b="1" lang="zh-CN" sz="3200" spc="-1" strike="noStrike">
                  <a:solidFill>
                    <a:srgbClr val="d60093"/>
                  </a:solidFill>
                  <a:latin typeface="楷体_GB2312"/>
                  <a:ea typeface="楷体_GB2312"/>
                </a:rPr>
                <a:t>合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12"/>
          <p:cNvSpPr/>
          <p:nvPr/>
        </p:nvSpPr>
        <p:spPr>
          <a:xfrm>
            <a:off x="144360" y="119700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黑体"/>
              </a:rPr>
              <a:t>）物象与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203640" y="333360"/>
            <a:ext cx="2771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黑体"/>
              </a:rPr>
              <a:t>深入感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4"/>
          <p:cNvSpPr/>
          <p:nvPr/>
        </p:nvSpPr>
        <p:spPr>
          <a:xfrm>
            <a:off x="0" y="1125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黑体"/>
              </a:rPr>
              <a:t>）物理时空延展中的情感空间与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8"/>
          <p:cNvGrpSpPr/>
          <p:nvPr/>
        </p:nvGrpSpPr>
        <p:grpSpPr>
          <a:xfrm>
            <a:off x="0" y="1844640"/>
            <a:ext cx="9288360" cy="4537080"/>
            <a:chOff x="0" y="1844640"/>
            <a:chExt cx="9288360" cy="4537080"/>
          </a:xfrm>
        </p:grpSpPr>
        <p:sp>
          <p:nvSpPr>
            <p:cNvPr id="97" name="Rectangle 17"/>
            <p:cNvSpPr/>
            <p:nvPr/>
          </p:nvSpPr>
          <p:spPr>
            <a:xfrm>
              <a:off x="36360" y="1844640"/>
              <a:ext cx="9072720" cy="45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5"/>
            <p:cNvSpPr/>
            <p:nvPr/>
          </p:nvSpPr>
          <p:spPr>
            <a:xfrm>
              <a:off x="0" y="2122920"/>
              <a:ext cx="9288360" cy="27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60093"/>
                  </a:solidFill>
                  <a:latin typeface="楷体_GB2312"/>
                  <a:ea typeface="楷体_GB2312"/>
                </a:rPr>
                <a:t>上邪！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我欲与君相知，</a:t>
              </a:r>
              <a:r>
                <a:rPr b="1" lang="zh-CN" sz="3200" spc="-1" strike="noStrike">
                  <a:solidFill>
                    <a:srgbClr val="d60093"/>
                  </a:solidFill>
                  <a:latin typeface="楷体_GB2312"/>
                  <a:ea typeface="楷体_GB2312"/>
                </a:rPr>
                <a:t>长命无绝衰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60093"/>
                  </a:solidFill>
                  <a:latin typeface="楷体_GB2312"/>
                  <a:ea typeface="楷体_GB2312"/>
                </a:rPr>
                <a:t>山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无陵，江</a:t>
              </a:r>
              <a:r>
                <a:rPr b="1" lang="zh-CN" sz="3200" spc="-1" strike="noStrike">
                  <a:solidFill>
                    <a:srgbClr val="d60093"/>
                  </a:solidFill>
                  <a:latin typeface="楷体_GB2312"/>
                  <a:ea typeface="楷体_GB2312"/>
                </a:rPr>
                <a:t>水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为竭，冬</a:t>
              </a:r>
              <a:r>
                <a:rPr b="1" lang="zh-CN" sz="3200" spc="-1" strike="noStrike">
                  <a:solidFill>
                    <a:srgbClr val="d60093"/>
                  </a:solidFill>
                  <a:latin typeface="楷体_GB2312"/>
                  <a:ea typeface="楷体_GB2312"/>
                </a:rPr>
                <a:t>雷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震震，夏雨</a:t>
              </a:r>
              <a:r>
                <a:rPr b="1" lang="zh-CN" sz="3200" spc="-1" strike="noStrike">
                  <a:solidFill>
                    <a:srgbClr val="d60093"/>
                  </a:solidFill>
                  <a:latin typeface="楷体_GB2312"/>
                  <a:ea typeface="楷体_GB2312"/>
                </a:rPr>
                <a:t>雪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r>
                <a:rPr b="1" lang="zh-CN" sz="3200" spc="-1" strike="noStrike">
                  <a:solidFill>
                    <a:srgbClr val="d60093"/>
                  </a:solidFill>
                  <a:latin typeface="楷体_GB2312"/>
                  <a:ea typeface="楷体_GB2312"/>
                </a:rPr>
                <a:t>天地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合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60093"/>
                  </a:solidFill>
                  <a:latin typeface="楷体_GB2312"/>
                  <a:ea typeface="楷体_GB2312"/>
                </a:rPr>
                <a:t>乃敢与君绝！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7"/>
          <p:cNvSpPr/>
          <p:nvPr/>
        </p:nvSpPr>
        <p:spPr>
          <a:xfrm>
            <a:off x="3203640" y="333360"/>
            <a:ext cx="2771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黑体"/>
              </a:rPr>
              <a:t>深入感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6922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关于常态与变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0"/>
          <p:cNvGrpSpPr/>
          <p:nvPr/>
        </p:nvGrpSpPr>
        <p:grpSpPr>
          <a:xfrm>
            <a:off x="971640" y="1413000"/>
            <a:ext cx="2663280" cy="4766400"/>
            <a:chOff x="971640" y="1413000"/>
            <a:chExt cx="2663280" cy="4766400"/>
          </a:xfrm>
        </p:grpSpPr>
        <p:sp>
          <p:nvSpPr>
            <p:cNvPr id="102" name="Rectangle 9"/>
            <p:cNvSpPr/>
            <p:nvPr/>
          </p:nvSpPr>
          <p:spPr>
            <a:xfrm>
              <a:off x="971640" y="1413000"/>
              <a:ext cx="2130840" cy="46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"/>
            <p:cNvSpPr/>
            <p:nvPr/>
          </p:nvSpPr>
          <p:spPr>
            <a:xfrm>
              <a:off x="1104840" y="1413000"/>
              <a:ext cx="2530080" cy="47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山</a:t>
              </a:r>
              <a:r>
                <a:rPr b="1" lang="zh-CN" sz="3200" spc="-1" strike="noStrike">
                  <a:solidFill>
                    <a:srgbClr val="d60093"/>
                  </a:solidFill>
                  <a:latin typeface="楷体_GB2312"/>
                  <a:ea typeface="楷体_GB2312"/>
                </a:rPr>
                <a:t>无陵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江水为</a:t>
              </a:r>
              <a:r>
                <a:rPr b="1" lang="zh-CN" sz="3200" spc="-1" strike="noStrike">
                  <a:solidFill>
                    <a:srgbClr val="d60093"/>
                  </a:solidFill>
                  <a:latin typeface="楷体_GB2312"/>
                  <a:ea typeface="楷体_GB2312"/>
                </a:rPr>
                <a:t>竭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60093"/>
                  </a:solidFill>
                  <a:latin typeface="楷体_GB2312"/>
                  <a:ea typeface="楷体_GB2312"/>
                </a:rPr>
                <a:t>冬雷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震震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60093"/>
                  </a:solidFill>
                  <a:latin typeface="楷体_GB2312"/>
                  <a:ea typeface="楷体_GB2312"/>
                </a:rPr>
                <a:t>夏雨雪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60093"/>
                  </a:solidFill>
                  <a:latin typeface="楷体_GB2312"/>
                  <a:ea typeface="楷体_GB2312"/>
                </a:rPr>
                <a:t>天地合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AutoShape 7"/>
          <p:cNvSpPr/>
          <p:nvPr/>
        </p:nvSpPr>
        <p:spPr>
          <a:xfrm>
            <a:off x="3203640" y="1413000"/>
            <a:ext cx="718920" cy="4680000"/>
          </a:xfrm>
          <a:custGeom>
            <a:avLst/>
            <a:gdLst>
              <a:gd name="textAreaLeft" fmla="*/ 0 w 718920"/>
              <a:gd name="textAreaRight" fmla="*/ 259560 w 718920"/>
              <a:gd name="textAreaTop" fmla="*/ 122040 h 4680000"/>
              <a:gd name="textAreaBottom" fmla="*/ 4557960 h 468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995640" y="2637000"/>
            <a:ext cx="48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变态与常态的对峙中情感对自然、人神的敬畏与挑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203640" y="333360"/>
            <a:ext cx="2771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黑体"/>
              </a:rPr>
              <a:t>深入感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6922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博喻修辞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971640" y="1413000"/>
            <a:ext cx="2663280" cy="4766400"/>
            <a:chOff x="971640" y="1413000"/>
            <a:chExt cx="2663280" cy="4766400"/>
          </a:xfrm>
        </p:grpSpPr>
        <p:sp>
          <p:nvSpPr>
            <p:cNvPr id="109" name="Rectangle 4"/>
            <p:cNvSpPr/>
            <p:nvPr/>
          </p:nvSpPr>
          <p:spPr>
            <a:xfrm>
              <a:off x="971640" y="1413000"/>
              <a:ext cx="2130840" cy="46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5"/>
            <p:cNvSpPr/>
            <p:nvPr/>
          </p:nvSpPr>
          <p:spPr>
            <a:xfrm>
              <a:off x="1104840" y="1413000"/>
              <a:ext cx="2530080" cy="47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山无陵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江水为竭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冬雷震震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夏雨雪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天地合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AutoShape 6"/>
          <p:cNvSpPr/>
          <p:nvPr/>
        </p:nvSpPr>
        <p:spPr>
          <a:xfrm>
            <a:off x="3203640" y="1413000"/>
            <a:ext cx="718920" cy="4680000"/>
          </a:xfrm>
          <a:custGeom>
            <a:avLst/>
            <a:gdLst>
              <a:gd name="textAreaLeft" fmla="*/ 0 w 718920"/>
              <a:gd name="textAreaRight" fmla="*/ 259560 w 718920"/>
              <a:gd name="textAreaTop" fmla="*/ 122040 h 4680000"/>
              <a:gd name="textAreaBottom" fmla="*/ 4557960 h 468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924360" y="1974960"/>
            <a:ext cx="5219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用多种比喻来比某个事物的一个方面，这在修辞学上称作博喻。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黑体"/>
              </a:rPr>
              <a:t>博喻可以加强所写事物的形象性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譬如此处要说的是决心，而决心如不借助于具体事例便不易说清楚。这里罗列五种根本不可能发生的自然现象，来表现不可动摇的决心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203640" y="333360"/>
            <a:ext cx="2771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黑体"/>
              </a:rPr>
              <a:t>深入感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98100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结构与表现手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24000" y="17002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前半节是现实主义的，后半节则表现出明显的强烈的浪漫主义色彩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203640" y="333360"/>
            <a:ext cx="2771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黑体"/>
              </a:rPr>
              <a:t>深入感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0" y="148428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中国，诗歌具有非常悠久的抒情传统。抒情的方式无非有两种：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一种是直抒胸臆</a:t>
            </a:r>
            <a:r>
              <a:rPr b="1" lang="en-US" sz="2800" spc="-1" strike="noStrike">
                <a:solidFill>
                  <a:srgbClr val="99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一种是间接抒情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谓直抒胸臆，无非是指情感的抒发无所依附。但关于男女情爱的情感抒发却多半是含蓄的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部作品的主人公却敢于大胆地表达自己的爱情，毫无羞涩和自卑之意。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斩决、果敢、刚烈，让人产生一种来自灵魂深处的震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765000"/>
            <a:ext cx="49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情感表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203640" y="333360"/>
            <a:ext cx="2771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黑体"/>
              </a:rPr>
              <a:t>深入感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6"/>
          <p:cNvSpPr/>
          <p:nvPr/>
        </p:nvSpPr>
        <p:spPr>
          <a:xfrm>
            <a:off x="1979640" y="119700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语言简短质朴，通俗易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979640" y="213372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想象神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979640" y="31417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抒情直接、热烈、大胆、豪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03640" y="333360"/>
            <a:ext cx="2771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黑体"/>
              </a:rPr>
              <a:t>艺术特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5256000" cy="3941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5605920" y="1197000"/>
            <a:ext cx="200916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上 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7745040" y="476280"/>
            <a:ext cx="6069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汉乐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2195640" y="1125360"/>
            <a:ext cx="39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菩萨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敦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332000" y="2205000"/>
            <a:ext cx="6985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枕前发尽千般愿：要休且待青山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面上秤砣浮，直待黄河彻底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白日参辰现，北斗回南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休即未能休，且待三更见日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203640" y="333360"/>
            <a:ext cx="2771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黑体"/>
              </a:rPr>
              <a:t>对比阅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直接连接符 25"/>
          <p:cNvSpPr/>
          <p:nvPr/>
        </p:nvSpPr>
        <p:spPr>
          <a:xfrm>
            <a:off x="1979640" y="1125360"/>
            <a:ext cx="2928960" cy="1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1"/>
          <p:cNvSpPr/>
          <p:nvPr/>
        </p:nvSpPr>
        <p:spPr>
          <a:xfrm>
            <a:off x="1332000" y="177336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迷你简雪君"/>
                <a:ea typeface="迷你简雪君"/>
              </a:rPr>
              <a:t>清张玉谷《古诗赏析》卷五评此诗：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迷你简雪君"/>
                <a:ea typeface="迷你简雪君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三，正说，意言已尽，后五，反面竭力申说。如此，然后敢绝，是终不可绝也。迭用五事，两就地维说，两就天时说，直说到天地混合，一气赶落，不见堆垛，局奇笔横。”</a:t>
            </a:r>
            <a:r>
              <a:rPr b="1" lang="zh-CN" sz="3200" spc="-1" strike="noStrike">
                <a:solidFill>
                  <a:srgbClr val="000000"/>
                </a:solidFill>
                <a:latin typeface="迷你简雪君"/>
                <a:ea typeface="迷你简雪君"/>
              </a:rPr>
              <a:t> 。</a:t>
            </a:r>
            <a:r>
              <a:rPr b="0" lang="zh-CN" sz="3200" spc="-1" strike="noStrike">
                <a:solidFill>
                  <a:srgbClr val="000000"/>
                </a:solidFill>
                <a:latin typeface="迷你简雪君"/>
                <a:ea typeface="迷你简雪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5"/>
          <p:cNvSpPr/>
          <p:nvPr/>
        </p:nvSpPr>
        <p:spPr>
          <a:xfrm>
            <a:off x="1908000" y="404640"/>
            <a:ext cx="27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80916"/>
                </a:solidFill>
                <a:latin typeface="迷你简雪君"/>
                <a:ea typeface="迷你简雪君"/>
              </a:rPr>
              <a:t>诗歌点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矩形 37" descr=""/>
          <p:cNvPicPr/>
          <p:nvPr/>
        </p:nvPicPr>
        <p:blipFill>
          <a:blip r:embed="rId2"/>
          <a:stretch/>
        </p:blipFill>
        <p:spPr>
          <a:xfrm>
            <a:off x="1114560" y="4276800"/>
            <a:ext cx="542880" cy="5126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0"/>
          <p:cNvSpPr/>
          <p:nvPr/>
        </p:nvSpPr>
        <p:spPr>
          <a:xfrm>
            <a:off x="3960" y="743040"/>
            <a:ext cx="911880" cy="24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点滴皆为天作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1"/>
          <p:cNvSpPr/>
          <p:nvPr/>
        </p:nvSpPr>
        <p:spPr>
          <a:xfrm>
            <a:off x="402480" y="1595520"/>
            <a:ext cx="91188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千杯品来都是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8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100"/>
                            </p:stCondLst>
                            <p:childTnLst>
                              <p:par>
                                <p:cTn id="3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5"/>
          <p:cNvSpPr/>
          <p:nvPr/>
        </p:nvSpPr>
        <p:spPr>
          <a:xfrm>
            <a:off x="2916360" y="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趣味语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超级爱情誓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39640" y="620640"/>
            <a:ext cx="8785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女：你原先有过女朋友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男：十年生死两茫茫，不思量，自难忘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女：死了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怎么死的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男：山无陵，江水为竭，冬雷震震，夏雨雪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女：喔，是天灾。那这些年你怎么过来的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男：满面尘灰烟火色，两手苍苍十指黑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女；唉，不容易。那么你看见我的第一感觉是什么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男：忽如一夜春风来，千树万树梨花开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女：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红着脸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有那么好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男：糟粕所传非粹美，丹青难写是精神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女：马屁精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你有理想吗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男：他年若遂凌云志，敢笑黄巢不丈夫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女：你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对爱情的看法呢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男：只在此山中，云深不知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5292720" y="476280"/>
            <a:ext cx="4464000" cy="360360"/>
          </a:xfrm>
          <a:prstGeom prst="wedgeRectCallout">
            <a:avLst>
              <a:gd name="adj1" fmla="val -41250"/>
              <a:gd name="adj2" fmla="val 10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苏轼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江城子 乙卯正月二十日夜记梦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6804000" y="1413000"/>
            <a:ext cx="2089080" cy="360360"/>
          </a:xfrm>
          <a:prstGeom prst="wedgeRectCallout">
            <a:avLst>
              <a:gd name="adj1" fmla="val -43921"/>
              <a:gd name="adj2" fmla="val 86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上邪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7524720" y="2349360"/>
            <a:ext cx="2303640" cy="360360"/>
          </a:xfrm>
          <a:prstGeom prst="wedgeRectCallout">
            <a:avLst>
              <a:gd name="adj1" fmla="val -69708"/>
              <a:gd name="adj2" fmla="val 1094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白居易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卖炭翁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7308720" y="3645000"/>
            <a:ext cx="3095640" cy="360360"/>
          </a:xfrm>
          <a:prstGeom prst="wedgeRectCallout">
            <a:avLst>
              <a:gd name="adj1" fmla="val -63486"/>
              <a:gd name="adj2" fmla="val -156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岑参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白雪歌送武判官归京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7164360" y="5373720"/>
            <a:ext cx="3240000" cy="360360"/>
          </a:xfrm>
          <a:prstGeom prst="wedgeRectCallout">
            <a:avLst>
              <a:gd name="adj1" fmla="val -58722"/>
              <a:gd name="adj2" fmla="val -3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水浒传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中宋江提的反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7093080" y="4221000"/>
            <a:ext cx="2879640" cy="360360"/>
          </a:xfrm>
          <a:prstGeom prst="wedgeRectCallout">
            <a:avLst>
              <a:gd name="adj1" fmla="val -48953"/>
              <a:gd name="adj2" fmla="val 10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王安石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读史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5867280" y="5877000"/>
            <a:ext cx="3276720" cy="360360"/>
          </a:xfrm>
          <a:prstGeom prst="wedgeRectCallout">
            <a:avLst>
              <a:gd name="adj1" fmla="val -49032"/>
              <a:gd name="adj2" fmla="val 10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贾岛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寻隐者不遇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抄录三首经典的古代爱情诗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仿写一个博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10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导入：你知道哪些经典爱情故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32360" y="1916280"/>
            <a:ext cx="2232000" cy="2214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3671640" cy="24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6912000" cy="5041800"/>
          </a:xfrm>
          <a:prstGeom prst="rect">
            <a:avLst/>
          </a:prstGeom>
          <a:solidFill>
            <a:srgbClr val="e1f4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一、关于乐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20204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4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20204"/>
                </a:solidFill>
                <a:latin typeface="楷体_GB2312"/>
                <a:ea typeface="楷体_GB2312"/>
              </a:rPr>
              <a:t>、汉乐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20204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20204"/>
                </a:solidFill>
                <a:latin typeface="宋体"/>
              </a:rPr>
              <a:t>乐府原是古代音乐机关的名称，汉乐府原指汉代的音乐机关。后来，将乐府采集和创作的乐歌称为“乐府”，于是，“汉乐府”就由汉代音乐机关的名称而兼为一种诗体的名称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6391440"/>
            <a:ext cx="19080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dfd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汉代诗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24720" y="549360"/>
            <a:ext cx="1081080" cy="3671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两汉乐府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620640"/>
            <a:ext cx="7596360" cy="5329440"/>
          </a:xfrm>
          <a:prstGeom prst="rect">
            <a:avLst/>
          </a:prstGeom>
          <a:solidFill>
            <a:srgbClr val="e1f4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4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20204"/>
                </a:solidFill>
                <a:latin typeface="黑体"/>
                <a:ea typeface="黑体"/>
              </a:rPr>
              <a:t>、乐府内涵的流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[1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古代音乐官署。</a:t>
            </a: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始于秦代，汉武帝时代规模扩展，主要为一些文人创作的诗制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配乐</a:t>
            </a: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，进行演奏，同时兼采各地的歌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一是“观风俗，知厚薄” 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汉书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•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艺文志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二是供朝廷朝会、宴饮、祭祀等典礼以及娱乐之用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[2]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汉魏六朝</a:t>
            </a: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，汉代人把乐府配乐演唱的诗称为“歌诗”，在魏晋以后也称为“乐府”。变成一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诗体</a:t>
            </a: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[3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唐代</a:t>
            </a: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，撇开音乐，变为一种批判现实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讽刺诗</a:t>
            </a: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[4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宋元以后</a:t>
            </a: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，也有称合过乐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词曲</a:t>
            </a: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为乐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80360" y="6381720"/>
            <a:ext cx="176364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dfd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汉代诗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67640" y="1052640"/>
            <a:ext cx="1081080" cy="3671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两汉乐府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7812000" cy="5042160"/>
          </a:xfrm>
          <a:prstGeom prst="rect">
            <a:avLst/>
          </a:prstGeom>
          <a:solidFill>
            <a:srgbClr val="e1f4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二、乐府的分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20204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⑴</a:t>
            </a: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郊庙歌辞 ⑵燕射歌辞 ⑶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鼓吹曲辞 </a:t>
            </a: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⑷横吹曲辞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20204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⑸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相和歌辞</a:t>
            </a: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 ⑹清商曲辞 ⑺舞曲歌辞 ⑻琴曲歌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20204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⑼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杂曲歌辞</a:t>
            </a: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 ⑽近代曲辞 ⑾杂歌谣辞 ⑿新乐府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4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汉书</a:t>
            </a:r>
            <a:r>
              <a:rPr b="1" lang="en-US" sz="2400" spc="-1" strike="noStrike">
                <a:solidFill>
                  <a:srgbClr val="020204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艺文志</a:t>
            </a:r>
            <a:r>
              <a:rPr b="1" lang="en-US" sz="2400" spc="-1" strike="noStrike">
                <a:solidFill>
                  <a:srgbClr val="020204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载当时收集的西汉乐府民歌有</a:t>
            </a:r>
            <a:r>
              <a:rPr b="1" lang="en-US" sz="2400" spc="-1" strike="noStrike">
                <a:solidFill>
                  <a:srgbClr val="020204"/>
                </a:solidFill>
                <a:latin typeface="宋体"/>
              </a:rPr>
              <a:t>138</a:t>
            </a: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首，现存大多为东汉乐府搜集的作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4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乐府诗集</a:t>
            </a:r>
            <a:r>
              <a:rPr b="1" lang="en-US" sz="2400" spc="-1" strike="noStrike">
                <a:solidFill>
                  <a:srgbClr val="020204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（南宋</a:t>
            </a:r>
            <a:r>
              <a:rPr b="1" lang="en-US" sz="2400" spc="-1" strike="noStrike">
                <a:solidFill>
                  <a:srgbClr val="020204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郭茂倩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  “</a:t>
            </a: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郊庙歌辞”：为文人制作的朝廷典礼乐章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  “</a:t>
            </a: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相和歌辞”：多为江南楚地的民间歌辞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  “</a:t>
            </a: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鼓吹曲辞”：是北方民族的乐曲，用于军乐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  “</a:t>
            </a:r>
            <a:r>
              <a:rPr b="1" lang="zh-CN" sz="2400" spc="-1" strike="noStrike">
                <a:solidFill>
                  <a:srgbClr val="020204"/>
                </a:solidFill>
                <a:latin typeface="宋体"/>
              </a:rPr>
              <a:t>杂曲歌辞”：指声调已经失传的乐曲的歌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80360" y="6381720"/>
            <a:ext cx="176364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dfd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汉代诗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40720" y="1125360"/>
            <a:ext cx="1081080" cy="3672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两汉乐府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-38160" y="177840"/>
            <a:ext cx="201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780000" y="189000"/>
            <a:ext cx="2879640" cy="6426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诵读诗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2627280" y="414972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7" descr="_855827319900607716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08720" y="5373720"/>
            <a:ext cx="889200" cy="792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214200" y="1571760"/>
            <a:ext cx="892980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邪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欲与君相知，长命无绝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无陵，江水为竭，冬雷震震，夏雨雪，天地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乃敢与君绝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第一笔.png"/>
          <p:cNvPicPr/>
          <p:nvPr/>
        </p:nvPicPr>
        <p:blipFill>
          <a:blip r:embed="rId2"/>
          <a:stretch/>
        </p:blipFill>
        <p:spPr>
          <a:xfrm>
            <a:off x="0" y="4832280"/>
            <a:ext cx="9144000" cy="2025720"/>
          </a:xfrm>
          <a:prstGeom prst="rect">
            <a:avLst/>
          </a:prstGeom>
          <a:ln w="0">
            <a:noFill/>
          </a:ln>
        </p:spPr>
      </p:pic>
      <p:sp>
        <p:nvSpPr>
          <p:cNvPr id="67" name="直接连接符 37"/>
          <p:cNvSpPr/>
          <p:nvPr/>
        </p:nvSpPr>
        <p:spPr>
          <a:xfrm>
            <a:off x="3354480" y="5419800"/>
            <a:ext cx="29289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9"/>
          <p:cNvSpPr/>
          <p:nvPr/>
        </p:nvSpPr>
        <p:spPr>
          <a:xfrm>
            <a:off x="3967200" y="5060880"/>
            <a:ext cx="928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0"/>
          <p:cNvSpPr/>
          <p:nvPr/>
        </p:nvSpPr>
        <p:spPr>
          <a:xfrm>
            <a:off x="3638520" y="55339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1"/>
          <p:cNvSpPr/>
          <p:nvPr/>
        </p:nvSpPr>
        <p:spPr>
          <a:xfrm>
            <a:off x="1220760" y="353880"/>
            <a:ext cx="73375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80916"/>
                </a:solidFill>
                <a:latin typeface="迷你简雪君"/>
                <a:ea typeface="迷你简雪君"/>
              </a:rPr>
              <a:t>注释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迷你简雪君"/>
                <a:ea typeface="迷你简雪君"/>
              </a:rPr>
              <a:t>　　① 上邪（</a:t>
            </a:r>
            <a:r>
              <a:rPr b="1" lang="en-US" sz="2800" spc="-1" strike="noStrike">
                <a:solidFill>
                  <a:srgbClr val="000000"/>
                </a:solidFill>
                <a:latin typeface="迷你简雪君"/>
                <a:ea typeface="迷你简雪君"/>
              </a:rPr>
              <a:t>yé</a:t>
            </a:r>
            <a:r>
              <a:rPr b="1" lang="zh-CN" sz="2800" spc="-1" strike="noStrike">
                <a:solidFill>
                  <a:srgbClr val="000000"/>
                </a:solidFill>
                <a:latin typeface="迷你简雪君"/>
                <a:ea typeface="迷你简雪君"/>
              </a:rPr>
              <a:t>）！：天啊！。上，指天。邪，语气助词，表示感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迷你简雪君"/>
                <a:ea typeface="迷你简雪君"/>
              </a:rPr>
              <a:t>　　② 相知：相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迷你简雪君"/>
                <a:ea typeface="迷你简雪君"/>
              </a:rPr>
              <a:t>　　③ 命：古与“令”字通，使。衰（</a:t>
            </a:r>
            <a:r>
              <a:rPr b="1" lang="en-US" sz="2800" spc="-1" strike="noStrike">
                <a:solidFill>
                  <a:srgbClr val="000000"/>
                </a:solidFill>
                <a:latin typeface="迷你简雪君"/>
                <a:ea typeface="迷你简雪君"/>
              </a:rPr>
              <a:t>cuī</a:t>
            </a:r>
            <a:r>
              <a:rPr b="1" lang="zh-CN" sz="2800" spc="-1" strike="noStrike">
                <a:solidFill>
                  <a:srgbClr val="000000"/>
                </a:solidFill>
                <a:latin typeface="迷你简雪君"/>
                <a:ea typeface="迷你简雪君"/>
              </a:rPr>
              <a:t>）：衰减、断绝。这两句是说，我愿与你相爱，让我们的爱情永不衰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迷你简雪君"/>
                <a:ea typeface="迷你简雪君"/>
              </a:rPr>
              <a:t>　　④ 陵</a:t>
            </a:r>
            <a:r>
              <a:rPr b="1" lang="en-US" sz="2800" spc="-1" strike="noStrike">
                <a:solidFill>
                  <a:srgbClr val="000000"/>
                </a:solidFill>
                <a:latin typeface="迷你简雪君"/>
                <a:ea typeface="迷你简雪君"/>
              </a:rPr>
              <a:t>(líng)</a:t>
            </a:r>
            <a:r>
              <a:rPr b="1" lang="zh-CN" sz="2800" spc="-1" strike="noStrike">
                <a:solidFill>
                  <a:srgbClr val="000000"/>
                </a:solidFill>
                <a:latin typeface="迷你简雪君"/>
                <a:ea typeface="迷你简雪君"/>
              </a:rPr>
              <a:t>：山峰、山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迷你简雪君"/>
                <a:ea typeface="迷你简雪君"/>
              </a:rPr>
              <a:t>　　⑤震震：形容雷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迷你简雪君"/>
                <a:ea typeface="迷你简雪君"/>
              </a:rPr>
              <a:t>⑥ 雨（</a:t>
            </a:r>
            <a:r>
              <a:rPr b="1" lang="en-US" sz="2800" spc="-1" strike="noStrike">
                <a:solidFill>
                  <a:srgbClr val="000000"/>
                </a:solidFill>
                <a:latin typeface="迷你简雪君"/>
                <a:ea typeface="迷你简雪君"/>
              </a:rPr>
              <a:t>yù</a:t>
            </a:r>
            <a:r>
              <a:rPr b="1" lang="zh-CN" sz="2800" spc="-1" strike="noStrike">
                <a:solidFill>
                  <a:srgbClr val="000000"/>
                </a:solidFill>
                <a:latin typeface="迷你简雪君"/>
                <a:ea typeface="迷你简雪君"/>
              </a:rPr>
              <a:t>）雪：降雪。雨，名词活用作动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迷你简雪君"/>
                <a:ea typeface="迷你简雪君"/>
              </a:rPr>
              <a:t>　　⑦ 天地合：天与地合二为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迷你简雪君"/>
                <a:ea typeface="迷你简雪君"/>
              </a:rPr>
              <a:t>　　⑧ 乃敢：才敢。“敢”字是委婉的用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8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3419640" y="260280"/>
            <a:ext cx="23396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品鉴诗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50920" y="1557360"/>
            <a:ext cx="4390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欲与君相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命无绝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780000" y="1268280"/>
            <a:ext cx="48243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开篇便先声夺人，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直接抒发自己强烈的思想感情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能给读者一种听觉上的冲击，把读者带入下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179280" y="3789360"/>
            <a:ext cx="36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山无陵，江水为竭，冬雷震震，夏雨雪，天地合，乃敢与君绝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780000" y="3500280"/>
            <a:ext cx="5184720" cy="1281960"/>
          </a:xfrm>
          <a:prstGeom prst="rect">
            <a:avLst/>
          </a:prstGeom>
          <a:noFill/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诗中通过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</a:rPr>
              <a:t>比兴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手法，用自然界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种不可能发生的自然现象来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</a:rPr>
              <a:t>比喻女子与她的爱人海枯石烂不分手的坚定之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02:24:49Z</dcterms:created>
  <dc:creator>未知用户</dc:creator>
  <dc:description/>
  <dc:language>en-US</dc:language>
  <cp:lastModifiedBy>user</cp:lastModifiedBy>
  <dcterms:modified xsi:type="dcterms:W3CDTF">2017-12-20T13:01:30Z</dcterms:modified>
  <cp:revision>34</cp:revision>
  <dc:subject/>
  <dc:title>幻灯片 1</dc:title>
</cp:coreProperties>
</file>