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5AD-1831-483E-A458-CDE74CBC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66A-5BCD-42FB-BFFC-AE7E9C57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A29-C84D-4638-BC24-3992E784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B49-C5CB-43F2-B834-2C1BD890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18F-7202-4E37-87E3-7AAFB981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ECF-91D4-4949-8CBC-FD29A3E5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8B4-A482-43DA-98C2-8AD28B8F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030-DE5A-4F60-A4E7-7B624CD3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132-D934-4CEF-890F-2216F8CF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66F-F5D5-4CB2-A541-5F3E110E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EEC-7919-425A-9956-05686B3D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EE1-2333-470F-895A-ADA6613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7906-8DC2-415E-BA31-D1E44E5504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5867280" y="4178160"/>
            <a:ext cx="3276720" cy="2679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554600" y="623736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2567880" y="134136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硬笔书法与文面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9"/>
          <p:cNvGrpSpPr/>
          <p:nvPr/>
        </p:nvGrpSpPr>
        <p:grpSpPr>
          <a:xfrm>
            <a:off x="1042920" y="692280"/>
            <a:ext cx="6264360" cy="144360"/>
            <a:chOff x="1042920" y="692280"/>
            <a:chExt cx="6264360" cy="144360"/>
          </a:xfrm>
        </p:grpSpPr>
        <p:sp>
          <p:nvSpPr>
            <p:cNvPr id="100" name="Line 10"/>
            <p:cNvSpPr/>
            <p:nvPr/>
          </p:nvSpPr>
          <p:spPr>
            <a:xfrm>
              <a:off x="1762200" y="69228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>
              <a:off x="1042920" y="83664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>
              <a:off x="1330200" y="76536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4"/>
          <p:cNvSpPr/>
          <p:nvPr/>
        </p:nvSpPr>
        <p:spPr>
          <a:xfrm>
            <a:off x="162612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12359"/>
                </a:solidFill>
                <a:latin typeface="华文中宋"/>
                <a:ea typeface="华文中宋"/>
              </a:rPr>
              <a:t>执笔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847320" y="21366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正确的执笔倾斜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18"/>
          <p:cNvPicPr/>
          <p:nvPr/>
        </p:nvPicPr>
        <p:blipFill>
          <a:blip r:embed="rId2"/>
          <a:stretch/>
        </p:blipFill>
        <p:spPr>
          <a:xfrm>
            <a:off x="1547640" y="2924280"/>
            <a:ext cx="5904000" cy="3222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9"/>
          <p:cNvGrpSpPr/>
          <p:nvPr/>
        </p:nvGrpSpPr>
        <p:grpSpPr>
          <a:xfrm>
            <a:off x="1042920" y="692280"/>
            <a:ext cx="6264360" cy="144360"/>
            <a:chOff x="1042920" y="692280"/>
            <a:chExt cx="6264360" cy="144360"/>
          </a:xfrm>
        </p:grpSpPr>
        <p:sp>
          <p:nvSpPr>
            <p:cNvPr id="107" name="Line 10"/>
            <p:cNvSpPr/>
            <p:nvPr/>
          </p:nvSpPr>
          <p:spPr>
            <a:xfrm>
              <a:off x="1762200" y="69228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1"/>
            <p:cNvSpPr/>
            <p:nvPr/>
          </p:nvSpPr>
          <p:spPr>
            <a:xfrm>
              <a:off x="1042920" y="83664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2"/>
            <p:cNvSpPr/>
            <p:nvPr/>
          </p:nvSpPr>
          <p:spPr>
            <a:xfrm>
              <a:off x="1330200" y="76536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4"/>
          <p:cNvSpPr/>
          <p:nvPr/>
        </p:nvSpPr>
        <p:spPr>
          <a:xfrm>
            <a:off x="162612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12359"/>
                </a:solidFill>
                <a:latin typeface="华文中宋"/>
                <a:ea typeface="华文中宋"/>
              </a:rPr>
              <a:t>执笔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5" descr="19"/>
          <p:cNvPicPr/>
          <p:nvPr/>
        </p:nvPicPr>
        <p:blipFill>
          <a:blip r:embed="rId2"/>
          <a:stretch/>
        </p:blipFill>
        <p:spPr>
          <a:xfrm>
            <a:off x="1187280" y="3141720"/>
            <a:ext cx="6985080" cy="1292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6"/>
          <p:cNvSpPr/>
          <p:nvPr/>
        </p:nvSpPr>
        <p:spPr>
          <a:xfrm>
            <a:off x="4062960" y="2050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错误的执笔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1763280" y="486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握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3418200" y="486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拇指钩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434200" y="486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食指上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7234560" y="486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双指夹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6516720" y="836640"/>
            <a:ext cx="2448000" cy="1512720"/>
          </a:xfrm>
          <a:prstGeom prst="cloudCallout">
            <a:avLst>
              <a:gd name="adj1" fmla="val -51490"/>
              <a:gd name="adj2" fmla="val 117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注意啦！这几种执笔姿势都是错误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3"/>
          <p:cNvGrpSpPr/>
          <p:nvPr/>
        </p:nvGrpSpPr>
        <p:grpSpPr>
          <a:xfrm>
            <a:off x="0" y="0"/>
            <a:ext cx="1008000" cy="6858000"/>
            <a:chOff x="0" y="0"/>
            <a:chExt cx="1008000" cy="6858000"/>
          </a:xfrm>
        </p:grpSpPr>
        <p:sp>
          <p:nvSpPr>
            <p:cNvPr id="119" name="Rectangle 4"/>
            <p:cNvSpPr/>
            <p:nvPr/>
          </p:nvSpPr>
          <p:spPr>
            <a:xfrm>
              <a:off x="0" y="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5400000">
              <a:off x="269640" y="149688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0" y="292428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5400000">
              <a:off x="269640" y="430524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0" y="585000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1042920" y="692280"/>
            <a:ext cx="6264360" cy="144360"/>
            <a:chOff x="1042920" y="692280"/>
            <a:chExt cx="6264360" cy="144360"/>
          </a:xfrm>
        </p:grpSpPr>
        <p:sp>
          <p:nvSpPr>
            <p:cNvPr id="125" name="Line 10"/>
            <p:cNvSpPr/>
            <p:nvPr/>
          </p:nvSpPr>
          <p:spPr>
            <a:xfrm>
              <a:off x="1762200" y="69228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1042920" y="83664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>
              <a:off x="1330200" y="76536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4"/>
          <p:cNvSpPr/>
          <p:nvPr/>
        </p:nvSpPr>
        <p:spPr>
          <a:xfrm>
            <a:off x="2140560" y="981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187280" y="1052640"/>
            <a:ext cx="73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汉字书法的形式上看，主要的有</a:t>
            </a:r>
            <a:r>
              <a:rPr b="1" lang="zh-CN" sz="2800" spc="-1" strike="noStrike">
                <a:solidFill>
                  <a:srgbClr val="a12359"/>
                </a:solidFill>
                <a:latin typeface="华文中宋"/>
                <a:ea typeface="华文中宋"/>
              </a:rPr>
              <a:t>篆书、隶书、草书、行书、楷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历史上还有书法家创作的其他字体，但占主导地位的是上述五种。在现代社会里，日常生活中常用的主要是行书和楷书。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10"/>
          <p:cNvPicPr/>
          <p:nvPr/>
        </p:nvPicPr>
        <p:blipFill>
          <a:blip r:embed="rId2"/>
          <a:stretch/>
        </p:blipFill>
        <p:spPr>
          <a:xfrm>
            <a:off x="2916360" y="2922480"/>
            <a:ext cx="3168360" cy="30369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p:transition>
    <p:checke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一）点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右点、左点、竖点和长点之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三、钢笔楷书笔画的特点与写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057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横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长横、短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924280"/>
            <a:ext cx="788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三）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竖画要写垂直。竖有垂露、悬针和短竖之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4149720"/>
            <a:ext cx="779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四）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撇画要得自然舒展。撇有斜撇、竖撇、短撇之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373720"/>
            <a:ext cx="6791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五）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捺画粗细分明。捺有斜捺和平捺之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2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72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600"/>
                            </p:stCondLst>
                            <p:childTnLst>
                              <p:par>
                                <p:cTn id="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755640" y="141300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提画写法是，下笔较重，由重到轻向右上行笔，收笔要出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611280" y="285264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钩  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竖钩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竖弯钩 、戈钩 、卧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826920" y="41497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折   共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形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三、钢笔楷书笔画的特点与写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3"/>
          <p:cNvGrpSpPr/>
          <p:nvPr/>
        </p:nvGrpSpPr>
        <p:grpSpPr>
          <a:xfrm>
            <a:off x="0" y="0"/>
            <a:ext cx="1008000" cy="6858000"/>
            <a:chOff x="0" y="0"/>
            <a:chExt cx="1008000" cy="6858000"/>
          </a:xfrm>
        </p:grpSpPr>
        <p:sp>
          <p:nvSpPr>
            <p:cNvPr id="142" name="Rectangle 4"/>
            <p:cNvSpPr/>
            <p:nvPr/>
          </p:nvSpPr>
          <p:spPr>
            <a:xfrm>
              <a:off x="0" y="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 rot="5400000">
              <a:off x="269640" y="149688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0" y="292428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 rot="5400000">
              <a:off x="269640" y="430524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"/>
            <p:cNvSpPr/>
            <p:nvPr/>
          </p:nvSpPr>
          <p:spPr>
            <a:xfrm>
              <a:off x="0" y="585000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1042920" y="692280"/>
            <a:ext cx="6264360" cy="144360"/>
            <a:chOff x="1042920" y="692280"/>
            <a:chExt cx="6264360" cy="144360"/>
          </a:xfrm>
        </p:grpSpPr>
        <p:sp>
          <p:nvSpPr>
            <p:cNvPr id="148" name="Line 10"/>
            <p:cNvSpPr/>
            <p:nvPr/>
          </p:nvSpPr>
          <p:spPr>
            <a:xfrm>
              <a:off x="1762200" y="69228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1042920" y="83664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>
              <a:off x="1330200" y="76536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13"/>
          <p:cNvSpPr/>
          <p:nvPr/>
        </p:nvSpPr>
        <p:spPr>
          <a:xfrm>
            <a:off x="1332000" y="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实用硬笔书写的标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485440" y="1125360"/>
            <a:ext cx="440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实用硬笔书法的标准可概括成以下五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12359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a12359"/>
                </a:solidFill>
                <a:latin typeface="华文中宋"/>
                <a:ea typeface="华文中宋"/>
              </a:rPr>
              <a:t>规范；②清楚；③匀称；④整洁；⑤流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5" descr="98b"/>
          <p:cNvPicPr/>
          <p:nvPr/>
        </p:nvPicPr>
        <p:blipFill>
          <a:blip r:embed="rId2"/>
          <a:stretch/>
        </p:blipFill>
        <p:spPr>
          <a:xfrm>
            <a:off x="1692360" y="2709720"/>
            <a:ext cx="5905440" cy="34354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9"/>
          <p:cNvGrpSpPr/>
          <p:nvPr/>
        </p:nvGrpSpPr>
        <p:grpSpPr>
          <a:xfrm>
            <a:off x="1042920" y="692280"/>
            <a:ext cx="6264360" cy="144360"/>
            <a:chOff x="1042920" y="692280"/>
            <a:chExt cx="6264360" cy="144360"/>
          </a:xfrm>
        </p:grpSpPr>
        <p:sp>
          <p:nvSpPr>
            <p:cNvPr id="155" name="Line 10"/>
            <p:cNvSpPr/>
            <p:nvPr/>
          </p:nvSpPr>
          <p:spPr>
            <a:xfrm>
              <a:off x="1762200" y="69228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1"/>
            <p:cNvSpPr/>
            <p:nvPr/>
          </p:nvSpPr>
          <p:spPr>
            <a:xfrm>
              <a:off x="1042920" y="83664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2"/>
            <p:cNvSpPr/>
            <p:nvPr/>
          </p:nvSpPr>
          <p:spPr>
            <a:xfrm>
              <a:off x="1330200" y="76536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3"/>
          <p:cNvSpPr/>
          <p:nvPr/>
        </p:nvSpPr>
        <p:spPr>
          <a:xfrm>
            <a:off x="1332000" y="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二  实用硬笔书写的标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105"/>
          <p:cNvPicPr/>
          <p:nvPr/>
        </p:nvPicPr>
        <p:blipFill>
          <a:blip r:embed="rId2"/>
          <a:stretch/>
        </p:blipFill>
        <p:spPr>
          <a:xfrm>
            <a:off x="5003640" y="1197000"/>
            <a:ext cx="2860920" cy="4437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60" name="Text Box 15"/>
          <p:cNvSpPr/>
          <p:nvPr/>
        </p:nvSpPr>
        <p:spPr>
          <a:xfrm>
            <a:off x="1765800" y="1197000"/>
            <a:ext cx="25581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常我们看见一些硬笔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品展览会上，都会有</a:t>
            </a:r>
            <a:r>
              <a:rPr b="1" lang="zh-CN" sz="2400" spc="-1" strike="noStrike">
                <a:solidFill>
                  <a:srgbClr val="333399"/>
                </a:solidFill>
                <a:latin typeface="华文中宋"/>
                <a:ea typeface="华文中宋"/>
              </a:rPr>
              <a:t>楷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中宋"/>
                <a:ea typeface="华文中宋"/>
              </a:rPr>
              <a:t>行书、草书、隶书、篆书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几种主要的硬笔书法作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可能还有其它经过变化的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品字体，但是在日常生活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最为通用的是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楷书和行书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9"/>
          <p:cNvGrpSpPr/>
          <p:nvPr/>
        </p:nvGrpSpPr>
        <p:grpSpPr>
          <a:xfrm>
            <a:off x="1042920" y="692280"/>
            <a:ext cx="6264360" cy="144360"/>
            <a:chOff x="1042920" y="692280"/>
            <a:chExt cx="6264360" cy="144360"/>
          </a:xfrm>
        </p:grpSpPr>
        <p:sp>
          <p:nvSpPr>
            <p:cNvPr id="162" name="Line 10"/>
            <p:cNvSpPr/>
            <p:nvPr/>
          </p:nvSpPr>
          <p:spPr>
            <a:xfrm>
              <a:off x="1762200" y="69228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1042920" y="83664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1330200" y="76536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3"/>
          <p:cNvSpPr/>
          <p:nvPr/>
        </p:nvSpPr>
        <p:spPr>
          <a:xfrm>
            <a:off x="1332000" y="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实用硬笔书写的标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2899080" y="1557360"/>
            <a:ext cx="37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归纳起来汉字书写的笔顺有以下几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先左后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先上后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先横后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④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先撇后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⑤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先横后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⑥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先外后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⑦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先里头后封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⑧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先中间后两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⑨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先主体后串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9"/>
          <p:cNvGrpSpPr/>
          <p:nvPr/>
        </p:nvGrpSpPr>
        <p:grpSpPr>
          <a:xfrm>
            <a:off x="1042920" y="692280"/>
            <a:ext cx="6264360" cy="144360"/>
            <a:chOff x="1042920" y="692280"/>
            <a:chExt cx="6264360" cy="144360"/>
          </a:xfrm>
        </p:grpSpPr>
        <p:sp>
          <p:nvSpPr>
            <p:cNvPr id="168" name="Line 10"/>
            <p:cNvSpPr/>
            <p:nvPr/>
          </p:nvSpPr>
          <p:spPr>
            <a:xfrm>
              <a:off x="1762200" y="69228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1042920" y="83664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1330200" y="76536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3"/>
          <p:cNvSpPr/>
          <p:nvPr/>
        </p:nvSpPr>
        <p:spPr>
          <a:xfrm>
            <a:off x="1332000" y="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实用硬笔书写的标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737000" y="9525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笔顺规则和用笔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468360" y="1557360"/>
            <a:ext cx="76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①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汉字大多数都是多笔画字，所以在写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字的时候往往同时用到几条规则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综合应用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②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笔顺的规则不是绝对的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于人们书写汉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习惯不同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笔顺</a:t>
            </a:r>
            <a:r>
              <a:rPr b="0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有些差异是正常的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要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违反基本规则就可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③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某些字的书写上，行书和楷书的笔顺有些差别，为了加快速度而</a:t>
            </a:r>
            <a:r>
              <a:rPr b="0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“连笔”书写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也会改变书写笔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09680" y="3049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四、楷书结构分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547640"/>
            <a:ext cx="350496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独体字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体字或写得小巧精致，或写得开张奔放，有些字由于斜笔多而呈斜形，但重心仍然安稳，形态变化十分丰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4444920" cy="1791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708360" y="3141720"/>
            <a:ext cx="4444920" cy="303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4269240" y="26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2627280" y="981000"/>
            <a:ext cx="6264360" cy="144360"/>
            <a:chOff x="2627280" y="981000"/>
            <a:chExt cx="6264360" cy="144360"/>
          </a:xfrm>
        </p:grpSpPr>
        <p:sp>
          <p:nvSpPr>
            <p:cNvPr id="46" name="Line 5"/>
            <p:cNvSpPr/>
            <p:nvPr/>
          </p:nvSpPr>
          <p:spPr>
            <a:xfrm>
              <a:off x="3346560" y="98100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2627280" y="112536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7"/>
            <p:cNvSpPr/>
            <p:nvPr/>
          </p:nvSpPr>
          <p:spPr>
            <a:xfrm>
              <a:off x="2914560" y="105408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58560" y="1484280"/>
            <a:ext cx="729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硬笔书写的执笔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硬笔书法的书写结构和书写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握常用文面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5280" y="1773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左右结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左右结构的字除了应该注意左右各自的长短高低宽窄之外，还要注意二部分的穿插、避让和联系，使左右有机地统一起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3517920" cy="4653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09680" y="3049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四、楷书结构分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1371600"/>
            <a:ext cx="78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上下结构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下结构的安排，要注意上下两部分各自的宽窄、长短、大小的区别和联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5867640" cy="1995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09680" y="3049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四、楷书结构分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4360" y="134136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左中右结构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左中右结构由于呈三部分的宽度，容易写得过宽，所以应该控制每部分的宽度，以免互相拥挤。还要注意三部分各自的长短、宽窄、位置高低等等，使三部分融为一体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4068720" cy="4292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09680" y="3049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四、楷书结构分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42920" y="1341360"/>
            <a:ext cx="68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包围结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围结构更应注意包围部分与被包围部分的紧密联系，以免字形松散，应该使被包围部分向包围部分靠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47920" y="3276720"/>
            <a:ext cx="5790960" cy="2017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09680" y="3049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四、楷书结构分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4"/>
          <p:cNvSpPr/>
          <p:nvPr/>
        </p:nvSpPr>
        <p:spPr>
          <a:xfrm>
            <a:off x="2217960" y="11494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12359"/>
                </a:solidFill>
                <a:latin typeface="华文中宋"/>
                <a:ea typeface="华文中宋"/>
              </a:rPr>
              <a:t>实用硬笔字的常用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5" descr="16"/>
          <p:cNvPicPr/>
          <p:nvPr/>
        </p:nvPicPr>
        <p:blipFill>
          <a:blip r:embed="rId2"/>
          <a:stretch/>
        </p:blipFill>
        <p:spPr>
          <a:xfrm>
            <a:off x="1042920" y="1916280"/>
            <a:ext cx="5977080" cy="3728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92" name="Text Box 16"/>
          <p:cNvSpPr/>
          <p:nvPr/>
        </p:nvSpPr>
        <p:spPr>
          <a:xfrm>
            <a:off x="8032320" y="27640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行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109"/>
          <p:cNvPicPr/>
          <p:nvPr/>
        </p:nvPicPr>
        <p:blipFill>
          <a:blip r:embed="rId2"/>
          <a:stretch/>
        </p:blipFill>
        <p:spPr>
          <a:xfrm>
            <a:off x="900000" y="476280"/>
            <a:ext cx="5740560" cy="5413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彩云"/>
              </a:rPr>
              <a:t>美术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826920" y="1066680"/>
            <a:ext cx="6985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幼圆"/>
              </a:rPr>
              <a:t>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彩云"/>
              </a:rPr>
              <a:t>美术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是经过艺术加工的实用字体，字体整齐、 醒目、美观、易认，是开展宣传、教育不可缺少的工具， 如横幅标语、黑板报、墙报、会场布置、展览会， 以及商品包装和装潢，各类广告、 报刊杂志和书籍的装帖上等都离不开美术字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5"/>
          <p:cNvSpPr txBox="1"/>
          <p:nvPr/>
        </p:nvSpPr>
        <p:spPr>
          <a:xfrm>
            <a:off x="2124000" y="404640"/>
            <a:ext cx="365760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美术字的分类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04920" y="1752480"/>
            <a:ext cx="7507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术字由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常用美术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变体美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两大类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用美术字体：黑体、宋体、仿宋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体美术字：变化丰富，灵活多样。它们的字体整齐、 醒目、美观、易认，是开展宣传、教育不可缺少的工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12"/>
          <p:cNvSpPr txBox="1"/>
          <p:nvPr/>
        </p:nvSpPr>
        <p:spPr>
          <a:xfrm>
            <a:off x="2556000" y="549360"/>
            <a:ext cx="44863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变体美术字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971640" y="234936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变体美术字是把字的笔画和外形进行变化和装饰而形成的美术字，他形象、生动、有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节  硬笔书法入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五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04292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文面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文面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面是文章的外表，它由文字书写、标点符号和行款格式组成。检查文面，是指在修改、誊写时检查文面是否复合规范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字书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点符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内容及文面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561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4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首先，标点符号要正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4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其次，使用标点要规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4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）、，。；：！？‘ “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&gt;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》）等标点符号，不能在一行的第一格，如果遇到最后一格已写满字，可以写在格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4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）每一行的最后一格，不能写‘ “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&lt;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《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(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五个标点符号，但可以写在一行的第一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4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破折号——和省略号……都不能截开分写在两行。可以写在第一二格，也可写在最后一格和格外。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4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2723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内容及文面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3. 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行款格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行款格式，即文字书写的行列款式，也有约定俗成的规定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）标题。居中书写，左右空格相等，上下各空一行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）署名。在标题下面空一行居中书写。如果姓名为两个字，两字之间空一格。如作者不止一人，各名之间空两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）分段。每个自然段开头空两格。段与段之间不空行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）序码。一般按一、（一）、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、（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）、①的顺序，逐级排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5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宋体"/>
              </a:rPr>
              <a:t>）引文。较短的引文，可以写在段中并加引号。需要强调或较长的引文，可以另起一段。另起一段的引文，第一行开头空四格，转行后空两格。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40000"/>
              </a:lnSpc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精心设计并认真书写一首古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制作一张贺卡，使用美术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64120" cy="644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0" y="260280"/>
            <a:ext cx="4162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63272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3"/>
          <p:cNvGrpSpPr/>
          <p:nvPr/>
        </p:nvGrpSpPr>
        <p:grpSpPr>
          <a:xfrm>
            <a:off x="0" y="0"/>
            <a:ext cx="1008000" cy="6858000"/>
            <a:chOff x="0" y="0"/>
            <a:chExt cx="1008000" cy="6858000"/>
          </a:xfrm>
        </p:grpSpPr>
        <p:sp>
          <p:nvSpPr>
            <p:cNvPr id="59" name="Rectangle 4"/>
            <p:cNvSpPr/>
            <p:nvPr/>
          </p:nvSpPr>
          <p:spPr>
            <a:xfrm>
              <a:off x="0" y="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5400000">
              <a:off x="269640" y="149688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0" y="292428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5400000">
              <a:off x="269640" y="430524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0" y="585000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9"/>
          <p:cNvGrpSpPr/>
          <p:nvPr/>
        </p:nvGrpSpPr>
        <p:grpSpPr>
          <a:xfrm>
            <a:off x="1042920" y="692280"/>
            <a:ext cx="6264360" cy="144360"/>
            <a:chOff x="1042920" y="692280"/>
            <a:chExt cx="6264360" cy="144360"/>
          </a:xfrm>
        </p:grpSpPr>
        <p:sp>
          <p:nvSpPr>
            <p:cNvPr id="65" name="Line 10"/>
            <p:cNvSpPr/>
            <p:nvPr/>
          </p:nvSpPr>
          <p:spPr>
            <a:xfrm>
              <a:off x="1762200" y="69228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1042920" y="83664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1330200" y="76536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3"/>
          <p:cNvSpPr/>
          <p:nvPr/>
        </p:nvSpPr>
        <p:spPr>
          <a:xfrm>
            <a:off x="1332000" y="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 钢笔书写的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6408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0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英国颁发了第一批关于贮水笔的专利证书，这标志着钢笔的正式诞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3"/>
          <p:cNvGrpSpPr/>
          <p:nvPr/>
        </p:nvGrpSpPr>
        <p:grpSpPr>
          <a:xfrm>
            <a:off x="0" y="0"/>
            <a:ext cx="1008000" cy="6858000"/>
            <a:chOff x="0" y="0"/>
            <a:chExt cx="1008000" cy="6858000"/>
          </a:xfrm>
        </p:grpSpPr>
        <p:sp>
          <p:nvSpPr>
            <p:cNvPr id="71" name="Rectangle 4"/>
            <p:cNvSpPr/>
            <p:nvPr/>
          </p:nvSpPr>
          <p:spPr>
            <a:xfrm>
              <a:off x="0" y="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 rot="5400000">
              <a:off x="269640" y="149688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0" y="292428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 rot="5400000">
              <a:off x="269640" y="430524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0" y="5850000"/>
              <a:ext cx="468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1042920" y="692280"/>
            <a:ext cx="6264360" cy="144360"/>
            <a:chOff x="1042920" y="692280"/>
            <a:chExt cx="6264360" cy="144360"/>
          </a:xfrm>
        </p:grpSpPr>
        <p:sp>
          <p:nvSpPr>
            <p:cNvPr id="77" name="Line 10"/>
            <p:cNvSpPr/>
            <p:nvPr/>
          </p:nvSpPr>
          <p:spPr>
            <a:xfrm>
              <a:off x="1762200" y="69228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1042920" y="83664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1330200" y="76536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3"/>
          <p:cNvSpPr/>
          <p:nvPr/>
        </p:nvSpPr>
        <p:spPr>
          <a:xfrm>
            <a:off x="1332000" y="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、 钢笔书写的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7488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英国人詹姆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利成功地研制出钢笔尖。它经过特殊加工，圆滑而有弹性，书写起来相当流畅，深受人们的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美国一家保险公司的一个叫华特曼的雇员，发明了一种用毛细管供给墨水的方法。这种笔的笔端可以卸下来，墨水用一个小的滴管注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出现了用一根管子伸进墨水中吸水的施诺克尔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发明了常用的毛细管笔。还有一些美术钢笔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9"/>
          <p:cNvGrpSpPr/>
          <p:nvPr/>
        </p:nvGrpSpPr>
        <p:grpSpPr>
          <a:xfrm>
            <a:off x="1042920" y="692280"/>
            <a:ext cx="6264360" cy="144360"/>
            <a:chOff x="1042920" y="692280"/>
            <a:chExt cx="6264360" cy="144360"/>
          </a:xfrm>
        </p:grpSpPr>
        <p:sp>
          <p:nvSpPr>
            <p:cNvPr id="83" name="Line 10"/>
            <p:cNvSpPr/>
            <p:nvPr/>
          </p:nvSpPr>
          <p:spPr>
            <a:xfrm>
              <a:off x="1762200" y="69228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1042920" y="83664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1330200" y="76536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3"/>
          <p:cNvSpPr/>
          <p:nvPr/>
        </p:nvSpPr>
        <p:spPr>
          <a:xfrm>
            <a:off x="1547640" y="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二、硬笔字的执笔姿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62612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12359"/>
                </a:solidFill>
                <a:latin typeface="华文中宋"/>
                <a:ea typeface="华文中宋"/>
              </a:rPr>
              <a:t>写字姿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17"/>
          <p:cNvPicPr/>
          <p:nvPr/>
        </p:nvPicPr>
        <p:blipFill>
          <a:blip r:embed="rId2"/>
          <a:stretch/>
        </p:blipFill>
        <p:spPr>
          <a:xfrm>
            <a:off x="4500720" y="1557360"/>
            <a:ext cx="3849480" cy="4824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6"/>
          <p:cNvSpPr/>
          <p:nvPr/>
        </p:nvSpPr>
        <p:spPr>
          <a:xfrm>
            <a:off x="2260440" y="1989000"/>
            <a:ext cx="113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头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身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胸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臂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9"/>
          <p:cNvGrpSpPr/>
          <p:nvPr/>
        </p:nvGrpSpPr>
        <p:grpSpPr>
          <a:xfrm>
            <a:off x="1042920" y="692280"/>
            <a:ext cx="6264360" cy="144360"/>
            <a:chOff x="1042920" y="692280"/>
            <a:chExt cx="6264360" cy="144360"/>
          </a:xfrm>
        </p:grpSpPr>
        <p:sp>
          <p:nvSpPr>
            <p:cNvPr id="91" name="Line 10"/>
            <p:cNvSpPr/>
            <p:nvPr/>
          </p:nvSpPr>
          <p:spPr>
            <a:xfrm>
              <a:off x="1762200" y="692280"/>
              <a:ext cx="41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1"/>
            <p:cNvSpPr/>
            <p:nvPr/>
          </p:nvSpPr>
          <p:spPr>
            <a:xfrm>
              <a:off x="1042920" y="836640"/>
              <a:ext cx="626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>
              <a:off x="1330200" y="765360"/>
              <a:ext cx="518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4"/>
          <p:cNvSpPr/>
          <p:nvPr/>
        </p:nvSpPr>
        <p:spPr>
          <a:xfrm>
            <a:off x="162612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12359"/>
                </a:solidFill>
                <a:latin typeface="华文中宋"/>
                <a:ea typeface="华文中宋"/>
              </a:rPr>
              <a:t>执笔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18a"/>
          <p:cNvPicPr/>
          <p:nvPr/>
        </p:nvPicPr>
        <p:blipFill>
          <a:blip r:embed="rId2"/>
          <a:stretch/>
        </p:blipFill>
        <p:spPr>
          <a:xfrm>
            <a:off x="1187280" y="2960640"/>
            <a:ext cx="7272360" cy="1836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971640" y="511956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(a)</a:t>
            </a:r>
            <a:r>
              <a:rPr b="1" lang="zh-CN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垫指法</a:t>
            </a:r>
            <a:r>
              <a:rPr b="1" lang="en-US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(</a:t>
            </a:r>
            <a:r>
              <a:rPr b="1" lang="zh-CN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正面</a:t>
            </a:r>
            <a:r>
              <a:rPr b="1" lang="en-US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) </a:t>
            </a:r>
            <a:r>
              <a:rPr b="1" lang="zh-CN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垫指法</a:t>
            </a:r>
            <a:r>
              <a:rPr b="1" lang="en-US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(</a:t>
            </a:r>
            <a:r>
              <a:rPr b="1" lang="zh-CN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背面</a:t>
            </a:r>
            <a:r>
              <a:rPr b="1" lang="en-US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859280" y="508464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(b)</a:t>
            </a:r>
            <a:r>
              <a:rPr b="1" lang="zh-CN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枕指法</a:t>
            </a:r>
            <a:r>
              <a:rPr b="1" lang="en-US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(</a:t>
            </a:r>
            <a:r>
              <a:rPr b="1" lang="zh-CN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正面</a:t>
            </a:r>
            <a:r>
              <a:rPr b="1" lang="en-US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)  </a:t>
            </a:r>
            <a:r>
              <a:rPr b="1" lang="zh-CN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枕指法</a:t>
            </a:r>
            <a:r>
              <a:rPr b="1" lang="en-US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(</a:t>
            </a:r>
            <a:r>
              <a:rPr b="1" lang="zh-CN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背面</a:t>
            </a:r>
            <a:r>
              <a:rPr b="1" lang="en-US" sz="2000" spc="-1" strike="noStrike">
                <a:solidFill>
                  <a:srgbClr val="a12359"/>
                </a:solidFill>
                <a:latin typeface="华文中宋"/>
                <a:ea typeface="华文中宋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776040" y="2136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正确的执笔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58:29Z</dcterms:created>
  <dc:creator>YlmF</dc:creator>
  <dc:description/>
  <cp:keywords/>
  <dc:language>en-US</dc:language>
  <cp:lastModifiedBy>user</cp:lastModifiedBy>
  <cp:lastPrinted>1899-12-30T00:00:00Z</cp:lastPrinted>
  <dcterms:modified xsi:type="dcterms:W3CDTF">2017-12-21T15:42:16Z</dcterms:modified>
  <cp:revision>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