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59E-9588-4D7E-9CB2-BF3174A7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A2C-9CBD-460C-B5B1-C1BB9A9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7BB-5A22-4ECB-9EC1-C0BAC5E9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50A-940A-442B-B674-9DBBE416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235-FB52-4AA1-A175-380DDAB6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DA4F-D674-44D5-BBDB-2FF1D399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510-27E9-47EE-9D5A-0CE02CDB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A83-812B-489B-91D6-5C5725B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680-4450-4E49-B29C-338059C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B08-2C78-498D-810F-AB87EDF7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1B9A-1317-4E26-98A9-CA0D877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A1D-8C4B-4FA4-8DDE-34D7B5D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5E64-BB94-427D-AD1B-701D1BB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F0A7-6974-48B1-AB3E-7ECD966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6792-9B47-473A-8A51-E98CF956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3E6-2D4B-4F08-AAE8-FD443A81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3413-F8D6-4C00-AA41-B54A131C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A2F-9437-41D4-A21D-DCA5F2E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AA2-5CCE-4E5E-9678-5FE38FBD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C99-77A3-4EA3-9410-F272040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C0A-3858-47A5-9940-8DE16C47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66D-DABF-4743-82A6-B6963AE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997-EC57-4453-ABBE-23E07F9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689-53A2-406F-AF36-23FBE5A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DF5A-70A2-4A76-BD18-B76B3F4F65F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C87-3A4D-43E9-9E6D-B25CB916005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c0c0c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G:\&#35821;&#25991;&#25945;&#26696;\&#40723;&#19978;&#34468;\&#20070;&#27861;&#32593;  &#20070;&#33402;&#20844;&#31038; - &#12304;&#20241;&#38386;&#12305;+&#12304;&#33590;&#33293;&#12305; - &#12304;&#28748;&#27700;&#12305;+&#12304;&#31505;&#35885;&#12305; - [&#36716;&#24086;]&#20013;&#22269;&#31350;&#31455;&#26377;&#22810;&#23569;&#36138;&#23448;&#25658;&#27454;&#22806;&#36867;  - powered by Discuz!.htm" TargetMode="Externa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685800"/>
            <a:ext cx="228600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阅读思考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676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时迁为何要上梁山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上梁山后有何重大贡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1676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有远见，有追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2590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有所作为，有勇有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3434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作者认为时迁排名靠后的原因是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5053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梁山稳固后时迁作何用途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505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英雄无用武之地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029200"/>
            <a:ext cx="4496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偷鸡摸狗，为人不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小反革命不如大反革命”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3526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楷体"/>
              </a:rPr>
              <a:t>路在何方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752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作者替时迁想到了什么出路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266688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研究探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743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作者由何想到让时迁任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肃贪局局长的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752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肃贪局局长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505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小偷偷出的新闻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038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新闻中的“小偷”为何要作出这一惊人举动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本文使用了哪些论证方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例证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喻证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引证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对比论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685800"/>
            <a:ext cx="266688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创作特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夹叙夹议，叙议结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点鲜明，角度新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语言犀利而不失幽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85800"/>
            <a:ext cx="266688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创作特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33526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鼓上蚤的重用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”字体现在哪里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438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你认为这篇文章实际上想告诉我们的是什么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85800"/>
            <a:ext cx="243864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拓展延伸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6765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今中国，你知道哪些落网的“老虎”和“老鼠”？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2670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4. “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马后炮”带给我们的思考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>
            <a:hlinkClick r:id="rId2"/>
          </p:cNvPr>
          <p:cNvSpPr/>
          <p:nvPr/>
        </p:nvSpPr>
        <p:spPr>
          <a:xfrm>
            <a:off x="8229600" y="5257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761" h="21600">
                <a:moveTo>
                  <a:pt x="8354" y="3985"/>
                </a:moveTo>
                <a:lnTo>
                  <a:pt x="15351" y="3985"/>
                </a:lnTo>
                <a:lnTo>
                  <a:pt x="19407" y="7484"/>
                </a:lnTo>
                <a:lnTo>
                  <a:pt x="19407" y="17615"/>
                </a:lnTo>
                <a:lnTo>
                  <a:pt x="8354" y="17615"/>
                </a:lnTo>
                <a:close/>
              </a:path>
              <a:path fill="darken" w="27761" h="21600">
                <a:moveTo>
                  <a:pt x="15351" y="3985"/>
                </a:moveTo>
                <a:lnTo>
                  <a:pt x="19407" y="7484"/>
                </a:lnTo>
                <a:lnTo>
                  <a:pt x="15351" y="748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8229600" y="5867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2590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课外阅读古典小说《水浒传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581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就所学知识及自己关注的社会问题，尝试创作杂文，写于随笔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阅读本板块另两篇杂文，交流自己读后感想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830592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0010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602280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近平同志在十八届中央纪委二次全会上提出坚持“老虎”“苍蝇”一起打，为反腐败工作定下了总基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腐败实践证明，“老虎”“苍蝇”一起打，是新时期反腐败斗争的必然战略抉择，是走出腐败高发期的最佳路径选择，有着深刻内涵和战略意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99040" y="1371600"/>
            <a:ext cx="314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拓展阅读：《水浒传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6676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拓展阅读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《水浒传》——路见不平一声吼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244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685800"/>
            <a:ext cx="2286000" cy="581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后作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590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阅读古典小说《水浒传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81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谈谈你关注的社会问题，如医疗改革、素质教育等，尝试创作杂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endshow"/>
          </p:cNvPr>
          <p:cNvSpPr/>
          <p:nvPr/>
        </p:nvSpPr>
        <p:spPr>
          <a:xfrm>
            <a:off x="830592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牧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752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鼓上蚤另有重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28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6659 L -0.00417 -0.26289 E">
                                      <p:cBhvr>
                                        <p:cTn id="6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了解本文的写作特点及人物形象的刻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“鼓上蚤”和“重用”的真实含义，了解本文“借题发挥”的创作风格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强化爱国精神，提升社会责任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71800" y="3581280"/>
            <a:ext cx="5257800" cy="2611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小偷与贪官有什么关系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5257800" cy="261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3260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4879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牧惠，原名林文山、林颂葵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在广西出生，祖籍广东。牧惠书目：《造神运动的终结》、《真话的空间——杂文卷》、《难得潇洒》、《漏网》、《书里书外》、《歪批水浒》、《闲侃聊斋》等，以用历史眼光关注现实且蕴涵浓厚古典文学韵味的“史鉴体”杂文在中国文坛独树一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选自《歪批水浒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685800"/>
            <a:ext cx="2286000" cy="581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作者简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914400"/>
            <a:ext cx="7772400" cy="23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迁练就一身好功夫，能攀高走壁，盗墓做贼，江湖上人称“鼓上蚤”。杨雄、石秀杀了潘巧云、裴如海，正商量去投奔梁山，没想到撞上了时迁。时迁因为偷吃了祝家庄酒店的公鸡，被祝家庄人马捉去，并且惹出宋江三打祝家庄一段事来。时迁上梁山后，被派去东京盗得徐宁的宝甲，和汤隆一起将徐宁骗上梁山，立了功劳。时迁被封为走报机密步军头领第二名，是梁山第一百零七条好汉。征讨方腊时，时迁病死在途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2514600"/>
            <a:ext cx="1447560" cy="0"/>
          </a:xfrm>
          <a:prstGeom prst="line">
            <a:avLst/>
          </a:prstGeom>
          <a:ln w="349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105520"/>
            <a:ext cx="1371600" cy="0"/>
          </a:xfrm>
          <a:prstGeom prst="line">
            <a:avLst/>
          </a:prstGeom>
          <a:ln w="349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5562720"/>
            <a:ext cx="2057400" cy="0"/>
          </a:xfrm>
          <a:prstGeom prst="line">
            <a:avLst/>
          </a:prstGeom>
          <a:ln w="349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429000"/>
            <a:ext cx="3886200" cy="0"/>
          </a:xfrm>
          <a:prstGeom prst="line">
            <a:avLst/>
          </a:prstGeom>
          <a:ln w="349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"/>
            <a:ext cx="2286000" cy="581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时迁简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038480" y="2895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牧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4103640" cy="4495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32840" y="1143000"/>
            <a:ext cx="1277640" cy="495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刻舟求剑，时迁也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0800" y="1371600"/>
            <a:ext cx="127764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凿壁借光，孔明乎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0800" y="1371600"/>
            <a:ext cx="127764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凿壁借光，孔明乎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4400" y="1143000"/>
            <a:ext cx="1277640" cy="495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刻舟求剑，时迁也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240" y="1371600"/>
            <a:ext cx="127764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凿壁借光，孔明乎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1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谈你所了解的梁山好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时迁排名一百单八将中的倒数第二名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536920" cy="266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85800"/>
            <a:ext cx="2286000" cy="10688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体感知，阅读思考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09T07:47:36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