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576-1A28-4177-B52A-21BA23E2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473-BE3C-4413-BE7D-B5E81BF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0A5-6D1A-489D-A6E3-86D25570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C94-1A7E-4B38-8631-B3142EC6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F11-BEB2-4A21-BA11-D678873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3F2-ADB0-47AF-A48D-25EB669C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510-CFCF-4B33-889C-8FB2057E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06C-E89D-4C46-BA25-F5404A4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61D-319B-4C9F-9565-80ACE79A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78D-63A0-4D09-AFF7-2CDAFB1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DCC-5E08-44FF-B3A9-6197CCA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DF9-DE0D-4AE0-9686-CA1FE31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1D05-78A7-4437-A0A0-6CB056A4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115920"/>
            <a:ext cx="74167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11280" y="115920"/>
            <a:ext cx="741672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图片 3" descr=""/>
          <p:cNvPicPr/>
          <p:nvPr/>
        </p:nvPicPr>
        <p:blipFill>
          <a:blip r:embed="rId6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701720"/>
            <a:ext cx="21351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第四单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349360"/>
            <a:ext cx="4140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言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981080" y="75960"/>
            <a:ext cx="2286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劝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木直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中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善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假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于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声非加</a:t>
            </a:r>
            <a:r>
              <a:rPr b="1" lang="zh-CN" sz="2600" spc="-1" strike="noStrike">
                <a:solidFill>
                  <a:srgbClr val="c00000"/>
                </a:solidFill>
                <a:latin typeface="黑体"/>
                <a:ea typeface="黑体"/>
              </a:rPr>
              <a:t>疾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风雨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兴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不积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跬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功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在不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黑体"/>
                <a:ea typeface="黑体"/>
              </a:rPr>
              <a:t>而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绝</a:t>
            </a:r>
            <a:r>
              <a:rPr b="1" lang="zh-CN" sz="2600" spc="-1" strike="noStrike">
                <a:solidFill>
                  <a:srgbClr val="008000"/>
                </a:solidFill>
                <a:latin typeface="黑体"/>
                <a:ea typeface="黑体"/>
              </a:rPr>
              <a:t>江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黑体"/>
                <a:ea typeface="黑体"/>
              </a:rPr>
              <a:t>非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利</a:t>
            </a:r>
            <a:r>
              <a:rPr b="1" lang="zh-CN" sz="2600" spc="-1" strike="noStrike">
                <a:solidFill>
                  <a:srgbClr val="008000"/>
                </a:solidFill>
                <a:latin typeface="黑体"/>
                <a:ea typeface="黑体"/>
              </a:rPr>
              <a:t>足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金</a:t>
            </a:r>
            <a:r>
              <a:rPr b="1" lang="zh-CN" sz="2600" spc="-1" strike="noStrike">
                <a:solidFill>
                  <a:srgbClr val="0070c0"/>
                </a:solidFill>
                <a:latin typeface="黑体"/>
                <a:ea typeface="黑体"/>
              </a:rPr>
              <a:t>就</a:t>
            </a:r>
            <a:r>
              <a:rPr b="1" lang="zh-CN" sz="2600" spc="-1" strike="noStrike">
                <a:solidFill>
                  <a:srgbClr val="008000"/>
                </a:solidFill>
                <a:latin typeface="黑体"/>
                <a:ea typeface="黑体"/>
              </a:rPr>
              <a:t>砺则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黑体"/>
                <a:ea typeface="黑体"/>
              </a:rPr>
              <a:t>筋骨之</a:t>
            </a: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8000"/>
                </a:solidFill>
                <a:latin typeface="黑体"/>
                <a:ea typeface="黑体"/>
              </a:rPr>
              <a:t>用心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2600" spc="-1" strike="noStrike">
                <a:solidFill>
                  <a:srgbClr val="008000"/>
                </a:solidFill>
                <a:latin typeface="黑体"/>
                <a:ea typeface="黑体"/>
              </a:rPr>
              <a:t>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輮</a:t>
            </a:r>
            <a:r>
              <a:rPr b="1" lang="zh-CN" sz="2600" spc="-1" strike="noStrike">
                <a:solidFill>
                  <a:srgbClr val="cc0066"/>
                </a:solidFill>
                <a:latin typeface="黑体"/>
                <a:ea typeface="黑体"/>
              </a:rPr>
              <a:t>以为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无可</a:t>
            </a:r>
            <a:r>
              <a:rPr b="1" lang="zh-CN" sz="2600" spc="-1" strike="noStrike">
                <a:solidFill>
                  <a:srgbClr val="cc0066"/>
                </a:solidFill>
                <a:latin typeface="黑体"/>
                <a:ea typeface="黑体"/>
              </a:rPr>
              <a:t>寄托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95320" y="75960"/>
            <a:ext cx="31244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劝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勉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中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合乎、符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假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借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疾：</a:t>
            </a:r>
            <a:r>
              <a:rPr b="1" lang="zh-CN" sz="2600" spc="-1" strike="noStrike">
                <a:solidFill>
                  <a:srgbClr val="1c5d19"/>
                </a:solidFill>
                <a:latin typeface="黑体"/>
                <a:ea typeface="黑体"/>
              </a:rPr>
              <a:t>宏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兴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兴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跬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半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功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成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绝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横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利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敏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金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金属刀剑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靠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强：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健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专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黑体"/>
                <a:ea typeface="黑体"/>
              </a:rPr>
              <a:t>以为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把</a:t>
            </a:r>
            <a:r>
              <a:rPr b="1" lang="en-US" sz="2600" spc="-1" strike="noStrike">
                <a:solidFill>
                  <a:srgbClr val="006600"/>
                </a:solidFill>
                <a:latin typeface="黑体"/>
                <a:ea typeface="黑体"/>
              </a:rPr>
              <a:t>…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做成</a:t>
            </a:r>
            <a:r>
              <a:rPr b="1" lang="en-US" sz="2600" spc="-1" strike="noStrike">
                <a:solidFill>
                  <a:srgbClr val="006600"/>
                </a:solidFill>
                <a:latin typeface="黑体"/>
                <a:ea typeface="黑体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黑体"/>
                <a:ea typeface="黑体"/>
              </a:rPr>
              <a:t>寄托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：藏身、托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609480" y="1828800"/>
            <a:ext cx="60984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点实词释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6019920" y="3124080"/>
            <a:ext cx="1981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7162920" y="0"/>
            <a:ext cx="1981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1447920"/>
            <a:ext cx="7315200" cy="470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槁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复挺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”通“又”，再一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暴”通“曝”，晒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而行无过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”通“智”，智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之然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輮”通“煣”，使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弯曲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子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异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生”通“性”，天赋，资质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636480" y="228600"/>
            <a:ext cx="140004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文言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39120" y="228600"/>
            <a:ext cx="773280" cy="752040"/>
          </a:xfrm>
          <a:prstGeom prst="rect">
            <a:avLst/>
          </a:prstGeom>
          <a:solidFill>
            <a:srgbClr val="ddd9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9d4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239d40"/>
                </a:solidFill>
                <a:latin typeface="黑体"/>
                <a:ea typeface="黑体"/>
              </a:rPr>
              <a:t>、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1143000"/>
            <a:ext cx="7772400" cy="52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假舟楫者，非能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，而绝江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，</a:t>
            </a:r>
            <a:r>
              <a:rPr b="1" lang="zh-CN" sz="2800" spc="-1" strike="noStrike">
                <a:solidFill>
                  <a:srgbClr val="239d40"/>
                </a:solidFill>
                <a:latin typeface="黑体"/>
                <a:ea typeface="黑体"/>
              </a:rPr>
              <a:t>名词用作动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游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子博学而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省乎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日，</a:t>
            </a:r>
            <a:r>
              <a:rPr b="1" lang="zh-CN" sz="2800" spc="-1" strike="noStrike">
                <a:solidFill>
                  <a:srgbClr val="239d40"/>
                </a:solidFill>
                <a:latin typeface="黑体"/>
                <a:ea typeface="黑体"/>
              </a:rPr>
              <a:t>名词作状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每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假舆马者，非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利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239d40"/>
                </a:solidFill>
                <a:latin typeface="黑体"/>
                <a:ea typeface="黑体"/>
              </a:rPr>
              <a:t>形容词使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使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埃土，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饮黄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、下，</a:t>
            </a:r>
            <a:r>
              <a:rPr b="1" lang="zh-CN" sz="2800" spc="-1" strike="noStrike">
                <a:solidFill>
                  <a:srgbClr val="239d40"/>
                </a:solidFill>
                <a:latin typeface="黑体"/>
                <a:ea typeface="黑体"/>
              </a:rPr>
              <a:t>方位名词作状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向上、向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心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，</a:t>
            </a:r>
            <a:r>
              <a:rPr b="1" lang="zh-CN" sz="2800" spc="-1" strike="noStrike">
                <a:solidFill>
                  <a:srgbClr val="239d40"/>
                </a:solidFill>
                <a:latin typeface="黑体"/>
                <a:ea typeface="黑体"/>
              </a:rPr>
              <a:t>数词作形容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作“专一”讲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48200" y="152280"/>
            <a:ext cx="773280" cy="752040"/>
          </a:xfrm>
          <a:prstGeom prst="rect">
            <a:avLst/>
          </a:prstGeom>
          <a:solidFill>
            <a:srgbClr val="ddd9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9d4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239d40"/>
                </a:solidFill>
                <a:latin typeface="黑体"/>
                <a:ea typeface="黑体"/>
              </a:rPr>
              <a:t>、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14400" y="1447920"/>
            <a:ext cx="5943600" cy="62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，取之于蓝，而青于蓝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冰，水为之，而寒于水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介宾短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蚓无爪牙之利，筋骨之强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定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輮以为轮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省略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有槁暴，不复挺者，輮使之然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判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609480"/>
            <a:ext cx="3124080" cy="752040"/>
          </a:xfrm>
          <a:prstGeom prst="rect">
            <a:avLst/>
          </a:prstGeom>
          <a:solidFill>
            <a:srgbClr val="ddd9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9d4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239d40"/>
                </a:solidFill>
                <a:latin typeface="黑体"/>
                <a:ea typeface="黑体"/>
              </a:rPr>
              <a:t>、特殊句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87280" y="352080"/>
            <a:ext cx="3024360" cy="771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2a2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参考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40640" cy="49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子说：学习是不可以停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靛青，是从蓝草中提取的，却比蓝草的颜色还要青；冰，是水凝固而成的，却比水还要寒冷。木材笔直，合乎墨线 ，（如果）把它烤弯制作成车轮，（那么）它的弯度（就）合乎圆规的标准了，即使把它晒干，也不会再挺直，是火的熏烤使它变成这样的。所以 木材经墨线量过就能取直，刀剑等金属制品在磨刀石上磨过就能变得锋利，君 子广泛地学习，而且每天对自己进行检查反省，那么他就会智慧明达，行为也不会有 过错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39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685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堆积土石成了高山，风雨就从这儿兴起了；汇积水流成为深渊，蛟龙就从这儿产生了；积累善行养成美德，那么就会达到高度的智慧，也就具 有了圣人的精神境界。所以不积累一步半步的行程，就没有办法到达千里之远； 不积累细小的流水，就没有办法汇成江河大海。骏马一跃，也不足十步远；劣 马拉车走十天，（也能走得很远，）它的成功就在于不停地走。（如果）刻几下 就停下来，（那么）腐烂的木头也刻不断。（如果）不停地刻下去，（那么） 金石也能雕刻成功。蚯蚓没有锐利的爪子和牙齿，强健的筋骨，却能向上吃到泥 土，向下可以喝到泉水，这是由于它用心专一啊。螃蟹有八条腿，两只钳子， （但是）如果没有蛇、鳝的洞穴它就无处存身，这是因为它用心浮躁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987640" y="189000"/>
            <a:ext cx="3024360" cy="93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2a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参考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说说议论文的三要素是什么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论点、论据、论证方法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说议论文论证角度有哪些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、为什么、怎么样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7524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本文的中心论点是什么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3400" y="346716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4114800"/>
            <a:ext cx="6248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君子说，学习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可以让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停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419720" y="4952880"/>
            <a:ext cx="4495680" cy="10159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今义：行；能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古义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可以用（它），应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81952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学不可以已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533520" y="4952880"/>
            <a:ext cx="3352680" cy="52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君子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这里指有学问、有修养的人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304920"/>
            <a:ext cx="45720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朗读课文，疏通文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合作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中心论点用“君子曰”引出有什么好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“君子曰”引出中心论点“学不可以已”，使观点更具权威性。这个观点包括两个方面的意思，一是因为学习意义很大，所以学习不能停止；二是学习的态度和方法，就是不能停止学习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143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围绕“学不可以已”，作者是从哪几个方面进行论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39320" y="1981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9320" y="3048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16160" y="41148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的方法和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7560720" y="1905120"/>
            <a:ext cx="8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60720" y="2971800"/>
            <a:ext cx="8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60720" y="4038480"/>
            <a:ext cx="8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72440" y="3048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不可以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12560" y="3733920"/>
            <a:ext cx="8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3124080" y="2362320"/>
            <a:ext cx="149400" cy="2084400"/>
          </a:xfrm>
          <a:custGeom>
            <a:avLst/>
            <a:gdLst>
              <a:gd name="textAreaLeft" fmla="*/ 95400 w 149400"/>
              <a:gd name="textAreaRight" fmla="*/ 149760 w 149400"/>
              <a:gd name="textAreaTop" fmla="*/ 54360 h 2084400"/>
              <a:gd name="textAreaBottom" fmla="*/ 2030040 h 208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合作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7467480" cy="424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0400" y="236232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荀子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76212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劝  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4320" y="2154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34400" y="1371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54120" y="3124080"/>
            <a:ext cx="10335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的意义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五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905120" y="3048120"/>
            <a:ext cx="304560" cy="2895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1160 h 2895480"/>
              <a:gd name="textAreaBottom" fmla="*/ 279432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8"/>
                  <a:pt x="10800" y="2416"/>
                </a:cubicBezTo>
                <a:lnTo>
                  <a:pt x="10800" y="8384"/>
                </a:lnTo>
                <a:cubicBezTo>
                  <a:pt x="10800" y="9592"/>
                  <a:pt x="5400" y="10800"/>
                  <a:pt x="0" y="10800"/>
                </a:cubicBezTo>
                <a:cubicBezTo>
                  <a:pt x="5400" y="10800"/>
                  <a:pt x="10800" y="12008"/>
                  <a:pt x="10800" y="13216"/>
                </a:cubicBezTo>
                <a:lnTo>
                  <a:pt x="10800" y="19184"/>
                </a:lnTo>
                <a:cubicBezTo>
                  <a:pt x="10800" y="203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133720" y="29163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青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于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133720" y="36021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冰寒于</a:t>
            </a:r>
            <a:r>
              <a:rPr b="0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905120" y="4267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直木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輮以为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20968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木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受绳则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20968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金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砺则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162920" y="2971800"/>
            <a:ext cx="175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子博学而日参省乎己，则知明而行无过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228600" y="152280"/>
            <a:ext cx="243828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梳理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57200" y="1295280"/>
            <a:ext cx="1523880" cy="550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宋体"/>
              </a:rPr>
              <a:t>第一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4038480" y="304812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5"/>
                  <a:pt x="10800" y="1929"/>
                </a:cubicBezTo>
                <a:lnTo>
                  <a:pt x="10800" y="8953"/>
                </a:lnTo>
                <a:cubicBezTo>
                  <a:pt x="10800" y="9918"/>
                  <a:pt x="16200" y="10882"/>
                  <a:pt x="21600" y="10882"/>
                </a:cubicBezTo>
                <a:cubicBezTo>
                  <a:pt x="16200" y="10882"/>
                  <a:pt x="10800" y="11847"/>
                  <a:pt x="10800" y="12811"/>
                </a:cubicBezTo>
                <a:lnTo>
                  <a:pt x="10800" y="19671"/>
                </a:lnTo>
                <a:cubicBezTo>
                  <a:pt x="10800" y="206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4572000" y="441972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38520 h 1600200"/>
              <a:gd name="textAreaBottom" fmla="*/ 15616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6"/>
                  <a:pt x="10800" y="1671"/>
                </a:cubicBezTo>
                <a:lnTo>
                  <a:pt x="10800" y="9211"/>
                </a:lnTo>
                <a:cubicBezTo>
                  <a:pt x="10800" y="10047"/>
                  <a:pt x="16200" y="10882"/>
                  <a:pt x="21600" y="10882"/>
                </a:cubicBezTo>
                <a:cubicBezTo>
                  <a:pt x="16200" y="10882"/>
                  <a:pt x="10800" y="11718"/>
                  <a:pt x="10800" y="12553"/>
                </a:cubicBezTo>
                <a:lnTo>
                  <a:pt x="10800" y="19929"/>
                </a:lnTo>
                <a:cubicBezTo>
                  <a:pt x="10800" y="2076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495680" y="3276720"/>
            <a:ext cx="18288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提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己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876920" y="4876920"/>
            <a:ext cx="18288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改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己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 flipH="1">
            <a:off x="6780960" y="3200400"/>
            <a:ext cx="228600" cy="2209680"/>
          </a:xfrm>
          <a:custGeom>
            <a:avLst/>
            <a:gdLst>
              <a:gd name="textAreaLeft" fmla="*/ 145800 w 228600"/>
              <a:gd name="textAreaRight" fmla="*/ 228600 w 228600"/>
              <a:gd name="textAreaTop" fmla="*/ 50400 h 2209680"/>
              <a:gd name="textAreaBottom" fmla="*/ 21592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2"/>
                  <a:pt x="10800" y="1583"/>
                </a:cubicBezTo>
                <a:lnTo>
                  <a:pt x="10800" y="9217"/>
                </a:lnTo>
                <a:cubicBezTo>
                  <a:pt x="10800" y="10009"/>
                  <a:pt x="5400" y="10800"/>
                  <a:pt x="0" y="10800"/>
                </a:cubicBezTo>
                <a:cubicBezTo>
                  <a:pt x="5400" y="10800"/>
                  <a:pt x="10800" y="11592"/>
                  <a:pt x="10800" y="12383"/>
                </a:cubicBezTo>
                <a:lnTo>
                  <a:pt x="10800" y="20017"/>
                </a:lnTo>
                <a:cubicBezTo>
                  <a:pt x="10800" y="208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3128760" y="1295280"/>
            <a:ext cx="29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出中心论点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学不可以已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457200" y="2286000"/>
            <a:ext cx="1523880" cy="550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宋体"/>
              </a:rPr>
              <a:t>第二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04920" y="2438280"/>
            <a:ext cx="1447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905120" y="1752480"/>
            <a:ext cx="152280" cy="3581640"/>
          </a:xfrm>
          <a:custGeom>
            <a:avLst/>
            <a:gdLst>
              <a:gd name="textAreaLeft" fmla="*/ 97200 w 152280"/>
              <a:gd name="textAreaRight" fmla="*/ 152640 w 152280"/>
              <a:gd name="textAreaTop" fmla="*/ 64440 h 3581640"/>
              <a:gd name="textAreaBottom" fmla="*/ 35172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3"/>
                  <a:pt x="10800" y="1245"/>
                </a:cubicBezTo>
                <a:lnTo>
                  <a:pt x="10800" y="9555"/>
                </a:lnTo>
                <a:cubicBezTo>
                  <a:pt x="10800" y="10178"/>
                  <a:pt x="5400" y="10800"/>
                  <a:pt x="0" y="10800"/>
                </a:cubicBezTo>
                <a:cubicBezTo>
                  <a:pt x="5400" y="10800"/>
                  <a:pt x="10800" y="11423"/>
                  <a:pt x="10800" y="12045"/>
                </a:cubicBezTo>
                <a:lnTo>
                  <a:pt x="10800" y="20355"/>
                </a:lnTo>
                <a:cubicBezTo>
                  <a:pt x="10800" y="2097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286000" y="1533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跂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886200" y="1828800"/>
            <a:ext cx="76212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648320" y="1533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不如登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>
            <a:off x="6400800" y="1752480"/>
            <a:ext cx="152280" cy="350532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3505320"/>
              <a:gd name="textAreaBottom" fmla="*/ 34538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9"/>
                  <a:pt x="10800" y="1017"/>
                </a:cubicBezTo>
                <a:lnTo>
                  <a:pt x="10800" y="9783"/>
                </a:lnTo>
                <a:cubicBezTo>
                  <a:pt x="10800" y="10292"/>
                  <a:pt x="16200" y="10800"/>
                  <a:pt x="21600" y="10800"/>
                </a:cubicBezTo>
                <a:cubicBezTo>
                  <a:pt x="16200" y="10800"/>
                  <a:pt x="10800" y="11309"/>
                  <a:pt x="10800" y="11817"/>
                </a:cubicBezTo>
                <a:lnTo>
                  <a:pt x="10800" y="20583"/>
                </a:lnTo>
                <a:cubicBezTo>
                  <a:pt x="10800" y="2109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6705720" y="213372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善假于物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9"/>
          <p:cNvSpPr/>
          <p:nvPr/>
        </p:nvSpPr>
        <p:spPr>
          <a:xfrm>
            <a:off x="304920" y="1219320"/>
            <a:ext cx="1447560" cy="550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黑体"/>
                <a:ea typeface="黑体"/>
              </a:rPr>
              <a:t>第三段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2209680" y="2371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登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2506320" y="320040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顺风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2506680" y="3962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假舆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243036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假舟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>
            <a:off x="3886200" y="2666880"/>
            <a:ext cx="76212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>
            <a:off x="3886200" y="3429000"/>
            <a:ext cx="76212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4"/>
          <p:cNvSpPr/>
          <p:nvPr/>
        </p:nvSpPr>
        <p:spPr>
          <a:xfrm>
            <a:off x="3886200" y="4267080"/>
            <a:ext cx="76212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5"/>
          <p:cNvSpPr/>
          <p:nvPr/>
        </p:nvSpPr>
        <p:spPr>
          <a:xfrm>
            <a:off x="3886200" y="5105520"/>
            <a:ext cx="76212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5175720" y="2371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见者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5173560" y="3209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闻者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5175720" y="4038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致千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525204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绝江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152280" y="152280"/>
            <a:ext cx="243864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梳理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28600" y="2514600"/>
            <a:ext cx="1066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的方法和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52480" y="518148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专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1447920" y="1066680"/>
            <a:ext cx="228600" cy="4800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324480" y="50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面设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400800" y="17208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面设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7315200" y="609480"/>
            <a:ext cx="152280" cy="198144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7467480" y="1219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666880" y="287820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骐骥一跃，不能十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驽马十驾，功在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不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6095880" y="3048120"/>
            <a:ext cx="228600" cy="8366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6640"/>
              <a:gd name="textAreaBottom" fmla="*/ 8150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400800" y="3214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2666880" y="417348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锲而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，朽木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不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锲而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不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金石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可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1"/>
          <p:cNvSpPr/>
          <p:nvPr/>
        </p:nvSpPr>
        <p:spPr>
          <a:xfrm>
            <a:off x="6095880" y="4343400"/>
            <a:ext cx="228600" cy="8398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9880"/>
              <a:gd name="textAreaBottom" fmla="*/ 81828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400800" y="4433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590920" y="541008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蚓无爪牙之利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用心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一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蟹六跪而二螯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用心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躁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6629400" y="5638680"/>
            <a:ext cx="304920" cy="838440"/>
          </a:xfrm>
          <a:custGeom>
            <a:avLst/>
            <a:gdLst>
              <a:gd name="textAreaLeft" fmla="*/ 0 w 304920"/>
              <a:gd name="textAreaRight" fmla="*/ 110160 w 3049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69343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228600" y="1447920"/>
            <a:ext cx="129528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1752480" y="83808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1752480" y="342900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0"/>
          <p:cNvSpPr/>
          <p:nvPr/>
        </p:nvSpPr>
        <p:spPr>
          <a:xfrm flipH="1">
            <a:off x="2362320" y="5335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1"/>
          <p:cNvSpPr/>
          <p:nvPr/>
        </p:nvSpPr>
        <p:spPr>
          <a:xfrm flipH="1">
            <a:off x="2437560" y="3048120"/>
            <a:ext cx="304920" cy="2133360"/>
          </a:xfrm>
          <a:custGeom>
            <a:avLst/>
            <a:gdLst>
              <a:gd name="textAreaLeft" fmla="*/ -360 w 304920"/>
              <a:gd name="textAreaRight" fmla="*/ 109800 w 3049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2"/>
          <p:cNvSpPr/>
          <p:nvPr/>
        </p:nvSpPr>
        <p:spPr>
          <a:xfrm flipH="1">
            <a:off x="2437560" y="54100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2666880" y="1676520"/>
            <a:ext cx="3810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不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跬步，无以至千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不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流，无以成江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7"/>
          <p:cNvSpPr/>
          <p:nvPr/>
        </p:nvSpPr>
        <p:spPr>
          <a:xfrm>
            <a:off x="6324480" y="18288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2666880" y="36360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积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土成山，风雨兴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积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水成渊，蛟龙生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6019920" y="609480"/>
            <a:ext cx="304560" cy="762120"/>
          </a:xfrm>
          <a:custGeom>
            <a:avLst/>
            <a:gdLst>
              <a:gd name="textAreaLeft" fmla="*/ 0 w 304560"/>
              <a:gd name="textAreaRight" fmla="*/ 109800 w 3045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67320" y="3414960"/>
            <a:ext cx="606960" cy="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积善成德，而神明自得，圣心备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28600" y="152280"/>
            <a:ext cx="243828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梳理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小结：艺术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大量运用比喻阐明事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喻能使抽象道理明白具体，深入浅出，使人易于了解和接受，提高表达效果。这些比喻有的用同类事物相衬托，如：“登高而招”与“顺风而呼”，“假舆马”与“假舟楫”，“积土成山”与“积水成渊”；有的用相反情况相对比，如“骐骥一跃”与“驽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卜驾”，“朽木不折”与“金石可镂”等。比喻说理明白透彻，深入具体，使人信服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论证方法灵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文先提出中心论点，然后分段论证。每段说明一个问题。论证中有时先正后反，有时先反后正。灵活而有变化，使论辩生动有力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语言特点：多用对偶，夹用排比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排比句使文章气势充沛，说理流畅。本文中排比句与大量对偶句穿插使用，使文章既整齐对仗、节奏和谐，又参差错落、变化流畅，反映了议论透辟、笔势雄健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小结：艺术特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设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以其所知，喻其所不知”，也就是用生活中常见的事物来说明深刻的道理。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寓言也是设喻的一种，如“循表夜涉”“刻舟求剑”等。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)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文的设喻有两大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一是方式灵活，有时从一个方面用同类事物并列设喻以加强效果，如“青，取之于蓝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而寒于水”；有时从正反两面设喻说明同一道理，如“骐骥一跃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功在不舍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二是用一连串的设喻，而内容逐步加深，如“登高而招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而绝江河”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“善假于物”为主题，写一篇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搜集“三教九流”中的名家相关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828800" y="990720"/>
            <a:ext cx="5861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劝学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唐）颜真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更灯火五更鸡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是男儿读书时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黑发不知勤学早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白首方悔读书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762120"/>
            <a:ext cx="5943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58676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79280" y="189000"/>
            <a:ext cx="6985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62120" y="2057400"/>
            <a:ext cx="79135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荀子及其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本文比喻论证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握文中重要实词、虚词、特殊句式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劝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主要观点，领会学习的重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324120" y="2852640"/>
            <a:ext cx="9118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0" y="990720"/>
            <a:ext cx="49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4191120" cy="4165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3057480" cy="308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60948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孔子曰：“学而时习之，  不亦说乎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庄子曰：“人生也有涯，而知也无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04920" y="609480"/>
            <a:ext cx="5638680" cy="398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荀子（约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13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战国末期赵国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当时人们尊重他，称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荀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后因避汉宣帝刘询之讳而改称孙卿，曾两度到当时齐国的文化中心稷下（今山东临淄）游学，任过列大夫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祭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学宫领袖），还到过秦国，拜见秦昭王，后来到楚国，任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兰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今山东枣庄东南）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公元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3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失官，居家著书，死后葬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兰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2667240" cy="3505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5562720"/>
            <a:ext cx="2667240" cy="825120"/>
          </a:xfrm>
          <a:prstGeom prst="rect">
            <a:avLst/>
          </a:prstGeom>
          <a:solidFill>
            <a:srgbClr val="d5e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6705720" y="1828800"/>
            <a:ext cx="1811160" cy="4190760"/>
            <a:chOff x="6705720" y="1828800"/>
            <a:chExt cx="1811160" cy="41907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6865200" y="2044080"/>
              <a:ext cx="1544400" cy="36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6705720" y="1828800"/>
              <a:ext cx="181116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6705720" y="5616360"/>
              <a:ext cx="181116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609480" y="990720"/>
            <a:ext cx="59436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荀子是一位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思想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具有一定朴素唯物主义思想，反对迷信天命、鬼神，提倡发挥人的主观能动性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先秦时期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儒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派最后一个代表人物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是一位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文学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后人多认为荀子的文章代表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先秦时期散文最高的艺术成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战国诸子中，他与孟子、庄子对后世影响最深；最后，他又是一位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育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荀子认为后天环境和教育可以使人的本性改变，因此，他十分强调教育的作用和学习。主张选贤任能，兼用礼、法、术治理国家。他的许多思想被法家所吸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60360" cy="3638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533520"/>
            <a:ext cx="48625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之初，性本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字经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之性恶，其善者伪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－荀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荀子认为人性本来是恶的。人的知识、道德不是先天赋予的，而是后天经过学习、教育，逐步培养的。人之所以能够弃恶从善，是因为人不断地坚持学习。他特别强调后天的学习，把学习作为改造人性的根本方法。他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劝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是为了勉励人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ea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2066760" cy="3602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228600" y="6477120"/>
            <a:ext cx="98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40" y="22860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74320" y="22860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47920"/>
            <a:ext cx="624852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荀子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语录体，发展为有标题的论文，标志着古代说理文的进一步成熟。行文气魄宏大雄浑，有包容诸家的气概。全书共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卷，收文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篇，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篇为荀子所著，末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篇为其门人弟子所记。内容涉及哲学、政治、治学、立身和学术论辩等多个方面，全面反映了荀子的思想主张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劝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其第一篇，广为后世传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其曲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）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以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虽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槁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（    ）（       ）金就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则利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参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己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）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明而行无过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如须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所学也（  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望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马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 ）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借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楫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者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君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异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）      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龙生焉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积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步（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   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骐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跃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马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）    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不舍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金石可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蟹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而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）（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穴无可寄托者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>
            <a:hlinkClick r:id="rId2" action="ppaction://hlinksldjump"/>
          </p:cNvPr>
          <p:cNvSpPr/>
          <p:nvPr/>
        </p:nvSpPr>
        <p:spPr>
          <a:xfrm>
            <a:off x="1821960" y="1066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zhò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>
            <a:hlinkClick r:id="rId3" action="ppaction://hlinksldjump"/>
          </p:cNvPr>
          <p:cNvSpPr/>
          <p:nvPr/>
        </p:nvSpPr>
        <p:spPr>
          <a:xfrm>
            <a:off x="6275520" y="10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r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>
            <a:hlinkClick r:id="rId4" action="ppaction://hlinksldjump"/>
          </p:cNvPr>
          <p:cNvSpPr/>
          <p:nvPr/>
        </p:nvSpPr>
        <p:spPr>
          <a:xfrm>
            <a:off x="210168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y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>
            <a:hlinkClick r:id="rId5" action="ppaction://hlinksldjump"/>
          </p:cNvPr>
          <p:cNvSpPr/>
          <p:nvPr/>
        </p:nvSpPr>
        <p:spPr>
          <a:xfrm>
            <a:off x="2084400" y="1600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y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>
            <a:hlinkClick r:id="rId6" action="ppaction://hlinksldjump"/>
          </p:cNvPr>
          <p:cNvSpPr/>
          <p:nvPr/>
        </p:nvSpPr>
        <p:spPr>
          <a:xfrm>
            <a:off x="3176640" y="160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gǎo p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>
            <a:hlinkClick r:id="rId7" action="ppaction://hlinksldjump"/>
          </p:cNvPr>
          <p:cNvSpPr/>
          <p:nvPr/>
        </p:nvSpPr>
        <p:spPr>
          <a:xfrm>
            <a:off x="6673680" y="1600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l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>
            <a:hlinkClick r:id="rId8" action="ppaction://hlinksldjump"/>
          </p:cNvPr>
          <p:cNvSpPr/>
          <p:nvPr/>
        </p:nvSpPr>
        <p:spPr>
          <a:xfrm>
            <a:off x="2151720" y="20574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cān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x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0">
            <a:hlinkClick r:id="rId9" action="ppaction://hlinksldjump"/>
          </p:cNvPr>
          <p:cNvSpPr/>
          <p:nvPr/>
        </p:nvSpPr>
        <p:spPr>
          <a:xfrm>
            <a:off x="3168360" y="251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y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1">
            <a:hlinkClick r:id="rId10" action="ppaction://hlinksldjump"/>
          </p:cNvPr>
          <p:cNvSpPr/>
          <p:nvPr/>
        </p:nvSpPr>
        <p:spPr>
          <a:xfrm>
            <a:off x="6368760" y="251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q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>
            <a:hlinkClick r:id="rId11" action="ppaction://hlinksldjump"/>
          </p:cNvPr>
          <p:cNvSpPr/>
          <p:nvPr/>
        </p:nvSpPr>
        <p:spPr>
          <a:xfrm>
            <a:off x="6368760" y="3048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260064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xì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182280" y="3581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084400" y="4038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ku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6146640" y="4038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qí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j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210168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n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8"/>
          <p:cNvSpPr/>
          <p:nvPr/>
        </p:nvSpPr>
        <p:spPr>
          <a:xfrm>
            <a:off x="6324480" y="449568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q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9"/>
          <p:cNvSpPr/>
          <p:nvPr/>
        </p:nvSpPr>
        <p:spPr>
          <a:xfrm>
            <a:off x="2008080" y="502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l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0"/>
          <p:cNvSpPr/>
          <p:nvPr/>
        </p:nvSpPr>
        <p:spPr>
          <a:xfrm>
            <a:off x="6885000" y="502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g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1"/>
          <p:cNvSpPr/>
          <p:nvPr/>
        </p:nvSpPr>
        <p:spPr>
          <a:xfrm>
            <a:off x="3743640" y="5486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s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2"/>
          <p:cNvSpPr/>
          <p:nvPr/>
        </p:nvSpPr>
        <p:spPr>
          <a:xfrm>
            <a:off x="8045280" y="5029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>
            <a:hlinkClick r:id="rId12" action="ppaction://hlinksldjump"/>
          </p:cNvPr>
          <p:cNvSpPr/>
          <p:nvPr/>
        </p:nvSpPr>
        <p:spPr>
          <a:xfrm>
            <a:off x="7418520" y="21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62485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28600"/>
            <a:ext cx="243828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8:04:16Z</dcterms:created>
  <dc:creator>a</dc:creator>
  <dc:description/>
  <cp:keywords/>
  <dc:language>en-US</dc:language>
  <cp:lastModifiedBy>user</cp:lastModifiedBy>
  <dcterms:modified xsi:type="dcterms:W3CDTF">2017-10-15T15:31:3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  <property fmtid="{D5CDD505-2E9C-101B-9397-08002B2CF9AE}" pid="3" name="Version">
    <vt:r8>1</vt:r8>
  </property>
</Properties>
</file>