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F8C-01FA-421B-AD6B-619F2DF4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E34-4D49-48B8-A159-A3C71B1A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C4B-BB44-486F-B787-DC837CEB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9FE-FE41-41AB-9E2D-6916AA0F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237-A1D9-4B74-9E1B-7C881EB2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71E-E4CB-498A-B5D4-877A9E0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9D8-041D-4823-93F6-AE2A895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26C-CA91-4FB2-B0D3-EFB22237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416-28E2-4C6A-B853-6B3690D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2F6-F1BA-46D0-AB93-66A6FA5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DC7-21ED-4CAA-AABD-B2C8BF4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5EB-8FD3-48AE-B387-096625E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C4FC-5286-4050-B758-87CFC2423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68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现当代诗歌一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708880" y="476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90720" y="1341360"/>
            <a:ext cx="269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假如生活欺骗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写于普希金被沙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放的日子里。那时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国革命如火如荼，诗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却被迫与世隔绝。在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样的处境下，诗人仍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丧失希望与斗志，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热爱生活，执着地追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理想，相信光明必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义必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普希金在流放期见的“乡村创作室”"/>
          <p:cNvPicPr/>
          <p:nvPr/>
        </p:nvPicPr>
        <p:blipFill>
          <a:blip r:embed="rId2"/>
          <a:stretch/>
        </p:blipFill>
        <p:spPr>
          <a:xfrm>
            <a:off x="4267080" y="2060640"/>
            <a:ext cx="4876920" cy="330048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sp>
        <p:nvSpPr>
          <p:cNvPr id="80" name="Text Box 8"/>
          <p:cNvSpPr/>
          <p:nvPr/>
        </p:nvSpPr>
        <p:spPr>
          <a:xfrm>
            <a:off x="5436000" y="5516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普希金在流放期间的乡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71640" y="476280"/>
            <a:ext cx="62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∕生活∕欺骗了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∕悲伤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∕心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忧郁的∕日子里∕需要镇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信吧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的∕日子∕将会来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儿∕永远向往着∕未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∕却常是∕忧郁。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∕都是∕瞬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∕都将会∕过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那∕过去了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会成为∕亲切的∕怀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0"/>
            <a:ext cx="5493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1708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9016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492360" y="2602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761920" y="14842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的灵魂在珍贵的诗歌之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cc3300"/>
                </a:solidFill>
                <a:latin typeface="华文行楷"/>
                <a:ea typeface="华文行楷"/>
              </a:rPr>
              <a:t>普希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普希金1"/>
          <p:cNvPicPr/>
          <p:nvPr/>
        </p:nvPicPr>
        <p:blipFill>
          <a:blip r:embed="rId2"/>
          <a:stretch/>
        </p:blipFill>
        <p:spPr>
          <a:xfrm>
            <a:off x="179280" y="549360"/>
            <a:ext cx="2552760" cy="2130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2327760" y="3068640"/>
            <a:ext cx="452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如生活欺骗了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诗歌的两部分各表现了怎样的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首诗表达了诗人怎样的人生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那过去了的，就会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亲切的怀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一般诗歌相比，这首诗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982880" y="1628640"/>
            <a:ext cx="46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假如生活欺骗了你”指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71640" y="2924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指在生活中因遭遇艰难困苦甚至不幸而身处逆境，作者写这首诗时正被流放，是自己真实生活的写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为只要去努力肯定会获得成功，而生活却不能如此，那当然就是欺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492360" y="2602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1695600" y="177336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诗歌的两部分各表现了怎样的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278136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幼圆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部分写如果身处逆境，不必悲伤，要耐心等待，快乐的日子一定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部分写要永远向往美好的未来，现在身处逆境，只是暂时的，当时过境迁，往事都将成为亲切的怀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627280" y="54936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695600" y="177336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首诗表达了诗人怎样的人生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92360" y="3284640"/>
            <a:ext cx="51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幼圆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首诗表达了诗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积极乐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人生态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3308400" cy="40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132000" y="404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766880" y="1484280"/>
            <a:ext cx="46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怎样理解“而那过去了的，就会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亲切的怀恋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328464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面，强调一种积极乐观的人生态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方面，人生的体验应该是丰富多样的，各种体验都是一笔宝贵的人生财富，都有助于把握人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492360" y="2602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30"/>
          <p:cNvSpPr/>
          <p:nvPr/>
        </p:nvSpPr>
        <p:spPr>
          <a:xfrm>
            <a:off x="3357720" y="184464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一般诗歌相比，这首诗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826920" y="3429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首诗没有什么具体形象，只是以劝告的口吻明确地说明道理。一般诗歌的艺术形象都比较生动鲜明，而将主题含蓄地暗示读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492360" y="620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合作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梳理思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19162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假如        生活欺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421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                悲伤心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2997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要                镇静对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3645000"/>
            <a:ext cx="93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645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快乐                将会来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嘱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4292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永远                向往未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切                瞬息过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558972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             成为怀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8253360"/>
            <a:ext cx="39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4581360"/>
            <a:ext cx="432000" cy="1224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2637000"/>
            <a:ext cx="360360" cy="649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74840" y="285264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积极 乐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2133720"/>
            <a:ext cx="576360" cy="3527280"/>
          </a:xfrm>
          <a:custGeom>
            <a:avLst/>
            <a:gdLst>
              <a:gd name="textAreaLeft" fmla="*/ 0 w 576360"/>
              <a:gd name="textAreaRight" fmla="*/ 208080 w 57636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"/>
                            </p:stCondLst>
                            <p:childTnLst>
                              <p:par>
                                <p:cTn id="170" nodeType="afterEffect" fill="remove" presetClass="emph" presetID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深入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777240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没有具体形象，只是以劝告的口吻说明道理。而一般的诗歌艺术形象都比较生动鲜明，这也是这首诗写作特点：通篇以劝告的口吻，强调积极乐观的人生态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240" y="2028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与一般诗歌相比，这首诗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882440" y="177336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假如生活欺骗了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137560" y="3629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普希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162864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写一写，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68360" y="278136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不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信吧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小结：艺术成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用浅显的语言，表达了生活的真谛，因而得到广泛的流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诗人以平等的娓娓的语气写来，语调亲密和婉，热诚坦率，似乎诗人在与你交谈；诗句清新流畅，热烈深沉，有丰富的人情味和哲理意味，从中可以让人感受到诗人真诚博大的情怀和坚强乐观的思想情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首诗问世后，许多人把它记在自己的笔记本上，作为鼓励自己的座右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：这首诗给我们什么启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35640" y="1773360"/>
            <a:ext cx="46083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无论我们的生活遇到什么损失和挫折，都不要失去战斗的决心，要相信一切都是短暂的，光明必将驱走黑暗，正义必将战胜邪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假如说生活可以重新开始，我们应该怎样对待新的生活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生活的体会以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假如生活重新开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为题仿写一首小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练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3814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拓展阅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2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假如你欺骗了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宫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852640"/>
            <a:ext cx="453708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假如你欺骗了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为神鬼不知，心安理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慢，生活并没有到此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天，它会教你向它认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85264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地的心是诚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孩子的眼睛是诚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只有一步一个脚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会有无憾的付出无悔的收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2924280"/>
            <a:ext cx="0" cy="18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自由颂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6432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叛的激情如干柴被瞬间点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午夜天空的星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幽暗的涅瓦河上闪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沉默的人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梦幻中静静地睡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沉思的歌者却在凝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暴君荒芜的遗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战栗吧！专制的暴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觉醒吧！匍匐的奴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处是皮鞭，到处是铁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处是奴隶们泪水的汪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处是不义和贪婪的权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帝王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论是刑罚还是褒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管他囚牢还是权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不能作你们真正的屏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4500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法理，不是上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了你们冠冕和皇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民的自由和安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是皇座的永远的守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公义却被你们侮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理被你们玩弄于股掌内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憎恨你和你的皇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制的暴君和魔王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是自然的耻辱，人间的瘟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残忍而又欣喜地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覆灭和你子孙的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信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迷人的幸福之星定将升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俄罗斯将从梦中惊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专制制度的废墟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将写上我们的名字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299736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古往今来，像普希金这样身处逆境但却依然积极乐观的人有很多，你能举一两个例子吗？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假如你觉得生活欺骗了你，你将如何面对？联系自己的生活体验谈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-360"/>
            <a:ext cx="8640720" cy="66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不去想是否能够成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既然选择了远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便只顾风雨兼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我不去想能否赢得爱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既然钟情于玫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就勇敢地吐露真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我不去想未来是平坦还是泥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只要热爱生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一切，都在意料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我微笑着走向生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无论生活以什么方式回敬我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278840" y="4076640"/>
            <a:ext cx="1385640" cy="2103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1844640"/>
            <a:ext cx="25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热爱生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汪国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欣赏诗歌，体味语言之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背诵诗歌，留下经典印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体会诗歌，理解诗歌的内涵，深切体会诗中蕴含的人生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导入：谁是“俄罗斯文学之父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61070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导入：谁是“俄罗斯文学之父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162160" cy="308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143080" cy="308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492360" y="2060640"/>
            <a:ext cx="2171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4000" y="1197000"/>
            <a:ext cx="475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亚历山大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谢尔盖耶维奇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普希金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799-183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，俄罗斯伟大的民主诗人、小说家，史称“俄罗斯文学之父”。 他被认为是俄罗斯文学语言的创建者和新俄罗斯文学的奠基人。他出生于贵族地主家庭，一生倾向革命，与黑暗专制进行着不屈不挠的斗争，他的思想与诗作，引起沙皇俄国统治者的不满和仇恨，他曾两度被流放，始终不肯屈服，最终在沙皇政府的阴谋策划下与人决斗而死，年仅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岁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普希金"/>
          <p:cNvPicPr/>
          <p:nvPr/>
        </p:nvPicPr>
        <p:blipFill>
          <a:blip r:embed="rId2"/>
          <a:stretch/>
        </p:blipFill>
        <p:spPr>
          <a:xfrm>
            <a:off x="5364000" y="1413000"/>
            <a:ext cx="3273480" cy="4593960"/>
          </a:xfrm>
          <a:prstGeom prst="rect">
            <a:avLst/>
          </a:prstGeom>
          <a:ln w="98280">
            <a:solidFill>
              <a:srgbClr val="ff66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6203880" y="6156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普希金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78196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你的美貌举世无双，令人倾倒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但我爱你的心灵胜于你的容貌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4572000" cy="393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92680" y="1989000"/>
            <a:ext cx="5251320" cy="375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普希金同莫斯科第一美女冈察洛娃结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法国籍宪兵队长丹特斯疯狂追求普希金的妻子，普希金和丹特斯决斗。决斗中普希金身负重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不治身亡，年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2990880" cy="40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260280"/>
            <a:ext cx="47242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希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99-183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981000"/>
            <a:ext cx="46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俄罗斯伟大的民族诗人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俄罗斯文学语言的创建者和新俄罗斯文学的奠基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2349360"/>
            <a:ext cx="46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在多种文学体裁上都取得了杰出的成绩，被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俄罗斯文学之父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3573360"/>
            <a:ext cx="46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诗歌像太阳一样照耀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的文坛，被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俄罗斯诗歌的太阳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501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一生创作近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优秀的抒情诗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024"/>
          <p:cNvGraphicFramePr/>
          <p:nvPr/>
        </p:nvGraphicFramePr>
        <p:xfrm>
          <a:off x="914400" y="6019920"/>
          <a:ext cx="762012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019920"/>
                    <a:ext cx="762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030" descr="俄罗斯诗人普希金故居内的书房"/>
          <p:cNvPicPr/>
          <p:nvPr/>
        </p:nvPicPr>
        <p:blipFill>
          <a:blip r:embed="rId4"/>
          <a:stretch/>
        </p:blipFill>
        <p:spPr>
          <a:xfrm>
            <a:off x="190440" y="762120"/>
            <a:ext cx="4229280" cy="2882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71" name="Text Box 1032"/>
          <p:cNvSpPr/>
          <p:nvPr/>
        </p:nvSpPr>
        <p:spPr>
          <a:xfrm>
            <a:off x="824760" y="1066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诗人书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33" descr="普希金博物馆"/>
          <p:cNvPicPr/>
          <p:nvPr/>
        </p:nvPicPr>
        <p:blipFill>
          <a:blip r:embed="rId5"/>
          <a:stretch/>
        </p:blipFill>
        <p:spPr>
          <a:xfrm>
            <a:off x="4572000" y="762120"/>
            <a:ext cx="4343400" cy="291132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73" name="Text Box 1034"/>
          <p:cNvSpPr/>
          <p:nvPr/>
        </p:nvSpPr>
        <p:spPr>
          <a:xfrm>
            <a:off x="6058800" y="907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普希金博物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36" descr="普希金故居内部书房"/>
          <p:cNvPicPr/>
          <p:nvPr/>
        </p:nvPicPr>
        <p:blipFill>
          <a:blip r:embed="rId6"/>
          <a:stretch/>
        </p:blipFill>
        <p:spPr>
          <a:xfrm>
            <a:off x="228600" y="3809880"/>
            <a:ext cx="4191120" cy="28195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75" name="Picture 1035" descr="圣彼得堡的普希金塑像"/>
          <p:cNvPicPr/>
          <p:nvPr/>
        </p:nvPicPr>
        <p:blipFill>
          <a:blip r:embed="rId7"/>
          <a:stretch/>
        </p:blipFill>
        <p:spPr>
          <a:xfrm>
            <a:off x="4572000" y="3809880"/>
            <a:ext cx="4267080" cy="28195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76" name="Text Box 1037"/>
          <p:cNvSpPr/>
          <p:nvPr/>
        </p:nvSpPr>
        <p:spPr>
          <a:xfrm>
            <a:off x="5183280" y="6064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圣彼得堡的普希金塑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20:17Z</dcterms:created>
  <dc:creator>Rukdan</dc:creator>
  <dc:description/>
  <dc:language>en-US</dc:language>
  <cp:lastModifiedBy>user</cp:lastModifiedBy>
  <dcterms:modified xsi:type="dcterms:W3CDTF">2017-12-17T05:03:33Z</dcterms:modified>
  <cp:revision>143</cp:revision>
  <dc:subject/>
  <dc:title>PowerPoint 演示文稿</dc:title>
</cp:coreProperties>
</file>