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09B7-7253-4E1B-A3A3-0717F7EF8DF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两首词的共同之处是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不同之处是：辛词只直接对过去的元宵没有牵涉，而李词对今年的元宵的用笔方式与辛词不同，并没有真正突出其繁华场面，而用较多的笔墨来回忆“中州盛日”的元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主要是因为二者的立意不同。李词所抒发的是家国之慨和身世之感，而辛词则是表现了不同流俗的理想追求，从政治层面来说，是对朝廷奉行投降国策并由此带来的政治现实的不满，从而表现自己的政治操守和高洁的人格。在对比手法上，二者也有所不同，李词除了今昔对比外，还从人与我、乐与悲等多方面进行对比，辛词主要是将世俗与“那人”进行对比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B7E-E02B-48CA-803F-16500D77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D63-E342-495B-A061-6384B752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1E39-3BB4-4BD5-863C-AC29A0A3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36E-6A6A-4EE7-BF6F-2BFEF5BD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A738-290C-4339-A092-31E48C37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5C32-A7FE-4729-A96E-E1885A0A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74A7-E0FC-469E-AC0C-B9E71CAD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805E-0543-44EB-A55D-2950D7E2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E2DA-415B-40C3-BC5B-685B209D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00000" y="406080"/>
            <a:ext cx="77868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1776-F100-4768-B947-76521B9E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A45E-3495-4F0F-8EB4-C8F13D94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9F75-23EC-408D-96F3-8194758C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B94D-8A60-4DF4-B360-139EC9F9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86FF-87A2-4D6C-B93D-3A1D60F7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CD33-C183-4196-B0E5-1A3E5BC9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BFE9-1622-4F86-B6C3-BE21C653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FD7C-1236-4616-867D-D0CB7203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DF6E-D7BA-47C5-BBA6-A00A55A0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D49-6689-406B-8352-B2BCFABA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650-6CD3-4588-9143-D8C3D6D0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00000" y="406080"/>
            <a:ext cx="77868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F40-8610-4BBA-B58A-07D3521D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811-0215-4DC3-BE25-C0BCF7F4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872B-C5AE-4578-B669-172B8704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9C5-BB59-4BF9-869A-09EF569D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1025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Calibri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Calibri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0EEB-B765-4CB7-854E-5A2CB41E32D5}" type="slidenum">
              <a:rPr b="0" lang="zh-CN" sz="1400" spc="-1" strike="noStrike">
                <a:solidFill>
                  <a:srgbClr val="a083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945560" y="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实用语文（第一册）</a:t>
            </a:r>
            <a:endParaRPr b="0" lang="en-US" sz="1600" spc="-1" strike="noStrike">
              <a:solidFill>
                <a:srgbClr val="402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直接连接符 2054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Calibri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Calibri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D280-BEE4-40E3-BBC3-CCE3AC42CC07}" type="slidenum">
              <a:rPr b="0" lang="zh-CN" sz="1400" spc="-1" strike="noStrike">
                <a:solidFill>
                  <a:srgbClr val="a083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8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lickr.com/photos/edupioneer/page2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kan.com.cn/ekan/zuojia/5xinqiji.jsp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iluoqiangwei.bokee.com/3153158.html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F:\PPT 任务\水晶图片\抠图PNG\墨痕.png"/>
          <p:cNvPicPr/>
          <p:nvPr/>
        </p:nvPicPr>
        <p:blipFill>
          <a:blip r:embed="rId2"/>
          <a:stretch/>
        </p:blipFill>
        <p:spPr>
          <a:xfrm>
            <a:off x="539640" y="3068640"/>
            <a:ext cx="7859880" cy="156204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4099"/>
          <p:cNvSpPr/>
          <p:nvPr/>
        </p:nvSpPr>
        <p:spPr>
          <a:xfrm>
            <a:off x="2556000" y="2421000"/>
            <a:ext cx="352872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青玉案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元夕 </a:t>
            </a:r>
            <a:endParaRPr b="0" lang="en-US" sz="40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楷体_GB2312"/>
              </a:rPr>
              <a:t>辛弃疾</a:t>
            </a:r>
            <a:endParaRPr b="0" lang="en-US" sz="4000" spc="-1" strike="noStrike">
              <a:solidFill>
                <a:srgbClr val="402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Calibri"/>
            </a:endParaRPr>
          </a:p>
        </p:txBody>
      </p:sp>
      <p:pic>
        <p:nvPicPr>
          <p:cNvPr id="94" name="董贞 - 回到起点 - 半月琴 伴奏.mp3" descr="董贞 - 回到起点 - 半月琴 伴奏"/>
          <p:cNvPicPr/>
          <p:nvPr/>
        </p:nvPicPr>
        <p:blipFill>
          <a:blip r:embed="rId3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24360" y="5445000"/>
            <a:ext cx="3240360" cy="141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Soloman\Desktop\荷叶.png"/>
          <p:cNvPicPr/>
          <p:nvPr/>
        </p:nvPicPr>
        <p:blipFill>
          <a:blip r:embed="rId2"/>
          <a:srcRect l="83336" t="36378" r="2292" b="40012"/>
          <a:stretch/>
        </p:blipFill>
        <p:spPr>
          <a:xfrm>
            <a:off x="0" y="5483160"/>
            <a:ext cx="1116000" cy="137484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5122"/>
          <p:cNvSpPr/>
          <p:nvPr/>
        </p:nvSpPr>
        <p:spPr>
          <a:xfrm>
            <a:off x="1332000" y="1127160"/>
            <a:ext cx="712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119" name="文本框 5123"/>
          <p:cNvSpPr/>
          <p:nvPr/>
        </p:nvSpPr>
        <p:spPr>
          <a:xfrm>
            <a:off x="1187280" y="1268280"/>
            <a:ext cx="6840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青玉案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·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元夕</a:t>
            </a:r>
            <a:endParaRPr b="0" lang="en-US" sz="3600" spc="-1" strike="noStrike">
              <a:solidFill>
                <a:srgbClr val="402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　　            </a:t>
            </a:r>
            <a:r>
              <a:rPr b="1" lang="en-US" sz="28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[</a:t>
            </a:r>
            <a:r>
              <a:rPr b="1" lang="zh-CN" sz="28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宋</a:t>
            </a:r>
            <a:r>
              <a:rPr b="1" lang="en-US" sz="28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] </a:t>
            </a:r>
            <a:r>
              <a:rPr b="1" lang="zh-CN" sz="28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辛弃疾 </a:t>
            </a: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东风夜放花千树，更吹落，星如雨。 宝马雕车香满路。凤箫声动，玉壶光转，一夜鱼龙舞。 </a:t>
            </a: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　　蛾儿雪柳黄金缕，笑语盈盈暗香去。 众里寻他千百度，蓦然回首，那人却在，灯火阑珊处。</a:t>
            </a: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9640" y="622800"/>
            <a:ext cx="835344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调名出自东汉</a:t>
            </a: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四愁诗</a:t>
            </a: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》“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美人赠我锦绣段，何以</a:t>
            </a: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报之青玉案”。又名</a:t>
            </a: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横塘路</a:t>
            </a: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西湖路</a:t>
            </a: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、 </a:t>
            </a: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青莲池上客</a:t>
            </a: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等。双调，六十七字，仄韵。　</a:t>
            </a: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元夕：农历正月十五上元节。　</a:t>
            </a: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宝马雕车：指观灯的贵族豪门的华丽车马　</a:t>
            </a: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凤箫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神仙传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载，秦穆公之女弄玉，善吹箫     </a:t>
            </a: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作凤鸣声，引来了凤。故称箫为凤箫。</a:t>
            </a: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玉壶喻月（也解成“精美的彩灯”）。鱼、龙：指</a:t>
            </a: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鲤鱼灯、龙灯等各种彩灯形状（或“舞鱼龙”）。　</a:t>
            </a: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⑥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蛾儿、雪柳都是妇女头饰。称“捻金雪柳”。　</a:t>
            </a: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7921440" cy="529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765000"/>
            <a:ext cx="529272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风夜放花千树，</a:t>
            </a: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吹落、星如雨。</a:t>
            </a: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宝马雕车香满路。</a:t>
            </a: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凤箫声动，</a:t>
            </a: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玉壶光转，</a:t>
            </a: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夜鱼龙舞。</a:t>
            </a: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        </a:t>
            </a:r>
            <a:endParaRPr b="0" lang="en-US" sz="3600" spc="-1" strike="noStrike">
              <a:solidFill>
                <a:srgbClr val="402000"/>
              </a:solidFill>
              <a:latin typeface="Calibri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427640" y="1989000"/>
            <a:ext cx="4248000" cy="581400"/>
            <a:chOff x="4427640" y="1989000"/>
            <a:chExt cx="4248000" cy="581400"/>
          </a:xfrm>
        </p:grpSpPr>
        <p:sp>
          <p:nvSpPr>
            <p:cNvPr id="126" name=""/>
            <p:cNvSpPr/>
            <p:nvPr/>
          </p:nvSpPr>
          <p:spPr>
            <a:xfrm>
              <a:off x="5580000" y="1989000"/>
              <a:ext cx="30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富貴人家出游</a:t>
              </a:r>
              <a:endParaRPr b="0" lang="en-US" sz="3200" spc="-1" strike="noStrike">
                <a:solidFill>
                  <a:srgbClr val="402000"/>
                </a:solidFill>
                <a:latin typeface="Calibri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27640" y="2349360"/>
              <a:ext cx="1008000" cy="1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alibri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427640" y="907920"/>
            <a:ext cx="2662200" cy="1152360"/>
            <a:chOff x="4427640" y="907920"/>
            <a:chExt cx="2662200" cy="1152360"/>
          </a:xfrm>
        </p:grpSpPr>
        <p:sp>
          <p:nvSpPr>
            <p:cNvPr id="129" name=""/>
            <p:cNvSpPr/>
            <p:nvPr/>
          </p:nvSpPr>
          <p:spPr>
            <a:xfrm>
              <a:off x="4930920" y="1195200"/>
              <a:ext cx="21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灯火璀璨</a:t>
              </a:r>
              <a:endParaRPr b="0" lang="en-US" sz="3200" spc="-1" strike="noStrike">
                <a:solidFill>
                  <a:srgbClr val="402000"/>
                </a:solidFill>
                <a:latin typeface="Calibri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27640" y="907920"/>
              <a:ext cx="216000" cy="115236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29880 h 1152360"/>
                <a:gd name="textAreaBottom" fmla="*/ 112248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alibri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348000" y="2997360"/>
            <a:ext cx="2951280" cy="1944360"/>
            <a:chOff x="3348000" y="2997360"/>
            <a:chExt cx="2951280" cy="1944360"/>
          </a:xfrm>
        </p:grpSpPr>
        <p:sp>
          <p:nvSpPr>
            <p:cNvPr id="132" name=""/>
            <p:cNvSpPr/>
            <p:nvPr/>
          </p:nvSpPr>
          <p:spPr>
            <a:xfrm>
              <a:off x="3995640" y="3573360"/>
              <a:ext cx="23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欢闹场面</a:t>
              </a:r>
              <a:endParaRPr b="0" lang="en-US" sz="3200" spc="-1" strike="noStrike">
                <a:solidFill>
                  <a:srgbClr val="402000"/>
                </a:solidFill>
                <a:latin typeface="Calibri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8000" y="2997360"/>
              <a:ext cx="287280" cy="194436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50400 h 1944360"/>
                <a:gd name="textAreaBottom" fmla="*/ 1893960 h 19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alibri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662640" y="5661000"/>
            <a:ext cx="261900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姚体"/>
              </a:rPr>
              <a:t>上阕：元宵佳节空盛况</a:t>
            </a: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7014960" y="3645000"/>
            <a:ext cx="1349640" cy="1727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浓墨重彩</a:t>
            </a: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924360" y="0"/>
            <a:ext cx="24764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梳理思路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4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7632720" cy="504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诗歌鉴赏：上阙</a:t>
            </a:r>
            <a:endParaRPr b="1" lang="en-US" sz="4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676764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上片状景，铺叙元夕满城灯火尽情狂欢的景象。开篇两句运用夸张和比喻展示出一幅火树银花的瑰丽画面。接着四句，写人们欢度良宵的种种活动。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词中没有直接描写人物，而是通过车马、道路、乐声和舞灯等画面，烘托出游人繁多、气氛热烈、场景壮观的情景。辛弃疾在上片极力描绘元夕热闹繁华的场面，是为了反衬结尾“那人”自甘寂寞的孤独情怀。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4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24360" y="5445000"/>
            <a:ext cx="3240360" cy="141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175280" y="1413000"/>
            <a:ext cx="4968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蛾儿雪柳黄金缕，</a:t>
            </a: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笑语盈盈暗香去。</a:t>
            </a: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众里寻他千百度，</a:t>
            </a: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蓦然回首，</a:t>
            </a: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人却在灯火阑珊处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11280" y="1413000"/>
            <a:ext cx="3455640" cy="1191240"/>
            <a:chOff x="611280" y="1413000"/>
            <a:chExt cx="3455640" cy="1191240"/>
          </a:xfrm>
        </p:grpSpPr>
        <p:sp>
          <p:nvSpPr>
            <p:cNvPr id="145" name=""/>
            <p:cNvSpPr/>
            <p:nvPr/>
          </p:nvSpPr>
          <p:spPr>
            <a:xfrm>
              <a:off x="611280" y="1413000"/>
              <a:ext cx="259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Times New Roman"/>
                </a:rPr>
                <a:t>富家女子的观灯情态</a:t>
              </a:r>
              <a:endParaRPr b="0" lang="en-US" sz="3600" spc="-1" strike="noStrike">
                <a:solidFill>
                  <a:srgbClr val="402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419280" y="1989000"/>
              <a:ext cx="64764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alibri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55640" y="3068640"/>
            <a:ext cx="3166920" cy="1736640"/>
            <a:chOff x="755640" y="3068640"/>
            <a:chExt cx="3166920" cy="1736640"/>
          </a:xfrm>
        </p:grpSpPr>
        <p:sp>
          <p:nvSpPr>
            <p:cNvPr id="148" name=""/>
            <p:cNvSpPr/>
            <p:nvPr/>
          </p:nvSpPr>
          <p:spPr>
            <a:xfrm>
              <a:off x="3419280" y="3068640"/>
              <a:ext cx="503280" cy="1736640"/>
            </a:xfrm>
            <a:custGeom>
              <a:avLst/>
              <a:gdLst>
                <a:gd name="textAreaLeft" fmla="*/ 321480 w 503280"/>
                <a:gd name="textAreaRight" fmla="*/ 503640 w 503280"/>
                <a:gd name="textAreaTop" fmla="*/ 45000 h 1736640"/>
                <a:gd name="textAreaBottom" fmla="*/ 169164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5640" y="344628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Times New Roman"/>
                </a:rPr>
                <a:t>所寻觅的意中人</a:t>
              </a:r>
              <a:endParaRPr b="0" lang="en-US" sz="3600" spc="-1" strike="noStrike">
                <a:solidFill>
                  <a:srgbClr val="402000"/>
                </a:solidFill>
                <a:latin typeface="Calibri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646280" y="5445000"/>
            <a:ext cx="261900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Arial"/>
                <a:ea typeface="华文新魏"/>
              </a:rPr>
              <a:t>下阕：万人丛中觅情人</a:t>
            </a: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372360" y="5300640"/>
            <a:ext cx="15253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白描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24360" y="0"/>
            <a:ext cx="24764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梳理思路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诗歌鉴赏：下阙</a:t>
            </a:r>
            <a:endParaRPr b="1" lang="en-US" sz="4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280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下片“蛾儿”“笑语”两句，用特写镜头描绘一群妇女结伴上街观灯的生动景象：她们装扮入时，头戴蛾儿、雪柳等装饰品，一个个笑逐颜开，带着阵阵香气向人群中走去。这两句既是对上片倾城欢庆元宵的补叙，作为两片之间的过渡，也是为下文作铺垫。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众里”以下四句，是全词的核心，寄托了一种不同流俗的情怀。词中的抒情主人公走遍大街小巷，穿过熙熙攘攘的人群，东瞅西望，焦急万分，一遍又一遍地寻找着意中人，忽然回头一看，竟在那灯火稀落的僻静之处发现了她。惊喜之情，溢于言表。全词以和婉的笔调、优美的意境收束，给读者留下回味和联想的广阔余地，情韵深长，引人入胜。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24360" y="5445000"/>
            <a:ext cx="3240360" cy="141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55640" y="155736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请用自己的语言概括词人笔下“元夕” 的特点？</a:t>
            </a: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2781360"/>
            <a:ext cx="439272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花灯闪亮，烟花怒放，流光溢彩，舞鱼弄龙，万人空巷，美女云集，摇曳多姿，热闹非凡。</a:t>
            </a: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24360" y="0"/>
            <a:ext cx="24764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深入探讨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381560" y="2924280"/>
            <a:ext cx="4762440" cy="30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2920" y="1844640"/>
            <a:ext cx="5832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“那人”是个怎样的人？为什么没加入狂欢的行列？</a:t>
            </a: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那人”是一个孤高脫俗、傲然不群、独在“灯火阑珊处”的女子，表现了词人内心的孤独、寂寞。</a:t>
            </a: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24360" y="0"/>
            <a:ext cx="24764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深入探讨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948360" y="2060640"/>
            <a:ext cx="1990800" cy="30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1773360"/>
            <a:ext cx="6478560" cy="2490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42920" y="4437000"/>
            <a:ext cx="810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众里寻他千百度，蓦然回首，</a:t>
            </a: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</a:t>
            </a: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那人却在灯火阑珊处。</a:t>
            </a:r>
            <a:r>
              <a:rPr b="1" lang="zh-CN" sz="3200" spc="-1" strike="noStrike">
                <a:solidFill>
                  <a:srgbClr val="402000"/>
                </a:solidFill>
                <a:latin typeface="华文楷体"/>
                <a:ea typeface="华文楷体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402000"/>
                </a:solidFill>
                <a:latin typeface="华文楷体"/>
                <a:ea typeface="华文楷体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526280" y="911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d3333"/>
                </a:solidFill>
                <a:latin typeface="Arial"/>
                <a:ea typeface="黑体"/>
              </a:rPr>
              <a:t>导入</a:t>
            </a:r>
            <a:endParaRPr b="0" lang="en-US" sz="3600" spc="-1" strike="noStrike">
              <a:solidFill>
                <a:srgbClr val="402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10920" y="2349360"/>
            <a:ext cx="6048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她既是作者志同道合者，也是作者一种理想人格的化身。寄寓了词人在政治上的失意苦闷的心情，表达了不愿跟统治者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(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当权者”或“时俗”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同流合污的思想感情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24360" y="0"/>
            <a:ext cx="24764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深入探讨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732720" y="2708280"/>
            <a:ext cx="1990440" cy="30859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971280" y="1628640"/>
            <a:ext cx="7786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作者塑造这样一位美人，用意是什么？</a:t>
            </a:r>
            <a:br>
              <a:rPr sz="2800"/>
            </a:br>
            <a:endParaRPr b="1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1413000"/>
            <a:ext cx="806436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词表面极写元宵节灯火辉煌、万人彻夜狂欢的场面，实际讽刺南宋统治者只知沈醉于歌舞升平，而不思复国。</a:t>
            </a: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词中繁华的景象，衬托出一位自怜幽独，脱俗不群的美人形象，从中表现了词人唯我独醒、不随波逐流的清高品格。</a:t>
            </a: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24360" y="0"/>
            <a:ext cx="266364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小结：主旨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11280" y="15516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梁启超以为最后三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怜幽独，伤心人别有怀抱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艺衡馆词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你同意他的说法吗？说说你的理由。</a:t>
            </a: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313380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3702600"/>
            <a:ext cx="8209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本词下片写不幕荣华，甘守寂寞的一位美人形象。美人形象便是寄托着作者理想人格的化身。作者追慕的是一个不同凡俗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自甘寂寞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而又有些迟暮之感的美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这反映的正是他自己在政治失意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宁愿闲居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不肯同流合污的品格。  </a:t>
            </a: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24360" y="0"/>
            <a:ext cx="24764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品读鉴赏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00000" y="155736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东风夜放花千树，更吹落、星如雨”这两句用了什么修辞手法，有什么表达作用？</a:t>
            </a: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3213000"/>
            <a:ext cx="758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仿宋_GB2312"/>
              </a:rPr>
              <a:t>提示：这两句都用了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宋体"/>
                <a:ea typeface="仿宋_GB2312"/>
              </a:rPr>
              <a:t>暗喻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仿宋_GB2312"/>
              </a:rPr>
              <a:t>的修辞手法，前句把繁多的灯火比作千树花，后句把满天的烟花比作似雨点般落下的星星，极为形象的渲染了元宵之夜张灯结彩，烟花怒放的喜庆景象。</a:t>
            </a: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24360" y="0"/>
            <a:ext cx="24764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品读鉴赏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蓦然回首，那人却在灯火阑珊处”</a:t>
            </a: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、美人形象便是寄托着作者理想人格的化身。作者借此自喻明志。表达自己和词中的女子一样高洁自持、孤芳自赏、娴静高雅。不肯与当时的世风和黑暗现实同流合污，宁可一个人寂寞站于灯火阑珊处，也不肯屈身降志，去和志向不同的当权者凑热闹。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、它表达了人生的一种境界，或者是一种哲理，这种哲理或境界是人生中超越时间、空间的理解，具有永恒性和宇宙性。不会因岁月、际遇、环境的不同而磨灭或忘却。</a:t>
            </a:r>
            <a:r>
              <a:rPr b="0" lang="zh-CN" sz="24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924360" y="0"/>
            <a:ext cx="24764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品读鉴赏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26920" y="1557360"/>
            <a:ext cx="792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宝马雕车香满路”“笑语盈盈暗香去”这两句用了什么修辞手法，有什么表达作用？</a:t>
            </a: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1042920" y="2565360"/>
            <a:ext cx="7499520" cy="11448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这两句用了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宋体"/>
              </a:rPr>
              <a:t>借代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的手法，“香”“暗香”均是借体香来指代那些打扮得花枝招展，争相去看灯、戏耍的女子，这样写含蓄而又生动，这些女子的欢闹与下文在“灯火阑珊处”的“那人”形成鲜明的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宋体"/>
              </a:rPr>
              <a:t>对比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突出了后者的可贵。</a:t>
            </a:r>
            <a:endParaRPr b="0" lang="en-US" sz="28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24360" y="0"/>
            <a:ext cx="24764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品读鉴赏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284720" y="0"/>
            <a:ext cx="22860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对比诵读</a:t>
            </a:r>
            <a:endParaRPr b="0" lang="en-US" sz="44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05264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Arial"/>
                <a:ea typeface="楷体_GB2312"/>
              </a:rPr>
              <a:t>李清照</a:t>
            </a:r>
            <a:r>
              <a:rPr b="1" lang="en-US" sz="3200" spc="-1" strike="noStrike">
                <a:solidFill>
                  <a:srgbClr val="4020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402000"/>
                </a:solidFill>
                <a:latin typeface="Arial"/>
                <a:ea typeface="楷体_GB2312"/>
              </a:rPr>
              <a:t>永遇乐</a:t>
            </a:r>
            <a:r>
              <a:rPr b="1" lang="en-US" sz="3200" spc="-1" strike="noStrike">
                <a:solidFill>
                  <a:srgbClr val="402000"/>
                </a:solidFill>
                <a:latin typeface="Arial"/>
                <a:ea typeface="楷体_GB2312"/>
              </a:rPr>
              <a:t>﹒</a:t>
            </a:r>
            <a:r>
              <a:rPr b="1" lang="zh-CN" sz="3200" spc="-1" strike="noStrike">
                <a:solidFill>
                  <a:srgbClr val="402000"/>
                </a:solidFill>
                <a:latin typeface="Arial"/>
                <a:ea typeface="楷体_GB2312"/>
              </a:rPr>
              <a:t>元夕</a:t>
            </a:r>
            <a:r>
              <a:rPr b="1" lang="en-US" sz="3200" spc="-1" strike="noStrike">
                <a:solidFill>
                  <a:srgbClr val="402000"/>
                </a:solidFill>
                <a:latin typeface="Arial"/>
                <a:ea typeface="楷体_GB2312"/>
              </a:rPr>
              <a:t>》</a:t>
            </a: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39280" y="1844280"/>
            <a:ext cx="8137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落日熔金，暮云合璧，人在何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柳烟浓，吹梅笛怨，春意知几许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宵佳节，融和天气，次第岂无风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相招、香车宝马，谢他酒朋诗侣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州盛日，闺门多暇，记得偏重三五。   铺翠冠儿，拈金雪柳，簇带争济楚。如今憔悴，风鬟霜鬓，怕见夜间出去。不如向、帘儿底下，听人笑语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395280" y="476280"/>
          <a:ext cx="8497800" cy="5784840"/>
        </p:xfrm>
        <a:graphic>
          <a:graphicData uri="http://schemas.openxmlformats.org/drawingml/2006/table">
            <a:tbl>
              <a:tblPr/>
              <a:tblGrid>
                <a:gridCol w="635040"/>
                <a:gridCol w="736560"/>
                <a:gridCol w="3548160"/>
                <a:gridCol w="182520"/>
                <a:gridCol w="3395520"/>
              </a:tblGrid>
              <a:tr h="576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青玉案</a:t>
                      </a:r>
                      <a:r>
                        <a:rPr b="1" lang="en-US" sz="2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·</a:t>
                      </a:r>
                      <a:r>
                        <a:rPr b="1" lang="zh-CN" sz="2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元夕</a:t>
                      </a:r>
                      <a:endParaRPr b="0" lang="en-US" sz="26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c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永遇乐（李清照）</a:t>
                      </a:r>
                      <a:endParaRPr b="0" lang="en-US" sz="26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同</a:t>
                      </a:r>
                      <a:endParaRPr b="0" lang="en-US" sz="26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996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3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异</a:t>
                      </a:r>
                      <a:endParaRPr b="0" lang="en-US" sz="26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solidFill>
                      <a:srgbClr val="ce996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立</a:t>
                      </a:r>
                      <a:endParaRPr b="0" lang="en-US" sz="26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意</a:t>
                      </a:r>
                      <a:endParaRPr b="0" lang="en-US" sz="26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996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172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手</a:t>
                      </a:r>
                      <a:endParaRPr b="0" lang="en-US" sz="26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法</a:t>
                      </a:r>
                      <a:endParaRPr b="0" lang="en-US" sz="26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solidFill>
                      <a:srgbClr val="ce996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2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1835280" y="1197000"/>
            <a:ext cx="70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二者都是以元宵灯节作为描写对象，借以寄托另外的思想感情。在表现方法上，都用了对比手法。</a:t>
            </a:r>
            <a:endParaRPr b="0" lang="en-US" sz="24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2050920" y="2421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极写元宵盛况，反衬出一位独处于灯火稀落之处的孤高女子，借以表现自己不同流俗的政治操守和高洁的人格。　</a:t>
            </a:r>
            <a:endParaRPr b="0" lang="en-US" sz="24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5796000" y="2421000"/>
            <a:ext cx="29192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d3333"/>
                </a:solidFill>
                <a:latin typeface="Times New Roman"/>
              </a:rPr>
              <a:t>用较多的笔墨来回忆“中州盛日”的元宵。抒发的是身世之感和家国之悲</a:t>
            </a:r>
            <a:endParaRPr b="0" lang="en-US" sz="24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>
            <a:off x="2195640" y="4941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比喻、白描、对比、渲染等</a:t>
            </a:r>
            <a:endParaRPr b="0" lang="en-US" sz="24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5651640" y="4797360"/>
            <a:ext cx="324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d3333"/>
                </a:solidFill>
                <a:latin typeface="Times New Roman"/>
              </a:rPr>
              <a:t>多方面的对比（今昔、他人与我、乐与悲）以乐写哀等。</a:t>
            </a:r>
            <a:endParaRPr b="0" lang="en-US" sz="2400" spc="-1" strike="noStrike">
              <a:solidFill>
                <a:srgbClr val="402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10920" y="1700280"/>
            <a:ext cx="7993080" cy="36720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楷体_GB2312"/>
              </a:rPr>
              <a:t>古今之成大事业、大学问者，罔不经过三种之境界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昨夜西风凋碧树，独上高楼，望尽天涯路。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楷体_GB2312"/>
              </a:rPr>
              <a:t>”此第一种境界也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楷体_GB2312"/>
              </a:rPr>
              <a:t>   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衣带渐宽终不悔，为伊消得人憔悴。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楷体_GB2312"/>
              </a:rPr>
              <a:t>” 此第二境界也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楷体_GB2312"/>
              </a:rPr>
              <a:t>    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众里寻他千百度，回头蓦见，那人正在灯火阑珊处。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楷体_GB2312"/>
              </a:rPr>
              <a:t>” 此第三境界也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楷体_GB2312"/>
              </a:rPr>
              <a:t>王国维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楷体_GB2312"/>
              </a:rPr>
              <a:t>人间词话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380360" cy="3457800"/>
          </a:xfrm>
          <a:prstGeom prst="rect">
            <a:avLst/>
          </a:prstGeom>
          <a:solidFill>
            <a:srgbClr val="fbfae2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凡一代有一代之文学。楚之骚、汉之赋、六朝之骄语、唐之诗、宋之词、元之曲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皆所谓一代之文学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而后世莫能继焉者也。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402000"/>
                </a:solidFill>
                <a:latin typeface="Arial"/>
              </a:rPr>
              <a:t>王国维</a:t>
            </a: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402000"/>
                </a:solidFill>
                <a:latin typeface="Arial"/>
              </a:rPr>
              <a:t>人间词话</a:t>
            </a: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2852640"/>
            <a:ext cx="1352520" cy="18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24720" y="259920"/>
            <a:ext cx="1224000" cy="65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 vert="eaVer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铁板铜琶，继东坡高唱大江东去，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美芹悲黍，冀南宋莫随鸿雁南飞。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6588360" cy="494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作业</a:t>
            </a:r>
            <a:endParaRPr b="1" lang="en-US" sz="4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1916280"/>
            <a:ext cx="64008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请默写你最欣赏的一首辛弃疾的诗或词。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请以你自身的经历和体验，写一篇关于元宵节的文章。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1628640"/>
            <a:ext cx="2946600" cy="4208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476360" y="836640"/>
            <a:ext cx="22860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走近作者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3" name=""/>
          <p:cNvSpPr/>
          <p:nvPr/>
        </p:nvSpPr>
        <p:spPr>
          <a:xfrm>
            <a:off x="5059800" y="2133720"/>
            <a:ext cx="225612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华文新魏"/>
                <a:ea typeface="华文新魏"/>
              </a:rPr>
              <a:t>1</a:t>
            </a:r>
            <a:r>
              <a:rPr b="1" lang="zh-CN" sz="3400" spc="-1" strike="noStrike">
                <a:solidFill>
                  <a:srgbClr val="402000"/>
                </a:solidFill>
                <a:latin typeface="华文新魏"/>
                <a:ea typeface="华文新魏"/>
              </a:rPr>
              <a:t>、请您介绍你了解到</a:t>
            </a:r>
            <a:endParaRPr b="0" lang="en-US" sz="34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402000"/>
                </a:solidFill>
                <a:latin typeface="华文新魏"/>
                <a:ea typeface="华文新魏"/>
              </a:rPr>
              <a:t>      </a:t>
            </a:r>
            <a:r>
              <a:rPr b="1" lang="zh-CN" sz="3400" spc="-1" strike="noStrike">
                <a:solidFill>
                  <a:srgbClr val="402000"/>
                </a:solidFill>
                <a:latin typeface="华文新魏"/>
                <a:ea typeface="华文新魏"/>
              </a:rPr>
              <a:t>的辛弃疾；</a:t>
            </a:r>
            <a:endParaRPr b="0" lang="en-US" sz="3400" spc="-1" strike="noStrike">
              <a:solidFill>
                <a:srgbClr val="402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5712840" y="4005360"/>
            <a:ext cx="117108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华文新魏"/>
                <a:ea typeface="华文新魏"/>
              </a:rPr>
              <a:t>2</a:t>
            </a:r>
            <a:r>
              <a:rPr b="1" lang="zh-CN" sz="3400" spc="-1" strike="noStrike">
                <a:solidFill>
                  <a:srgbClr val="402000"/>
                </a:solidFill>
                <a:latin typeface="华文新魏"/>
                <a:ea typeface="华文新魏"/>
              </a:rPr>
              <a:t>、请背诵您积累的辛</a:t>
            </a:r>
            <a:endParaRPr b="0" lang="en-US" sz="3400" spc="-1" strike="noStrike">
              <a:solidFill>
                <a:srgbClr val="402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402000"/>
                </a:solidFill>
                <a:latin typeface="华文新魏"/>
                <a:ea typeface="华文新魏"/>
              </a:rPr>
              <a:t>      </a:t>
            </a:r>
            <a:r>
              <a:rPr b="1" lang="zh-CN" sz="3400" spc="-1" strike="noStrike">
                <a:solidFill>
                  <a:srgbClr val="402000"/>
                </a:solidFill>
                <a:latin typeface="华文新魏"/>
                <a:ea typeface="华文新魏"/>
              </a:rPr>
              <a:t>弃疾诗词或名句。</a:t>
            </a:r>
            <a:endParaRPr b="0" lang="en-US" sz="3400" spc="-1" strike="noStrike">
              <a:solidFill>
                <a:srgbClr val="402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96000" y="2060280"/>
            <a:ext cx="154764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人中</a:t>
            </a:r>
            <a:br>
              <a:rPr sz="3600"/>
            </a:b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之杰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词中之龙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7164360" cy="4321440"/>
          </a:xfrm>
          <a:prstGeom prst="rect">
            <a:avLst/>
          </a:prstGeom>
          <a:solidFill>
            <a:srgbClr val="fbfae2"/>
          </a:solidFill>
          <a:ln w="9360">
            <a:solidFill>
              <a:srgbClr val="eca07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存词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600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多首，自号“稼轩居士”， 集名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稼轩长短句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其词热情洋溢，慷慨悲壮。艺术风格多样，而以豪放为主。强烈的爱国主义思想和战斗精神是辛词的基本思想内容。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其独特的词作风格被称为“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稼轩体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”。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451640" y="981000"/>
            <a:ext cx="1341360" cy="191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403280" y="1916280"/>
            <a:ext cx="7416720" cy="37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第一，格律上不受约束，行成一种散文化的歌辞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第二，手法上，不仅能抒情、写景，而且能叙事、议论。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大量运用典故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第三，语言上随心所欲，将六经、楚辞、庄子以及古诗中语句，一齐融化在他的词中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第四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“咏史”与“言志”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，对现实政治的强烈关注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907920"/>
            <a:ext cx="6842160" cy="67176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  <a:ea typeface="黑体"/>
              </a:rPr>
              <a:t>辛弃疾：“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以文为词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的创作特色</a:t>
            </a:r>
            <a:endParaRPr b="0" lang="en-US" sz="3200" spc="-1" strike="noStrike">
              <a:solidFill>
                <a:srgbClr val="402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1471680" cy="19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8000" y="836640"/>
            <a:ext cx="68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Arial"/>
                <a:ea typeface="黑体"/>
              </a:rPr>
              <a:t>咏史言志：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大量使用典故</a:t>
            </a: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596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南乡子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•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登北固亭有怀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：天下英雄谁敌手？曹刘！生子当如孙仲谋。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永遇乐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•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京口北固亭怀古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：千古江山，英雄无觅孙仲谋处。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水龙吟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：渡江天马南来，几人真是经纶手？长安父老，新亭风景，可怜依旧。        绿野风烟，平泉草木，东山歌酒。待他年，整顿乾坤事了，为先生寿。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水龙吟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•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登建康赏心亭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： 休说鲈鱼堪脍，尽西风、季鹰归未？求田问舍，怕应羞见，刘郎才气。可惜流年，忧愁风雨，树犹如此！倩何人，唤取红巾翠袖，揾英雄泪。　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1255680" cy="165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6920" y="1628640"/>
            <a:ext cx="75250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  <a:ea typeface="华文中宋"/>
              </a:rPr>
              <a:t>《</a:t>
            </a:r>
            <a:r>
              <a:rPr b="1" lang="zh-CN" sz="3200" spc="-1" strike="noStrike">
                <a:solidFill>
                  <a:srgbClr val="402000"/>
                </a:solidFill>
                <a:latin typeface="Arial"/>
                <a:ea typeface="华文中宋"/>
              </a:rPr>
              <a:t>四库全书总目提要</a:t>
            </a:r>
            <a:r>
              <a:rPr b="1" lang="en-US" sz="3200" spc="-1" strike="noStrike">
                <a:solidFill>
                  <a:srgbClr val="402000"/>
                </a:solidFill>
                <a:latin typeface="Arial"/>
                <a:ea typeface="华文中宋"/>
              </a:rPr>
              <a:t>》</a:t>
            </a:r>
            <a:r>
              <a:rPr b="1" lang="zh-CN" sz="3200" spc="-1" strike="noStrike">
                <a:solidFill>
                  <a:srgbClr val="402000"/>
                </a:solidFill>
                <a:latin typeface="Arial"/>
                <a:ea typeface="华文中宋"/>
              </a:rPr>
              <a:t>：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Arial"/>
                <a:ea typeface="华文中宋"/>
              </a:rPr>
              <a:t>词自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晚唐五代</a:t>
            </a:r>
            <a:r>
              <a:rPr b="1" lang="zh-CN" sz="3200" spc="-1" strike="noStrike">
                <a:solidFill>
                  <a:srgbClr val="402000"/>
                </a:solidFill>
                <a:latin typeface="Arial"/>
                <a:ea typeface="华文中宋"/>
              </a:rPr>
              <a:t>以来，以清切婉丽为宗。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Arial"/>
                <a:ea typeface="华文中宋"/>
              </a:rPr>
              <a:t>至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柳永</a:t>
            </a:r>
            <a:r>
              <a:rPr b="1" lang="zh-CN" sz="3200" spc="-1" strike="noStrike">
                <a:solidFill>
                  <a:srgbClr val="402000"/>
                </a:solidFill>
                <a:latin typeface="Arial"/>
                <a:ea typeface="华文中宋"/>
              </a:rPr>
              <a:t>而一变，如诗家之有白居易，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Arial"/>
                <a:ea typeface="华文中宋"/>
              </a:rPr>
              <a:t>至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苏轼</a:t>
            </a:r>
            <a:r>
              <a:rPr b="1" lang="zh-CN" sz="3200" spc="-1" strike="noStrike">
                <a:solidFill>
                  <a:srgbClr val="402000"/>
                </a:solidFill>
                <a:latin typeface="Arial"/>
                <a:ea typeface="华文中宋"/>
              </a:rPr>
              <a:t>而又一变，如诗家之有韩愈。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Arial"/>
                <a:ea typeface="华文中宋"/>
              </a:rPr>
              <a:t>遂开南宋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辛弃疾</a:t>
            </a:r>
            <a:r>
              <a:rPr b="1" lang="zh-CN" sz="3200" spc="-1" strike="noStrike">
                <a:solidFill>
                  <a:srgbClr val="402000"/>
                </a:solidFill>
                <a:latin typeface="Arial"/>
                <a:ea typeface="华文中宋"/>
              </a:rPr>
              <a:t>等一派，寻根溯流，不能不谓之别格。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95280" y="333000"/>
            <a:ext cx="1371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宋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代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文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人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词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的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发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展</a:t>
            </a:r>
            <a:endParaRPr b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836640"/>
            <a:ext cx="8280360" cy="57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06:35:28Z</dcterms:created>
  <dc:creator>Peng Jinfeng</dc:creator>
  <dc:description/>
  <cp:keywords/>
  <dc:language>en-US</dc:language>
  <cp:lastModifiedBy>user</cp:lastModifiedBy>
  <dcterms:modified xsi:type="dcterms:W3CDTF">2017-12-20T09:26:56Z</dcterms:modified>
  <cp:revision>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98</vt:lpwstr>
  </property>
</Properties>
</file>