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DA8-237E-484F-848C-A0C07F10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6E6-3A4E-4026-B1B2-EA8DFD87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D74-AAE9-4D71-B0DA-E255E6C4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71E-5501-452B-9DE2-EC0DA86A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5E1-82D8-4546-ACB3-DB4A6B5D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AFD-5832-4925-A803-5A109775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DA5-BB03-4C1A-B72D-8D8B70C5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2FE-BE9F-40A9-A7C3-0312E246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534-8476-423D-A94B-0E99230C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D14-62A1-46E0-B678-74281EE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471-FA03-4108-B64F-5FFED22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E74-D1CD-4F7A-8584-1A32916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DD9F-2A3B-4DB4-A62E-31197BAADA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1280" y="189000"/>
            <a:ext cx="741672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11280" y="189000"/>
            <a:ext cx="741672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图片 3" descr=""/>
          <p:cNvPicPr/>
          <p:nvPr/>
        </p:nvPicPr>
        <p:blipFill>
          <a:blip r:embed="rId6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068960" y="450720"/>
            <a:ext cx="98460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第一单元</a:t>
            </a:r>
            <a:br>
              <a:rPr sz="96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F68-0675-4E4D-9D03-C465C0D933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"/>
              </a:rPr>
              <a:t>登山则情满于山，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"/>
              </a:rPr>
              <a:t>观海则意溢于海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141720"/>
            <a:ext cx="77724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刘勰《文心雕龙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15955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2AC-204C-489B-AE80-F9A2931309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046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、初读课文，理清思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踪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——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）    夜访桐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——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）  山水访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）    昼临钓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——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）壁间题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2C5-7578-4203-BF0F-EA2651A531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【严子陵】 </a:t>
            </a: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125360"/>
            <a:ext cx="556236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子陵，浙江会稽余姚人。少有高名，与刘秀同游学。刘即帝位，征召其为谏议大臣，拒之，归隐富春江衅，耕钓以终。相传刘秀称帝后，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遣使才访得严子陵入京，与之畅叙友情井同榻而卧。睡间，严以足压在刘秀腹上，刘亦不以为意。次日太史上奏：“客星犯帝座，甚急”。刘秀笑道：朕与故人严子陵共卧耳。自汉以来，严甘愿贫苦，淡泊名利的品质一直为后世所景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40360" y="1484280"/>
            <a:ext cx="2946600" cy="233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15E-C3E7-41D6-992D-97750EB975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1640" y="152280"/>
            <a:ext cx="4869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【严子陵钓台】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197000"/>
            <a:ext cx="79218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严子陵钓台位于宫春山上，钓台高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，分东西两处，相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余米，均为半山腰之磐石。东台为严垂钓处，有巨石如笋，传为严以此支撑垂竿，石亭为乾隆年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A92-A7D6-4794-AEFB-4692A8F11B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B23-B094-4854-8386-68294103AE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【严子陵钓台】 </a:t>
            </a: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1413000"/>
            <a:ext cx="525780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台亦称谢翱台，南宋遗民谢翱在此面北痛哭，奠祭爱国英雄文天祥。西侧沿江新建严先生祠堂，祠内立有宋范仲淹所撰《严先生祠堂记》石碑，文中“云山苍苍，江水泱泱；先生之风，山高水长”之名句流传至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F11-2C6D-4BD6-8E2C-F97A692264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0920" y="119160"/>
            <a:ext cx="8893080" cy="673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5877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严子陵钓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8893080" cy="662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59280" y="62064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钓台风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FF1-1C1B-43A2-BAB1-532F02D420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2193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交代了钓台游览的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240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写作者夜访桐君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0574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8288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写了桐君山的四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438280"/>
            <a:ext cx="46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描述了夜渡的遭遇，用简练的文字勾画了善良的少妇和辛劳的船家的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40053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写作者登山的具体情况：到了桐君山下——到半山——过半山——走上山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58972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写七里滩的清静和严陵钓台的荒凉凌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AE3-4C89-4848-B58D-563E9A09C0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-19044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3E1-A660-40E2-9C08-1AA18A3DD9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重点语段品读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文章第六节的写作用意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有意避开描绘阳光朗照下的碧水清溪，选择了在黑黝黝的夜色中登览桐君山。此段作者以游踪为线索，即“山下——半山——山顶”，分别从不同的角度，观察夜色下的山景。给人的感觉不仅是“静”了，更显得凄清，肃杀。这也许是作者有意而为的，因为作者当时的心情使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615-59A3-4D96-8D72-0EA478BA89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59280" y="5661000"/>
            <a:ext cx="35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钓台的春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郁达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5D4-9E20-4FB5-90B3-C6215BE59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重点语段品读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134200" cy="44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“空旷的天空里，流涨着的只是这些灰白的云，云层缺处，原也看得出半角的天，和一点两点的星，但看起来最饶风趣的，却仍是欲藏还露，将见仍无的那半规月影。这时候江面上似乎起了风，云脚的迁移，更来得迅速了，而低头向江心一看，几多散乱着的船里的灯光，也忽明忽灭变换了一变换位置。”作者为什么要选择这样的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桐君山顶的夜色中，在一点两点星光和半规月影的陪伴下，观赏对岸明灭的灯。这是一种凄清之美，透过这般景物、氛围，自然会隐隐感触到作者情绪的起伏和情感的波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B72-C2AA-4443-95B1-353B8FD708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9880" y="0"/>
            <a:ext cx="533412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桐君山在桐庐县城旁，座落在分水江和富春江汇口处，两水交带，青山依水，如翠玉浮水，所以古称“浮玉山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桐君山体形和富阳鹳山差不多大小，壁立江畔，水似碧玉带，山如青螺髻。山顶有一座四方七级宝塔巍然屹立，后人为纪念桐君老人，建有桐君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FB3-7230-42E4-ADCA-2CC156614E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691056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精读课文，思考探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作者通过对桐君山和钓台的描绘，表达了自己怎样的人生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以游踪为线索，用写意的笔法，写富春江沿途的山水色，沙洲繁华，写桐君山微荡的月色灯光，写严子陵钓台的孤静荒颓。作者借山水、历史、事物的描述，透露出身于动荡年代的一缕忧思，宣泄了满腔郁积的愤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89F-80FD-468F-816A-85E522C02D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525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2378160"/>
            <a:ext cx="792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作者是通过怎样的景色描绘来表达自己孤独烦闷的心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850-318D-420D-A8A8-59D46EC610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桐君揽胜——凄清之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云微月、夜渡无人、独立江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冗慢悠长、恩恩乌乌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崎岖山路、虚掩栅门、空旷天空、半规月影、忽明忽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奇、忘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76320"/>
            <a:ext cx="420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宋体"/>
              </a:rPr>
              <a:t>【意境赏析】 </a:t>
            </a:r>
            <a:r>
              <a:rPr b="0" lang="zh-CN" sz="4400" spc="-1" strike="noStrike">
                <a:solidFill>
                  <a:srgbClr val="800000"/>
                </a:solidFill>
                <a:latin typeface="Times New Roman"/>
                <a:ea typeface="宋体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288-7335-4037-913A-1630BAE32E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16000" y="1484280"/>
            <a:ext cx="68407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钓台——荒凉萧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幽水清、指东话西、昏然入睡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寂寂不见一个人类、废垣残瓦、阴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幽静、变化多、芜杂不整齐、颓废荒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慕贤、题诗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大无声、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76320"/>
            <a:ext cx="4132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宋体"/>
              </a:rPr>
              <a:t>【意境赏析】 </a:t>
            </a:r>
            <a:r>
              <a:rPr b="0" lang="zh-CN" sz="4400" spc="-1" strike="noStrike">
                <a:solidFill>
                  <a:srgbClr val="800000"/>
                </a:solidFill>
                <a:latin typeface="Times New Roman"/>
                <a:ea typeface="宋体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FB9-2250-4CE9-BE10-CBE94B0B9D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标题 1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865680" cy="1262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755280" y="1197000"/>
            <a:ext cx="7294680" cy="41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３月国民党下令通缉鲁迅、郁达夫等人，郁达夫被迫避难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，国民党加剧了对左翼文艺运动的文化“围剿”，“左联五烈士”被秘密杀害。郁达夫离沪避难浙江，“乡愁一动”，返乡游历。因为家居的索寞，便产生了探访钓台的愿望，欲借以排解胸中的郁积和愤懑之情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回忆旧游、感怀时政而成此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3EA-D66D-4A74-9EA4-9B00B2116F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本篇游记的抒情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8216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一，抒写自然景物时，突出主题的感觉印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描写严子陵钓台，处处突出一个“静”字。先写山水环境的静，再写双桨轻摇，虽有声而更反衬出静，从钓台的建筑、草木到自然气候和人的心理，把作者所感受到的这“太古的静，死灭的静”以及和这种“静”紧密相联的“颓废荒凉的美”的特征，渲染到极致，使读者有身临其境之感，并受到文章的情绪的感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0EE-F1E0-4BFD-9749-2655FE0E3D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844280"/>
            <a:ext cx="8351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二，主观色彩浓厚，文中处处有一个“我”。 由景生情、直抒胸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在鱼梁渡头独立江边时，“心里头却兀自感到了一种他乡日暮的悲哀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桐君山道观前面，就想“在这样的地方结屋读书，以养天年”，把浮名虚誉一起抛开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本篇游记的抒情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A35-6F7F-48CB-87C1-B1F85B27FE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0920" y="2708280"/>
            <a:ext cx="806436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三，假托梦境，以诗入文，坦陈胸怀，评讥时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本篇游记的抒情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CA3-7152-41DA-869D-0B55E359A3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学习目标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了解郁达夫的思想及创作风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领悟作者流露在文中的主观情感，学习本文以情驭景、借景抒情的写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品味文章明白晓畅、简洁清丽的语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目标重点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作者对钓台的春昼的赞美之情以及文中流露出的悲凉、伤感之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目标难点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文章以情驭景、以景显情、情景交融的写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341-643A-4330-98F3-5799772618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808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六、小结课文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44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以游踪为线索，记述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的暮春三月，作者从浙江富阳出发经桐庐游览严陵钓台的山川景色和沿途的风景。从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借山水，历史，事物的描述，透露出身于动荡年代的一缕忧思，宣泄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腔郁积的愤慨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90A-200D-47F6-A698-79BC608D14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12536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六、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3357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写作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2133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动形象传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63700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32846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语言清隽有凝练、精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4365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内容平淡、感情复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D52-51E0-435E-AE84-B5228DC724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2708280"/>
            <a:ext cx="77724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在寄情山水中，透露出处身于社会动荡年代的一缕忧思，而贯串全篇的，则是对于黑暗现实的愤慨之音。这种郁达夫式的主观情绪的抒写，是这篇游记散文的重要特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64080" y="9810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"/>
              </a:rPr>
              <a:t>登山则情满于山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"/>
              </a:rPr>
              <a:t>观海则意溢于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8EC-2FC4-4082-99DC-5C031148A5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自己印象深刻的一次出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45E-3C75-4C85-AC65-E5A91CB617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导入：郁达夫《钓台题壁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700280"/>
            <a:ext cx="721548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钓 台 题 壁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是樽前爱惜身，佯狂难免假成真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曾因酒醉鞭名马，生怕情多累美人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劫数东南天作孽，鸡鸣风雨海扬尘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悲歌痛哭终何补，义士纷纷说帝秦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C65-06B6-4E2E-8D45-1CBB78253F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亦痴亦狂郁达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志士——忧国伤世，愤世嫉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人——有才有情，多愁善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士——超然洒脱，放达不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220032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957-FE66-4401-B179-A5AD3F59A5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95280"/>
            <a:ext cx="642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郁达夫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189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19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现代作家。原名郁文，浙江富阳人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19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赴日本留学，广泛涉猎了中外文学和哲学著作。饱受屈辱和歧视的异国生活，激发了他的爱国热忱，也使他忧伤、愤世。他从研究经济学转而走上文学创作的道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192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参与发起成立创造社，出版了新文学最早的白话短篇小说集《沉沦》，以其“惊人的取材、大胆的描写”而震动了文坛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404640"/>
            <a:ext cx="332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作者简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220032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CCE-8855-4F95-B64E-01DAC6803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97000"/>
            <a:ext cx="691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192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参加编辑《创造》季刊、《创造周报》等刊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192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起在北京大学、武昌师范大学等校任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192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与鲁迅合编《奔流》月刊，并主编《大众文艺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19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中国自由运动大同盟成立，为发起人之一，并参加中国左翼作家联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193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初加入中国民权保障同盟。在白色恐怖威慑下由上海移居杭州，徜徉于浙、皖等地的山水之间，写有不少文笔优美的游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260280"/>
            <a:ext cx="332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作者简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220032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A17-F1DD-4648-B852-4AABAAEC31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484280"/>
            <a:ext cx="8381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说代表作有短篇小说集《沉沦》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92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出版，中国现代文学史上第一部白话短篇小说集，收小说三篇：《银灰色的死》、《沉沦》、《南迁》）、《寒灰集》等；短篇小说《沉沦》、《春风沉醉的晚上》、《薄奠》、《迟桂花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文集《闲书》、《屐痕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》、《日记九种》等；散文名篇有《一个人在途上》，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钓台的春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60280"/>
            <a:ext cx="332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作者简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2F9-E142-4666-8F28-3ECCC5BA36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检查预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咫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   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尺      溯（   ）江    拜谒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盛筵（   ）   酩酊（              ）大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打烊（      ）  神龛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击柝（     ）   钲（       ）钹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木栅（       ）  石砌（    ）沏茶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82560" y="2637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h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2565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3141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3141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ǐng dǐ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378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à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378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ù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43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hē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436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h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49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2DA-9574-4BD2-87DA-1BBBC9009F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3:48:38Z</dcterms:created>
  <dc:creator/>
  <dc:description/>
  <dc:language>en-US</dc:language>
  <cp:lastModifiedBy>user</cp:lastModifiedBy>
  <dcterms:modified xsi:type="dcterms:W3CDTF">2017-09-25T14:25:16Z</dcterms:modified>
  <cp:revision>52</cp:revision>
  <dc:subject/>
  <dc:title>PowerPoint 演示文稿</dc:title>
</cp:coreProperties>
</file>