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45F-EABB-4A6D-91A3-B55B3D7A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08B-8808-4412-962E-1CA6266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916-2546-4019-9D2F-AF3B8541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09F-C0E6-438F-912F-0A51A44F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3A6-BDA1-4C72-8EC9-041E29B4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A9E-CA99-4F5D-A800-1DBE7985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7D5-B471-4B15-9FE1-4DE1EC34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7A3-56BC-4B7A-8D13-DB1DD0F6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502-AF91-419C-87CE-C2C9E23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FA0-0420-4230-A7E7-B77A4BE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8FD-9544-4E37-B223-1767EBE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D35-80B7-420C-8194-5C49E79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9DB-20E8-44D8-9EF1-F4ED171FC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12000" y="6308640"/>
            <a:ext cx="1332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91040" y="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实用语文（第一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533160"/>
            <a:ext cx="20574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第二单元（泛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6019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道德情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责任追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陈伊玲为什么没有通过第一次复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的还是那两支歌，可是声音发涩，毫无光彩，听起来前后判若两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伊玲协助里弄干部安置灾民，忙得整夜没睡，影响了嗓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1913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苏林教授为什么给了她第二次考试的机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这一次落选了，也许这个人终生就和音乐分手了。她的天才可能从此就被埋没。情况如果是这样，那他是不能原谅自己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1913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组探讨：人物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结合原文，说说陈伊玲是怎样一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试成绩十分优异：声乐、视唱、练耳和乐理等都列入优等，尤其是她的音色美丽、音域宽广，令人赞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她掩饰不住脸上的困倦，一双聪颖的眼睛显得黯然无神，那顽皮的嘴角也流露出一种无法诉说的焦急。可是她通体是明朗、坦率的，使人信任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张朝气蓬勃、叫人喜欢的脸，小而好看的嘴，明快单纯的眼睛，笑起来鼻翼稍稍皱起的鼻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2349360"/>
            <a:ext cx="2592360" cy="1440000"/>
          </a:xfrm>
          <a:prstGeom prst="wedgeRoundRectCallout">
            <a:avLst>
              <a:gd name="adj1" fmla="val -43754"/>
              <a:gd name="adj2" fmla="val 88037"/>
              <a:gd name="adj3" fmla="val 16667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绩优秀、音色出众、热心助人、为人坦诚、坚强勇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组探讨：人物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结合第⑧⑨段内容分析，说说苏林教授是怎样一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林教授认真研究了陈伊玲的报名单，觉得不能用简单方式处理，于是亲自探访陈伊玲的家了解实情，可见他是一个爱才（认真负责）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组探讨：人物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文章结尾说“这天早晨，有什么使人感动的东西充溢在他胸口”，苏林教授因为什么而感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林教授被陈伊玲的善良真诚、公而忘私的品质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苏林教授的原型—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金铁霖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著名歌唱家，声乐教育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任中国音乐家协会副主席、中国音乐学院院长、教授、硕士生导师，中国民族声乐学会副会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铁霖先生的各类声乐表演人才有上千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2048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675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4293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7737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苏林教授的原型—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金铁霖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老师的弟子唱出了改革开放以来无数首脍炙人口、家喻户晓的“时代最强音”。例如：彭丽媛的代表作《在希望的田野上》、《父老乡亲》、《我们是黄河泰山》、 《江山》 等；宋祖英的代表作《好日子》、《爱我中华》、《大地飞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线观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等；阎维文的代表作《小白杨》、《一二三四歌》等；董文华的代表作 《春天的故事》 、 《十五的月亮》 、《望星空》等；刘斌的代表作 《当兵的人》等；张也的代表作《走进新时代》、《高天上流云》等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2048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第二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考  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 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583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苏林教授的原型—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金铁霖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祖英：“我第一次到金老师家里上课的时候，金老师说，唱唱吧，唱《今日苗山歌最多》，我觉得唱得一点都不好，跟我自己想象的不一样，唱完以后金老师说还会唱别的吗，会唱外国歌吗，我说会唱意大利歌曲，他说那你唱几句，我一下子什么都不会唱了，声音都发不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143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组探讨：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第⑤段和第⑩段都有对台风袭击后的景象的描写，这些描写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写出了台风袭击造成的灾情很严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②为下文写陈伊玲救灾的表现（揭示主人公陈伊玲的思想品质）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组探讨：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⑤段和第⑩段都有对台风袭击后的景象的描写，这些描写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写出了台风袭击造成的灾情很严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②为下文写陈伊玲救灾的表现（揭示主人公陈伊玲的思想品质）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133720"/>
            <a:ext cx="4681800" cy="1079280"/>
          </a:xfrm>
          <a:prstGeom prst="wedgeRoundRectCallout">
            <a:avLst>
              <a:gd name="adj1" fmla="val -37523"/>
              <a:gd name="adj2" fmla="val 134115"/>
              <a:gd name="adj3" fmla="val 16667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善于铺垫，前后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抑后扬，引人入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你的人生中，有哪一次考试刻骨铭心？请寻找记忆深处的故事，撰写成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握文意，体会先抑后扬的写作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人性的美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借鉴学习细节描述的写作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912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8817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样的考试，有第二次机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7626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590364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为，原名何敬业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生，当代著名作家，祖籍浙江定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毕业于上海圣约翰大学。历任上海《文汇报》记者，上海电影文学研究所编剧，上海电影剧本创作所编辑、江南电影制片厂编辑，中国作家协会第四届理事，中国作家协会全国委员会名誉委员，中国散文学会副会长，顾问，福建省作家协会副主席、名誉主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455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5759280" cy="44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著有作品集《青弋江》、《第二次考试》、《织锦集》、《小树与大地》、《闽居纪程》、《临窗集》、《北海道之旅》、《老屋梦回》、《〈孤岛〉内外》、《何为散文选》、《何为散文选粹》、《何为散文选集》、《何为散文长廊》等。《我从这里起步》获福建省第二届优秀作品奖，《陀螺和巧克力》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《福建文学》全国散文征文奖，《故乡与祖国》获首届《散文天地》作品评奖优秀奖，《何为散文选集》获首届鲁迅文学奖散文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455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颔首    严峻     挑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寥寥无几       面面相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颖     黯然    竹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禀赋    弄堂     墙垣    瓦砾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请按时间顺序将下面的故事情节补充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陈伊玲初试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陈伊玲复试情况十分糟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考试委员会对是否录取陈伊玲意见不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苏林教授查阅陈伊玲的报名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苏林教授决定录取陈伊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，梳理文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1:53:24Z</dcterms:created>
  <dc:creator>user</dc:creator>
  <dc:description/>
  <dc:language>en-US</dc:language>
  <cp:lastModifiedBy>user</cp:lastModifiedBy>
  <dcterms:modified xsi:type="dcterms:W3CDTF">2017-11-30T14:43:46Z</dcterms:modified>
  <cp:revision>31</cp:revision>
  <dc:subject/>
  <dc:title>第二单元（泛读）</dc:title>
</cp:coreProperties>
</file>