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AB64-AC76-4C7F-9CF9-E1D1ED7B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67E4-316F-4025-BF43-4664B1B2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138A-BA6B-47EA-9E3A-8A320A6F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9E16-6F06-4BE1-BFE0-FD89E27A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30EF-0ED2-441C-8690-F9AC742D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6DCF-8CB0-42CB-8496-CC967FE9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97A8-1A81-4595-9AE7-6F5417A8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F604-329E-448B-AC67-306510DD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6B32-72A4-42CD-8BEB-6AACB772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FE3C-7DF8-481F-9A56-70A0CBEC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2758-BED9-414B-AA84-864E1DE7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4702-CF41-4147-9206-9E304C54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D912-BBFF-41AC-ACA5-3FE058BE1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52280"/>
            <a:ext cx="7417080" cy="368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教育部高职高专规划教材     实用语文（第三版）第一册教辅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图片 3" descr=""/>
          <p:cNvPicPr/>
          <p:nvPr/>
        </p:nvPicPr>
        <p:blipFill>
          <a:blip r:embed="rId4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3880" y="1676520"/>
            <a:ext cx="838440" cy="3657600"/>
          </a:xfrm>
          <a:prstGeom prst="flowChartTerminator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65280" y="1725480"/>
            <a:ext cx="920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1"/>
          <p:cNvSpPr/>
          <p:nvPr/>
        </p:nvSpPr>
        <p:spPr>
          <a:xfrm>
            <a:off x="533520" y="1295280"/>
            <a:ext cx="807696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（</a:t>
            </a:r>
            <a:r>
              <a:rPr b="0" lang="en-US" sz="4000" spc="-1" strike="noStrike">
                <a:solidFill>
                  <a:srgbClr val="c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说词补充和增加解说对象的相关信息，主要是</a:t>
            </a:r>
            <a:r>
              <a:rPr b="1" lang="zh-CN" sz="40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知识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40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情理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扩展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使读者接受到画面和实物本身无法传递和难以表达的涵义。如课文中对光年基本概念的介绍（知识扩展），将宇宙比做大海，激发读者对宇宙的想像（情理扩展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"/>
          <p:cNvSpPr/>
          <p:nvPr/>
        </p:nvSpPr>
        <p:spPr>
          <a:xfrm>
            <a:off x="2323440" y="304920"/>
            <a:ext cx="3822480" cy="702720"/>
          </a:xfrm>
          <a:prstGeom prst="flowChartPredefinedProcess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解说词的文体特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066680"/>
            <a:ext cx="8458200" cy="152640"/>
          </a:xfrm>
          <a:prstGeom prst="flowChartPredefinedProcess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1"/>
          <p:cNvSpPr/>
          <p:nvPr/>
        </p:nvSpPr>
        <p:spPr>
          <a:xfrm>
            <a:off x="533520" y="838080"/>
            <a:ext cx="80769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（</a:t>
            </a:r>
            <a:r>
              <a:rPr b="0" lang="en-US" sz="4000" spc="-1" strike="noStrike">
                <a:solidFill>
                  <a:srgbClr val="c00000"/>
                </a:solidFill>
                <a:latin typeface="黑体"/>
                <a:ea typeface="黑体"/>
              </a:rPr>
              <a:t>3</a:t>
            </a:r>
            <a:r>
              <a:rPr b="0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说词是一个</a:t>
            </a:r>
            <a:r>
              <a:rPr b="1" lang="zh-CN" sz="40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有机的整体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但各个部分又有</a:t>
            </a:r>
            <a:r>
              <a:rPr b="1" lang="zh-CN" sz="40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相对的独立性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课文从宇宙整体到星系的组成再到太阳系，每个部分紧密相联，但又各有侧重，各有中心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"/>
          <p:cNvSpPr/>
          <p:nvPr/>
        </p:nvSpPr>
        <p:spPr>
          <a:xfrm>
            <a:off x="2323440" y="304920"/>
            <a:ext cx="3822480" cy="702720"/>
          </a:xfrm>
          <a:prstGeom prst="flowChartPredefinedProcess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解说词的文体特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066680"/>
            <a:ext cx="8458200" cy="152640"/>
          </a:xfrm>
          <a:prstGeom prst="flowChartPredefinedProcess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这篇解说词主要解说了什么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本文是一篇讲述关于宇宙探索问题的科普说明文。作者以严谨而又不失形象的语言向人们展示了宇宙的组成部分，引发我们对浩瀚无垠和神秘莫测的宇宙进行思考，激发人们探索宇宙的强烈欲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066680"/>
            <a:ext cx="8458200" cy="152640"/>
          </a:xfrm>
          <a:prstGeom prst="flowChartPredefinedProcess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八大行星运行轨道示意图.jpg"/>
          <p:cNvPicPr/>
          <p:nvPr/>
        </p:nvPicPr>
        <p:blipFill>
          <a:blip r:embed="rId2"/>
          <a:stretch/>
        </p:blipFill>
        <p:spPr>
          <a:xfrm>
            <a:off x="0" y="-61920"/>
            <a:ext cx="9144000" cy="6081840"/>
          </a:xfrm>
          <a:prstGeom prst="rect">
            <a:avLst/>
          </a:prstGeom>
          <a:ln w="0">
            <a:noFill/>
          </a:ln>
        </p:spPr>
      </p:pic>
      <p:sp>
        <p:nvSpPr>
          <p:cNvPr id="76" name="矩形 2"/>
          <p:cNvSpPr/>
          <p:nvPr/>
        </p:nvSpPr>
        <p:spPr>
          <a:xfrm>
            <a:off x="3227040" y="6105600"/>
            <a:ext cx="25275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八大行星运行轨道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草帽星系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039000"/>
          </a:xfrm>
          <a:prstGeom prst="rect">
            <a:avLst/>
          </a:prstGeom>
          <a:ln w="0">
            <a:noFill/>
          </a:ln>
        </p:spPr>
      </p:pic>
      <p:sp>
        <p:nvSpPr>
          <p:cNvPr id="78" name="矩形 2"/>
          <p:cNvSpPr/>
          <p:nvPr/>
        </p:nvSpPr>
        <p:spPr>
          <a:xfrm>
            <a:off x="4003920" y="6172200"/>
            <a:ext cx="10342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草帽星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4" descr="旋涡星系M8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矩形 5"/>
          <p:cNvSpPr/>
          <p:nvPr/>
        </p:nvSpPr>
        <p:spPr>
          <a:xfrm>
            <a:off x="6752880" y="152280"/>
            <a:ext cx="175968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旋涡星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2" descr="椭圆星系.jpg"/>
          <p:cNvPicPr/>
          <p:nvPr/>
        </p:nvPicPr>
        <p:blipFill>
          <a:blip r:embed="rId2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矩形 3"/>
          <p:cNvSpPr/>
          <p:nvPr/>
        </p:nvSpPr>
        <p:spPr>
          <a:xfrm>
            <a:off x="6617880" y="152280"/>
            <a:ext cx="103428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椭圆星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火星上巨大的火山，火山口直径80千米.jpg"/>
          <p:cNvPicPr/>
          <p:nvPr/>
        </p:nvPicPr>
        <p:blipFill>
          <a:blip r:embed="rId2"/>
          <a:stretch/>
        </p:blipFill>
        <p:spPr>
          <a:xfrm>
            <a:off x="990720" y="0"/>
            <a:ext cx="7229520" cy="68580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84" name="矩形 2"/>
          <p:cNvSpPr/>
          <p:nvPr/>
        </p:nvSpPr>
        <p:spPr>
          <a:xfrm>
            <a:off x="2517480" y="6172200"/>
            <a:ext cx="4191480" cy="5205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火星上巨大的火山，火山口直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火星大峡谷.jpg"/>
          <p:cNvPicPr/>
          <p:nvPr/>
        </p:nvPicPr>
        <p:blipFill>
          <a:blip r:embed="rId2"/>
          <a:stretch/>
        </p:blipFill>
        <p:spPr>
          <a:xfrm>
            <a:off x="990720" y="762120"/>
            <a:ext cx="4838760" cy="5486400"/>
          </a:xfrm>
          <a:prstGeom prst="rect">
            <a:avLst/>
          </a:prstGeom>
          <a:ln w="0">
            <a:noFill/>
          </a:ln>
        </p:spPr>
      </p:pic>
      <p:sp>
        <p:nvSpPr>
          <p:cNvPr id="86" name="矩形 2"/>
          <p:cNvSpPr/>
          <p:nvPr/>
        </p:nvSpPr>
        <p:spPr>
          <a:xfrm>
            <a:off x="6414480" y="599400"/>
            <a:ext cx="606960" cy="2509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火星大峡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"/>
          <p:cNvSpPr/>
          <p:nvPr/>
        </p:nvSpPr>
        <p:spPr>
          <a:xfrm>
            <a:off x="1801800" y="20628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整体感知：</a:t>
            </a:r>
            <a:r>
              <a:rPr b="0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本文的说明顺序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"/>
          <p:cNvSpPr/>
          <p:nvPr/>
        </p:nvSpPr>
        <p:spPr>
          <a:xfrm>
            <a:off x="457200" y="1143000"/>
            <a:ext cx="8077320" cy="30801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说词具有一定的视觉性，随着摄影镜头由大尺度空间到小尺度空间，缓缓推进。就我们的阅读来说，课文已经脱离了电视视觉画面（还能感觉到电视画面对文字的影响，如“我们现在已经回到了我们的后院”等介绍性词语），独立成篇，从说明顺序上看，采取的是</a:t>
            </a:r>
            <a:r>
              <a:rPr b="0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空间顺序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宇宙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→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星系（星系群、子星系）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→</a:t>
            </a:r>
            <a:br>
              <a:rPr sz="2800"/>
            </a:b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恒星 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→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太阳系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→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行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066680"/>
            <a:ext cx="8458200" cy="152640"/>
          </a:xfrm>
          <a:prstGeom prst="flowChartPredefinedProcess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33720" y="3276720"/>
            <a:ext cx="45720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华文隶书"/>
                <a:ea typeface="华文隶书"/>
              </a:rPr>
              <a:t>宇宙的边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卡尔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萨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76360" y="83664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由远到近，空间顺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80880" y="1600200"/>
            <a:ext cx="7129440" cy="4265640"/>
            <a:chOff x="380880" y="1600200"/>
            <a:chExt cx="7129440" cy="4265640"/>
          </a:xfrm>
        </p:grpSpPr>
        <p:sp>
          <p:nvSpPr>
            <p:cNvPr id="92" name=""/>
            <p:cNvSpPr/>
            <p:nvPr/>
          </p:nvSpPr>
          <p:spPr>
            <a:xfrm>
              <a:off x="380880" y="1600200"/>
              <a:ext cx="7129440" cy="4265640"/>
            </a:xfrm>
            <a:prstGeom prst="ellipse">
              <a:avLst/>
            </a:prstGeom>
            <a:solidFill>
              <a:srgbClr val="bbe0e3"/>
            </a:solidFill>
            <a:ln w="63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16800" y="3418920"/>
              <a:ext cx="92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宇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049480" y="1846440"/>
            <a:ext cx="5079960" cy="3810960"/>
            <a:chOff x="2049480" y="1846440"/>
            <a:chExt cx="5079960" cy="3810960"/>
          </a:xfrm>
        </p:grpSpPr>
        <p:sp>
          <p:nvSpPr>
            <p:cNvPr id="95" name=""/>
            <p:cNvSpPr/>
            <p:nvPr/>
          </p:nvSpPr>
          <p:spPr>
            <a:xfrm>
              <a:off x="2049480" y="1846440"/>
              <a:ext cx="5079960" cy="381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22280" y="3448440"/>
              <a:ext cx="92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星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260880" y="2565360"/>
            <a:ext cx="3868560" cy="2286000"/>
            <a:chOff x="3260880" y="2565360"/>
            <a:chExt cx="3868560" cy="2286000"/>
          </a:xfrm>
        </p:grpSpPr>
        <p:sp>
          <p:nvSpPr>
            <p:cNvPr id="98" name=""/>
            <p:cNvSpPr/>
            <p:nvPr/>
          </p:nvSpPr>
          <p:spPr>
            <a:xfrm>
              <a:off x="3260880" y="2565360"/>
              <a:ext cx="3868560" cy="22860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64080" y="3433680"/>
              <a:ext cx="150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恒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952880" y="2590920"/>
            <a:ext cx="2482920" cy="1982160"/>
            <a:chOff x="4952880" y="2590920"/>
            <a:chExt cx="2482920" cy="1982160"/>
          </a:xfrm>
        </p:grpSpPr>
        <p:sp>
          <p:nvSpPr>
            <p:cNvPr id="101" name=""/>
            <p:cNvSpPr/>
            <p:nvPr/>
          </p:nvSpPr>
          <p:spPr>
            <a:xfrm>
              <a:off x="4952880" y="2590920"/>
              <a:ext cx="2482920" cy="19821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41600" y="3343680"/>
              <a:ext cx="14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太阳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477120" y="3124080"/>
            <a:ext cx="1096920" cy="914400"/>
            <a:chOff x="6477120" y="3124080"/>
            <a:chExt cx="1096920" cy="914400"/>
          </a:xfrm>
        </p:grpSpPr>
        <p:sp>
          <p:nvSpPr>
            <p:cNvPr id="104" name=""/>
            <p:cNvSpPr/>
            <p:nvPr/>
          </p:nvSpPr>
          <p:spPr>
            <a:xfrm>
              <a:off x="6477120" y="3124080"/>
              <a:ext cx="1096920" cy="914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50280" y="3343320"/>
              <a:ext cx="92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地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 flipV="1">
            <a:off x="538920" y="1486080"/>
            <a:ext cx="6234120" cy="144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"/>
          <p:cNvSpPr/>
          <p:nvPr/>
        </p:nvSpPr>
        <p:spPr>
          <a:xfrm>
            <a:off x="380880" y="1219320"/>
            <a:ext cx="84582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符合宇宙演化规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先有宇宙，次有星系，再有恒星，再有行星，这样介绍便于知识的梳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符合读者的思维习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由摄影的角度来看，先整体后局部便于把握，这样顺序清楚，层次分明。而先局部后整体，表述上容易混乱，视觉画面也不好协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在宇宙中的我们跳出宇宙之外，将它作为纯客观的说明对象来解说，这样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能够更清晰、直观地介绍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宋体"/>
              </a:rPr>
              <a:t>这种说明顺序有何好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066680"/>
            <a:ext cx="8458200" cy="152640"/>
          </a:xfrm>
          <a:prstGeom prst="flowChartPredefinedProcess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1"/>
          <p:cNvSpPr/>
          <p:nvPr/>
        </p:nvSpPr>
        <p:spPr>
          <a:xfrm>
            <a:off x="1017360" y="228600"/>
            <a:ext cx="1400040" cy="7034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深入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"/>
          <p:cNvSpPr/>
          <p:nvPr/>
        </p:nvSpPr>
        <p:spPr>
          <a:xfrm>
            <a:off x="380880" y="1143000"/>
            <a:ext cx="8458200" cy="162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1</a:t>
            </a:r>
            <a:r>
              <a:rPr b="1" i="1" lang="zh-CN" sz="28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．本文运用了大量的议论与抒情，有什么作用？</a:t>
            </a:r>
            <a:r>
              <a:rPr b="0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课文补充了许多相关知识，但是更突出的，是作者抒发自己的思想感情，其中有大段的议论和抒情。如开始的三段文字和结尾的两段文字，强烈的议论和抒情色彩，融说理和抒情为一体，而且和说明性的文字配合自然，传达了作者对宇宙和人类的认识。语段中的议论和抒情也是随处可见的，如“假如我们被随意搁置在宇宙之中，我们附着或旁落在一个行星上的机会只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3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之一。在日常生活当中，这样的机会是‘令人羡慕的’。可见天体是多么宝贵”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066680"/>
            <a:ext cx="8458200" cy="152640"/>
          </a:xfrm>
          <a:prstGeom prst="flowChartPredefinedProcess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00000"/>
                </a:solidFill>
                <a:uFillTx/>
                <a:latin typeface="Arial"/>
                <a:ea typeface="黑体"/>
              </a:rPr>
              <a:t>抒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抒情就是抒发和表现作者的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00000"/>
                </a:solidFill>
                <a:uFillTx/>
                <a:latin typeface="Arial"/>
                <a:ea typeface="黑体"/>
              </a:rPr>
              <a:t>议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议论就是作者对某个议论对象发表见解，以表明自己的观点和态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3200" spc="-1" strike="noStrike" u="sng">
                <a:solidFill>
                  <a:srgbClr val="c00000"/>
                </a:solidFill>
                <a:uFillTx/>
                <a:latin typeface="Arial"/>
                <a:ea typeface="黑体"/>
              </a:rPr>
              <a:t>它的作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于使文章</a:t>
            </a:r>
            <a:r>
              <a:rPr b="1" i="1" lang="zh-CN" sz="32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鲜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i="1" lang="zh-CN" sz="32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深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具有较强的</a:t>
            </a:r>
            <a:r>
              <a:rPr b="1" i="1" lang="zh-CN" sz="32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哲理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i="1" lang="zh-CN" sz="32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理论深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066680"/>
            <a:ext cx="8458200" cy="152640"/>
          </a:xfrm>
          <a:prstGeom prst="flowChartPredefinedProcess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"/>
          <p:cNvSpPr/>
          <p:nvPr/>
        </p:nvSpPr>
        <p:spPr>
          <a:xfrm>
            <a:off x="1017360" y="228600"/>
            <a:ext cx="1400040" cy="7034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问题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066680"/>
            <a:ext cx="8458200" cy="152640"/>
          </a:xfrm>
          <a:prstGeom prst="flowChartPredefinedProcess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"/>
          <p:cNvSpPr/>
          <p:nvPr/>
        </p:nvSpPr>
        <p:spPr>
          <a:xfrm>
            <a:off x="1017360" y="228600"/>
            <a:ext cx="1400040" cy="7034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深入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1"/>
          <p:cNvSpPr/>
          <p:nvPr/>
        </p:nvSpPr>
        <p:spPr>
          <a:xfrm>
            <a:off x="380880" y="1066680"/>
            <a:ext cx="830592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28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．人类认识宇宙，是从地球开始的，为什么作者的解说，不沿着人类认识发展的轨迹进行呢？</a:t>
            </a:r>
            <a:r>
              <a:rPr b="0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课文的介绍顺序，是符合宇宙演化规律的，先有宇宙，次有星系，再有恒星，再有行星，这样介绍便于知识的梳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二，这是电视片的解说词，由摄影的角度来看，先整体后局部便于把握，而先局部后整体，表述上容易混乱，视觉画面也不好协调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066680"/>
            <a:ext cx="8458200" cy="152640"/>
          </a:xfrm>
          <a:prstGeom prst="flowChartPredefinedProcess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"/>
          <p:cNvSpPr/>
          <p:nvPr/>
        </p:nvSpPr>
        <p:spPr>
          <a:xfrm>
            <a:off x="1017360" y="228600"/>
            <a:ext cx="1400040" cy="7034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深入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"/>
          <p:cNvSpPr/>
          <p:nvPr/>
        </p:nvSpPr>
        <p:spPr>
          <a:xfrm>
            <a:off x="380880" y="1143000"/>
            <a:ext cx="8458200" cy="208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3</a:t>
            </a:r>
            <a:r>
              <a:rPr b="1" i="1" lang="zh-CN" sz="28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．作者对宇宙有怎样的认识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宇宙辽阔无垠，神秘莫测。而人类生活的地球只是宇宙中的沧海一粟，“它的存在可能仅仅对我们有意义”。宇宙不因为地球及生活在地球上的人类而存在，而人类的未来，却取决于对宇宙的了解程度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066680"/>
            <a:ext cx="8458200" cy="152640"/>
          </a:xfrm>
          <a:prstGeom prst="flowChartPredefinedProcess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"/>
          <p:cNvSpPr/>
          <p:nvPr/>
        </p:nvSpPr>
        <p:spPr>
          <a:xfrm>
            <a:off x="1017360" y="228600"/>
            <a:ext cx="1400040" cy="7034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问题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066680"/>
            <a:ext cx="8458200" cy="152640"/>
          </a:xfrm>
          <a:prstGeom prst="flowChartPredefinedProcess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"/>
          <p:cNvSpPr/>
          <p:nvPr/>
        </p:nvSpPr>
        <p:spPr>
          <a:xfrm>
            <a:off x="1017360" y="228600"/>
            <a:ext cx="1400040" cy="7034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深入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219320"/>
            <a:ext cx="845820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4</a:t>
            </a:r>
            <a:r>
              <a:rPr b="1" i="1" lang="zh-CN" sz="2800" spc="-1" strike="noStrike" u="sng">
                <a:solidFill>
                  <a:srgbClr val="c00000"/>
                </a:solidFill>
                <a:uFillTx/>
                <a:latin typeface="Arial"/>
              </a:rPr>
              <a:t>．作者对人类有怎样的认识</a:t>
            </a: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类在宇宙中是渺小的，“只不过是晨窗中飞扬的一粒尘埃”；人类关心的大多数问题，对宇宙来说更是微不足道、毫无意义的；但是人类又是勇敢、光荣的，他们以渺小的身躯，来探索广阔的宇宙，人类在渺小之中进发出宇宙般的伟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066680"/>
            <a:ext cx="8458200" cy="152640"/>
          </a:xfrm>
          <a:prstGeom prst="flowChartPredefinedProcess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"/>
          <p:cNvSpPr/>
          <p:nvPr/>
        </p:nvSpPr>
        <p:spPr>
          <a:xfrm>
            <a:off x="1017360" y="228600"/>
            <a:ext cx="1400040" cy="7034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深入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1"/>
          <p:cNvSpPr/>
          <p:nvPr/>
        </p:nvSpPr>
        <p:spPr>
          <a:xfrm>
            <a:off x="380880" y="1143000"/>
            <a:ext cx="8458200" cy="229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5</a:t>
            </a:r>
            <a:r>
              <a:rPr b="1" i="1" lang="zh-CN" sz="28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．课文中有大段的议论和抒情，是否干扰了对宇宙的说明？</a:t>
            </a:r>
            <a:r>
              <a:rPr b="0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为电视片的解说词，不仅要让观众了解宇宙的客观构成和相关的知识，还要表达人类对宇宙的主观认识和人类探索宇宙的意义，这样才能感染观众，激发他们对宇宙的兴趣。所以，议论和抒情不仅没有干扰介绍，反而使介绍更具科学意蕴和人文内涵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1066680"/>
            <a:ext cx="8458200" cy="152640"/>
          </a:xfrm>
          <a:prstGeom prst="flowChartPredefinedProcess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"/>
          <p:cNvSpPr/>
          <p:nvPr/>
        </p:nvSpPr>
        <p:spPr>
          <a:xfrm>
            <a:off x="1017360" y="228600"/>
            <a:ext cx="1400040" cy="7034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深入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28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c00000"/>
                </a:solidFill>
                <a:uFillTx/>
                <a:latin typeface="Arial"/>
                <a:ea typeface="宋体"/>
              </a:rPr>
              <a:t>６．统观全文，我们为什么要探索宇宙的奥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继续开拓是职责，未来取决于对这个宇宙的了解程度，寻找我们更为美好的家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066680"/>
            <a:ext cx="8458200" cy="152640"/>
          </a:xfrm>
          <a:prstGeom prst="flowChartPredefinedProcess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"/>
          <p:cNvSpPr/>
          <p:nvPr/>
        </p:nvSpPr>
        <p:spPr>
          <a:xfrm>
            <a:off x="1017360" y="228600"/>
            <a:ext cx="1400040" cy="7034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深入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3"/>
          <p:cNvSpPr/>
          <p:nvPr/>
        </p:nvSpPr>
        <p:spPr>
          <a:xfrm>
            <a:off x="865080" y="380880"/>
            <a:ext cx="1400040" cy="7034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写作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4"/>
          <p:cNvSpPr/>
          <p:nvPr/>
        </p:nvSpPr>
        <p:spPr>
          <a:xfrm>
            <a:off x="457200" y="1219320"/>
            <a:ext cx="8229600" cy="265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（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1</a:t>
            </a:r>
            <a:r>
              <a:rPr b="1" lang="zh-CN" sz="28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）善用比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整个宇宙比作大海，把地球的表面比作“宇宙汪洋之滨”，形象生动，也更能体现出宇宙的无边无际。把我们对宇宙的探索，比作向大海“涉足”。把地球上的人比作尘埃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（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28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）巧用拟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海水是迷人的，大海在向我们召唤”，用了召唤一词，形象贴切的表达了我们对宇宙的向往之情，大海如同母亲一样在呼唤她的子女去更加的深入了解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152640"/>
          </a:xfrm>
          <a:prstGeom prst="flowChartPredefinedProcess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"/>
          <p:cNvSpPr/>
          <p:nvPr/>
        </p:nvSpPr>
        <p:spPr>
          <a:xfrm>
            <a:off x="865080" y="380880"/>
            <a:ext cx="1400040" cy="7034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写作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066680"/>
            <a:ext cx="8458200" cy="152640"/>
          </a:xfrm>
          <a:prstGeom prst="flowChartPredefinedProcess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学习目标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宋体"/>
              </a:rPr>
              <a:t>、掌握解说词的文体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宋体"/>
              </a:rPr>
              <a:t>、了解一些有关宇宙的基础知识，了解作者对宇宙和人类的思考，扩展思维层次和文化素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宋体"/>
              </a:rPr>
              <a:t>、激发求知欲和探索精神，培养科学精神和勇于发现真理的的品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1"/>
          <p:cNvSpPr/>
          <p:nvPr/>
        </p:nvSpPr>
        <p:spPr>
          <a:xfrm>
            <a:off x="380880" y="1219320"/>
            <a:ext cx="8458200" cy="23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（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3</a:t>
            </a:r>
            <a:r>
              <a:rPr b="1" lang="zh-CN" sz="24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）笔带激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文章的语言是充满感情的，是有文学色彩的。如“只要一想起宇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同回忆起许久以前的一次悬崖失足那样令人晕眩战栗”，用“晕眩战栗”来形容人们面对宇宙众多奥秘时那种激动的心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（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4</a:t>
            </a:r>
            <a:r>
              <a:rPr b="1" lang="zh-CN" sz="24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）语含哲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作者应用了一些经典性的语言，具有哲理性。如“好奇是人类的天性，理解是一种乐趣，知识是生存的先决条件”。优美生动形象的语言，把深刻抽象的科学知识解说的浅显易懂、具体可感而又充满趣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3"/>
          <p:cNvSpPr/>
          <p:nvPr/>
        </p:nvSpPr>
        <p:spPr>
          <a:xfrm>
            <a:off x="865080" y="380880"/>
            <a:ext cx="1400040" cy="7034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写作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066680"/>
            <a:ext cx="8458200" cy="152640"/>
          </a:xfrm>
          <a:prstGeom prst="flowChartPredefinedProcess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1828800" cy="868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小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全文通过对众多宇宙画面的说明，向我们展示了宇宙空间的奥秘及天体的物理特征和遨游太空的收获，引发世人对宇宙探索的兴趣，激发献身宇宙科学、造福人类的勇气和斗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1066680"/>
            <a:ext cx="8458200" cy="152640"/>
          </a:xfrm>
          <a:prstGeom prst="flowChartPredefinedProcess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38080" y="304920"/>
            <a:ext cx="228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应用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黑体"/>
              </a:rPr>
              <a:t>·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拓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220680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宇宙无涯，探索亦无境：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宇宙无涯，地球很渺小：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宇宙无涯，人类很幸运：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1447920"/>
            <a:ext cx="83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宇宙的边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你有哪些思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0" y="4292640"/>
            <a:ext cx="6875640" cy="1441440"/>
          </a:xfrm>
          <a:prstGeom prst="roundRect">
            <a:avLst>
              <a:gd name="adj" fmla="val 11921"/>
            </a:avLst>
          </a:prstGeom>
          <a:solidFill>
            <a:srgbClr val="800080"/>
          </a:soli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4365720"/>
            <a:ext cx="6696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具有一种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     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一种科学的精神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914400"/>
            <a:ext cx="8458200" cy="152280"/>
          </a:xfrm>
          <a:prstGeom prst="flowChartPredefinedProcess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762120"/>
            <a:ext cx="8534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只要我看到涌来的星空，我总是能被深深地震撼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爱因斯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4382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理论是从注视天空开始的，最早的哲学家是天文学家。                           －费尔巴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4343400"/>
            <a:ext cx="83059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假如星星一千年才出现一次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设想一下那将是多么令人激动的景象啊！然而由于天空中每晚都有星星，我们几乎难得看上一眼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。　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－拉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华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爱默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65674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由美国著名的科普作家卡尔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·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萨根所写的一部大型电视片的解说词──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宇宙的边疆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2"/>
          <p:cNvSpPr/>
          <p:nvPr/>
        </p:nvSpPr>
        <p:spPr>
          <a:xfrm>
            <a:off x="7679160" y="3429000"/>
            <a:ext cx="1155240" cy="1981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"/>
          <p:cNvSpPr/>
          <p:nvPr/>
        </p:nvSpPr>
        <p:spPr>
          <a:xfrm>
            <a:off x="0" y="0"/>
            <a:ext cx="662940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卡尔</a:t>
            </a:r>
            <a:r>
              <a:rPr b="1" lang="en-US" sz="36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•</a:t>
            </a:r>
            <a:r>
              <a:rPr b="1" lang="zh-CN" sz="36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萨根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arl Saga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34—199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</a:t>
            </a:r>
            <a:r>
              <a:rPr b="0" lang="zh-CN" sz="28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美国人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曾任美国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康奈尔大学</a:t>
            </a:r>
            <a:r>
              <a:rPr b="0" lang="zh-CN" sz="28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行星研究中心主任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被称为“</a:t>
            </a:r>
            <a:r>
              <a:rPr b="1" i="1" lang="zh-CN" sz="28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大众天文学家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和“</a:t>
            </a:r>
            <a:r>
              <a:rPr b="1" i="1" lang="zh-CN" sz="28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公众科学家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人类将无人航天器发送到太空起过重要的作用，在行星科学、生命的起源、外星智能的探索方面也有诸多成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持过电视科学节目，出版了大量科普文章和书籍，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伊甸园的飞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曾获得普里策奖，电视系列节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宇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全世界取得热烈反响。主要作品还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宇宙联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宇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724800" y="0"/>
            <a:ext cx="2419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卡尔萨根与海盗号着陆器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137280"/>
          </a:xfrm>
          <a:prstGeom prst="rect">
            <a:avLst/>
          </a:prstGeom>
          <a:ln w="0">
            <a:noFill/>
          </a:ln>
        </p:spPr>
      </p:pic>
      <p:sp>
        <p:nvSpPr>
          <p:cNvPr id="58" name="矩形 2"/>
          <p:cNvSpPr/>
          <p:nvPr/>
        </p:nvSpPr>
        <p:spPr>
          <a:xfrm>
            <a:off x="3133080" y="6172200"/>
            <a:ext cx="2741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卡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萨根与海盗号着陆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68680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眩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xuàn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晕      夙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sù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愿      踝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huái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骨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璀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cuǐ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璨        广袤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mào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奄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yǎn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奄一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3124080"/>
            <a:ext cx="8001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别出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心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裁        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映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入眼帘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明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察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秋毫        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赡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养父母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臭名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昭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著        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因地制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重点字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066680"/>
            <a:ext cx="8458200" cy="152640"/>
          </a:xfrm>
          <a:prstGeom prst="flowChartPredefinedProcess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"/>
          <p:cNvSpPr/>
          <p:nvPr/>
        </p:nvSpPr>
        <p:spPr>
          <a:xfrm>
            <a:off x="457200" y="1562040"/>
            <a:ext cx="8229600" cy="23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（</a:t>
            </a:r>
            <a:r>
              <a:rPr b="0" lang="en-US" sz="4000" spc="-1" strike="noStrike">
                <a:solidFill>
                  <a:srgbClr val="c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说词要根据解说对象的特点，有</a:t>
            </a:r>
            <a:r>
              <a:rPr b="1" lang="zh-CN" sz="32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明确的主题和说明重点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不能面面俱到，要突出事物的</a:t>
            </a:r>
            <a:r>
              <a:rPr b="1" lang="zh-CN" sz="28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主要方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抓住事物的</a:t>
            </a:r>
            <a:r>
              <a:rPr b="1" lang="zh-CN" sz="28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关键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即使是拓展性内容，也不能游离解说的主题。如课文解说的对象是宇宙，那么就要紧扣宇宙的组成来介绍，不能随意生发其他问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"/>
          <p:cNvSpPr/>
          <p:nvPr/>
        </p:nvSpPr>
        <p:spPr>
          <a:xfrm>
            <a:off x="2323440" y="304920"/>
            <a:ext cx="3822480" cy="702720"/>
          </a:xfrm>
          <a:prstGeom prst="flowChartPredefinedProcess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解说词的文体特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066680"/>
            <a:ext cx="8458200" cy="152640"/>
          </a:xfrm>
          <a:prstGeom prst="flowChartPredefinedProcess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10-15T15:49:43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