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92D-B811-45D8-B5A5-B75C0171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8924-5790-41F9-8719-AEC50C65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2B2C-B1C4-49F4-9D71-A9379C7F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0E4-52DA-4AA7-B2A2-E04F6238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838B-2B3A-4CC8-8767-6192A923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42D-BE4B-4757-8843-D8FF3C67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0AF-EA8E-43C3-B9C2-02ABD620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C611-7CFA-4B25-AEA3-0D3DFF2D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853-C7E4-4E4F-80AC-C59B1849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DB80-E754-450B-BF76-848109A6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928B-F273-495C-938D-ECC10040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A6ED-76DB-4D10-A6A6-313326AC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FC79-F315-4BCF-9982-83D10C0ED3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95480" y="189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实用语文（第一册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443640" y="333360"/>
            <a:ext cx="205884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细黑"/>
              </a:rPr>
              <a:t>第一单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77292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生态平衡    环境保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合作探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鸟儿为什么会“自杀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"/>
              </a:rPr>
              <a:t>          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"/>
              </a:rPr>
              <a:t>自杀，是鸟儿采用的最后一招了，它们为了保护同类不再受人类的伤害，只有用生命来擦亮人类的良知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"/>
              </a:rPr>
              <a:t>          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"/>
              </a:rPr>
              <a:t>它是要用自己的死来向人类抗议：不要再剥夺我们生的权利！不要再拆散我们的家庭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走近科学：揭开大连成群飞鸟自杀之谜(组图) - zhaozhij - quocerickson的博客"/>
          <p:cNvPicPr/>
          <p:nvPr/>
        </p:nvPicPr>
        <p:blipFill>
          <a:blip r:embed="rId2"/>
          <a:stretch/>
        </p:blipFill>
        <p:spPr>
          <a:xfrm>
            <a:off x="971640" y="549360"/>
            <a:ext cx="76341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908000" y="3573360"/>
            <a:ext cx="2880000" cy="2082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076720" y="1773360"/>
            <a:ext cx="2944800" cy="2208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鸟儿“自杀”的科学秘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鸟儿“自杀”的科学秘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地球磁极的变化。因为鸟儿基本上都是利用定向标来飞往目的地的。当它们迷失方向后，便不会调整飞行的方向了，即使遇到障碍物，也会直线前冲，因此集体自杀的悲剧就发生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突发事件让鸟类产生精神变态导致的恶果。比如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出现暖秋的情况下，不少飞禽都不急于飞往南方，它们在家乡也过得不错。可后来天气突然变冷，于是才开始大批迁徙。在这匆匆忙忙的飞行过程中，难免有些张皇失措，于是发生集体性精神变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鸟儿“自杀”的科学秘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食物链中毒说”比较流行。这种观点认为，虾蟹以藻类为食，如果藻类被污染，那么以藻类为食的虾蟹就会中毒，接下来，中毒的虾蟹部分又会被小鱼等而后来它们又都可能成为鸟类的食物。毒素堆集在体内，到了鸟类的身体里就可能会伤害它们的神经系统：小剂量的毒素只会引起轻微的病症，比如说行为的混乱或短时间的失忆，而较大的剂量则会招致严重的、不可逆转的后果——发疯自杀或者直接被毒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生活在陆地上的鸟类很可能受到例如城市噪音、废气和污水等的毒害，导致它们的神经慢性中毒，慢性中毒的结果可能让它们在特别疲劳的时候，如长途迁徙时显现威力——让它们神志不清，行为失控，走向极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67280" y="1484280"/>
            <a:ext cx="4105080" cy="2089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破坏自然环境的人类是罪魁祸首之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24360" y="3429000"/>
            <a:ext cx="4705200" cy="3086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8360" y="1125360"/>
            <a:ext cx="4286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6546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合作探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48000" y="1557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幼圆"/>
              </a:rPr>
              <a:t>鸟儿自杀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2924280"/>
            <a:ext cx="5616720" cy="10080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鸟类迁徙期的烦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4437000"/>
            <a:ext cx="8137440" cy="10080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类对大自然的破坏，改变了原有的生态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文中有哪些令人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印象深刻的细节描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车窗上开放了一朵鲜红的花儿，就像一朵鲜艳的玫瑰。又是一声声“噼噼啪啪”！一朵朵红玫瑰不断地开放着，不一会车窗上已是血红一片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树梢上另一只鸟箭一样飞窜下来，悲鸣着，拍打着翅膀身草丛飞去，它像一个痛苦万状的人那样扑在死去的鸟儿身上，将死鸟用嘴衔起又放下，反反复复做着这个动作。一边这样做着，一边发出尖利的悲鸣，直叫到声音嘶哑，发不出声来，它才平静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03640" y="1916280"/>
            <a:ext cx="3672000" cy="1728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色彩、动作的细节描写中，塑造了鸟儿之死的残酷和凄惨，令人自然而生同情之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32000" y="1844280"/>
            <a:ext cx="5554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本文旨在发出保护环境、爱护鸟类的强烈呼吁，借鸟儿自杀这样一个凄惨的故事控诉了人类对自然的漠视和破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本文叙议结合，平中见奇，以草原上不寻常的真实故事一步步深入主题，并以细节描写打动人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7640" y="2130120"/>
            <a:ext cx="655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自杀的鸟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79640" y="3716280"/>
            <a:ext cx="4352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英 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59280" y="1628280"/>
            <a:ext cx="5905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景状物类文章推荐阅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珍珠鸟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松鼠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乡下人家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00000" y="1989000"/>
            <a:ext cx="5986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你的家庭、学校及周边生活区常见的鸟类，并制作成科普小卡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534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87280" y="1773000"/>
            <a:ext cx="59770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了解草原生态的相关历史及科学知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感受作者强烈的生态意识和生命情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培养热爱自然关爱动物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导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756144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导入：美丽的鸟儿，为何自杀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500720" y="2522520"/>
            <a:ext cx="43005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作家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71640" y="1700280"/>
            <a:ext cx="5688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子，原名何群英，当代作家。著作有《神奇的根儿》、纪实文学《渴望蓝天》《康定藏族民间故事集》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948360" y="3860640"/>
            <a:ext cx="17812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梳理思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0567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部分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—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我”目睹海拉尔草原的鸟儿集体自杀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部分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—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司机讲述草原鸟儿自杀之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部分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—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我”回忆秦岭的鸟儿另一个“自杀”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四部分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升华主题，发出呼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42920" y="1844280"/>
            <a:ext cx="604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文中写了几次鸟儿的“自杀” ？鸟儿怎样“自杀”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鸟儿为什么会“自杀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合作探讨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、鸟儿如何“自杀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251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自杀的鸟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9280" y="1700280"/>
            <a:ext cx="403848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见证者：“我”和司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描述：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楷体"/>
              </a:rPr>
              <a:t>“车窗上开放了一朵鲜红的花儿，就像一朵鲜艳的玫瑰。又是一声声“噼噼啪啪”！一朵朵红玫瑰不断地开放着，不一会车窗上已是血红一片了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86064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843280" y="2637000"/>
            <a:ext cx="57636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2680" y="2349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海拉尔草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60560" y="450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秦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3860640"/>
            <a:ext cx="4176720" cy="76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见证者：猎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描述：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楷体"/>
              </a:rPr>
              <a:t>“鸟儿并没有撞向青年，而是从他的头上飞过，向青年身后的岩石撞去！一下！二下！三下！鸟儿不再鸣叫，只是这样拼死地撞去，当震惊的青年睁开眼睛看清楚时，那只鸟儿已变成了一片鲜红的血迹，印在黑色的岩石上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4T15:42:03Z</dcterms:created>
  <dc:creator>user</dc:creator>
  <dc:description/>
  <dc:language>en-US</dc:language>
  <cp:lastModifiedBy>user</cp:lastModifiedBy>
  <dcterms:modified xsi:type="dcterms:W3CDTF">2017-11-16T14:41:56Z</dcterms:modified>
  <cp:revision>22</cp:revision>
  <dc:subject/>
  <dc:title>幻灯片 1</dc:title>
</cp:coreProperties>
</file>