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49C-EBCF-4C55-A1EE-C7ACE093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6A1-0B0E-48CD-8458-07A639A7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41E-1E34-4270-B6FC-AE6059E7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BD9-8D0B-40F0-B62B-0DA9F67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507-F67E-493A-A4DA-4EDAD15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F56-5305-41FE-B88C-EA0D3D5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E65-BD1E-48DC-9D92-309BD48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FB6-7436-451F-891D-388FA18B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D24-A627-4B6F-AE24-A25624C5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448-9003-4DE7-8DB8-DD8150C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0CF-8F9C-4285-9CE8-DD3C975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12E-3CC9-4023-A646-5C36D23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84C-6ED4-4F0E-A60D-FE459844F4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现当代诗歌一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2708280"/>
            <a:ext cx="7451640" cy="116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急流、小河、荒林、废墟、草屋、云朵、破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——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”的形象表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628640"/>
            <a:ext cx="62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、如何看待这些典型意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合作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724280"/>
            <a:ext cx="7451640" cy="123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小鱼、小鸟、常青藤、火焰、夕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——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爱人”的形象表现。</a:t>
            </a:r>
            <a:r>
              <a:rPr b="0" lang="zh-CN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2637000"/>
            <a:ext cx="8282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自喻的意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阔大、粗犷，富有男性的阳刚之气，给人以壮美之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比喻爱人的意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娇小、细腻、有着女性的柔媚，给人以秀美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合作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628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、这些意象的视觉效果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3573360"/>
            <a:ext cx="4824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愿意”、“只要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609480"/>
          <a:ext cx="8077320" cy="4953240"/>
        </p:xfrm>
        <a:graphic>
          <a:graphicData uri="http://schemas.openxmlformats.org/drawingml/2006/table">
            <a:tbl>
              <a:tblPr/>
              <a:tblGrid>
                <a:gridCol w="1981080"/>
                <a:gridCol w="2210040"/>
                <a:gridCol w="2057400"/>
                <a:gridCol w="18288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85800" y="91440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人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752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急流、小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荒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废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9144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人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小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6668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荒凉—勇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89520" y="342900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常春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7524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崎岖—艰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266688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小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2720" y="426708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火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草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084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仿宋"/>
              </a:rPr>
              <a:t>云朵、破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夕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3429000"/>
            <a:ext cx="18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默—毁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2280" y="42670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饱受打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62280" y="50292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灰暗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0760" y="17524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新魏"/>
                <a:ea typeface="华文新魏"/>
              </a:rPr>
              <a:t>快乐—悠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6668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新魏"/>
                <a:ea typeface="华文新魏"/>
              </a:rPr>
              <a:t>鸣叫—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342900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新魏"/>
                <a:ea typeface="华文新魏"/>
              </a:rPr>
              <a:t>青青—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0760" y="42670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新魏"/>
                <a:ea typeface="华文新魏"/>
              </a:rPr>
              <a:t>可爱—愉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00760" y="5105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新魏"/>
                <a:ea typeface="华文新魏"/>
              </a:rPr>
              <a:t>鲜艳—辉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616572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450864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毁灭”“荒凉”和“攀援而上”形成第三处对照。常春藤“攀援上升”充满了生命的活力，废墟是它上升成长的依靠，而废墟自身却要一步步走向衰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里写出了为使爱人青春永驻，而甘愿牺牲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572000" cy="403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1890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314172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五处对照，使诗人对爱情的真诚无私的奉献精神得到了形象而深刻的体现，具有强烈的感人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首诗五处运用对照的写法，请分析每处对照，所揭示的深层含义及其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合作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2205000"/>
            <a:ext cx="66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：</a:t>
            </a:r>
            <a:r>
              <a:rPr b="1" lang="zh-CN" sz="3600" spc="-1" strike="noStrike">
                <a:solidFill>
                  <a:srgbClr val="55789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；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革命战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爱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的爱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追求的革命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深入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19280" y="31417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爱恋忠贞——意象叠加——循环复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436572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博喻——反复——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深入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文的整体艺术特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84360" y="5084640"/>
            <a:ext cx="338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意象的独创性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96200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鲜活的意象、澎湃的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裴多菲以爱情诗和革命诗著称，而且这两种诗在他笔下都能迸发出熊熊火焰。这首诗没有空泛说教，而是通过一系列鲜活意象的排列递进，营造了一个情感流动的回旋天地。而这也正是裴多菲爱情诗的特点之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20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2 .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本诗通篇采用博喻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谓博喻手法，即用一连串丰富多彩的比喻，来表达同一中心思想。诗人把每一个比喻都加以展开，并同对比结合运用，从而包含了更丰富的意义，具有更浓郁的民歌风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、多处运用对比的写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一段，“崎岖”和“快乐”形成第一处对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二段，“勇敢地作战”和“做窠”“鸣叫”形成第二处对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三段，“毁灭”“荒凉”和“攀援上升”形成第三处对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四段，“饱受风雨的打击”和“愉快”形成第四处对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五段，“飘来飘去”和“鲜艳的辉煌”形成第五处对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522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献给未婚妻尤丽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404640"/>
            <a:ext cx="1067040" cy="5580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愿意是急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7280" y="2492280"/>
            <a:ext cx="18702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裴多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34136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789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5789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爱情诗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抒发对爱人的深挚感情，歌颂纯洁而高尚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政治抒情诗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匈牙利人民的解放斗争事业，歌颂为民族解放事业献身的精神和执著追求理想的革命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63640" y="15573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我愿意是激流》和《致橡树》的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23424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我愿意是激流》爱情观——对爱情的无私奉献、无怨无悔、倾慕依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致橡树》正确的爱情观——相互依存、心心相印、同甘共苦、平等独立、坚贞不渝、外内兼蓄，既尊重对方存在又珍视自身价值——伟大的爱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认识不同——《我》男性视角；《致》女性视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时代不同——《我》热恋时期；《致》时代更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04640"/>
            <a:ext cx="23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“青春”为本体，仿写一个博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搜集并朗读裴多菲的其他诗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14396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650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1341360"/>
            <a:ext cx="842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感情地朗诵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欣赏并涵咏诗歌的语言之美、意象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会诗歌表达的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匈牙利纸币上的裴多菲"/>
          <p:cNvPicPr/>
          <p:nvPr/>
        </p:nvPicPr>
        <p:blipFill>
          <a:blip r:embed="rId2"/>
          <a:stretch/>
        </p:blipFill>
        <p:spPr>
          <a:xfrm>
            <a:off x="1714680" y="1181160"/>
            <a:ext cx="554508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匈牙利纸币上的裴多菲1"/>
          <p:cNvPicPr/>
          <p:nvPr/>
        </p:nvPicPr>
        <p:blipFill>
          <a:blip r:embed="rId3"/>
          <a:stretch/>
        </p:blipFill>
        <p:spPr>
          <a:xfrm>
            <a:off x="1692360" y="3860640"/>
            <a:ext cx="56163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5" descr=""/>
          <p:cNvPicPr/>
          <p:nvPr/>
        </p:nvPicPr>
        <p:blipFill>
          <a:blip r:embed="rId4"/>
          <a:stretch/>
        </p:blipFill>
        <p:spPr>
          <a:xfrm>
            <a:off x="1619280" y="260280"/>
            <a:ext cx="573552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34545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裴多裴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4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爱上森德莱尤丽亚以后，写了不少优美的爱情诗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4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裴多裴与心爱的人结成伉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203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lum contrast="-6000"/>
          </a:blip>
          <a:srcRect l="6783" t="0" r="4301" b="2175"/>
          <a:stretch/>
        </p:blipFill>
        <p:spPr>
          <a:xfrm>
            <a:off x="5796000" y="1628640"/>
            <a:ext cx="3056040" cy="443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1773360"/>
            <a:ext cx="52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裴多菲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823—1849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匈牙利著名的爱国主义战士和诗人。他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那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领导了匈牙利首都布达佩斯的武装起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产阶级民主主义革命家。共写了八百多首诗和八篇长篇叙事诗，著名长诗有《使徒》、 《亚诺什勇士》等。他的诗歌充满革命激情，风格清新，语言通俗，富有民歌味。其作品对匈牙利民族文学发展影响很大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1920" y="1052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24360" y="189000"/>
            <a:ext cx="439272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愿意是急流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里的小河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崎岖的路上、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岩石上经过……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要我的爱人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条小鱼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我的浪花中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地游来游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愿意是废墟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峻峭的山岩上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静默的毁灭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不使我懊丧……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要我的爱人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青青的常春藤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着我荒凉的额，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密地攀援上升。 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280" y="1557360"/>
            <a:ext cx="907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第一节：急流、小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穿越崎岖的路和岩石—不怕爱情有重重艰险、坎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第二节：荒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同狂风勇敢作战———不怕爱情遭受磨难、打击  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第三节：废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静默中毁灭荒凉—— 不怕爱情遭受毁灭、遗弃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第四节：草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饱受风雨打击——— 不怕处境孤单、风吹雨打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第五节：云朵、破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漂泊苍凉孤独———不怕浪迹天涯、东游西荡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梳理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河”要穿越“崎岖山路”，意味着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爱情历程的艰难曲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林”要同狂风恶战，表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爱情可能遭遇的挫折和打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废墟”已被毁灭、遗弃，象征着为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爱将可能付出巨大的代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深山谷底的“草屋”忍受风吹雨打，表现了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处境的孤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在广漠空中无聊地飘荡的云朵则隐示着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诗人的流浪生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一切都含蓄地体现出主人公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刚毅不屈的性格和对爱情坚贞不渝的追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3480" y="404640"/>
            <a:ext cx="1278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深入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1268280"/>
            <a:ext cx="62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、诗中写了哪些典型意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41:59Z</dcterms:created>
  <dc:creator/>
  <dc:description/>
  <dc:language>en-US</dc:language>
  <cp:lastModifiedBy>user</cp:lastModifiedBy>
  <dcterms:modified xsi:type="dcterms:W3CDTF">2017-12-16T14:03:15Z</dcterms:modified>
  <cp:revision>34</cp:revision>
  <dc:subject/>
  <dc:title>幻灯片 1</dc:title>
</cp:coreProperties>
</file>