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8D8-9C2B-4AF3-8C92-DE1BD69C7A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意休息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6DA-ACD9-4A0B-B346-AADD29D7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B42-A2EF-4248-B2AA-BD1B8260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15D-32CE-453C-A7ED-6373B5C7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0FA-B387-4D38-A817-0605D4FA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768-D754-498E-800A-D9B34ABD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DFE-7244-4347-9952-F56D5B9E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658-E70A-49B4-ABCF-4403BA41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E40-175D-42C6-BDBA-9EF83B53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2B8-18DC-4C46-9949-63206DB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0EB-8BDA-4A87-8FAA-DB49FF22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552-59F1-4B5C-856B-950B028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635-84DC-431E-8B23-2806C940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378480"/>
            <a:ext cx="914400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95B7-08F5-45E5-A610-01B1692BF0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74160" y="152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实用语文（第一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hyperlink" Target="http://baike.baidu.com/view/338576.htm" TargetMode="External"/><Relationship Id="rId7" Type="http://schemas.openxmlformats.org/officeDocument/2006/relationships/hyperlink" Target="http://baike.baidu.com/view/104732.htm" TargetMode="External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0%F1&#242;&amp;in=20119&amp;cl=2&amp;cm=1&amp;sc=0&amp;lm=-1&amp;pn=3&amp;rn=1&amp;di=3024443790&amp;ln=2000&amp;fr=&amp;ic=0&amp;s=0&amp;se=1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普通话与口语表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15"/>
          <p:cNvSpPr/>
          <p:nvPr/>
        </p:nvSpPr>
        <p:spPr>
          <a:xfrm>
            <a:off x="4724280" y="1828800"/>
            <a:ext cx="3733920" cy="4191120"/>
          </a:xfrm>
          <a:custGeom>
            <a:avLst/>
            <a:gdLst>
              <a:gd name="textAreaLeft" fmla="*/ 47160 w 3733920"/>
              <a:gd name="textAreaRight" fmla="*/ 3686760 w 3733920"/>
              <a:gd name="textAreaTop" fmla="*/ 47160 h 4191120"/>
              <a:gd name="textAreaBottom" fmla="*/ 4143960 h 4191120"/>
            </a:gdLst>
            <a:ahLst/>
            <a:rect l="textAreaLeft" t="textAreaTop" r="textAreaRight" b="textAreaBottom"/>
            <a:pathLst>
              <a:path w="21600" h="24245">
                <a:moveTo>
                  <a:pt x="935" y="0"/>
                </a:moveTo>
                <a:arcTo wR="935" hR="935" stAng="16200000" swAng="-5400000"/>
                <a:lnTo>
                  <a:pt x="0" y="23310"/>
                </a:lnTo>
                <a:arcTo wR="935" hR="935" stAng="10800000" swAng="-5400000"/>
                <a:lnTo>
                  <a:pt x="20665" y="24245"/>
                </a:lnTo>
                <a:arcTo wR="935" hR="935" stAng="5400000" swAng="-5400000"/>
                <a:lnTo>
                  <a:pt x="21600" y="935"/>
                </a:lnTo>
                <a:arcTo wR="935" hR="93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380880" y="1828800"/>
            <a:ext cx="3733920" cy="4114800"/>
          </a:xfrm>
          <a:custGeom>
            <a:avLst/>
            <a:gdLst>
              <a:gd name="textAreaLeft" fmla="*/ 47160 w 3733920"/>
              <a:gd name="textAreaRight" fmla="*/ 3686760 w 3733920"/>
              <a:gd name="textAreaTop" fmla="*/ 47160 h 4114800"/>
              <a:gd name="textAreaBottom" fmla="*/ 4067640 h 4114800"/>
            </a:gdLst>
            <a:ahLst/>
            <a:rect l="textAreaLeft" t="textAreaTop" r="textAreaRight" b="textAreaBottom"/>
            <a:pathLst>
              <a:path w="21600" h="23803">
                <a:moveTo>
                  <a:pt x="935" y="0"/>
                </a:moveTo>
                <a:arcTo wR="935" hR="935" stAng="16200000" swAng="-5400000"/>
                <a:lnTo>
                  <a:pt x="0" y="22868"/>
                </a:lnTo>
                <a:arcTo wR="935" hR="935" stAng="10800000" swAng="-5400000"/>
                <a:lnTo>
                  <a:pt x="20665" y="23803"/>
                </a:lnTo>
                <a:arcTo wR="935" hR="935" stAng="5400000" swAng="-5400000"/>
                <a:lnTo>
                  <a:pt x="21600" y="935"/>
                </a:lnTo>
                <a:arcTo wR="935" hR="93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节   语音规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371600" y="83808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微软雅黑"/>
              </a:rPr>
              <a:t>声母发音： 按发音方法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152280" y="1143000"/>
            <a:ext cx="1905120" cy="685800"/>
          </a:xfrm>
          <a:prstGeom prst="roundRect">
            <a:avLst>
              <a:gd name="adj" fmla="val 36699"/>
            </a:avLst>
          </a:prstGeom>
          <a:solidFill>
            <a:srgbClr val="07ccf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28600" y="1219320"/>
            <a:ext cx="1752480" cy="457200"/>
          </a:xfrm>
          <a:prstGeom prst="rect">
            <a:avLst/>
          </a:prstGeom>
          <a:solidFill>
            <a:srgbClr val="07cc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）按声带是否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震动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80880" y="1981080"/>
            <a:ext cx="3657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音时声带不颤动的辅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800600" y="1981080"/>
            <a:ext cx="3505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浊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音时声带颤动为浊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10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" dur="10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" dur="10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15"/>
          <p:cNvSpPr/>
          <p:nvPr/>
        </p:nvSpPr>
        <p:spPr>
          <a:xfrm>
            <a:off x="4724280" y="1828800"/>
            <a:ext cx="3886200" cy="4191120"/>
          </a:xfrm>
          <a:custGeom>
            <a:avLst/>
            <a:gdLst>
              <a:gd name="textAreaLeft" fmla="*/ 48960 w 3886200"/>
              <a:gd name="textAreaRight" fmla="*/ 3837240 w 3886200"/>
              <a:gd name="textAreaTop" fmla="*/ 48960 h 4191120"/>
              <a:gd name="textAreaBottom" fmla="*/ 4142160 h 4191120"/>
            </a:gdLst>
            <a:ahLst/>
            <a:rect l="textAreaLeft" t="textAreaTop" r="textAreaRight" b="textAreaBottom"/>
            <a:pathLst>
              <a:path w="21600" h="23295">
                <a:moveTo>
                  <a:pt x="935" y="0"/>
                </a:moveTo>
                <a:arcTo wR="935" hR="935" stAng="16200000" swAng="-5400000"/>
                <a:lnTo>
                  <a:pt x="0" y="22360"/>
                </a:lnTo>
                <a:arcTo wR="935" hR="935" stAng="10800000" swAng="-5400000"/>
                <a:lnTo>
                  <a:pt x="20665" y="23295"/>
                </a:lnTo>
                <a:arcTo wR="935" hR="935" stAng="5400000" swAng="-5400000"/>
                <a:lnTo>
                  <a:pt x="21600" y="935"/>
                </a:lnTo>
                <a:arcTo wR="935" hR="93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611280" y="1828800"/>
            <a:ext cx="3884400" cy="4191120"/>
          </a:xfrm>
          <a:custGeom>
            <a:avLst/>
            <a:gdLst>
              <a:gd name="textAreaLeft" fmla="*/ 48960 w 3884400"/>
              <a:gd name="textAreaRight" fmla="*/ 3835440 w 3884400"/>
              <a:gd name="textAreaTop" fmla="*/ 48960 h 4191120"/>
              <a:gd name="textAreaBottom" fmla="*/ 4142160 h 4191120"/>
            </a:gdLst>
            <a:ahLst/>
            <a:rect l="textAreaLeft" t="textAreaTop" r="textAreaRight" b="textAreaBottom"/>
            <a:pathLst>
              <a:path w="21600" h="23305">
                <a:moveTo>
                  <a:pt x="935" y="0"/>
                </a:moveTo>
                <a:arcTo wR="935" hR="935" stAng="16200000" swAng="-5400000"/>
                <a:lnTo>
                  <a:pt x="0" y="22370"/>
                </a:lnTo>
                <a:arcTo wR="935" hR="935" stAng="10800000" swAng="-5400000"/>
                <a:lnTo>
                  <a:pt x="20665" y="23305"/>
                </a:lnTo>
                <a:arcTo wR="935" hR="935" stAng="5400000" swAng="-5400000"/>
                <a:lnTo>
                  <a:pt x="21600" y="935"/>
                </a:lnTo>
                <a:arcTo wR="935" hR="93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371600" y="76212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微软雅黑"/>
              </a:rPr>
              <a:t>声母发音： 按发音方法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6"/>
          <p:cNvSpPr/>
          <p:nvPr/>
        </p:nvSpPr>
        <p:spPr>
          <a:xfrm>
            <a:off x="304920" y="1143000"/>
            <a:ext cx="1904760" cy="685800"/>
          </a:xfrm>
          <a:prstGeom prst="roundRect">
            <a:avLst>
              <a:gd name="adj" fmla="val 36699"/>
            </a:avLst>
          </a:prstGeom>
          <a:solidFill>
            <a:srgbClr val="07ccf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380520" y="1295280"/>
            <a:ext cx="1752840" cy="457200"/>
          </a:xfrm>
          <a:prstGeom prst="rect">
            <a:avLst/>
          </a:prstGeom>
          <a:solidFill>
            <a:srgbClr val="07cc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）按气流强弱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762120" y="1981080"/>
            <a:ext cx="3733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气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音时气流送出比较快和持久，在声门以及声门以上的某个狭窄部位造成磨擦，形成“送气音”。送气音共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声母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800600" y="2057400"/>
            <a:ext cx="3733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送气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音时，没有送气音特征，又同送气音形成对立的音。不送气音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声母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10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10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45"/>
          <p:cNvSpPr/>
          <p:nvPr/>
        </p:nvSpPr>
        <p:spPr>
          <a:xfrm>
            <a:off x="762120" y="1447920"/>
            <a:ext cx="7543800" cy="457200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舌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翘舌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辨正练习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边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辨正练习</a:t>
            </a:r>
            <a:r>
              <a:rPr b="1" lang="zh-CN" sz="2400" spc="-1" strike="noStrike">
                <a:solidFill>
                  <a:srgbClr val="cc3399"/>
                </a:solidFill>
                <a:latin typeface="微软雅黑"/>
                <a:ea typeface="微软雅黑"/>
              </a:rPr>
              <a:t> 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唇齿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舌根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辨正练习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舌尖前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舌面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辨正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翘舌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边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辨正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零声母音节的辨正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声母的辨正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八百标兵奔北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北坡炮兵并排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炮兵怕把标兵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标兵怕碰炮兵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762120"/>
            <a:ext cx="64911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声母辨正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1680" y="990720"/>
            <a:ext cx="854064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梨和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梨树下边一潭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梨落泥潭泥裹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捞出泥潭裹泥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水洗净梨上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447560" y="990720"/>
            <a:ext cx="64911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声母辨正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99640" y="1197000"/>
            <a:ext cx="748836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-s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说四个石狮子，你说十个纸狮子。石狮子是死狮子，四个石狮子不能嘶；纸狮子也是死狮子，十个纸狮子不能撕。狮子嘶，撕狮子；死狮子，狮子尸。要想说清这几个字，请读准四、十、石、嘶、撕和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　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韵母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8167320" y="626400"/>
            <a:ext cx="1004040" cy="1033200"/>
            <a:chOff x="8167320" y="626400"/>
            <a:chExt cx="1004040" cy="1033200"/>
          </a:xfrm>
        </p:grpSpPr>
        <p:pic>
          <p:nvPicPr>
            <p:cNvPr id="222" name="Picture 35" descr="未标题-12"/>
            <p:cNvPicPr/>
            <p:nvPr/>
          </p:nvPicPr>
          <p:blipFill>
            <a:blip r:embed="rId2"/>
            <a:stretch/>
          </p:blipFill>
          <p:spPr>
            <a:xfrm rot="10296000">
              <a:off x="8229240" y="685800"/>
              <a:ext cx="879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6"/>
            <p:cNvSpPr/>
            <p:nvPr/>
          </p:nvSpPr>
          <p:spPr>
            <a:xfrm>
              <a:off x="8326080" y="688320"/>
              <a:ext cx="817560" cy="8791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37"/>
          <p:cNvSpPr/>
          <p:nvPr/>
        </p:nvSpPr>
        <p:spPr>
          <a:xfrm>
            <a:off x="3425760" y="3879720"/>
            <a:ext cx="3919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006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04920" y="1523880"/>
          <a:ext cx="8458200" cy="4453200"/>
        </p:xfrm>
        <a:graphic>
          <a:graphicData uri="http://schemas.openxmlformats.org/drawingml/2006/table">
            <a:tbl>
              <a:tblPr/>
              <a:tblGrid>
                <a:gridCol w="1460520"/>
                <a:gridCol w="2985840"/>
                <a:gridCol w="4011840"/>
              </a:tblGrid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结构划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舌的部位、状态划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包含韵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单韵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舌面单韵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ê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舌尖单韵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i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前）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i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后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卷舌单韵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复韵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前响复韵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i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ei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中响复韵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a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ou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ai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后响复韵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鼻韵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前鼻韵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ɑ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e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ɑ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ɑ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üɑ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后鼻韵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e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a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a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uen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45"/>
          <p:cNvSpPr/>
          <p:nvPr/>
        </p:nvSpPr>
        <p:spPr>
          <a:xfrm>
            <a:off x="915840" y="1447920"/>
            <a:ext cx="7162920" cy="365760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鼻音韵母和后鼻音韵母的辨证练习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圆唇单韵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圆唇单韵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辨正训练</a:t>
            </a:r>
            <a:r>
              <a:rPr b="1" lang="zh-CN" sz="2400" spc="-1" strike="noStrike">
                <a:solidFill>
                  <a:srgbClr val="cc3399"/>
                </a:solidFill>
                <a:latin typeface="微软雅黑"/>
                <a:ea typeface="微软雅黑"/>
              </a:rPr>
              <a:t>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韵母的辨正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77240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1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读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韵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主要区别就是唇形的圆展不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玻璃  剥削  播放  波浪    博士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坡度  婆婆  叵测    蘑菇  模范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末日  墨水儿   墨汁   佛经  佛门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48980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1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韵母辨正训练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南坡走过来个老婆婆，俩手托着俩笸箩。左边笸箩里装的菠萝，右边笸箩里装的萝卜。你说说，是左边笸箩里的菠萝多，还是右边笸箩里的萝卜多？说的对，送给你一笸箩菠萝；说的不对，罚你替老婆婆把两笸箩菠萝和萝卜送到大北坡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掌握普通话发音方法和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朗诵等口语表达基本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能够熟练使用规范的普通话进行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7138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复韵母辨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韵母单音化；动程不够，开口度太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i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ê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菜  北海   麦子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o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剖析  阴谋  否定   某人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üe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忽略   学习  月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o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来   哆嗦   暖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丢失或增加韵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e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拼合时，往往丢失韵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ao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“角脚药”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43724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妹和小妹，一起去收麦。大妹割大麦，小妹割小麦。大妹帮小妹挑小麦，小妹帮大妹挑大麦。大妹小妹收完麦，噼噼啪啪齐打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352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鼻韵母辨正训练 （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后鼻对比训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ɑn—ɑnɡ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烂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浪漫   三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桑叶   反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访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en—enɡ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蒸   伸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声张   出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in—inɡ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禁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境地   临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零食   信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幸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96472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1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上看，满天星，地上看，有个坑，坑里看，有盘冰。坑外长着一老松，松上落着一只鹰，松下坐着一老僧，僧前放着一部经，经前点着一盏灯，墙上钉着一根钉，钉上挂着一张弓。说刮风就刮风，刮得男女老少难把眼睛睁。刮散了天上的星，刮平了地上的坑，刮化了坑里的冰，刮倒了坑外的松，惊飞了松上的鹰，刮走了松下的僧，刮乱了僧前的经，刮灭了经前的灯，刮掉了墙上的钉，刮翻了钉上的弓。这就是一个星散、坑平、冰化、松倒、鹰飞、僧走、经乱、灯灭、钉掉、弓翻的绕口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50292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45"/>
          <p:cNvSpPr/>
          <p:nvPr/>
        </p:nvSpPr>
        <p:spPr>
          <a:xfrm>
            <a:off x="689040" y="1371600"/>
            <a:ext cx="8151840" cy="46483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类：指声调的类别，就是把调值相同的音归纳在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建立起来的声调的类别。普通话有四种声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阴平、阳平、上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ǎn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声、去声，称为四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为第一声、第二声、第三声、第四声。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号：即声调的符号，是标记声调的符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阴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阳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声调的调类、调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48006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45"/>
          <p:cNvSpPr/>
          <p:nvPr/>
        </p:nvSpPr>
        <p:spPr>
          <a:xfrm>
            <a:off x="685800" y="1523880"/>
            <a:ext cx="7848720" cy="41911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值是声调的具体读法。四种声调的读法，就是四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的调值，通常概括为一平、二升、三曲、四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写声调的高低通常采用赵元任先生制定的“五度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法”来记录语言的调值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声调的调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48006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600200" y="304920"/>
            <a:ext cx="6019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调值的</a:t>
            </a:r>
            <a:r>
              <a:rPr b="1" lang="zh-CN" sz="4800" spc="-1" strike="noStrike">
                <a:solidFill>
                  <a:srgbClr val="ff3399"/>
                </a:solidFill>
                <a:latin typeface="方正姚体"/>
                <a:ea typeface="方正姚体"/>
              </a:rPr>
              <a:t>五度标记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581280" y="2057400"/>
            <a:ext cx="382680" cy="3994200"/>
          </a:xfrm>
          <a:prstGeom prst="rect">
            <a:avLst/>
          </a:prstGeom>
          <a:solidFill>
            <a:srgbClr val="ffff99">
              <a:alpha val="50000"/>
            </a:srgbClr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"/>
          <p:cNvSpPr/>
          <p:nvPr/>
        </p:nvSpPr>
        <p:spPr>
          <a:xfrm flipV="1">
            <a:off x="763560" y="2361960"/>
            <a:ext cx="2817720" cy="7596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 flipV="1">
            <a:off x="914400" y="2590560"/>
            <a:ext cx="2666880" cy="15238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914400" y="4952880"/>
            <a:ext cx="68724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2209680" y="3276720"/>
            <a:ext cx="1373400" cy="2590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762120" y="2438280"/>
            <a:ext cx="2819160" cy="327672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648320" y="205740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阴平 高平调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4648320" y="29718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阳平 中升调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4572000" y="38862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声 降升调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4648320" y="48769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声 全降调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380880" y="2057400"/>
            <a:ext cx="382680" cy="3933360"/>
          </a:xfrm>
          <a:prstGeom prst="rect">
            <a:avLst/>
          </a:prstGeom>
          <a:solidFill>
            <a:srgbClr val="ffff99">
              <a:alpha val="50000"/>
            </a:srgbClr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1600200" y="58690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45"/>
          <p:cNvSpPr/>
          <p:nvPr/>
        </p:nvSpPr>
        <p:spPr>
          <a:xfrm>
            <a:off x="1523880" y="1600200"/>
            <a:ext cx="5791320" cy="41911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阴平的高度不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阳平升高不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声缺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声的起音低、下降不到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声调的辨正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480060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650556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章  普通话音变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429840" y="1200600"/>
            <a:ext cx="6656400" cy="1560960"/>
            <a:chOff x="429840" y="1200600"/>
            <a:chExt cx="6656400" cy="1560960"/>
          </a:xfrm>
        </p:grpSpPr>
        <p:sp>
          <p:nvSpPr>
            <p:cNvPr id="271" name="Rectangle 11"/>
            <p:cNvSpPr/>
            <p:nvPr/>
          </p:nvSpPr>
          <p:spPr>
            <a:xfrm>
              <a:off x="434160" y="1709640"/>
              <a:ext cx="6652080" cy="546480"/>
            </a:xfrm>
            <a:prstGeom prst="rect">
              <a:avLst/>
            </a:prstGeom>
            <a:gradFill rotWithShape="0">
              <a:gsLst>
                <a:gs pos="0">
                  <a:srgbClr val="9966ff">
                    <a:alpha val="30196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5"/>
            <p:cNvGrpSpPr/>
            <p:nvPr/>
          </p:nvGrpSpPr>
          <p:grpSpPr>
            <a:xfrm>
              <a:off x="429840" y="1200600"/>
              <a:ext cx="895680" cy="1560960"/>
              <a:chOff x="429840" y="1200600"/>
              <a:chExt cx="895680" cy="1560960"/>
            </a:xfrm>
          </p:grpSpPr>
          <p:pic>
            <p:nvPicPr>
              <p:cNvPr id="273" name="Picture 13" descr="未标题-12"/>
              <p:cNvPicPr/>
              <p:nvPr/>
            </p:nvPicPr>
            <p:blipFill>
              <a:blip r:embed="rId2"/>
              <a:stretch/>
            </p:blipFill>
            <p:spPr>
              <a:xfrm rot="98400">
                <a:off x="449280" y="1919520"/>
                <a:ext cx="864360" cy="82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Picture 15" descr="未标题-12"/>
              <p:cNvPicPr/>
              <p:nvPr/>
            </p:nvPicPr>
            <p:blipFill>
              <a:blip r:embed="rId3"/>
              <a:stretch/>
            </p:blipFill>
            <p:spPr>
              <a:xfrm flipH="1" rot="10899600">
                <a:off x="441720" y="1212840"/>
                <a:ext cx="864360" cy="837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5" name="Rectangle 18"/>
          <p:cNvSpPr/>
          <p:nvPr/>
        </p:nvSpPr>
        <p:spPr>
          <a:xfrm>
            <a:off x="1371600" y="14479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变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0"/>
          <p:cNvSpPr/>
          <p:nvPr/>
        </p:nvSpPr>
        <p:spPr>
          <a:xfrm>
            <a:off x="457200" y="2895480"/>
            <a:ext cx="7086600" cy="609840"/>
          </a:xfrm>
          <a:prstGeom prst="rect">
            <a:avLst/>
          </a:prstGeom>
          <a:gradFill rotWithShape="0">
            <a:gsLst>
              <a:gs pos="0">
                <a:srgbClr val="9966ff">
                  <a:alpha val="3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0"/>
          <p:cNvGrpSpPr/>
          <p:nvPr/>
        </p:nvGrpSpPr>
        <p:grpSpPr>
          <a:xfrm>
            <a:off x="430560" y="2420640"/>
            <a:ext cx="881280" cy="1674720"/>
            <a:chOff x="430560" y="2420640"/>
            <a:chExt cx="881280" cy="1674720"/>
          </a:xfrm>
        </p:grpSpPr>
        <p:pic>
          <p:nvPicPr>
            <p:cNvPr id="278" name="Picture 22" descr="未标题-12"/>
            <p:cNvPicPr/>
            <p:nvPr/>
          </p:nvPicPr>
          <p:blipFill>
            <a:blip r:embed="rId4"/>
            <a:stretch/>
          </p:blipFill>
          <p:spPr>
            <a:xfrm rot="98400">
              <a:off x="443160" y="3190680"/>
              <a:ext cx="85284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3" descr="未标题-12"/>
            <p:cNvPicPr/>
            <p:nvPr/>
          </p:nvPicPr>
          <p:blipFill>
            <a:blip r:embed="rId5"/>
            <a:stretch/>
          </p:blipFill>
          <p:spPr>
            <a:xfrm flipH="1" rot="10898400">
              <a:off x="446040" y="2432520"/>
              <a:ext cx="85284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Rectangle 24"/>
          <p:cNvSpPr/>
          <p:nvPr/>
        </p:nvSpPr>
        <p:spPr>
          <a:xfrm>
            <a:off x="380880" y="2895480"/>
            <a:ext cx="83822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节  轻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4"/>
          <p:cNvGrpSpPr/>
          <p:nvPr/>
        </p:nvGrpSpPr>
        <p:grpSpPr>
          <a:xfrm>
            <a:off x="275040" y="5011920"/>
            <a:ext cx="6202080" cy="1481400"/>
            <a:chOff x="275040" y="5011920"/>
            <a:chExt cx="6202080" cy="1481400"/>
          </a:xfrm>
        </p:grpSpPr>
        <p:sp>
          <p:nvSpPr>
            <p:cNvPr id="282" name="Rectangle 11"/>
            <p:cNvSpPr/>
            <p:nvPr/>
          </p:nvSpPr>
          <p:spPr>
            <a:xfrm>
              <a:off x="278280" y="5495040"/>
              <a:ext cx="6198840" cy="519120"/>
            </a:xfrm>
            <a:prstGeom prst="rect">
              <a:avLst/>
            </a:prstGeom>
            <a:gradFill rotWithShape="0">
              <a:gsLst>
                <a:gs pos="0">
                  <a:srgbClr val="9966ff">
                    <a:alpha val="30196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16"/>
            <p:cNvGrpSpPr/>
            <p:nvPr/>
          </p:nvGrpSpPr>
          <p:grpSpPr>
            <a:xfrm>
              <a:off x="275040" y="5011920"/>
              <a:ext cx="832680" cy="1481400"/>
              <a:chOff x="275040" y="5011920"/>
              <a:chExt cx="832680" cy="1481400"/>
            </a:xfrm>
          </p:grpSpPr>
          <p:pic>
            <p:nvPicPr>
              <p:cNvPr id="284" name="Picture 13" descr="未标题-12"/>
              <p:cNvPicPr/>
              <p:nvPr/>
            </p:nvPicPr>
            <p:blipFill>
              <a:blip r:embed="rId6"/>
              <a:stretch/>
            </p:blipFill>
            <p:spPr>
              <a:xfrm rot="98400">
                <a:off x="291240" y="5693760"/>
                <a:ext cx="805320" cy="78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15" descr="未标题-12"/>
              <p:cNvPicPr/>
              <p:nvPr/>
            </p:nvPicPr>
            <p:blipFill>
              <a:blip r:embed="rId7"/>
              <a:stretch/>
            </p:blipFill>
            <p:spPr>
              <a:xfrm flipH="1" rot="10899600">
                <a:off x="286200" y="5023440"/>
                <a:ext cx="805320" cy="796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6" name="Rectangle 24"/>
          <p:cNvSpPr/>
          <p:nvPr/>
        </p:nvSpPr>
        <p:spPr>
          <a:xfrm>
            <a:off x="380880" y="5410080"/>
            <a:ext cx="83822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节  “啊”的音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20"/>
          <p:cNvGrpSpPr/>
          <p:nvPr/>
        </p:nvGrpSpPr>
        <p:grpSpPr>
          <a:xfrm>
            <a:off x="350640" y="3641040"/>
            <a:ext cx="818640" cy="1553400"/>
            <a:chOff x="350640" y="3641040"/>
            <a:chExt cx="818640" cy="1553400"/>
          </a:xfrm>
        </p:grpSpPr>
        <p:pic>
          <p:nvPicPr>
            <p:cNvPr id="288" name="Picture 22" descr="未标题-12"/>
            <p:cNvPicPr/>
            <p:nvPr/>
          </p:nvPicPr>
          <p:blipFill>
            <a:blip r:embed="rId8"/>
            <a:stretch/>
          </p:blipFill>
          <p:spPr>
            <a:xfrm rot="98400">
              <a:off x="362160" y="4355640"/>
              <a:ext cx="79200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3" descr="未标题-12"/>
            <p:cNvPicPr/>
            <p:nvPr/>
          </p:nvPicPr>
          <p:blipFill>
            <a:blip r:embed="rId9"/>
            <a:stretch/>
          </p:blipFill>
          <p:spPr>
            <a:xfrm flipH="1" rot="10899000">
              <a:off x="365040" y="3651840"/>
              <a:ext cx="792000" cy="83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Rectangle 20"/>
          <p:cNvSpPr/>
          <p:nvPr/>
        </p:nvSpPr>
        <p:spPr>
          <a:xfrm>
            <a:off x="380880" y="4191120"/>
            <a:ext cx="7543800" cy="574560"/>
          </a:xfrm>
          <a:prstGeom prst="rect">
            <a:avLst/>
          </a:prstGeom>
          <a:gradFill rotWithShape="0">
            <a:gsLst>
              <a:gs pos="0">
                <a:srgbClr val="9966ff">
                  <a:alpha val="3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380880" y="4114800"/>
            <a:ext cx="68580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节  儿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>
            <a:off x="2666880" y="2819520"/>
            <a:ext cx="687600" cy="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0" descr="花纹小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066680" y="2438280"/>
            <a:ext cx="648000" cy="92736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6"/>
          <p:cNvGrpSpPr/>
          <p:nvPr/>
        </p:nvGrpSpPr>
        <p:grpSpPr>
          <a:xfrm>
            <a:off x="685800" y="2133720"/>
            <a:ext cx="1980720" cy="1218960"/>
            <a:chOff x="685800" y="2133720"/>
            <a:chExt cx="1980720" cy="1218960"/>
          </a:xfrm>
        </p:grpSpPr>
        <p:pic>
          <p:nvPicPr>
            <p:cNvPr id="296" name="AutoShape 31" descr=""/>
            <p:cNvPicPr/>
            <p:nvPr/>
          </p:nvPicPr>
          <p:blipFill>
            <a:blip r:embed="rId3"/>
            <a:stretch/>
          </p:blipFill>
          <p:spPr>
            <a:xfrm>
              <a:off x="685800" y="2133720"/>
              <a:ext cx="19807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8"/>
            <p:cNvSpPr/>
            <p:nvPr/>
          </p:nvSpPr>
          <p:spPr>
            <a:xfrm>
              <a:off x="990360" y="2320920"/>
              <a:ext cx="13741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32"/>
          <p:cNvSpPr/>
          <p:nvPr/>
        </p:nvSpPr>
        <p:spPr>
          <a:xfrm>
            <a:off x="914400" y="2438280"/>
            <a:ext cx="15238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变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3"/>
          <p:cNvSpPr/>
          <p:nvPr/>
        </p:nvSpPr>
        <p:spPr>
          <a:xfrm>
            <a:off x="3505320" y="1828800"/>
            <a:ext cx="3962160" cy="190512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8167320" y="626400"/>
            <a:ext cx="1004040" cy="1033200"/>
            <a:chOff x="8167320" y="626400"/>
            <a:chExt cx="1004040" cy="1033200"/>
          </a:xfrm>
        </p:grpSpPr>
        <p:pic>
          <p:nvPicPr>
            <p:cNvPr id="301" name="Picture 35" descr="未标题-12"/>
            <p:cNvPicPr/>
            <p:nvPr/>
          </p:nvPicPr>
          <p:blipFill>
            <a:blip r:embed="rId4"/>
            <a:stretch/>
          </p:blipFill>
          <p:spPr>
            <a:xfrm rot="10296000">
              <a:off x="8229240" y="685800"/>
              <a:ext cx="879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36"/>
            <p:cNvSpPr/>
            <p:nvPr/>
          </p:nvSpPr>
          <p:spPr>
            <a:xfrm>
              <a:off x="8326080" y="688320"/>
              <a:ext cx="817560" cy="8791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37"/>
          <p:cNvSpPr/>
          <p:nvPr/>
        </p:nvSpPr>
        <p:spPr>
          <a:xfrm>
            <a:off x="3657600" y="342900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20574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调、轻声、儿化和语气词“啊”的变化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8"/>
          <p:cNvSpPr/>
          <p:nvPr/>
        </p:nvSpPr>
        <p:spPr>
          <a:xfrm>
            <a:off x="1295280" y="2209680"/>
            <a:ext cx="7696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音规范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4343400" cy="26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45"/>
          <p:cNvSpPr/>
          <p:nvPr/>
        </p:nvSpPr>
        <p:spPr>
          <a:xfrm>
            <a:off x="685800" y="1523880"/>
            <a:ext cx="8001000" cy="41911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上声变为半上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上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上声＋阴平 （调值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4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变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1+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首都  火车  礼花  雨衣  省心  警花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上声＋阳平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调值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4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变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1+35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古人  祖国  补偿  乞求  可能  厂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上声＋去声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调值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4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变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1+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本质  法律  北部  百货  小麦  讲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上声＋轻声 （调值变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1 +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轻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奶奶  嫂嫂  马虎  打扮  买卖  喇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一、上声变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45"/>
          <p:cNvSpPr/>
          <p:nvPr/>
        </p:nvSpPr>
        <p:spPr>
          <a:xfrm>
            <a:off x="685800" y="1523880"/>
            <a:ext cx="8001000" cy="41911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声变为阳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）上声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上声变为 阳平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上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    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保险  美满  党委  尽管  老板  本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　                  鼓舞  产品  永远  语法  口语  岛屿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    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首长  母语  水果  草稿  旅馆  海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）上声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上声变轻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想想   走走   手里  哪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一、上声变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45"/>
          <p:cNvSpPr/>
          <p:nvPr/>
        </p:nvSpPr>
        <p:spPr>
          <a:xfrm>
            <a:off x="685800" y="1523880"/>
            <a:ext cx="7467480" cy="41911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上声变为半上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上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上声＋阴平 （调值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4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变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1+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　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首都  火车  礼花  雨衣  省心  警花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上声＋阳平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调值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4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变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1+35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古人  祖国  补偿  乞求  可能  厂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上声＋去声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调值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4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变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1+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本质  法律  北部  百货  小麦  讲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）上声＋轻声 （调值变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1 +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轻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奶奶  嫂嫂  马虎  打扮  买卖  喇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一、上声变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45"/>
          <p:cNvSpPr/>
          <p:nvPr/>
        </p:nvSpPr>
        <p:spPr>
          <a:xfrm>
            <a:off x="914400" y="1523880"/>
            <a:ext cx="7467480" cy="44197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个上声相连的变调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）双音节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单音节（阳平＋阳平＋上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演讲稿  跑马场  展览馆  管理组  水彩笔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蒙古语  打靶场  选取法  古典舞  虎骨酒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）单音节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双音节（半调＋阳平＋上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史小姐   党小组  好小伙   跑百米   纸老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李厂长   老保姆  冷处理   很友好   厂党委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）单音节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单音节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单音（阳平＋阳平＋上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软懒散  稳准很  水火土  早午晚  甲乙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一、上声变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45"/>
          <p:cNvSpPr/>
          <p:nvPr/>
        </p:nvSpPr>
        <p:spPr>
          <a:xfrm>
            <a:off x="914400" y="1523880"/>
            <a:ext cx="7467480" cy="44197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）多个上声音节相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请你｜把美好｜理想｜给领导｜讲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请你｜给我｜打点｜洗脸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请你｜给我｜买几把｜小雨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我｜很了解｜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5. 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展览馆里｜有｜好几百种｜展览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6. </a:t>
            </a:r>
            <a:r>
              <a:rPr b="0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我来过，我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一、上声变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45"/>
          <p:cNvSpPr/>
          <p:nvPr/>
        </p:nvSpPr>
        <p:spPr>
          <a:xfrm>
            <a:off x="685800" y="1523880"/>
            <a:ext cx="7848720" cy="41911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去声音节前变阳平调（调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非去声音节前变去声（调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夹在词语中读轻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　 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一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字变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5"/>
          <p:cNvSpPr/>
          <p:nvPr/>
        </p:nvSpPr>
        <p:spPr>
          <a:xfrm>
            <a:off x="685800" y="1523880"/>
            <a:ext cx="7848720" cy="41911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去声音节前变阳平调（调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夹在词语中读轻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不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字变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45"/>
          <p:cNvSpPr/>
          <p:nvPr/>
        </p:nvSpPr>
        <p:spPr>
          <a:xfrm>
            <a:off x="685800" y="1523880"/>
            <a:ext cx="7848720" cy="41911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AA+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（的）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第二个音节变阴平同时儿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AB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后两个音节都读阴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AAB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第二个音节读轻声，后两个音节变为阴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重叠词变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45"/>
          <p:cNvSpPr/>
          <p:nvPr/>
        </p:nvSpPr>
        <p:spPr>
          <a:xfrm>
            <a:off x="762120" y="1523880"/>
            <a:ext cx="7543800" cy="449604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分意义：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老子 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人名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)—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老子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父亲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　　　                东西（方向）—东西（物品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分词性：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大意 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名词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)—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大意 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形容词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　　　                干事 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名词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)—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干事 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动词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变语言色彩，使语气活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精神  溜达  笑话  机灵  家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语言的韵律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　　  水涨起来了，太阳的脸红起来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一、轻声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45"/>
          <p:cNvSpPr/>
          <p:nvPr/>
        </p:nvSpPr>
        <p:spPr>
          <a:xfrm>
            <a:off x="685800" y="1295280"/>
            <a:ext cx="7848720" cy="51055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助词、语气词一般读轻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叠音词和动词的重叠形式后面的字读轻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词、代词的后缀及复数“子”“头”“们”读轻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在名词、代词后面表示方位的语素或词有时读轻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在动词、形容词后面表示趋向的来、去、下去等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量词“个”常读轻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些常用的双音节词，第二个音节习惯上要读轻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二、轻声词的一般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7236000" y="1834200"/>
            <a:ext cx="1213560" cy="1300320"/>
            <a:chOff x="7236000" y="1834200"/>
            <a:chExt cx="1213560" cy="1300320"/>
          </a:xfrm>
        </p:grpSpPr>
        <p:pic>
          <p:nvPicPr>
            <p:cNvPr id="56" name="Picture 23" descr="未标题-12"/>
            <p:cNvPicPr/>
            <p:nvPr/>
          </p:nvPicPr>
          <p:blipFill>
            <a:blip r:embed="rId2"/>
            <a:stretch/>
          </p:blipFill>
          <p:spPr>
            <a:xfrm rot="10296000">
              <a:off x="7314840" y="1904760"/>
              <a:ext cx="1055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4"/>
            <p:cNvSpPr/>
            <p:nvPr/>
          </p:nvSpPr>
          <p:spPr>
            <a:xfrm>
              <a:off x="7431120" y="1908360"/>
              <a:ext cx="981000" cy="11142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21"/>
          <p:cNvSpPr/>
          <p:nvPr/>
        </p:nvSpPr>
        <p:spPr>
          <a:xfrm flipV="1">
            <a:off x="2514600" y="2057040"/>
            <a:ext cx="785880" cy="205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0" y="1371600"/>
            <a:ext cx="2707560" cy="1371600"/>
            <a:chOff x="0" y="1371600"/>
            <a:chExt cx="2707560" cy="1371600"/>
          </a:xfrm>
        </p:grpSpPr>
        <p:grpSp>
          <p:nvGrpSpPr>
            <p:cNvPr id="60" name="Group 7"/>
            <p:cNvGrpSpPr/>
            <p:nvPr/>
          </p:nvGrpSpPr>
          <p:grpSpPr>
            <a:xfrm>
              <a:off x="0" y="1371600"/>
              <a:ext cx="2707560" cy="1371600"/>
              <a:chOff x="0" y="1371600"/>
              <a:chExt cx="2707560" cy="1371600"/>
            </a:xfrm>
          </p:grpSpPr>
          <p:pic>
            <p:nvPicPr>
              <p:cNvPr id="61" name="Picture 15" descr="花纹小"/>
              <p:cNvPicPr/>
              <p:nvPr/>
            </p:nvPicPr>
            <p:blipFill>
              <a:blip r:embed="rId3">
                <a:lum bright="70000" contrast="-70000"/>
              </a:blip>
              <a:stretch/>
            </p:blipFill>
            <p:spPr>
              <a:xfrm>
                <a:off x="834840" y="1587960"/>
                <a:ext cx="1234080" cy="890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" name="Group 9"/>
              <p:cNvGrpSpPr/>
              <p:nvPr/>
            </p:nvGrpSpPr>
            <p:grpSpPr>
              <a:xfrm>
                <a:off x="0" y="1371600"/>
                <a:ext cx="2707560" cy="1371600"/>
                <a:chOff x="0" y="1371600"/>
                <a:chExt cx="2707560" cy="1371600"/>
              </a:xfrm>
            </p:grpSpPr>
            <p:pic>
              <p:nvPicPr>
                <p:cNvPr id="63" name="AutoShape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1371600"/>
                  <a:ext cx="270756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Text Box 11"/>
                <p:cNvSpPr/>
                <p:nvPr/>
              </p:nvSpPr>
              <p:spPr>
                <a:xfrm>
                  <a:off x="414000" y="1581120"/>
                  <a:ext cx="1885320" cy="9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" name="Rectangle 19"/>
            <p:cNvSpPr/>
            <p:nvPr/>
          </p:nvSpPr>
          <p:spPr>
            <a:xfrm>
              <a:off x="583920" y="1754640"/>
              <a:ext cx="16718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微软雅黑"/>
                </a:rPr>
                <a:t>一、普通话的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792200" y="626040"/>
            <a:ext cx="992880" cy="957600"/>
            <a:chOff x="7792200" y="626040"/>
            <a:chExt cx="992880" cy="957600"/>
          </a:xfrm>
        </p:grpSpPr>
        <p:pic>
          <p:nvPicPr>
            <p:cNvPr id="68" name="Picture 35" descr="未标题-12"/>
            <p:cNvPicPr/>
            <p:nvPr/>
          </p:nvPicPr>
          <p:blipFill>
            <a:blip r:embed="rId5"/>
            <a:stretch/>
          </p:blipFill>
          <p:spPr>
            <a:xfrm rot="10296000">
              <a:off x="7848720" y="685800"/>
              <a:ext cx="8798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36"/>
            <p:cNvSpPr/>
            <p:nvPr/>
          </p:nvSpPr>
          <p:spPr>
            <a:xfrm>
              <a:off x="7945200" y="687960"/>
              <a:ext cx="817560" cy="8056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37"/>
          <p:cNvSpPr/>
          <p:nvPr/>
        </p:nvSpPr>
        <p:spPr>
          <a:xfrm>
            <a:off x="3429000" y="388620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3048120" y="762120"/>
            <a:ext cx="5638680" cy="251460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3276720" y="1066680"/>
            <a:ext cx="50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普通话是以北京语音为标准音，以北方话为基础方言，以典范的现代白话文著作为语法规范的现代汉民族共同语。这个定义从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hlinkClick r:id="rId6"/>
              </a:rPr>
              <a:t>语音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hlinkClick r:id="rId7"/>
              </a:rPr>
              <a:t>词汇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33ccff"/>
                </a:solidFill>
                <a:uFillTx/>
                <a:latin typeface="宋体"/>
              </a:rPr>
              <a:t>语法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个方面明确规定了普通话的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4343400" y="3657600"/>
            <a:ext cx="1371600" cy="1143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北京语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1"/>
          <p:cNvSpPr/>
          <p:nvPr/>
        </p:nvSpPr>
        <p:spPr>
          <a:xfrm>
            <a:off x="3200400" y="4876920"/>
            <a:ext cx="1523880" cy="1143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北方话词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5257800" y="4876920"/>
            <a:ext cx="1447920" cy="11430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白话文语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3"/>
          <p:cNvSpPr/>
          <p:nvPr/>
        </p:nvSpPr>
        <p:spPr>
          <a:xfrm>
            <a:off x="609480" y="4191120"/>
            <a:ext cx="1676520" cy="1828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普通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4"/>
          <p:cNvSpPr/>
          <p:nvPr/>
        </p:nvSpPr>
        <p:spPr>
          <a:xfrm>
            <a:off x="2590920" y="4038480"/>
            <a:ext cx="609480" cy="2057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029200" y="0"/>
            <a:ext cx="3886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45"/>
          <p:cNvSpPr/>
          <p:nvPr/>
        </p:nvSpPr>
        <p:spPr>
          <a:xfrm>
            <a:off x="685800" y="1447920"/>
            <a:ext cx="7848720" cy="495288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别词义：  </a:t>
            </a:r>
            <a:r>
              <a:rPr b="1" lang="zh-CN" sz="2400" spc="-1" strike="noStrike">
                <a:solidFill>
                  <a:srgbClr val="33ccff"/>
                </a:solidFill>
                <a:latin typeface="微软雅黑"/>
                <a:ea typeface="微软雅黑"/>
              </a:rPr>
              <a:t>头（脑袋）—头儿（带头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分词性：  </a:t>
            </a:r>
            <a:r>
              <a:rPr b="1" lang="zh-CN" sz="2400" spc="-1" strike="noStrike">
                <a:solidFill>
                  <a:srgbClr val="33ccff"/>
                </a:solidFill>
                <a:latin typeface="微软雅黑"/>
                <a:ea typeface="微软雅黑"/>
              </a:rPr>
              <a:t>堆（动词）—一堆儿（量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分同音词： </a:t>
            </a:r>
            <a:r>
              <a:rPr b="1" lang="zh-CN" sz="2400" spc="-1" strike="noStrike">
                <a:solidFill>
                  <a:srgbClr val="33ccff"/>
                </a:solidFill>
                <a:latin typeface="微软雅黑"/>
                <a:ea typeface="微软雅黑"/>
              </a:rPr>
              <a:t>拉练（指行军、野营训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微软雅黑"/>
                <a:ea typeface="微软雅黑"/>
              </a:rPr>
              <a:t>                             —</a:t>
            </a:r>
            <a:r>
              <a:rPr b="1" lang="zh-CN" sz="2400" spc="-1" strike="noStrike">
                <a:solidFill>
                  <a:srgbClr val="33ccff"/>
                </a:solidFill>
                <a:latin typeface="微软雅黑"/>
                <a:ea typeface="微软雅黑"/>
              </a:rPr>
              <a:t>拉链儿（指拉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一定的感情色彩：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33ccff"/>
                </a:solidFill>
                <a:latin typeface="微软雅黑"/>
                <a:ea typeface="微软雅黑"/>
              </a:rPr>
              <a:t>花猫儿  好玩儿  女孩儿  脸蛋儿  臭味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示细小、轻微、少的东西：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</a:t>
            </a:r>
            <a:r>
              <a:rPr b="1" lang="zh-CN" sz="2400" spc="-1" strike="noStrike">
                <a:solidFill>
                  <a:srgbClr val="33ccff"/>
                </a:solidFill>
                <a:latin typeface="微软雅黑"/>
                <a:ea typeface="微软雅黑"/>
              </a:rPr>
              <a:t>小手儿  小瓶儿  一丁点儿  门缝儿  小事儿  一会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一、儿化的主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5"/>
          <p:cNvSpPr/>
          <p:nvPr/>
        </p:nvSpPr>
        <p:spPr>
          <a:xfrm>
            <a:off x="533520" y="1295280"/>
            <a:ext cx="8229600" cy="510552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音节末尾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ê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u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o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ao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o[u]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，直接卷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韵尾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（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ün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），儿化时丢掉韵尾， 主要元音卷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韵母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ün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，儿化时丢掉韵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直接加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r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韵母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ü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，儿化时直接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r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韵母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i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i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，韵母变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r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韵尾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ing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ng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儿化时丢掉韵尾， 韵腹鼻化并卷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韵母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g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ng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，儿化时丢掉韵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直接加上鼻化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r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二、儿化的音变规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45"/>
          <p:cNvSpPr/>
          <p:nvPr/>
        </p:nvSpPr>
        <p:spPr>
          <a:xfrm>
            <a:off x="914400" y="1447920"/>
            <a:ext cx="7467480" cy="472428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“啊”前面音节的末尾音素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o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ao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ü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ê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，读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y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可以写作“呀”。如，你去哪啊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“啊”前面音节的末尾音素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u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包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o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ao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可以写作“哇”。如，你在哪住啊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“啊”前面音节的末尾音素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鼻音的韵尾）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可以写作“那”。如，学习要专业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“啊”前面音节的末尾音素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鼻音的韵尾）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仍写作“啊”。如，这几天可真冷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7ccfd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“啊”前面音节的末尾音素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i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）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r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儿化音节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仍写作“啊”。如，多美的花儿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“啊”前面音节的末尾音素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i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前）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z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仍写作“啊”。如，你去过北京几次啊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2057400" y="609480"/>
            <a:ext cx="586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啊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的音变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4" descr="花纹"/>
          <p:cNvPicPr/>
          <p:nvPr/>
        </p:nvPicPr>
        <p:blipFill>
          <a:blip r:embed="rId2"/>
          <a:stretch/>
        </p:blipFill>
        <p:spPr>
          <a:xfrm>
            <a:off x="-146160" y="5105520"/>
            <a:ext cx="1397160" cy="18730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45"/>
          <p:cNvSpPr/>
          <p:nvPr/>
        </p:nvSpPr>
        <p:spPr>
          <a:xfrm>
            <a:off x="1676520" y="1371600"/>
            <a:ext cx="5790960" cy="457200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”变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ya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”变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”变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a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”变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a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   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”变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a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 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”变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za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 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”音变综合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2057400" y="609480"/>
            <a:ext cx="586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啊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的音变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5105520" y="7632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节   朗诵与态势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990720"/>
            <a:ext cx="60944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微软雅黑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一、朗诵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7"/>
          <p:cNvSpPr/>
          <p:nvPr/>
        </p:nvSpPr>
        <p:spPr>
          <a:xfrm>
            <a:off x="2057400" y="2819520"/>
            <a:ext cx="687240" cy="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0" descr="花纹小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066680" y="2438280"/>
            <a:ext cx="648000" cy="9273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6"/>
          <p:cNvGrpSpPr/>
          <p:nvPr/>
        </p:nvGrpSpPr>
        <p:grpSpPr>
          <a:xfrm>
            <a:off x="0" y="2133720"/>
            <a:ext cx="2437920" cy="1371600"/>
            <a:chOff x="0" y="2133720"/>
            <a:chExt cx="2437920" cy="1371600"/>
          </a:xfrm>
        </p:grpSpPr>
        <p:pic>
          <p:nvPicPr>
            <p:cNvPr id="364" name="AutoShape 31" descr=""/>
            <p:cNvPicPr/>
            <p:nvPr/>
          </p:nvPicPr>
          <p:blipFill>
            <a:blip r:embed="rId3"/>
            <a:stretch/>
          </p:blipFill>
          <p:spPr>
            <a:xfrm>
              <a:off x="0" y="2133720"/>
              <a:ext cx="2437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8"/>
            <p:cNvSpPr/>
            <p:nvPr/>
          </p:nvSpPr>
          <p:spPr>
            <a:xfrm>
              <a:off x="374760" y="2344320"/>
              <a:ext cx="169092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32"/>
          <p:cNvSpPr/>
          <p:nvPr/>
        </p:nvSpPr>
        <p:spPr>
          <a:xfrm>
            <a:off x="380880" y="2438280"/>
            <a:ext cx="15242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朗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3"/>
          <p:cNvSpPr/>
          <p:nvPr/>
        </p:nvSpPr>
        <p:spPr>
          <a:xfrm>
            <a:off x="2895480" y="2057400"/>
            <a:ext cx="5715000" cy="259092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朗诵就是把文字作品转化为发音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有声语言的创作活动。朗，即声音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晰、响亮；诵，即背诵。朗诵，就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清晰、响亮的声音，结合各种语言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加上感染力的声音，完善地表达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思想感情的一种语言艺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8167320" y="626400"/>
            <a:ext cx="1004040" cy="1033200"/>
            <a:chOff x="8167320" y="626400"/>
            <a:chExt cx="1004040" cy="1033200"/>
          </a:xfrm>
        </p:grpSpPr>
        <p:pic>
          <p:nvPicPr>
            <p:cNvPr id="369" name="Picture 35" descr="未标题-12"/>
            <p:cNvPicPr/>
            <p:nvPr/>
          </p:nvPicPr>
          <p:blipFill>
            <a:blip r:embed="rId4"/>
            <a:stretch/>
          </p:blipFill>
          <p:spPr>
            <a:xfrm rot="10296000">
              <a:off x="8229240" y="685800"/>
              <a:ext cx="879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ectangle 36"/>
            <p:cNvSpPr/>
            <p:nvPr/>
          </p:nvSpPr>
          <p:spPr>
            <a:xfrm>
              <a:off x="8326080" y="688320"/>
              <a:ext cx="817560" cy="8791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37"/>
          <p:cNvSpPr/>
          <p:nvPr/>
        </p:nvSpPr>
        <p:spPr>
          <a:xfrm>
            <a:off x="3425760" y="3879720"/>
            <a:ext cx="3919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1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9320" y="841320"/>
            <a:ext cx="64008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二、朗诵前的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0" descr="花纹小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28600" y="5486400"/>
            <a:ext cx="647640" cy="9270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33"/>
          <p:cNvSpPr/>
          <p:nvPr/>
        </p:nvSpPr>
        <p:spPr>
          <a:xfrm>
            <a:off x="990720" y="1676520"/>
            <a:ext cx="7543800" cy="419076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备良好的普通话语音面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心选择朗诵文字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准确把握作品的主题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扫除生字僻字文字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细致的内心体验和丰富的想象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6"/>
          <p:cNvGrpSpPr/>
          <p:nvPr/>
        </p:nvGrpSpPr>
        <p:grpSpPr>
          <a:xfrm>
            <a:off x="8167320" y="626400"/>
            <a:ext cx="1004040" cy="1033200"/>
            <a:chOff x="8167320" y="626400"/>
            <a:chExt cx="1004040" cy="1033200"/>
          </a:xfrm>
        </p:grpSpPr>
        <p:pic>
          <p:nvPicPr>
            <p:cNvPr id="377" name="Picture 35" descr="未标题-12"/>
            <p:cNvPicPr/>
            <p:nvPr/>
          </p:nvPicPr>
          <p:blipFill>
            <a:blip r:embed="rId3"/>
            <a:stretch/>
          </p:blipFill>
          <p:spPr>
            <a:xfrm rot="10296000">
              <a:off x="8229240" y="685800"/>
              <a:ext cx="879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ectangle 36"/>
            <p:cNvSpPr/>
            <p:nvPr/>
          </p:nvSpPr>
          <p:spPr>
            <a:xfrm>
              <a:off x="8326080" y="688320"/>
              <a:ext cx="817560" cy="8791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9320" y="841320"/>
            <a:ext cx="64008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　三、朗诵的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0" descr="花纹小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28600" y="5486400"/>
            <a:ext cx="647640" cy="92700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33"/>
          <p:cNvSpPr/>
          <p:nvPr/>
        </p:nvSpPr>
        <p:spPr>
          <a:xfrm>
            <a:off x="1600200" y="1523880"/>
            <a:ext cx="6095880" cy="464832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气： 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常见语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                 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特殊技巧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调： 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句末语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整句语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停顿和连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速和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6"/>
          <p:cNvGrpSpPr/>
          <p:nvPr/>
        </p:nvGrpSpPr>
        <p:grpSpPr>
          <a:xfrm>
            <a:off x="8167320" y="626400"/>
            <a:ext cx="1004040" cy="1033200"/>
            <a:chOff x="8167320" y="626400"/>
            <a:chExt cx="1004040" cy="1033200"/>
          </a:xfrm>
        </p:grpSpPr>
        <p:pic>
          <p:nvPicPr>
            <p:cNvPr id="384" name="Picture 35" descr="未标题-12"/>
            <p:cNvPicPr/>
            <p:nvPr/>
          </p:nvPicPr>
          <p:blipFill>
            <a:blip r:embed="rId3"/>
            <a:stretch/>
          </p:blipFill>
          <p:spPr>
            <a:xfrm rot="10296000">
              <a:off x="8229240" y="685800"/>
              <a:ext cx="879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36"/>
            <p:cNvSpPr/>
            <p:nvPr/>
          </p:nvSpPr>
          <p:spPr>
            <a:xfrm>
              <a:off x="8326080" y="688320"/>
              <a:ext cx="817560" cy="8791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重  音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6436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逻辑重音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又叫强调重音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就是那些不受语法限制，而由句子的潜在含义所确定的必须强调的音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语法重音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语法结构的特点，朗读时把其中的某些音节的声音稍稍加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修辞重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朗诵者对文章中作者的采用的修辞手段的词句给予强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④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感情重音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于情感的需要，对语句中某些词或词组加以情感色彩的强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4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066680" y="1447920"/>
            <a:ext cx="7718400" cy="40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短句中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谓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常读重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东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了，春天的脚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了，水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了，太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脸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桂林的山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桂林的山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桂林的山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981800" y="3048120"/>
            <a:ext cx="109476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言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花纹"/>
          <p:cNvPicPr/>
          <p:nvPr/>
        </p:nvPicPr>
        <p:blipFill>
          <a:blip r:embed="rId2">
            <a:lum bright="70000" contrast="-70000"/>
          </a:blip>
          <a:stretch/>
        </p:blipFill>
        <p:spPr>
          <a:xfrm rot="17964000">
            <a:off x="578520" y="4610880"/>
            <a:ext cx="1193760" cy="235116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2666880" y="2442600"/>
            <a:ext cx="4792680" cy="789480"/>
            <a:chOff x="2666880" y="2442600"/>
            <a:chExt cx="4792680" cy="789480"/>
          </a:xfrm>
        </p:grpSpPr>
        <p:sp>
          <p:nvSpPr>
            <p:cNvPr id="82" name="Line 5"/>
            <p:cNvSpPr/>
            <p:nvPr/>
          </p:nvSpPr>
          <p:spPr>
            <a:xfrm>
              <a:off x="2911320" y="310500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6" descr="小花纹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 flipH="1" rot="2104200">
              <a:off x="6873480" y="251424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Group 7"/>
            <p:cNvGrpSpPr/>
            <p:nvPr/>
          </p:nvGrpSpPr>
          <p:grpSpPr>
            <a:xfrm>
              <a:off x="2666880" y="2905200"/>
              <a:ext cx="316080" cy="326880"/>
              <a:chOff x="2666880" y="2905200"/>
              <a:chExt cx="316080" cy="326880"/>
            </a:xfrm>
          </p:grpSpPr>
          <p:sp>
            <p:nvSpPr>
              <p:cNvPr id="85" name="Oval 8"/>
              <p:cNvSpPr/>
              <p:nvPr/>
            </p:nvSpPr>
            <p:spPr>
              <a:xfrm>
                <a:off x="2666880" y="290520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9"/>
              <p:cNvSpPr/>
              <p:nvPr/>
            </p:nvSpPr>
            <p:spPr>
              <a:xfrm>
                <a:off x="2700000" y="294048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0"/>
              <p:cNvSpPr/>
              <p:nvPr/>
            </p:nvSpPr>
            <p:spPr>
              <a:xfrm>
                <a:off x="2734560" y="297576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11"/>
              <p:cNvSpPr/>
              <p:nvPr/>
            </p:nvSpPr>
            <p:spPr>
              <a:xfrm>
                <a:off x="2769480" y="301032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Text Box 12"/>
          <p:cNvSpPr/>
          <p:nvPr/>
        </p:nvSpPr>
        <p:spPr>
          <a:xfrm>
            <a:off x="3505320" y="259092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吴方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2666880" y="3052080"/>
            <a:ext cx="4792680" cy="789480"/>
            <a:chOff x="2666880" y="3052080"/>
            <a:chExt cx="4792680" cy="789480"/>
          </a:xfrm>
        </p:grpSpPr>
        <p:sp>
          <p:nvSpPr>
            <p:cNvPr id="91" name="Line 53"/>
            <p:cNvSpPr/>
            <p:nvPr/>
          </p:nvSpPr>
          <p:spPr>
            <a:xfrm>
              <a:off x="2911320" y="37144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54" descr="小花纹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 flipH="1" rot="2104200">
              <a:off x="6873480" y="31237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Group 16"/>
            <p:cNvGrpSpPr/>
            <p:nvPr/>
          </p:nvGrpSpPr>
          <p:grpSpPr>
            <a:xfrm>
              <a:off x="2666880" y="3514680"/>
              <a:ext cx="316080" cy="326880"/>
              <a:chOff x="2666880" y="3514680"/>
              <a:chExt cx="316080" cy="326880"/>
            </a:xfrm>
          </p:grpSpPr>
          <p:sp>
            <p:nvSpPr>
              <p:cNvPr id="94" name="Oval 56"/>
              <p:cNvSpPr/>
              <p:nvPr/>
            </p:nvSpPr>
            <p:spPr>
              <a:xfrm>
                <a:off x="2666880" y="35146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57"/>
              <p:cNvSpPr/>
              <p:nvPr/>
            </p:nvSpPr>
            <p:spPr>
              <a:xfrm>
                <a:off x="2700000" y="35499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58"/>
              <p:cNvSpPr/>
              <p:nvPr/>
            </p:nvSpPr>
            <p:spPr>
              <a:xfrm>
                <a:off x="2734560" y="35852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59"/>
              <p:cNvSpPr/>
              <p:nvPr/>
            </p:nvSpPr>
            <p:spPr>
              <a:xfrm>
                <a:off x="2769480" y="36198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Text Box 60"/>
          <p:cNvSpPr/>
          <p:nvPr/>
        </p:nvSpPr>
        <p:spPr>
          <a:xfrm>
            <a:off x="3429000" y="1981080"/>
            <a:ext cx="33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方方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2"/>
          <p:cNvGrpSpPr/>
          <p:nvPr/>
        </p:nvGrpSpPr>
        <p:grpSpPr>
          <a:xfrm>
            <a:off x="2666880" y="3661920"/>
            <a:ext cx="4792680" cy="789480"/>
            <a:chOff x="2666880" y="3661920"/>
            <a:chExt cx="4792680" cy="789480"/>
          </a:xfrm>
        </p:grpSpPr>
        <p:sp>
          <p:nvSpPr>
            <p:cNvPr id="100" name="Line 62"/>
            <p:cNvSpPr/>
            <p:nvPr/>
          </p:nvSpPr>
          <p:spPr>
            <a:xfrm>
              <a:off x="2911320" y="43243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63" descr="小花纹"/>
            <p:cNvPicPr/>
            <p:nvPr/>
          </p:nvPicPr>
          <p:blipFill>
            <a:blip r:embed="rId5">
              <a:lum bright="36000"/>
            </a:blip>
            <a:stretch/>
          </p:blipFill>
          <p:spPr>
            <a:xfrm flipH="1" rot="2104200">
              <a:off x="6873480" y="37335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25"/>
            <p:cNvGrpSpPr/>
            <p:nvPr/>
          </p:nvGrpSpPr>
          <p:grpSpPr>
            <a:xfrm>
              <a:off x="2666880" y="4124520"/>
              <a:ext cx="316080" cy="326880"/>
              <a:chOff x="2666880" y="4124520"/>
              <a:chExt cx="316080" cy="326880"/>
            </a:xfrm>
          </p:grpSpPr>
          <p:sp>
            <p:nvSpPr>
              <p:cNvPr id="103" name="Oval 65"/>
              <p:cNvSpPr/>
              <p:nvPr/>
            </p:nvSpPr>
            <p:spPr>
              <a:xfrm>
                <a:off x="2666880" y="41245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66"/>
              <p:cNvSpPr/>
              <p:nvPr/>
            </p:nvSpPr>
            <p:spPr>
              <a:xfrm>
                <a:off x="2700000" y="41598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67"/>
              <p:cNvSpPr/>
              <p:nvPr/>
            </p:nvSpPr>
            <p:spPr>
              <a:xfrm>
                <a:off x="2734560" y="41950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68"/>
              <p:cNvSpPr/>
              <p:nvPr/>
            </p:nvSpPr>
            <p:spPr>
              <a:xfrm>
                <a:off x="2769480" y="42296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69"/>
          <p:cNvSpPr/>
          <p:nvPr/>
        </p:nvSpPr>
        <p:spPr>
          <a:xfrm>
            <a:off x="3505320" y="320040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方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1"/>
          <p:cNvGrpSpPr/>
          <p:nvPr/>
        </p:nvGrpSpPr>
        <p:grpSpPr>
          <a:xfrm>
            <a:off x="2666880" y="4195080"/>
            <a:ext cx="4792680" cy="789480"/>
            <a:chOff x="2666880" y="4195080"/>
            <a:chExt cx="4792680" cy="789480"/>
          </a:xfrm>
        </p:grpSpPr>
        <p:sp>
          <p:nvSpPr>
            <p:cNvPr id="109" name="Line 71"/>
            <p:cNvSpPr/>
            <p:nvPr/>
          </p:nvSpPr>
          <p:spPr>
            <a:xfrm>
              <a:off x="2911320" y="48574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72" descr="小花纹"/>
            <p:cNvPicPr/>
            <p:nvPr/>
          </p:nvPicPr>
          <p:blipFill>
            <a:blip r:embed="rId6">
              <a:lum bright="36000"/>
            </a:blip>
            <a:stretch/>
          </p:blipFill>
          <p:spPr>
            <a:xfrm flipH="1" rot="2104200">
              <a:off x="6873480" y="42667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34"/>
            <p:cNvGrpSpPr/>
            <p:nvPr/>
          </p:nvGrpSpPr>
          <p:grpSpPr>
            <a:xfrm>
              <a:off x="2666880" y="4657680"/>
              <a:ext cx="316080" cy="326880"/>
              <a:chOff x="2666880" y="4657680"/>
              <a:chExt cx="316080" cy="326880"/>
            </a:xfrm>
          </p:grpSpPr>
          <p:sp>
            <p:nvSpPr>
              <p:cNvPr id="112" name="Oval 74"/>
              <p:cNvSpPr/>
              <p:nvPr/>
            </p:nvSpPr>
            <p:spPr>
              <a:xfrm>
                <a:off x="2666880" y="46576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75"/>
              <p:cNvSpPr/>
              <p:nvPr/>
            </p:nvSpPr>
            <p:spPr>
              <a:xfrm>
                <a:off x="2700000" y="46929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76"/>
              <p:cNvSpPr/>
              <p:nvPr/>
            </p:nvSpPr>
            <p:spPr>
              <a:xfrm>
                <a:off x="2734560" y="47282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77"/>
              <p:cNvSpPr/>
              <p:nvPr/>
            </p:nvSpPr>
            <p:spPr>
              <a:xfrm>
                <a:off x="2769480" y="47628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78"/>
          <p:cNvSpPr/>
          <p:nvPr/>
        </p:nvSpPr>
        <p:spPr>
          <a:xfrm>
            <a:off x="3505320" y="380988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赣方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0"/>
          <p:cNvGrpSpPr/>
          <p:nvPr/>
        </p:nvGrpSpPr>
        <p:grpSpPr>
          <a:xfrm>
            <a:off x="2666880" y="5262120"/>
            <a:ext cx="4792680" cy="789480"/>
            <a:chOff x="2666880" y="5262120"/>
            <a:chExt cx="4792680" cy="789480"/>
          </a:xfrm>
        </p:grpSpPr>
        <p:sp>
          <p:nvSpPr>
            <p:cNvPr id="118" name="Line 71"/>
            <p:cNvSpPr/>
            <p:nvPr/>
          </p:nvSpPr>
          <p:spPr>
            <a:xfrm>
              <a:off x="2911320" y="59245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72" descr="小花纹"/>
            <p:cNvPicPr/>
            <p:nvPr/>
          </p:nvPicPr>
          <p:blipFill>
            <a:blip r:embed="rId7">
              <a:lum bright="36000"/>
            </a:blip>
            <a:stretch/>
          </p:blipFill>
          <p:spPr>
            <a:xfrm flipH="1" rot="2104200">
              <a:off x="6873480" y="53337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Group 43"/>
            <p:cNvGrpSpPr/>
            <p:nvPr/>
          </p:nvGrpSpPr>
          <p:grpSpPr>
            <a:xfrm>
              <a:off x="2666880" y="5724720"/>
              <a:ext cx="316080" cy="326880"/>
              <a:chOff x="2666880" y="5724720"/>
              <a:chExt cx="316080" cy="326880"/>
            </a:xfrm>
          </p:grpSpPr>
          <p:sp>
            <p:nvSpPr>
              <p:cNvPr id="121" name="Oval 74"/>
              <p:cNvSpPr/>
              <p:nvPr/>
            </p:nvSpPr>
            <p:spPr>
              <a:xfrm>
                <a:off x="2666880" y="57247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75"/>
              <p:cNvSpPr/>
              <p:nvPr/>
            </p:nvSpPr>
            <p:spPr>
              <a:xfrm>
                <a:off x="2700000" y="57600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76"/>
              <p:cNvSpPr/>
              <p:nvPr/>
            </p:nvSpPr>
            <p:spPr>
              <a:xfrm>
                <a:off x="2734560" y="57952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77"/>
              <p:cNvSpPr/>
              <p:nvPr/>
            </p:nvSpPr>
            <p:spPr>
              <a:xfrm>
                <a:off x="2769480" y="58298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48"/>
          <p:cNvGrpSpPr/>
          <p:nvPr/>
        </p:nvGrpSpPr>
        <p:grpSpPr>
          <a:xfrm>
            <a:off x="2666880" y="4728600"/>
            <a:ext cx="4792680" cy="789480"/>
            <a:chOff x="2666880" y="4728600"/>
            <a:chExt cx="4792680" cy="789480"/>
          </a:xfrm>
        </p:grpSpPr>
        <p:sp>
          <p:nvSpPr>
            <p:cNvPr id="126" name="Line 71"/>
            <p:cNvSpPr/>
            <p:nvPr/>
          </p:nvSpPr>
          <p:spPr>
            <a:xfrm>
              <a:off x="2911320" y="539100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2" descr="小花纹"/>
            <p:cNvPicPr/>
            <p:nvPr/>
          </p:nvPicPr>
          <p:blipFill>
            <a:blip r:embed="rId8">
              <a:lum bright="36000"/>
            </a:blip>
            <a:stretch/>
          </p:blipFill>
          <p:spPr>
            <a:xfrm flipH="1" rot="2104200">
              <a:off x="6873480" y="480024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Group 51"/>
            <p:cNvGrpSpPr/>
            <p:nvPr/>
          </p:nvGrpSpPr>
          <p:grpSpPr>
            <a:xfrm>
              <a:off x="2666880" y="5191200"/>
              <a:ext cx="316080" cy="326880"/>
              <a:chOff x="2666880" y="5191200"/>
              <a:chExt cx="316080" cy="326880"/>
            </a:xfrm>
          </p:grpSpPr>
          <p:sp>
            <p:nvSpPr>
              <p:cNvPr id="129" name="Oval 74"/>
              <p:cNvSpPr/>
              <p:nvPr/>
            </p:nvSpPr>
            <p:spPr>
              <a:xfrm>
                <a:off x="2666880" y="519120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75"/>
              <p:cNvSpPr/>
              <p:nvPr/>
            </p:nvSpPr>
            <p:spPr>
              <a:xfrm>
                <a:off x="2700000" y="522648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76"/>
              <p:cNvSpPr/>
              <p:nvPr/>
            </p:nvSpPr>
            <p:spPr>
              <a:xfrm>
                <a:off x="2734560" y="526176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77"/>
              <p:cNvSpPr/>
              <p:nvPr/>
            </p:nvSpPr>
            <p:spPr>
              <a:xfrm>
                <a:off x="2769480" y="529632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56"/>
          <p:cNvGrpSpPr/>
          <p:nvPr/>
        </p:nvGrpSpPr>
        <p:grpSpPr>
          <a:xfrm>
            <a:off x="2666880" y="1833120"/>
            <a:ext cx="4792680" cy="789480"/>
            <a:chOff x="2666880" y="1833120"/>
            <a:chExt cx="4792680" cy="789480"/>
          </a:xfrm>
        </p:grpSpPr>
        <p:sp>
          <p:nvSpPr>
            <p:cNvPr id="134" name="Line 71"/>
            <p:cNvSpPr/>
            <p:nvPr/>
          </p:nvSpPr>
          <p:spPr>
            <a:xfrm>
              <a:off x="2911320" y="24955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72" descr="小花纹"/>
            <p:cNvPicPr/>
            <p:nvPr/>
          </p:nvPicPr>
          <p:blipFill>
            <a:blip r:embed="rId9">
              <a:lum bright="36000"/>
            </a:blip>
            <a:stretch/>
          </p:blipFill>
          <p:spPr>
            <a:xfrm flipH="1" rot="2104200">
              <a:off x="6873480" y="19047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Group 59"/>
            <p:cNvGrpSpPr/>
            <p:nvPr/>
          </p:nvGrpSpPr>
          <p:grpSpPr>
            <a:xfrm>
              <a:off x="2666880" y="2295720"/>
              <a:ext cx="316080" cy="326880"/>
              <a:chOff x="2666880" y="2295720"/>
              <a:chExt cx="316080" cy="326880"/>
            </a:xfrm>
          </p:grpSpPr>
          <p:sp>
            <p:nvSpPr>
              <p:cNvPr id="137" name="Oval 74"/>
              <p:cNvSpPr/>
              <p:nvPr/>
            </p:nvSpPr>
            <p:spPr>
              <a:xfrm>
                <a:off x="2666880" y="22957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75"/>
              <p:cNvSpPr/>
              <p:nvPr/>
            </p:nvSpPr>
            <p:spPr>
              <a:xfrm>
                <a:off x="2700000" y="23310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76"/>
              <p:cNvSpPr/>
              <p:nvPr/>
            </p:nvSpPr>
            <p:spPr>
              <a:xfrm>
                <a:off x="2734560" y="23662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77"/>
              <p:cNvSpPr/>
              <p:nvPr/>
            </p:nvSpPr>
            <p:spPr>
              <a:xfrm>
                <a:off x="2769480" y="24008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Text Box 78"/>
          <p:cNvSpPr/>
          <p:nvPr/>
        </p:nvSpPr>
        <p:spPr>
          <a:xfrm>
            <a:off x="3505320" y="434340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家方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3505320" y="487692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闽方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8"/>
          <p:cNvSpPr/>
          <p:nvPr/>
        </p:nvSpPr>
        <p:spPr>
          <a:xfrm>
            <a:off x="3505320" y="541008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粤方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7"/>
          <p:cNvSpPr/>
          <p:nvPr/>
        </p:nvSpPr>
        <p:spPr>
          <a:xfrm>
            <a:off x="1828800" y="228600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762120" y="9144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普通话与方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152280" y="3886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5029200" y="0"/>
            <a:ext cx="3886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10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10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186920" y="1988640"/>
            <a:ext cx="74106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动宾结构，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宾语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应该重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：和新朋友会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文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哲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人生道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月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也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星天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的名字叫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翁香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761760" y="1744560"/>
            <a:ext cx="8381880" cy="42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定语、状语、补语比中心词要稍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现在正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枝繁叶茂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贵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疑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过糖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了一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眼睛睁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8243640" cy="5175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对比性重音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虽然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春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好像已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没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缕炊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没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丝花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只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世界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海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火光却依然停在前头，闪闪发亮，令人神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然是这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又依然是那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春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了，可是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什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看不见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64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身姿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行姿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当掌握正确的行进姿势，身体协调，姿势优美，步伐从容，步态平稳，步幅适中，步速均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坐姿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部端正、躯干挺直、手臂摆放自然等。要注意观察对方身姿的交换，推测其心理状态，以此作出相应的调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站姿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站姿要端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稳健、挺直，给人以精神饱满的感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手势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区。肩部以上，多表现积极、振奋、肯定、张扬等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区。肩部至腰部，多表现坦诚、平静、和气等叙述、说明的中性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区。腰部以下，多表现憎恶、鄙视、压抑、否定等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目光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229600" cy="412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光是面部表情达意最丰富的渠道，是表情语中的核心。要根据实际需要恰当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庄重、诚恳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斜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轻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环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与听众交流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点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针对性和示意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仰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崇敬或傲慢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俯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关心或忧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凝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专注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漠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冷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虚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消除紧张心理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31640" y="2205000"/>
            <a:ext cx="6189480" cy="1154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cc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 听话技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331640" y="1341360"/>
            <a:ext cx="4174920" cy="44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避免间接传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倾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减少中间传达阶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复述确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可推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做好备忘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正确缓慢说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视觉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井然有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00720" y="1916280"/>
            <a:ext cx="1008000" cy="3313080"/>
          </a:xfrm>
          <a:prstGeom prst="ellipse">
            <a:avLst/>
          </a:prstGeom>
          <a:gradFill rotWithShape="0">
            <a:gsLst>
              <a:gs pos="0">
                <a:srgbClr val="000066">
                  <a:alpha val="50196"/>
                </a:srgbClr>
              </a:gs>
              <a:gs pos="5000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隶书"/>
              </a:rPr>
              <a:t>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隶书"/>
              </a:rPr>
              <a:t>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（一）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别说话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对方放松心情（放松才能畅所欲言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向对方表示你想聆听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避免分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要设身处地以对方的立场思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要有耐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避免争辩与批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你的脾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别说话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Rectangle 3"/>
          <p:cNvGraphicFramePr/>
          <p:nvPr/>
        </p:nvGraphicFramePr>
        <p:xfrm>
          <a:off x="7236000" y="4653000"/>
          <a:ext cx="1439640" cy="14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6000" y="4653000"/>
                    <a:ext cx="143964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619760" cy="46659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倾听的层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在：安排一个好的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在听：鼓励对方说话、保持适当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默、表示同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在用心听：说自己内心的感受、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映事实、表示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未标题-1"/>
          <p:cNvPicPr/>
          <p:nvPr/>
        </p:nvPicPr>
        <p:blipFill>
          <a:blip r:embed="rId2">
            <a:lum bright="70000" contrast="-70000"/>
          </a:blip>
          <a:stretch/>
        </p:blipFill>
        <p:spPr>
          <a:xfrm rot="20619600">
            <a:off x="3657240" y="3276720"/>
            <a:ext cx="150192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5"/>
          <p:cNvSpPr/>
          <p:nvPr/>
        </p:nvSpPr>
        <p:spPr>
          <a:xfrm>
            <a:off x="4648320" y="2209680"/>
            <a:ext cx="3733560" cy="365760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533520" y="2209680"/>
            <a:ext cx="3733560" cy="365760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1143000" y="1839960"/>
            <a:ext cx="2362320" cy="60948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1371600" y="1828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方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9"/>
          <p:cNvSpPr/>
          <p:nvPr/>
        </p:nvSpPr>
        <p:spPr>
          <a:xfrm>
            <a:off x="5559480" y="1774800"/>
            <a:ext cx="2286000" cy="68436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5867280" y="1828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普通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上有地域性的限制，为某一地区服务。记录、保存、传播地域的优秀文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8006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范围大，是汉民族的共同语，是全国通用的语言。促进国家的政治、经济、文化、科学、教育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14479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普通话与方言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733920" y="16002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ccff"/>
                </a:solidFill>
                <a:latin typeface="Arial"/>
                <a:ea typeface="微软雅黑"/>
              </a:rPr>
              <a:t>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5029200" y="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节   语音规范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826920" y="549360"/>
          <a:ext cx="7925040" cy="6056280"/>
        </p:xfrm>
        <a:graphic>
          <a:graphicData uri="http://schemas.openxmlformats.org/drawingml/2006/table">
            <a:tbl>
              <a:tblPr/>
              <a:tblGrid>
                <a:gridCol w="609840"/>
                <a:gridCol w="3500280"/>
                <a:gridCol w="3814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开放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封闭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益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避免自以为是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获得足够的信息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对方不察觉的情况下控制局面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让对方觉得在主导谈话，给对方制造参与感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利于气氛的和谐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利于打破尴尬局面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很快了解对方的想法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用来锁定对方的意图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用来确认听到的情况是否正确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弊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需要更长的时间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要求对方参与。在对方不愿意参与的情况下会面临僵局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走题的危险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易自以为是。用得不恰当的时候容易自以为得到正确的结论，需要问很多的问题才能够了解情况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易制造负面气氛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便了那些不肯合作的人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118080" y="2743200"/>
            <a:ext cx="515880" cy="764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（四）答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147160" cy="485784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选择回答的时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非有问必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记录所有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思考成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方真正需要时才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回答的技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帮对方理出头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归纳出最关键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要时用笔作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向对方表达不同意见时，先认同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折（是、是、但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口语表达中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思维素质和心理素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640720" cy="49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思维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维是人脑对客观事物的本质和事物之间内在联系的认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维操作的基本形式是分析、综合、抽象、概括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）言语思维：维果茨基的“单位分析法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思维与语言问题的“唯一正确方法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何交际意念与言语交际意象必须是在思维支配下进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7763040" y="0"/>
            <a:ext cx="1380960" cy="20606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言语思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250920" y="761760"/>
            <a:ext cx="85183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想与别人交流下面的思想，即今天我见到一个赤足的男孩身穿蓝衬衫沿着街道奔跑，我并不把其中每一个项目分别对待：即男孩、衬衫、衬衫的蓝色、他的奔跑、不穿鞋子等。我把所有这一切在一次思维中构想出来，但是表述时却用分别开来的词语。一个讲话者往往要花几分钟时间才能将一个思想展现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可以把思维比作一朵乌云洒下一阵词的雨点。由于思维在言语中没有它的自动对应物，因此从思维向言语的过渡必须通过意义。在我们的言语中，始终存在着隐蔽的思维，即潜台词。由于从思维向言语的直接过渡是不可能的，因此始终存在思维不可表达性的悲哀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95280" y="1484280"/>
            <a:ext cx="8137440" cy="50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察觉感官障碍：关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言表达障碍 ：外语、方言（家乡话）、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物理环境障碍：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媒介选择障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位障碍：上下级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障碍：性格、情感、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平障碍：时间、环境、利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障碍：结构、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化障碍：礼节、审美、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9640" y="333360"/>
            <a:ext cx="4680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口语交际复杂的障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Rectangle 3"/>
          <p:cNvGraphicFramePr/>
          <p:nvPr/>
        </p:nvGraphicFramePr>
        <p:xfrm>
          <a:off x="7740720" y="4375080"/>
          <a:ext cx="1154160" cy="24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4375080"/>
                    <a:ext cx="115416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77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8" dur="77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0" dur="77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2" dur="77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9152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克服文化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摆脱语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修正言语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战胜心理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6668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3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的记者招待会上，有记者问：“邓小平先生会不会出席‘十一国庆’？”陈建回答：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邓小平同志是否出席，以及参加哪些国庆活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跟你们一样，会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的报纸上看到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是邓小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寿辰，适逢外交部例行的记者招待会。有记者问：“今天是邓小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诞辰，关于他的健康状况的说法是不是还是那样没有变化？”陈建不慌不忙地说：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化当然是有的，他又长了一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7486560" y="4619520"/>
            <a:ext cx="1657440" cy="22384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0" y="4809960"/>
            <a:ext cx="2484360" cy="20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战胜心理障碍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用自我激励法，战胜交际恐惧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用难得糊涂法，动态调整交际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用精神胜利法，克服自卑交际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四）用合理情绪疗法，提高心理调适自觉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435880" cy="5254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 同事问我：克林顿的老婆是希拉克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一次我向人借钱，本来想说的是“等我取了钱就还你” 说成“等我有了钱就取你”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数学老师招牌动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举起两根手指，对同学们说：“同学们，学好数学关键就是三个字！！’多做练习！！’”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 我们语文老师：请大家把书翻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块钱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班皆晕，后这位老师得绰号“财迷”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一次朋友在家看碟，光盘质量不好。朋友说到：“怎么这么多马克思啊。” 半晌后才明白他是说马塞克！　　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个同学结婚，给他红包。同学客气的说不用。我说：那哪行，一年就一次，一定得拿着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　　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未标题-1"/>
          <p:cNvPicPr/>
          <p:nvPr/>
        </p:nvPicPr>
        <p:blipFill>
          <a:blip r:embed="rId2">
            <a:lum bright="70000" contrast="-70000"/>
          </a:blip>
          <a:stretch/>
        </p:blipFill>
        <p:spPr>
          <a:xfrm rot="20619600">
            <a:off x="3657240" y="3276720"/>
            <a:ext cx="1501920" cy="29718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5"/>
          <p:cNvSpPr/>
          <p:nvPr/>
        </p:nvSpPr>
        <p:spPr>
          <a:xfrm>
            <a:off x="4724280" y="2133720"/>
            <a:ext cx="3733920" cy="358128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457200" y="2133720"/>
            <a:ext cx="3733920" cy="358128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1143000" y="1752480"/>
            <a:ext cx="2209680" cy="62568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2952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方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9"/>
          <p:cNvSpPr/>
          <p:nvPr/>
        </p:nvSpPr>
        <p:spPr>
          <a:xfrm>
            <a:off x="5638680" y="1752480"/>
            <a:ext cx="2222640" cy="62568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6095880" y="1774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普通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33520" y="2514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普通话的基础，普通话的声韵调从北京话中而来，词汇从北方方言中而来，普通话是从方言中发展而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876920" y="25146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普通话在方言之上，又在方言之中。它们相互依存、相互互补。它们不对立的排斥。它们在不同的区域做着自己的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14479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普通话与方言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3809880" y="1523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33ccff"/>
                </a:solidFill>
                <a:latin typeface="微软雅黑"/>
                <a:ea typeface="微软雅黑"/>
              </a:rPr>
              <a:t>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5029200" y="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节   语音规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56908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初中时分角色朗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毛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男生（杨白劳）：扯了二斤红头绳，给我喜儿扎起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老师：又不是包木乃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我们的高中办主任又一次怒斥我们上课不好好听讲说到：“你们以后再这样，就别怪我翻脸不是人了！” 　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 大二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oxPr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时，老师开始点我们上课有多少人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突然停住了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英语老师下课前问大家：“我都讲完了，大家还有明白的么？”我们齐声答：“没有了！” 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4" descr="花纹"/>
          <p:cNvPicPr/>
          <p:nvPr/>
        </p:nvPicPr>
        <p:blipFill>
          <a:blip r:embed="rId2"/>
          <a:stretch/>
        </p:blipFill>
        <p:spPr>
          <a:xfrm>
            <a:off x="457200" y="4191120"/>
            <a:ext cx="1405080" cy="18730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45"/>
          <p:cNvSpPr/>
          <p:nvPr/>
        </p:nvSpPr>
        <p:spPr>
          <a:xfrm>
            <a:off x="457200" y="1447920"/>
            <a:ext cx="8077320" cy="464796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使用普通话是社会发展、人际交流的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99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推广普通话可以有效地消除语言障碍，使全国人民无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碍交流。促进经济和文化发展具有重要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ff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使用普通话是教师的职业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）普通话是教师素质高低的体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）普通话是保证教学质量的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</a:rPr>
              <a:t>）普通话是促使普通话成为校园语言的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6"/>
          <p:cNvSpPr/>
          <p:nvPr/>
        </p:nvSpPr>
        <p:spPr>
          <a:xfrm>
            <a:off x="609480" y="990720"/>
            <a:ext cx="1600200" cy="68580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7"/>
          <p:cNvSpPr/>
          <p:nvPr/>
        </p:nvSpPr>
        <p:spPr>
          <a:xfrm>
            <a:off x="685800" y="1066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2362320" y="6858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微软雅黑"/>
              </a:rPr>
              <a:t>使用普通话的必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876920" y="0"/>
            <a:ext cx="4600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节   语音规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二、方言辩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7"/>
          <p:cNvSpPr/>
          <p:nvPr/>
        </p:nvSpPr>
        <p:spPr>
          <a:xfrm flipV="1">
            <a:off x="2133720" y="2971800"/>
            <a:ext cx="812520" cy="792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0" descr="花纹小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648000" cy="927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6"/>
          <p:cNvGrpSpPr/>
          <p:nvPr/>
        </p:nvGrpSpPr>
        <p:grpSpPr>
          <a:xfrm>
            <a:off x="228600" y="2286000"/>
            <a:ext cx="1980720" cy="1428480"/>
            <a:chOff x="228600" y="2286000"/>
            <a:chExt cx="1980720" cy="1428480"/>
          </a:xfrm>
        </p:grpSpPr>
        <p:pic>
          <p:nvPicPr>
            <p:cNvPr id="183" name="AutoShape 31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198072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8"/>
            <p:cNvSpPr/>
            <p:nvPr/>
          </p:nvSpPr>
          <p:spPr>
            <a:xfrm>
              <a:off x="533160" y="2505240"/>
              <a:ext cx="137412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32"/>
          <p:cNvSpPr/>
          <p:nvPr/>
        </p:nvSpPr>
        <p:spPr>
          <a:xfrm>
            <a:off x="457200" y="2743200"/>
            <a:ext cx="1523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66"/>
                </a:solidFill>
                <a:latin typeface="Arial"/>
                <a:ea typeface="微软雅黑"/>
              </a:rPr>
              <a:t>语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3"/>
          <p:cNvSpPr/>
          <p:nvPr/>
        </p:nvSpPr>
        <p:spPr>
          <a:xfrm>
            <a:off x="2895480" y="2133720"/>
            <a:ext cx="5867640" cy="160020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的声音，它是人类的发音器官发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一定意义的符号或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425760" y="3879720"/>
            <a:ext cx="3919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7753680" y="647640"/>
            <a:ext cx="1096920" cy="998280"/>
            <a:chOff x="7753680" y="647640"/>
            <a:chExt cx="1096920" cy="998280"/>
          </a:xfrm>
        </p:grpSpPr>
        <p:pic>
          <p:nvPicPr>
            <p:cNvPr id="189" name="Picture 35" descr="未标题-12"/>
            <p:cNvPicPr/>
            <p:nvPr/>
          </p:nvPicPr>
          <p:blipFill>
            <a:blip r:embed="rId4"/>
            <a:stretch/>
          </p:blipFill>
          <p:spPr>
            <a:xfrm rot="10662600">
              <a:off x="7771680" y="683280"/>
              <a:ext cx="99252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36"/>
            <p:cNvSpPr/>
            <p:nvPr/>
          </p:nvSpPr>
          <p:spPr>
            <a:xfrm rot="366600">
              <a:off x="7882200" y="694080"/>
              <a:ext cx="922680" cy="9050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6"/>
          <p:cNvSpPr/>
          <p:nvPr/>
        </p:nvSpPr>
        <p:spPr>
          <a:xfrm>
            <a:off x="1066680" y="4343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33ccff"/>
                </a:solidFill>
                <a:latin typeface="Times New Roman"/>
                <a:ea typeface="微软雅黑"/>
              </a:rPr>
              <a:t>人们借助语言表情达意，而语言的交际功能通过语音来完成的。语言是人们约定俗成的</a:t>
            </a:r>
            <a:r>
              <a:rPr b="1" lang="zh-CN" sz="2400" spc="-1" strike="noStrike">
                <a:solidFill>
                  <a:srgbClr val="33ccff"/>
                </a:solidFill>
                <a:latin typeface="宋体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33ccff"/>
                </a:solidFill>
                <a:latin typeface="Times New Roman"/>
                <a:ea typeface="微软雅黑"/>
              </a:rPr>
              <a:t>一种事物的指称意义用什么声音表达，必须得到社会成员的共同确认，才会起到交际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00:28:20Z</dcterms:created>
  <dc:creator/>
  <dc:description/>
  <cp:keywords/>
  <dc:language>en-US</dc:language>
  <cp:lastModifiedBy>user</cp:lastModifiedBy>
  <dcterms:modified xsi:type="dcterms:W3CDTF">2017-12-21T15:25:50Z</dcterms:modified>
  <cp:revision>3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