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3.png" ContentType="image/png"/>
  <Override PartName="/ppt/media/image17.jpeg" ContentType="image/jpeg"/>
  <Override PartName="/ppt/media/image24.jpeg" ContentType="image/jpeg"/>
  <Override PartName="/ppt/media/image19.jpeg" ContentType="image/jpeg"/>
  <Override PartName="/ppt/media/image21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6.jpeg" ContentType="image/jpeg"/>
  <Override PartName="/ppt/media/chimes.wav" ContentType="audio/x-wav"/>
  <Override PartName="/ppt/media/image14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B4E40-07AD-41AF-872F-DF6BE131D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FD4D8-0553-4CFD-93AF-73B68292B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6F51D-9853-416C-8B80-592C753BF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F05C8-ACF4-4D36-B99F-936463C04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A36B0-36C7-4AA1-A13D-4DAE19042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EF731-C937-4958-8971-D1D2111E4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6658A-E5F2-4934-9774-02A8A7136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76C1E-66D3-4B01-BE06-407E6E81B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CA2CA-94E6-4FDC-BC65-33E04EC2E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EDDA3-BBEC-4FE5-9B98-03493F8CB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E7902-3DEC-4E18-8C41-7D1247E9C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C2165-1863-4ACF-B777-A711D3414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E6B2B-0399-4F03-982F-BC981325E3F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09480" y="152280"/>
            <a:ext cx="7417080" cy="36828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1800" spc="-1" strike="noStrike">
                <a:solidFill>
                  <a:srgbClr val="808080"/>
                </a:solidFill>
                <a:latin typeface="Arial"/>
              </a:rPr>
              <a:t>教育部高职高专规划教材     实用语文（第三版）第一册教辅课件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图片 3" descr=""/>
          <p:cNvPicPr/>
          <p:nvPr/>
        </p:nvPicPr>
        <p:blipFill>
          <a:blip r:embed="rId4"/>
          <a:stretch/>
        </p:blipFill>
        <p:spPr>
          <a:xfrm>
            <a:off x="0" y="0"/>
            <a:ext cx="719280" cy="71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627280" y="2133720"/>
            <a:ext cx="3745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imes New Roman"/>
                <a:ea typeface="楷体"/>
              </a:rPr>
              <a:t>第三单元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-360" y="1449000"/>
            <a:ext cx="889164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土壅而川决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: 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无论怎样用土来阻塞，汹涌的河水还是冲破了障碍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截然相反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完全不同的意思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追古思今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追忆过去，思考现在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文过饰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: 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掩饰过失、错误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火冒三丈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形容怒气特别大 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得意忘形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: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形容浅薄的人稍得志，就高兴得控制不住自己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仗势凌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: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依仗某种权势欺侮别人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如出一辙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好像出自同一个车辙。比喻两件事情非常相似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娓娓动听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：形容善于讲话，使人喜欢听。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入情入理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：形容合乎常情和道理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掩卷沉思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合上书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仔细地思考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门庭若市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门口和庭院里热闹得集市一样。形容来的人多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92000" y="279360"/>
            <a:ext cx="2656080" cy="67464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掌握字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205920" y="1224000"/>
            <a:ext cx="8595000" cy="269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本文写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98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年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月。当时全国各条战线根据中央要求全面实行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拨乱反正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党和国家的工作重点已开始转向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社会主义现代化建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为彻底消除“文革”余毒，加快现代化建设，全党迫切需要听取各方面的意见。本文就是在这样的背景下写的。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（阶级斗争为纲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657360" y="4059360"/>
            <a:ext cx="4275000" cy="17492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5472000" y="3968640"/>
            <a:ext cx="2610000" cy="19479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792000" y="279360"/>
            <a:ext cx="2656080" cy="67464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写作背景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297000" y="189000"/>
            <a:ext cx="2641320" cy="39607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3176640" y="279360"/>
            <a:ext cx="2809800" cy="35100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4"/>
          <a:stretch/>
        </p:blipFill>
        <p:spPr>
          <a:xfrm>
            <a:off x="880920" y="4284720"/>
            <a:ext cx="3375000" cy="22222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5"/>
          <a:stretch/>
        </p:blipFill>
        <p:spPr>
          <a:xfrm>
            <a:off x="4616280" y="4014720"/>
            <a:ext cx="3176640" cy="26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162000" y="144360"/>
            <a:ext cx="8685000" cy="652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-360" y="1133640"/>
            <a:ext cx="8777160" cy="51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正标题：</a:t>
            </a:r>
            <a:r>
              <a:rPr b="1" lang="zh-CN" sz="3200" spc="-1" strike="noStrike">
                <a:solidFill>
                  <a:srgbClr val="ff66ff"/>
                </a:solidFill>
                <a:latin typeface="Times New Roman"/>
              </a:rPr>
              <a:t>概括出文章论述的中心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副标题：</a:t>
            </a:r>
            <a:r>
              <a:rPr b="1" lang="zh-CN" sz="3200" spc="-1" strike="noStrike">
                <a:solidFill>
                  <a:srgbClr val="ff66ff"/>
                </a:solidFill>
                <a:latin typeface="Times New Roman"/>
              </a:rPr>
              <a:t>指明“有感”的依据和由来，对正标题既有补充的作用，又有把感想限在一定范围内的集中作用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纳谏（听取采纳别人的意见）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——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齐威王</a:t>
            </a:r>
            <a:r>
              <a:rPr b="1" lang="zh-CN" sz="2800" spc="-1" strike="noStrike">
                <a:solidFill>
                  <a:srgbClr val="ff66ff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止谤（制止打击别人提意见）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——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周厉王</a:t>
            </a:r>
            <a:r>
              <a:rPr b="1" lang="zh-CN" sz="2800" spc="-1" strike="noStrike">
                <a:solidFill>
                  <a:srgbClr val="ff66ff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从题目可以看出作者着重以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齐威王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勇于纳谏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这一点来立论，结合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周厉王“止谤”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故事，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对照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展开论述，然后联系实际发感想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92000" y="279360"/>
            <a:ext cx="2656080" cy="67464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解题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387000" y="1359000"/>
            <a:ext cx="8534520" cy="43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第一部分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:(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比喻提出所读的文章，扣题，以引起下文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第二部分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:(2~9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邹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文，追古思今，加以对照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第三部分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:(10~1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写作者的具体感受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第四部分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:(12~1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根据历史教训，向各级领导同志提出提出忠告。揭示题旨，水到渠成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92000" y="279360"/>
            <a:ext cx="2656080" cy="67464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整体感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792000" y="279360"/>
            <a:ext cx="2656080" cy="67464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整体感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33280" y="1494000"/>
            <a:ext cx="8910720" cy="427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全文四部分的内在联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第一部分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说</a:t>
            </a:r>
            <a:r>
              <a:rPr b="1" i="1" lang="zh-CN" sz="2400" spc="-1" strike="noStrike">
                <a:solidFill>
                  <a:srgbClr val="ff66ff"/>
                </a:solidFill>
                <a:latin typeface="Times New Roman"/>
              </a:rPr>
              <a:t>重读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邹忌讽齐王纳谏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格外亲切，引起下文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第二部分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先从古代纳谏的贤君明臣尤属齐威王和邹忌，到赞佩齐威王纳谏的大智与风度，再联想到周厉王因为止谤而垮台，说明两种态度必然导致两种结果。然后再联系现实：有些领导怕听逆耳之言，“四人帮”以棒止谤的反面教训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第三部分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引出作者的两点</a:t>
            </a:r>
            <a:r>
              <a:rPr b="1" i="1" lang="zh-CN" sz="2400" spc="-1" strike="noStrike">
                <a:solidFill>
                  <a:srgbClr val="ff66ff"/>
                </a:solidFill>
                <a:latin typeface="Times New Roman"/>
              </a:rPr>
              <a:t>感受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：感受一是说取得成果要靠双方努力，既要有敢谏的良臣，又要有纳谏的明君；感受二是说进谏要讲究方法才能取得好的效果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第四部分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根据历史教训，向各级领导</a:t>
            </a:r>
            <a:r>
              <a:rPr b="1" i="1" lang="zh-CN" sz="2400" spc="-1" strike="noStrike">
                <a:solidFill>
                  <a:srgbClr val="ff66ff"/>
                </a:solidFill>
                <a:latin typeface="Times New Roman"/>
              </a:rPr>
              <a:t>提出忠告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希望他们“悬赏纳谏”，改进工作，推动现代建设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304560" y="1523880"/>
            <a:ext cx="8458200" cy="35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全文结构属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递进式结构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:</a:t>
            </a:r>
            <a:r>
              <a:rPr b="1" lang="en-US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重读</a:t>
            </a:r>
            <a:r>
              <a:rPr b="1" lang="zh-CN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”→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古今对比</a:t>
            </a:r>
            <a:r>
              <a:rPr b="1" lang="zh-CN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→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感想</a:t>
            </a:r>
            <a:r>
              <a:rPr b="1" lang="zh-CN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→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提出忠告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层层推进，步步加深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92000" y="279360"/>
            <a:ext cx="2656080" cy="67464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整体感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566640" y="1314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战国策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邹忌讽齐王纳谏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92000" y="279360"/>
            <a:ext cx="2656080" cy="67464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分析典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4122720" y="2540160"/>
            <a:ext cx="4589640" cy="28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41280" y="1314360"/>
            <a:ext cx="84614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过也，人皆见之，及其更也，人皆仰之。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”</a:t>
            </a:r>
            <a:r>
              <a:rPr b="1" lang="zh-CN" sz="4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52360" y="2798640"/>
            <a:ext cx="4633920" cy="21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语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论语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</a:rPr>
              <a:t>·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子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子贡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: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 “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君子之过也，如日月之食焉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过也，人皆见之；更也，人皆仰之。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92000" y="279360"/>
            <a:ext cx="2656080" cy="67464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分析典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5202360" y="2529000"/>
            <a:ext cx="2763720" cy="37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476280" y="2529000"/>
            <a:ext cx="4995720" cy="33271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827360" y="954000"/>
            <a:ext cx="7062480" cy="59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华文新魏"/>
                <a:ea typeface="楷体_GB2312"/>
              </a:rPr>
              <a:t>纳  谏  与  止  谤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新魏"/>
                <a:ea typeface="楷体_GB2312"/>
              </a:rPr>
              <a:t>  ——</a:t>
            </a: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楷体_GB2312"/>
              </a:rPr>
              <a:t>重读</a:t>
            </a:r>
            <a:r>
              <a:rPr b="1" lang="en-US" sz="3200" spc="-1" strike="noStrike">
                <a:solidFill>
                  <a:srgbClr val="ff0000"/>
                </a:solidFill>
                <a:latin typeface="华文新魏"/>
                <a:ea typeface="楷体_GB2312"/>
              </a:rPr>
              <a:t>《</a:t>
            </a: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楷体_GB2312"/>
              </a:rPr>
              <a:t>邹忌讽齐王纳谏</a:t>
            </a:r>
            <a:r>
              <a:rPr b="1" lang="en-US" sz="3200" spc="-1" strike="noStrike">
                <a:solidFill>
                  <a:srgbClr val="ff0000"/>
                </a:solidFill>
                <a:latin typeface="华文新魏"/>
                <a:ea typeface="楷体_GB2312"/>
              </a:rPr>
              <a:t>》</a:t>
            </a: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楷体_GB2312"/>
              </a:rPr>
              <a:t>有感</a:t>
            </a:r>
            <a:r>
              <a:rPr b="0" lang="zh-CN" sz="2000" spc="-1" strike="noStrike">
                <a:solidFill>
                  <a:srgbClr val="ff0000"/>
                </a:solidFill>
                <a:latin typeface="华文新魏"/>
                <a:ea typeface="楷体_GB2312"/>
              </a:rPr>
              <a:t> </a:t>
            </a:r>
            <a:br>
              <a:rPr sz="2000"/>
            </a:br>
            <a:r>
              <a:rPr b="0" lang="zh-CN" sz="2000" spc="-1" strike="noStrike">
                <a:solidFill>
                  <a:srgbClr val="ff0000"/>
                </a:solidFill>
                <a:latin typeface="华文新魏"/>
                <a:ea typeface="楷体_GB2312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0" y="1763640"/>
            <a:ext cx="8415360" cy="30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孔门十哲指的是孔子门下最优秀的十位学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德行：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隶书"/>
              </a:rPr>
              <a:t>颜渊（子渊）、闵子骞、冉伯牛、仲弓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言语：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隶书"/>
              </a:rPr>
              <a:t>宰我（子我）、子贡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政事：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隶书"/>
              </a:rPr>
              <a:t>冉有（子有）、子路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文学：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隶书"/>
              </a:rPr>
              <a:t>子游、子夏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161640" y="1538280"/>
            <a:ext cx="8505720" cy="32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美芹之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列子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杨朱篇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》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宋国有田夫，常衣缊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yù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黂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é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仅以过冬。暨春东作，自曝于日，不知天下之有广厦隩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yù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室，緜纩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mián kuàn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狐狢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hé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顾谓其妻曰：“负日之暄，人莫知者，以献吾君，将有重赏。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里之富室告之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昔人有美戎菽</a:t>
            </a: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shū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甘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苔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茎、芹萍子者，对乡豪称之。乡豪取而尝之，蜇于口，惨于腹。众哂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shě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而怨之。其人大惭”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00cc"/>
                </a:solidFill>
                <a:uFillTx/>
                <a:latin typeface="Times New Roman"/>
                <a:ea typeface="楷体_GB2312"/>
              </a:rPr>
              <a:t>后来用</a:t>
            </a:r>
            <a:r>
              <a:rPr b="1" lang="zh-CN" sz="2400" spc="-1" strike="noStrike" u="sng">
                <a:solidFill>
                  <a:srgbClr val="0000cc"/>
                </a:solidFill>
                <a:uFillTx/>
                <a:latin typeface="楷体_GB2312"/>
                <a:ea typeface="楷体_GB2312"/>
              </a:rPr>
              <a:t>“</a:t>
            </a:r>
            <a:r>
              <a:rPr b="1" lang="zh-CN" sz="2400" spc="-1" strike="noStrike" u="sng">
                <a:solidFill>
                  <a:srgbClr val="0000cc"/>
                </a:solidFill>
                <a:uFillTx/>
                <a:latin typeface="Times New Roman"/>
                <a:ea typeface="楷体_GB2312"/>
              </a:rPr>
              <a:t>芹献</a:t>
            </a:r>
            <a:r>
              <a:rPr b="1" lang="zh-CN" sz="2400" spc="-1" strike="noStrike" u="sng">
                <a:solidFill>
                  <a:srgbClr val="0000cc"/>
                </a:solidFill>
                <a:uFillTx/>
                <a:latin typeface="楷体_GB2312"/>
                <a:ea typeface="楷体_GB2312"/>
              </a:rPr>
              <a:t>”</a:t>
            </a:r>
            <a:r>
              <a:rPr b="1" lang="zh-CN" sz="2400" spc="-1" strike="noStrike" u="sng">
                <a:solidFill>
                  <a:srgbClr val="0000cc"/>
                </a:solidFill>
                <a:uFillTx/>
                <a:latin typeface="Times New Roman"/>
                <a:ea typeface="楷体_GB2312"/>
              </a:rPr>
              <a:t>或</a:t>
            </a:r>
            <a:r>
              <a:rPr b="1" lang="zh-CN" sz="2400" spc="-1" strike="noStrike" u="sng">
                <a:solidFill>
                  <a:srgbClr val="0000cc"/>
                </a:solidFill>
                <a:uFillTx/>
                <a:latin typeface="楷体_GB2312"/>
                <a:ea typeface="楷体_GB2312"/>
              </a:rPr>
              <a:t>“</a:t>
            </a:r>
            <a:r>
              <a:rPr b="1" lang="zh-CN" sz="2400" spc="-1" strike="noStrike" u="sng">
                <a:solidFill>
                  <a:srgbClr val="0000cc"/>
                </a:solidFill>
                <a:uFillTx/>
                <a:latin typeface="Times New Roman"/>
                <a:ea typeface="楷体_GB2312"/>
              </a:rPr>
              <a:t>献芹</a:t>
            </a:r>
            <a:r>
              <a:rPr b="1" lang="zh-CN" sz="2400" spc="-1" strike="noStrike" u="sng">
                <a:solidFill>
                  <a:srgbClr val="0000cc"/>
                </a:solidFill>
                <a:uFillTx/>
                <a:latin typeface="楷体_GB2312"/>
                <a:ea typeface="楷体_GB2312"/>
              </a:rPr>
              <a:t>”</a:t>
            </a:r>
            <a:r>
              <a:rPr b="1" lang="zh-CN" sz="2400" spc="-1" strike="noStrike" u="sng">
                <a:solidFill>
                  <a:srgbClr val="0000cc"/>
                </a:solidFill>
                <a:uFillTx/>
                <a:latin typeface="Times New Roman"/>
                <a:ea typeface="楷体_GB2312"/>
              </a:rPr>
              <a:t>作为谦词，表示自己的意见无足轻重或礼物微薄。文中所说</a:t>
            </a:r>
            <a:r>
              <a:rPr b="1" lang="zh-CN" sz="2400" spc="-1" strike="noStrike" u="sng">
                <a:solidFill>
                  <a:srgbClr val="0000cc"/>
                </a:solidFill>
                <a:uFillTx/>
                <a:latin typeface="楷体_GB2312"/>
                <a:ea typeface="楷体_GB2312"/>
              </a:rPr>
              <a:t>“</a:t>
            </a:r>
            <a:r>
              <a:rPr b="1" lang="zh-CN" sz="2400" spc="-1" strike="noStrike" u="sng">
                <a:solidFill>
                  <a:srgbClr val="0000cc"/>
                </a:solidFill>
                <a:uFillTx/>
                <a:latin typeface="Times New Roman"/>
                <a:ea typeface="楷体_GB2312"/>
              </a:rPr>
              <a:t>采纳美芹之献</a:t>
            </a:r>
            <a:r>
              <a:rPr b="1" lang="zh-CN" sz="2400" spc="-1" strike="noStrike" u="sng">
                <a:solidFill>
                  <a:srgbClr val="0000cc"/>
                </a:solidFill>
                <a:uFillTx/>
                <a:latin typeface="楷体_GB2312"/>
                <a:ea typeface="楷体_GB2312"/>
              </a:rPr>
              <a:t>”</a:t>
            </a:r>
            <a:r>
              <a:rPr b="1" lang="zh-CN" sz="2400" spc="-1" strike="noStrike" u="sng">
                <a:solidFill>
                  <a:srgbClr val="0000cc"/>
                </a:solidFill>
                <a:uFillTx/>
                <a:latin typeface="Times New Roman"/>
                <a:ea typeface="楷体_GB2312"/>
              </a:rPr>
              <a:t>，指要采纳别人的意见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92000" y="279360"/>
            <a:ext cx="2656080" cy="67464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分析典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52360" y="1179000"/>
            <a:ext cx="9144000" cy="14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. 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比干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被誉为“亘古第 一忠臣”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-360" y="2528640"/>
            <a:ext cx="6102360" cy="37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商末，纣王暴虐荒淫，横征暴敛。比干叹曰：“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主过不谏非忠也，畏死不言非勇也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过则谏不用则死，忠之至也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”。遂至摘星楼强谏三日不去。纣问何以自恃，比干曰：“恃善行仁义，所以自恃”。纣怒曰：“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吾闻圣人心有七窍，信有诸乎？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”遂杀比干剖视其心，终年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岁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92000" y="279360"/>
            <a:ext cx="2656080" cy="67464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分析典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6127920" y="3203640"/>
            <a:ext cx="3016080" cy="22464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6146640" y="998640"/>
            <a:ext cx="1919520" cy="21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161640" y="1359000"/>
            <a:ext cx="643572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宋体"/>
              </a:rPr>
              <a:t>5.</a:t>
            </a: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唐太宗与魏征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魏征以直言敢谏著称。曾参加过李密和窦建德的起义军，后又在太子</a:t>
            </a:r>
            <a:r>
              <a:rPr b="1" lang="zh-CN" sz="2400" spc="-1" strike="noStrike" u="sng">
                <a:solidFill>
                  <a:srgbClr val="ff3300"/>
                </a:solidFill>
                <a:uFillTx/>
                <a:latin typeface="宋体"/>
              </a:rPr>
              <a:t>建成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手下干事，曾劝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建成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杀掉李世民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李世民看他为人直爽，有胆识，没有记恨反而重用了他。他向唐太宗提出了许多好的建议，敢当面提出，有时甚至同唐太宗争得面红耳赤，弄得唐太宗下不了台阶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魏征死了后，唐太宗很伤心，他说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: “</a:t>
            </a: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人以铜为鉴，可以正衣冠；以古为鉴，可以知兴替；以人为鉴，可以知得失。今魏征殁，朕亡一鉴矣。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”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2000" y="279360"/>
            <a:ext cx="2656080" cy="67464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分析典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6692760" y="1719360"/>
            <a:ext cx="2451240" cy="33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-360" y="1314360"/>
            <a:ext cx="6372360" cy="51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、周厉王止谤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厉王虐，国人谤王。召公告曰：“民不堪命矣！”王怒，得卫巫，使监谤者。以告，则杀之。国人莫敢言，</a:t>
            </a:r>
            <a:r>
              <a:rPr b="1" lang="zh-CN" sz="2800" spc="-1" strike="noStrike" u="sng">
                <a:solidFill>
                  <a:srgbClr val="0000cc"/>
                </a:solidFill>
                <a:uFillTx/>
                <a:latin typeface="Times New Roman"/>
              </a:rPr>
              <a:t>道路以目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王喜，告召公曰：“吾能弭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mǐ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谤矣，乃不敢言。”召公曰：“是障之也。</a:t>
            </a:r>
            <a:r>
              <a:rPr b="1" lang="zh-CN" sz="2800" spc="-1" strike="noStrike" u="sng">
                <a:solidFill>
                  <a:srgbClr val="0000cc"/>
                </a:solidFill>
                <a:uFillTx/>
                <a:latin typeface="Times New Roman"/>
              </a:rPr>
              <a:t>防民之口，甚于防川。川壅</a:t>
            </a:r>
            <a:r>
              <a:rPr b="1" lang="en-US" sz="2800" spc="-1" strike="noStrike" u="sng">
                <a:solidFill>
                  <a:srgbClr val="0000cc"/>
                </a:solidFill>
                <a:uFillTx/>
                <a:latin typeface="Times New Roman"/>
              </a:rPr>
              <a:t>yōng</a:t>
            </a:r>
            <a:r>
              <a:rPr b="1" lang="zh-CN" sz="2800" spc="-1" strike="noStrike" u="sng">
                <a:solidFill>
                  <a:srgbClr val="0000cc"/>
                </a:solidFill>
                <a:uFillTx/>
                <a:latin typeface="Times New Roman"/>
              </a:rPr>
              <a:t>而溃，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伤人必多，民亦如之。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……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王不听，于是国人莫敢出言。三年，乃</a:t>
            </a:r>
            <a:r>
              <a:rPr b="1" lang="zh-CN" sz="2800" spc="-1" strike="noStrike" u="sng">
                <a:solidFill>
                  <a:srgbClr val="0000cc"/>
                </a:solidFill>
                <a:uFillTx/>
                <a:latin typeface="Times New Roman"/>
              </a:rPr>
              <a:t>流王于彘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92000" y="279360"/>
            <a:ext cx="2656080" cy="67464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分析典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6534000" y="2033640"/>
            <a:ext cx="2419560" cy="24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252360" y="233280"/>
            <a:ext cx="8550360" cy="61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75920" y="1763640"/>
            <a:ext cx="6513480" cy="5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7.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《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战国策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.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触龙说赵太后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92000" y="279360"/>
            <a:ext cx="2656080" cy="67464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分析典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5651640" y="2843280"/>
            <a:ext cx="3238200" cy="274464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657360" y="2933640"/>
            <a:ext cx="485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深谙说话艺术的左师触龙并没有像别的朝臣那样一味地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犯颜直谏，批逆龙鳞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而是察言观色，相机行事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46280" y="1133280"/>
            <a:ext cx="732312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8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屈原与楚怀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1332000" y="2394000"/>
            <a:ext cx="4680000" cy="343368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792000" y="279360"/>
            <a:ext cx="2656080" cy="67464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分析典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297000" y="1537920"/>
            <a:ext cx="8640720" cy="42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古古对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唐太宗和魏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—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齐威王和邹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比干、屈原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—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魏征、邹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周厉王止谤垮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—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齐威王纳谏战胜于朝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《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触龙说赵太后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》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—《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邹忌讽齐王纳谏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古今对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齐威王纳谏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—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现在有人拒绝批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周厉王止谤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—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四人帮垮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92000" y="279360"/>
            <a:ext cx="2656080" cy="67464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分析典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941640" y="1854360"/>
            <a:ext cx="4095720" cy="197928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032360" y="1763640"/>
            <a:ext cx="3914640" cy="20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采用对照式结构，鲜明突出，印象深刻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297000" y="1314000"/>
            <a:ext cx="868680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对仗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行为万世师，言作万世法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倾听逆耳之言，采纳美芹之献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批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‘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龙鳞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’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逆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‘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圣听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’”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既佩服他的大智，也赞赏他的风度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四字句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读好文章，如饮醇酒，其味无穷，久而弥笃，下令群臣，遍及全国，面刺错误，指陈弊病，顺我者昌，逆我者亡。以棒止谤，冤狱累累，人力无穷，天网恢恢 ，生动亲切，娓娓动听，饶有情趣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……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作用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: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工整、有节奏，凝练有力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92000" y="279360"/>
            <a:ext cx="2656080" cy="67464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语言特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黑体"/>
              </a:rPr>
              <a:t>学习目标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92000" y="1854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学习借古喻今的写作方法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学习层进式与对照式的结构，掌握议论文层次结构的分析方法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体会简洁、生动、形象的语言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【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教学重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诵读全文，理清文章思路，把握文章主旨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体会简洁、生动、形象的语言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657360" y="1223640"/>
            <a:ext cx="7772400" cy="518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比喻的使用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如饮醇酒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”、“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如故人重逢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”、“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土壅而川决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”、“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历史是一面镜子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”、“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像阿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Q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听到别人说他头上的疮疤一样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”、“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以冰棍对付热情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”、“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像不干净的身子洗了个冷水澡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作用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: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语言贴切、通俗、生动。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br>
              <a:rPr sz="3200"/>
            </a:b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92000" y="279360"/>
            <a:ext cx="2656080" cy="67464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语言特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3657600" y="457200"/>
            <a:ext cx="518148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106640" y="1628640"/>
            <a:ext cx="693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仿宋_GB2312"/>
                <a:ea typeface="仿宋_GB2312"/>
              </a:rPr>
              <a:t>    </a:t>
            </a:r>
            <a:r>
              <a:rPr b="1" lang="zh-CN" sz="3600" spc="-1" strike="noStrike">
                <a:solidFill>
                  <a:srgbClr val="0000cc"/>
                </a:solidFill>
                <a:latin typeface="仿宋_GB2312"/>
                <a:ea typeface="仿宋_GB2312"/>
              </a:rPr>
              <a:t>语言简练、形象、生动、准确</a:t>
            </a:r>
            <a:r>
              <a:rPr b="1" lang="zh-CN" sz="3600" spc="-1" strike="noStrike">
                <a:solidFill>
                  <a:srgbClr val="0000cc"/>
                </a:solidFill>
                <a:latin typeface="仿宋_GB2312"/>
                <a:ea typeface="仿宋_GB2312"/>
              </a:rPr>
              <a:t>;</a:t>
            </a:r>
            <a:r>
              <a:rPr b="1" lang="zh-CN" sz="3600" spc="-1" strike="noStrike">
                <a:solidFill>
                  <a:srgbClr val="0000cc"/>
                </a:solidFill>
                <a:latin typeface="仿宋_GB2312"/>
                <a:ea typeface="仿宋_GB2312"/>
              </a:rPr>
              <a:t>使用了四字句以及排比、对仗、比喻等修辞手法，使文章生动并富有节奏感</a:t>
            </a:r>
            <a:r>
              <a:rPr b="1" lang="zh-CN" sz="3600" spc="-1" strike="noStrike">
                <a:solidFill>
                  <a:srgbClr val="0000cc"/>
                </a:solidFill>
                <a:latin typeface="仿宋_GB2312"/>
                <a:ea typeface="仿宋_GB2312"/>
              </a:rPr>
              <a:t>;</a:t>
            </a:r>
            <a:r>
              <a:rPr b="1" lang="zh-CN" sz="3600" spc="-1" strike="noStrike">
                <a:solidFill>
                  <a:srgbClr val="0000cc"/>
                </a:solidFill>
                <a:latin typeface="仿宋_GB2312"/>
                <a:ea typeface="仿宋_GB2312"/>
              </a:rPr>
              <a:t>运用典故，增加了文章深刻性。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92000" y="279360"/>
            <a:ext cx="2656080" cy="67464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语言特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566280" y="2258640"/>
            <a:ext cx="8145720" cy="40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ff"/>
                </a:solidFill>
                <a:latin typeface="宋体"/>
              </a:rPr>
              <a:t>      </a:t>
            </a: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通过对比齐威王与周厉王对待谏谤的不同态度和不同结果，告诫各级领导同志要正确对待批评意见，敢于纳谏，改进工作，推动“四化”建设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92000" y="279360"/>
            <a:ext cx="2656080" cy="67464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小结：主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701280" y="2258640"/>
            <a:ext cx="6435720" cy="29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一、谈谈你对本文涉及到的历史人物的了解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二、谈谈劝架的艺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92000" y="279360"/>
            <a:ext cx="2656080" cy="67464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拓展延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341280" y="1808280"/>
            <a:ext cx="7772400" cy="30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Times New Roman"/>
                <a:ea typeface="楷体"/>
              </a:rPr>
              <a:t>人生永远追逐着幻光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Times New Roman"/>
                <a:ea typeface="楷体"/>
              </a:rPr>
              <a:t>但谁把幻光看作幻光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Times New Roman"/>
                <a:ea typeface="楷体"/>
              </a:rPr>
              <a:t>谁便沉入了无边的苦海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"/>
              </a:rPr>
              <a:t>        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《生活杂感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6102360" y="1494000"/>
            <a:ext cx="2830680" cy="31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0" y="458640"/>
            <a:ext cx="6299280" cy="661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Times New Roman"/>
              </a:rPr>
              <a:t>有的人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                              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----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纪念鲁迅有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有的人活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他已经死了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有的人死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他还活着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有的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骑在人民头上：“呵，我多伟大！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有的人俯下身子给人民当牛马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有的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把名字刻入石头想“不朽”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有的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情愿作野草，等着地下的火烧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著名作家臧克家   刘文韬编辑"/>
          <p:cNvPicPr/>
          <p:nvPr/>
        </p:nvPicPr>
        <p:blipFill>
          <a:blip r:embed="rId2"/>
          <a:stretch/>
        </p:blipFill>
        <p:spPr>
          <a:xfrm>
            <a:off x="5021280" y="1943280"/>
            <a:ext cx="412272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205920" y="1402920"/>
            <a:ext cx="57150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臧克家（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19058-2004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），山东潍坊诸城人，现代诗人，，忠诚的爱国主义者。中国文联委员，中国诗歌学会会长。曾任《诗刊》主编。第一部诗集是《烙印》，主要讽刺诗集《宝贝儿》，文艺论文集《在文艺学习的道路上》。其短诗《有的人》被广泛传颂。作品多以农村题材为主，语言朴实，文字严谨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主要作品《烙印》、《罪恶的黑手》、《运河》、《乱莠集》、《从军行》、《淮上吟》、《随枣行》、《古树的花朵》、回忆录《我的诗生活》和《泥土的歌》、《十年诗选》《野店》、《蛙声》、《山窝里的晚会》、《海》、《炉火》、《我的诗生活》、为《泥土的歌》写的序言《当中隔一段战争》、《宝贝儿》、《生命的零度》、《有的人》。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6640" y="414360"/>
            <a:ext cx="2655720" cy="67464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作者简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6076800" y="1763640"/>
            <a:ext cx="306720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897360" y="3043080"/>
            <a:ext cx="4545000" cy="31258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932360" cy="37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205920" y="1359000"/>
            <a:ext cx="8775720" cy="463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弥笃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更加淳厚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笼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用手段拉拢人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气度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气魄和度量；气概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借鉴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跟别的人或事相对照，以便取长补短或吸取教训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贻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错误遗留下去，使受到坏的影响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亵渎</a:t>
            </a:r>
            <a:r>
              <a:rPr b="1" lang="zh-CN" sz="24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xiè d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轻慢、冒犯；不尊敬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引人入胜</a:t>
            </a:r>
            <a:r>
              <a:rPr b="1" lang="zh-CN" sz="2400" spc="-1" strike="noStrike">
                <a:solidFill>
                  <a:srgbClr val="ff9900"/>
                </a:solidFill>
                <a:latin typeface="Times New Roman"/>
                <a:ea typeface="楷体_GB2312"/>
              </a:rPr>
              <a:t>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引人进入佳境。现多用来指风景或文艺作品特别吸引人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故人重逢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：以前就认识的人，重新相遇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人非圣贤，孰能无过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：一般人不是圣人和贤人，谁能没有过失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?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92000" y="279360"/>
            <a:ext cx="2656080" cy="67464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掌握字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341280" y="1268280"/>
            <a:ext cx="84168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逆耳之言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：忠言。（忠言听起来往往是不中听的 ，所以叫逆耳之言。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一概而论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用同一标准来对待或处理事情或问题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从善如流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：听从规劝像流水一样自然。形容乐于接受别人的批评意见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国泰民安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国家太平，人民安乐 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太平盛世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安定、兴盛德时代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赤心耿耿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指真心诚意；忠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言者无罪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：指提意见的人只要是善意的，即使提得不正确，也是无罪的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天渊之别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: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像天上和深渊一样的差别。喻差别极大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92000" y="279360"/>
            <a:ext cx="2656080" cy="67464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掌握字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1T06:55:50Z</dcterms:created>
  <dc:creator>jwc</dc:creator>
  <dc:description/>
  <cp:keywords/>
  <dc:language>en-US</dc:language>
  <cp:lastModifiedBy>user</cp:lastModifiedBy>
  <dcterms:modified xsi:type="dcterms:W3CDTF">2017-10-06T14:46:34Z</dcterms:modified>
  <cp:revision>190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