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himes.wav" ContentType="audio/x-wav"/>
  <Override PartName="/ppt/media/image8.png" ContentType="image/png"/>
  <Override PartName="/ppt/media/image10.jpeg" ContentType="image/jpeg"/>
  <Override PartName="/ppt/media/image5.png" ContentType="image/png"/>
  <Override PartName="/ppt/media/image13.jpeg" ContentType="image/jpeg"/>
  <Override PartName="/ppt/media/camera.wav" ContentType="audio/x-wav"/>
  <Override PartName="/ppt/media/image12.jpeg" ContentType="image/jpeg"/>
  <Override PartName="/ppt/media/image6.png" ContentType="image/png"/>
  <Override PartName="/ppt/media/chimes.wav" ContentType="audio/x-wav"/>
  <Override PartName="/ppt/media/image1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type.wav" ContentType="audio/x-wav"/>
  <Override PartName="/ppt/media/image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24D8-2369-4C4C-A6AD-23B8684A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76A7-3CC4-4327-84A4-AF4CE94B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121-562E-4FF4-B2D9-C7B5B6C0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AEA3-3D0E-4723-9486-F3E3B88D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8FCC-210B-404D-9535-84BE173B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61A9-7380-48DC-81CD-48E3BA7A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C5F2-8247-4AA6-986C-95C826B5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0E71-8044-4878-9111-E9BBDF8F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2756-357E-49BA-A6D4-B4F25987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C18E-17CC-40AD-B5B8-A5AD56DF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AF09-1FFF-4770-91C8-31D7600E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5C8B-28D3-4FA4-A447-6567CBB9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D926-CBA0-4DD6-97D6-23F8D645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0F0D-9974-4C5F-9AC0-825288BE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C428-9BB1-47D6-9AB2-8B710ABB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5E81-4EA2-4A2B-8CA7-7BB034E3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FD10-183A-4EAC-B61A-31857230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4664-9A30-4191-AD5D-78DBA0B7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AD8-EDF0-49F9-BB92-22C1C65D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9343-1DA9-4D18-8930-2A40F4F3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54F0-33A1-4558-94D3-3A82382B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D11-3A3F-443A-A5FA-D2E51967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3C51-BF4D-4AA5-B1F3-C6F0C3DA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F44-821B-43A5-865A-94CBFCFE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463A-276C-4F69-81D7-B796C5435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52280"/>
            <a:ext cx="741708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教育部高职高专规划教材     实用语文（第三版）第一册教辅课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图片 3" descr=""/>
          <p:cNvPicPr/>
          <p:nvPr/>
        </p:nvPicPr>
        <p:blipFill>
          <a:blip r:embed="rId4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09480" y="152280"/>
            <a:ext cx="7417080" cy="368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教育部高职高专规划教材     实用语文（第三版）第一册教辅课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图片 3" descr=""/>
          <p:cNvPicPr/>
          <p:nvPr/>
        </p:nvPicPr>
        <p:blipFill>
          <a:blip r:embed="rId6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05F9-6A34-4995-A010-1BA4C11A2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163.com/dd/news_img.htm?http://cimg.163.com/news/0410/19/gg041019_028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3.xml"/><Relationship Id="rId4" Type="http://schemas.openxmlformats.org/officeDocument/2006/relationships/slide" Target="slide37.xml"/><Relationship Id="rId5" Type="http://schemas.openxmlformats.org/officeDocument/2006/relationships/slide" Target="slide15.xml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26920" y="2133360"/>
            <a:ext cx="37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"/>
              </a:rPr>
              <a:t>第三单元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95280" y="0"/>
            <a:ext cx="55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疑难字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2852640"/>
            <a:ext cx="71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冠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堂皇　　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虚　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4724280"/>
            <a:ext cx="75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冷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头　　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2349360"/>
            <a:ext cx="74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guān miǎn              sè        xuán          bi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50760" y="4083120"/>
            <a:ext cx="74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gēng  zhì            suǐ        càn              x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8640720" cy="727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梳理思路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7880" y="981000"/>
            <a:ext cx="8412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第一部分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着重揭露“送去主义”在学艺上的表现及其鼓吹者的媚外行径，与一味“送去”针锋相对，提出拿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第二部分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~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着重揭露送去者与“送来者”的奴才主子关系，辨明“抛来”与“抛给”的不同，提出“拿来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第三部分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~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着重揭露“送来者”的真面目，划清“拿来”与“送去”的界限，提出“拿来主义”的要旨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（运用脑髓，放出眼光，自己来拿）。        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第四部分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~1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批判对待文化遗产的三种错误态度，指出“拿来主义”者对待文化遗产应是“占有”挑选”和创造，最后得出结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8640720" cy="727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5256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掌握信息，梳理文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19280" y="1557000"/>
            <a:ext cx="53290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什么是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闭关主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什么是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送去主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什么是 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拿来主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84280"/>
            <a:ext cx="2700360" cy="3405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692280"/>
            <a:ext cx="8640720" cy="727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9280" y="0"/>
            <a:ext cx="5256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掌握信息，梳理文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1253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1840" indent="-2571840">
              <a:spcBef>
                <a:spcPts val="1749"/>
              </a:spcBef>
              <a:tabLst>
                <a:tab algn="l" pos="0"/>
                <a:tab algn="l" pos="257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闭关主义：指清政府奉行的闭关自守政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91628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1840" indent="-2571840"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送去主义：这里指国民党政府实行的投降卖国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1840" indent="-2571840"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媚外求荣，欺世惑众的政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3213000"/>
            <a:ext cx="85341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1840" indent="-2571840"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拿来主义：这里指根据自己的需要，主动地去取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1840" indent="-2571840"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就是说要有分析，有批判地学习外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1840" indent="-2571840"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长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1840" indent="-2571840"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92280"/>
            <a:ext cx="8640720" cy="727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162864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1840" indent="-2571840">
              <a:spcBef>
                <a:spcPts val="1749"/>
              </a:spcBef>
              <a:tabLst>
                <a:tab algn="l" pos="0"/>
                <a:tab algn="l" pos="257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闭关主义：指清政府奉行的闭关自守政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838080" y="64008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1447920" y="6400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2421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1840" indent="-2571840"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送去主义：这里指国民党政府实行的投降卖国，媚外求荣，欺世惑众的政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789360"/>
            <a:ext cx="8534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1840" indent="-2571840"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拿来主义：这里指根据自己的需要，主动地去取，也就是说要有分析，有批判地学习外国的长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1840" indent="-2571840"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0"/>
            <a:ext cx="5256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掌握信息，梳理文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92280"/>
            <a:ext cx="8640720" cy="727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468360" y="1773360"/>
          <a:ext cx="8424720" cy="4176360"/>
        </p:xfrm>
        <a:graphic>
          <a:graphicData uri="http://schemas.openxmlformats.org/drawingml/2006/table">
            <a:tbl>
              <a:tblPr/>
              <a:tblGrid>
                <a:gridCol w="934920"/>
                <a:gridCol w="2376720"/>
                <a:gridCol w="2160360"/>
                <a:gridCol w="2952720"/>
              </a:tblGrid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闭关主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送去主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拿来主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19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实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19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利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052720" y="2513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不送不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32960" y="3716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惧外、排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76360" y="472428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丧权辱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割地赔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导致送去主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16040" y="270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只送不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22040" y="37893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媚外、卖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4724280"/>
            <a:ext cx="170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文化堕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主权丧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贻害子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2565360"/>
            <a:ext cx="17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送去之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还得拿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3573360"/>
            <a:ext cx="16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爱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平交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869000"/>
            <a:ext cx="28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人自成为新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文艺自成为新文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0"/>
            <a:ext cx="5256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掌握信息，梳理文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92280"/>
            <a:ext cx="8640720" cy="727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45561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5120" indent="-1905120"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抛给”的“给”是有目的的，此指帝国主义的经济文化侵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162864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3520" indent="-1703520"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送去”的“送”，表现了一种态度，此指国民党政府的卖国行径，表现了其卖国求荣的媚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03520" indent="-1703520"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14172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7640" indent="-1817640"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抛来”，把无用的东西随便扔给人，此指帝国主义向中国推销剩余产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7640" indent="-1817640"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395280" y="62064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36440" y="885960"/>
            <a:ext cx="49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送去”、“抛给”、“抛来”分别有什么内涵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0"/>
            <a:ext cx="5256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掌握信息，梳理文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92280"/>
            <a:ext cx="8640720" cy="727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2205000"/>
            <a:ext cx="8305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1840" indent="-2571840"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出实行“拿来主义”的人应具有的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1840" indent="-2571840"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识和品质，以及“拿来主义”对于创造民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1840" indent="-2571840"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文化的重要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572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全文主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92280"/>
            <a:ext cx="8640720" cy="727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第二课时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908000" y="2492280"/>
            <a:ext cx="5077080" cy="32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部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第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段“别的且不说罢”一句有什么作用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作者列举了哪些事例来揭露国民党政府实行“送去主义”的媚外丑态的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250920" y="0"/>
            <a:ext cx="6192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精读课文，合作探讨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92280"/>
            <a:ext cx="8640720" cy="727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24360" y="1700280"/>
            <a:ext cx="4032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拿来主义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251160" cy="424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458320" y="38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鲁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段“别的且不说罢”一句有什么作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一句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把所要揭露、论述的范围加以严格的限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只讲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文化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事。本文写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，那时日本帝国主义的魔爪已经伸到了东北、华北，国民党政府推行卖国主义政策，变本加厉地出卖国家的领土、资源和主权，确实“成了什么都是‘送去主义’了”。因此，用“别的且不说罢”的句子，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不仅使论述的范围明确，而且增强了揭露的深刻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92280"/>
            <a:ext cx="8640720" cy="727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者列举了哪些事例来揭露国民党政府实行“送去主义”的媚外丑态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20728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先送”一批古董到巴黎去展览，“不知后事如何”，即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有去无回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，这是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媚外的可耻行径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；还有几位“大师”们捧几张古画和新画，在欧洲各国一路挂过去，“捧”何其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郑重、恭敬，媚态可掬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，几张画“一路的挂”，何其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卖力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，何其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寒伧可笑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，“发扬国光”，反语，讽刺不以为耻，反以为荣；“还要送梅兰芳博士到苏联去，以催进‘象征主义’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也可以算得显出一点进步了”，用这种方式来显示一点进步，多么可怜，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暗示“学艺”上的东西已经相当贫乏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。作者讽刺批判的锋芒不是对着几位艺术家，而是指向卖国媚外的反动当局及其御用文人，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字里行间充满着憎恶和鄙视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92280"/>
            <a:ext cx="8640720" cy="727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味奉行“送去主义”会产生什么严重后果及危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者以尼采自诩他是太阳，光热无穷，只是给与，不想取得作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类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“尼采究竟不是太阳，他发了疯”；中国若“只是送出去”，同样是愚蠢可笑的。说“掘起地下的煤来，就足够全世界几百年之用”，“几百年之后呢”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的子孙，“当佳节大典之际，他们拿不出东西来，只好磕头贺喜，讨一点残羹冷炙做奖赏”。“磕头”、“讨”和“残羹冷炙”、“奖赏”等词语，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形象、深刻地写出了“送”的结果是我们的子孙后代无法立足于世界民族之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92280"/>
            <a:ext cx="8640720" cy="727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抛来”和“抛给”有何区别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抛来指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把无用的东西抛弃掉，或者无代价地送人或施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一般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不怀有什么不良的动机或目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抛给指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有目的的、带恶意的输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92280"/>
            <a:ext cx="8640720" cy="727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916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合作探讨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799308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课文的第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段在文章中起什么作用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段是过渡段，它起着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承上启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简要说说：前面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段讲的什么问题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后面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段讲的什么问题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段，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揭示什么是“送去主义”及实行“送去主义”的危险性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后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段，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论证什么是“拿来主义”及为什么要实行“拿来主义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92280"/>
            <a:ext cx="8640720" cy="727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4537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隶书"/>
              </a:rPr>
              <a:t>合作探讨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960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、主题是“拿来主义”，为什么课文前半部分着重写的是“闭关主义”和“送去主义”</a:t>
            </a: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者要论说的是“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拿来主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，但它是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针对历史和现实存在的问题提出来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近代的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“闭关主义”必然导致“现在”的“送去主义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“送去主义”是一种有往无来的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卖国行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必然导致国势日弱，被动挨打，从长远看，将造成亡国灭种。因此，采取与“送去主义”针锋相对的“拿来主义”就刻不容缓。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“送去主义”和“拿来主义”是一个问题的两个方面，“破”正是为了“立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0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692280"/>
            <a:ext cx="8640720" cy="727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2519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隶书"/>
              </a:rPr>
              <a:t>深入思考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段的“送来”与“拿来”有何区别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段的“运用脑髓，放出眼光，自己来拿”怎么理解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692280"/>
            <a:ext cx="8640720" cy="727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1989000"/>
            <a:ext cx="77724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 “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送来”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帝国主义对我国进行的经济、军事、文化侵略、掠夺，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是“抛给”的同义语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“拿来”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根据需要自己拿，二者本质不同，内容迥异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941720"/>
            <a:ext cx="77724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运用脑髓”指</a:t>
            </a:r>
            <a:r>
              <a:rPr b="1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用脑筋独立思考，有主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“放出眼光”指</a:t>
            </a:r>
            <a:r>
              <a:rPr b="1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要看得清，有辨别力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“自己来拿”指</a:t>
            </a:r>
            <a:r>
              <a:rPr b="1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要有选择，自己拿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04920" y="685800"/>
            <a:ext cx="84582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　 “大宅子”实指什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对待文化遗产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文章一共列举了几种态度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文中是怎样说理的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1905120"/>
            <a:ext cx="2362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文化遗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012000" y="2997360"/>
            <a:ext cx="2666880" cy="609120"/>
            <a:chOff x="6012000" y="2997360"/>
            <a:chExt cx="2666880" cy="609120"/>
          </a:xfrm>
        </p:grpSpPr>
        <p:sp>
          <p:nvSpPr>
            <p:cNvPr id="197" name=""/>
            <p:cNvSpPr/>
            <p:nvPr/>
          </p:nvSpPr>
          <p:spPr>
            <a:xfrm>
              <a:off x="6012000" y="3073320"/>
              <a:ext cx="2438280" cy="533160"/>
            </a:xfrm>
            <a:prstGeom prst="leftArrowCallout">
              <a:avLst>
                <a:gd name="adj1" fmla="val 22030"/>
                <a:gd name="adj2" fmla="val 25000"/>
                <a:gd name="adj3" fmla="val 72939"/>
                <a:gd name="adj4" fmla="val 7572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21480" y="299736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逃避害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084720" y="3933720"/>
            <a:ext cx="2666880" cy="609840"/>
            <a:chOff x="6084720" y="3933720"/>
            <a:chExt cx="2666880" cy="609840"/>
          </a:xfrm>
        </p:grpSpPr>
        <p:sp>
          <p:nvSpPr>
            <p:cNvPr id="200" name=""/>
            <p:cNvSpPr/>
            <p:nvPr/>
          </p:nvSpPr>
          <p:spPr>
            <a:xfrm>
              <a:off x="6084720" y="4010040"/>
              <a:ext cx="2438280" cy="533520"/>
            </a:xfrm>
            <a:prstGeom prst="leftArrowCallout">
              <a:avLst>
                <a:gd name="adj1" fmla="val 22030"/>
                <a:gd name="adj2" fmla="val 25000"/>
                <a:gd name="adj3" fmla="val 72890"/>
                <a:gd name="adj4" fmla="val 7572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94200" y="39337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全盘否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084720" y="5013360"/>
            <a:ext cx="2666880" cy="609120"/>
            <a:chOff x="6084720" y="5013360"/>
            <a:chExt cx="2666880" cy="609120"/>
          </a:xfrm>
        </p:grpSpPr>
        <p:sp>
          <p:nvSpPr>
            <p:cNvPr id="203" name=""/>
            <p:cNvSpPr/>
            <p:nvPr/>
          </p:nvSpPr>
          <p:spPr>
            <a:xfrm>
              <a:off x="6084720" y="5089320"/>
              <a:ext cx="2438280" cy="533160"/>
            </a:xfrm>
            <a:prstGeom prst="leftArrowCallout">
              <a:avLst>
                <a:gd name="adj1" fmla="val 22030"/>
                <a:gd name="adj2" fmla="val 25000"/>
                <a:gd name="adj3" fmla="val 72939"/>
                <a:gd name="adj4" fmla="val 7572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94200" y="501336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全盘肯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3809880" cy="335268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rId3" action="ppaction://hlinksldjump"/>
          </p:cNvPr>
          <p:cNvSpPr/>
          <p:nvPr/>
        </p:nvSpPr>
        <p:spPr>
          <a:xfrm rot="21480000">
            <a:off x="4066920" y="2997000"/>
            <a:ext cx="1981080" cy="609480"/>
          </a:xfrm>
          <a:prstGeom prst="wedgeEllipseCallout">
            <a:avLst>
              <a:gd name="adj1" fmla="val -114981"/>
              <a:gd name="adj2" fmla="val 188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不敢进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4" action="ppaction://hlinksldjump"/>
          </p:cNvPr>
          <p:cNvSpPr/>
          <p:nvPr/>
        </p:nvSpPr>
        <p:spPr>
          <a:xfrm rot="21510600">
            <a:off x="3924360" y="4005000"/>
            <a:ext cx="2133720" cy="609480"/>
          </a:xfrm>
          <a:prstGeom prst="wedgeEllipseCallout">
            <a:avLst>
              <a:gd name="adj1" fmla="val -88148"/>
              <a:gd name="adj2" fmla="val 1803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放火烧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5" action="ppaction://hlinksldjump"/>
          </p:cNvPr>
          <p:cNvSpPr/>
          <p:nvPr/>
        </p:nvSpPr>
        <p:spPr>
          <a:xfrm rot="28800">
            <a:off x="3924360" y="5157360"/>
            <a:ext cx="2209680" cy="644760"/>
          </a:xfrm>
          <a:prstGeom prst="cloudCallout">
            <a:avLst>
              <a:gd name="adj1" fmla="val -130324"/>
              <a:gd name="adj2" fmla="val -6861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接受一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1905120"/>
            <a:ext cx="228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大宅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57600" y="1981080"/>
            <a:ext cx="1219320" cy="457200"/>
          </a:xfrm>
          <a:custGeom>
            <a:avLst/>
            <a:gdLst>
              <a:gd name="textAreaLeft" fmla="*/ 190440 w 1219320"/>
              <a:gd name="textAreaRight" fmla="*/ 1067040 w 12193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444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深入探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待外来文化的错误态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09480" y="1916280"/>
          <a:ext cx="8077320" cy="3708360"/>
        </p:xfrm>
        <a:graphic>
          <a:graphicData uri="http://schemas.openxmlformats.org/drawingml/2006/table">
            <a:tbl>
              <a:tblPr/>
              <a:tblGrid>
                <a:gridCol w="1447920"/>
                <a:gridCol w="3124080"/>
                <a:gridCol w="35053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种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表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实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07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孱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昏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废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2496240" y="2637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怕被染污徘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不敢走进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23480" y="3645000"/>
            <a:ext cx="912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勃然大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放一把火烧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57800" y="4724280"/>
            <a:ext cx="1460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欣欣然蹩进卧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大吸鸦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76920" y="2565360"/>
            <a:ext cx="1826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害怕继承拒绝借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逃避主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67560" y="364500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盲目排斥，虚无主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左派幼稚病患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21640" y="465300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崇洋媚外全盘西化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投降主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9280" y="692280"/>
            <a:ext cx="8640720" cy="727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70360" y="17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838080" y="1219320"/>
          <a:ext cx="2057400" cy="76176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喻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2346480" y="291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38080" y="1989000"/>
          <a:ext cx="2057400" cy="8305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83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鱼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7147080" y="436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838080" y="2819520"/>
          <a:ext cx="2057400" cy="99036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鸦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6156360" y="200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838080" y="3809880"/>
          <a:ext cx="2057400" cy="1067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106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烟枪和烟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7070760" y="520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838080" y="4876920"/>
          <a:ext cx="2057400" cy="99036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姨太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6308640" y="14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895480" y="1219320"/>
          <a:ext cx="5486400" cy="76176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本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895480" y="1989000"/>
          <a:ext cx="5486400" cy="83052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83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国文化中的精华部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6689880" y="436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895480" y="2819520"/>
          <a:ext cx="5486400" cy="99036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国文化中精华和糟粕共存的部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4724280" y="4516560"/>
            <a:ext cx="85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895480" y="3809880"/>
          <a:ext cx="5486400" cy="106704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国文化中没有使用价值但适当保存一点可以作反面教材的部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45561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895480" y="4876920"/>
          <a:ext cx="5486400" cy="99036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国文化中反动腐朽应该完全摒弃的部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179280" y="692280"/>
            <a:ext cx="8640720" cy="727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19960" y="765000"/>
            <a:ext cx="1582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cc"/>
                </a:solidFill>
                <a:latin typeface="Times New Roman"/>
              </a:rPr>
              <a:t>学习目标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2060640"/>
            <a:ext cx="7858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本文运用比喻论证把抽象深奥的道理讲得深入浅出的方法，体会生动形象的论证艺术对表现思想内容的好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解杂文的特点，体会鲁迅杂文犀利、辛辣、幽默的语言特点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本文，认清对待外来文化的正确态度——批判地吸收，并能运用正确的观点解释一些实际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75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1143000"/>
            <a:ext cx="883908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喻论证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有相似点的事物打比方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类比论证（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同类事物相比较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比论证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性质相反事物作比较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6920" y="189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本文的论证艺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692280"/>
            <a:ext cx="8640720" cy="727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6760" y="482760"/>
            <a:ext cx="729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9280" y="836640"/>
            <a:ext cx="80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 “拿来主义”：批判继承文化遗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360" y="1628640"/>
            <a:ext cx="80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　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①“占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”，即“不管三七二十一，拿来！” 为正确地批判继承文化遗产扫除障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9280" y="692280"/>
            <a:ext cx="8640720" cy="727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189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小结：拿来主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6200" y="31417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②“挑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”，即“运用脑髓，放出眼光，自己来拿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4560" y="4149720"/>
            <a:ext cx="83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③创新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，即“主人是新主人，宅子也就会成为新宅子”。要推陈出新，就必须勇于批判继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692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②“挑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”，即“运用脑髓，放出眼光，自己来拿！”作者认为，文化遗产可分为三种：有益无害（即“鱼翅”）的要“拿来”，而且“使用”；既有毒素又有用处的（即“鸦片”），要吸取、使用它有用的方面，清除它有害的方面；人民根本不需要的（即“烟枪”“烟灯”和“姨太太”）原则上加以“毁灭”（只留少许送博物馆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28464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③创新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，即“主人是新主人，宅子也就会成为新宅子”。“占有”、“挑选”，是为了推陈出新创造出新文艺。要推陈出新，就必须勇于批判继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600200" y="10666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ahoma"/>
                <a:ea typeface="黑体"/>
              </a:rPr>
              <a:t>闭关主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05320" y="1219320"/>
            <a:ext cx="17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ahoma"/>
                <a:ea typeface="黑体"/>
              </a:rPr>
              <a:t>（排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175248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2743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ahoma"/>
                <a:ea typeface="黑体"/>
              </a:rPr>
              <a:t>送去主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81280" y="28954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ahoma"/>
                <a:ea typeface="黑体"/>
              </a:rPr>
              <a:t>（媚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14600" y="342900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44197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ahoma"/>
                <a:ea typeface="黑体"/>
              </a:rPr>
              <a:t>拿来主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1371600"/>
            <a:ext cx="762120" cy="1828800"/>
          </a:xfrm>
          <a:custGeom>
            <a:avLst/>
            <a:gdLst>
              <a:gd name="textAreaLeft" fmla="*/ 0 w 762120"/>
              <a:gd name="textAreaRight" fmla="*/ 275040 w 7621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20574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黑体"/>
              </a:rPr>
              <a:t>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812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4832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黑体"/>
              </a:rPr>
              <a:t>先破后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20040" y="836640"/>
            <a:ext cx="12776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有破有立，破立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4170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语言艺术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1557360"/>
            <a:ext cx="26780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讽刺辛辣，妙趣横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诙谐中见讥讽，憎恶溢于言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836640"/>
            <a:ext cx="55432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反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活人替代了古董，我敢说，也可以算得显示一点进步了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能够只是送去，也不算坏事情，一者见得丰富，二者见得大度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　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讽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几位“大师”，“捧着几张古画和新画，在欧洲一路地挂过去，”叫做“发扬国光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8580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0"/>
            <a:ext cx="244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黑体"/>
              </a:rPr>
              <a:t>语言艺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94840" y="907920"/>
            <a:ext cx="49050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活人代替了古董，我敢说，也可以算得显出一点进步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还有几位“大师”们捧着几张古画和新画，在欧洲一路的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过去，叫做“发扬国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一者见得丰富，二者见得大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尼采究竟不是太阳，他发了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22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6920" y="1413000"/>
            <a:ext cx="792648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进步”实为倒退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反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一“捧”一“挂”，既写出了他们的媚外求荣的丑态，又写出了他们的寒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讽刺了某些不切实际的幻想和可笑的自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与送去主义类比，进行揶揄与嘲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8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3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8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3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24000" y="1412640"/>
            <a:ext cx="22323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黑体"/>
              </a:rPr>
              <a:t>杂</a:t>
            </a:r>
            <a:br>
              <a:rPr sz="4400"/>
            </a:b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黑体"/>
              </a:rPr>
              <a:t>文</a:t>
            </a:r>
            <a:br>
              <a:rPr sz="4400"/>
            </a:b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黑体"/>
              </a:rPr>
              <a:t>的</a:t>
            </a:r>
            <a:br>
              <a:rPr sz="4400"/>
            </a:b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黑体"/>
              </a:rPr>
              <a:t>特</a:t>
            </a:r>
            <a:br>
              <a:rPr sz="4400"/>
            </a:b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黑体"/>
              </a:rPr>
              <a:t>点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835280" y="1341000"/>
            <a:ext cx="705312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迅速及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生动形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寓理深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篇幅短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写法灵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诙谐幽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鲁迅名言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世上本没有路，走的人多了，便成了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倘是狮子，自夸怎样肥大是不妨事的，但如果是一口猪或一匹羊，肥大倒不是好兆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不在沉默中爆发，就在沉默中灭亡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没有拿来，人不能自成为新人，没有拿来的，文艺不能自成为新文艺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4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9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900000" y="765000"/>
            <a:ext cx="7164360" cy="54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《且介亭杂文》缘起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鲁迅先生住在上海闸北帝国主义越界筑路的区域，这个地区有“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半租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之称。鲁迅先生因此将“租界”二字各取一半，成“且介”，以表愤懑。“且介亭”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暗示这些杂文是在上海半租界的亭子间里写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形象地讽刺了国民党统治下半殖民半封建的黑暗现实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第一课时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4360" y="1052640"/>
            <a:ext cx="3600360" cy="441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30381" t="9414" r="32732" b="30566"/>
          <a:stretch/>
        </p:blipFill>
        <p:spPr>
          <a:xfrm>
            <a:off x="762120" y="990720"/>
            <a:ext cx="3504960" cy="426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rcRect l="32551" t="4675" r="30561" b="36403"/>
          <a:stretch/>
        </p:blipFill>
        <p:spPr>
          <a:xfrm>
            <a:off x="755640" y="1125360"/>
            <a:ext cx="3505320" cy="4205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00720" y="1052640"/>
            <a:ext cx="446400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鲁迅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名周树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浙江绍兴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我国现代著名的文学家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思想家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革命家。字豫才，鲁迅是笔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中国无产阶级文学的奠基人。其作品表现了对中国国民素质的深入探索，对多种现实问题的深刻剖析，表现出卓越的政治远见和韧性的战斗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55166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81~1936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5640" y="5516640"/>
            <a:ext cx="12952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鲁迅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24360" y="1125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发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狂人日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奠定了新文学运动的基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3500280"/>
            <a:ext cx="8496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小说集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呐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彷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事新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散文集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朝花夕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散文诗集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杂文集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南腔北调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且介亭杂文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华盖 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南腔北调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心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已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324000" y="907920"/>
            <a:ext cx="3240000" cy="2514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95640" y="2133720"/>
            <a:ext cx="4392720" cy="45972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鲁迅最杰出的是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宋体"/>
              </a:rPr>
              <a:t>杂文创作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。其杂文“象投枪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象匕首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直刺向黑暗势力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76720" y="1341360"/>
            <a:ext cx="5486400" cy="47041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98100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黑体"/>
              </a:rPr>
              <a:t>杂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黑体"/>
              </a:rPr>
              <a:t>是一种文艺性政论文，主要指“五四”以来，以鲁迅为代表的那种精辟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犀利，带有浓列的文艺色彩的议论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文体常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48000" y="2590920"/>
            <a:ext cx="61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短小、活泼、犀利、隽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41280" y="3359160"/>
            <a:ext cx="9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既有议论性，又有文艺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3400" y="4349880"/>
            <a:ext cx="9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题材广泛，形式多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3400" y="5157720"/>
            <a:ext cx="9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大中取小，小中见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1600200"/>
            <a:ext cx="233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特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8640720" cy="727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4537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写作背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清朝政府实行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闭关主义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其结果是落后挨打；鸦片战争以后，清朝政府和北洋军阀奉行卖国政策即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“送去主义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国民党反动政府继承他们的衣钵，政治上投靠帝国主义，经济上以至文化上继续实行“送去主义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时在文化工作者中间，在对待外国文化问题上，存在两种错误认识，概括起来，就是“全盘否定”和“全盘西化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针对这些错误认识，鲁迅写了这篇文章，提出了“拿来主义”的口号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阐明了对待外国文化的正确态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92280"/>
            <a:ext cx="8640720" cy="727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0-09T14:29:18Z</dcterms:modified>
  <cp:revision>54</cp:revision>
  <dc:subject/>
  <dc:title>PowerPoint Presentation</dc:title>
</cp:coreProperties>
</file>