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7.png" ContentType="image/png"/>
  <Override PartName="/ppt/media/image6.png" ContentType="image/png"/>
  <Override PartName="/ppt/media/image23.png" ContentType="image/png"/>
  <Override PartName="/ppt/media/image20.gif" ContentType="image/gif"/>
  <Override PartName="/ppt/media/image13.jpeg" ContentType="image/jpeg"/>
  <Override PartName="/ppt/media/image12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7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chimes.wav" ContentType="audio/x-wav"/>
  <Override PartName="/ppt/media/image18.jpeg" ContentType="image/jpeg"/>
  <Override PartName="/ppt/media/camera.wav" ContentType="audio/x-wav"/>
  <Override PartName="/ppt/media/image24.jpeg" ContentType="image/jpeg"/>
  <Override PartName="/ppt/media/image22.png" ContentType="image/png"/>
  <Override PartName="/ppt/media/image25.png" ContentType="image/png"/>
  <Override PartName="/ppt/media/image19.jpeg" ContentType="image/jpeg"/>
  <Override PartName="/ppt/media/type.wav" ContentType="audio/x-wav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ABB-5F0C-474E-B5D0-EA38EA5D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E10-1CC4-4EC4-BD06-13CCACAE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08C20-2279-4865-8960-A3668158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03EC6-2216-4E69-AD59-4233B25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CE897-E97F-4153-A28D-57EA5007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91502-CEC4-4F1A-B1A7-9EC9C49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70555-85CB-42C2-8EF7-C017EAE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2570C-6A6F-40BB-AB2E-357FCA0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3B868-5EE3-4264-A76E-6D95FE61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03E0F-752F-40BB-A9AD-C9FE264F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CDFA4-CCD6-4A05-92A1-2738801F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628000-F69F-4CCE-8A8E-CB9BFDDB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D6E-62E7-47AE-8389-49F49FB2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697ED7-6104-476C-A874-F278221B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04F5B6-18C6-4431-A605-F9628A2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3C39A1-A9EF-40C4-B847-EF91C719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6A4BCE-653F-450F-BAEE-A8220836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550B0-A793-4E9D-B3D1-A0E35DF1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269240-F227-44AF-A460-7A99BFF2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7CB227-F429-4843-9E8D-8B7E47C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BDFE38-3188-4EF8-AEED-13697E0D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4260EC-164D-42D0-96C1-8AE1124F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F51213-9C58-44AC-B7DB-48F3E5F9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B3F-3328-4473-B2EB-519C15A7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584A79-AF74-4467-ABFB-DAB17AB3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EC370-A333-4C65-A770-E7A96D39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D75AE-E24B-4280-81C2-32626C19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58EA2-62AC-4465-9B9B-7471B6B7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7AA74-A4CC-418B-AFED-07AEE0B0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BE7D8-E477-4242-AE3F-95F1DB0E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5455F-CAC2-4F7E-A3E2-F7BB3A3B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BF7BC-05BE-447B-BB53-182B994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BB125-6C01-4F10-965D-66AF9EE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1D3B6-8BBB-4FEF-809B-9404F5D3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BDBF-E65D-4E5F-B1A3-B223B46F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0DC98-82AC-49A6-992D-77760C5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08491-661C-4230-A91B-B758274C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00481-4D2B-4225-B023-E9A573D8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DBCF9-CB0A-4CCE-95F0-B128032F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60D4B-7FD7-40D0-AF4C-EE3C76DB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1A972-C752-4A1C-B388-76CD5CF3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72752-2D32-43BF-8B5B-1B3E744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536E8-A0C8-48EE-BE42-8647BC8A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92C5C-8444-4E22-8C8C-48CEE7C7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516F4-9C5C-449E-AE6A-6E18D2B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5F83-99C7-4538-9C44-CE7A03DC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B28D0-06F7-4C41-B1CC-87516DAB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9A4B7-8AC2-4093-BE57-506652C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A7067-A48E-4D44-80C2-3885DFE1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BDE4A-3927-4D4B-9026-B6DA7110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8C56D-0E74-482C-A4F3-BD82B748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2780E-320F-451E-B314-A3806E7D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9E5F9-ABA3-46F2-8BEB-6B959D7C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13722-97E1-4D1F-9B16-23409E4F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768BD-221F-458B-8634-3AF043E8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29925-C07D-48B0-961D-65AAA11D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5A72-0940-48B1-9389-E0B8D846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E8E9A-F5AB-4B86-B0A7-CAA4BE17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55098-BF76-4E0F-8259-44687D11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ABE7C-BCB3-44A6-A07A-4F7ABA67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C08A0-1CAA-4213-98C8-9896CB3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7C1F2-DDF1-4FE6-85E1-E145F783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E509C-CFDB-4885-B378-568C9095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9FCF5-0015-497E-8E04-D06890C8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F90D-92F6-475A-B685-612FC436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6A53-7A5A-4D07-B99C-8D28BF0D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3710-B2AE-49CD-B506-2122AF82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4912-8F86-4723-A358-188D25F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577-2EBF-4B80-B75A-97902E30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650C-D62E-4E47-B435-3F67272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9E15-F0BC-4E9F-9FF7-4FA7E79E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37F7-6080-41E5-95F6-F42E9C58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925D-FCBE-4250-964F-BD660B85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8BF2-DE7D-4CBC-AEB3-490CB579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809E-3BF4-40F3-9D2F-2C214738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A135-C58F-47F6-936F-AE2F4BE7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4140F-E5A5-4DEE-928D-4DF8167B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0501-F80D-43FE-9DA3-C79A3504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F836-60C0-487F-8F0B-A69210D6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972-4023-4B10-869F-F6E67463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4B19-8D23-4C0F-A325-92469467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537F-CB4A-4E81-9BE6-0B7AC356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8AA7-8749-465C-B83D-F8D53C9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8C0C-6F0C-41D8-A65F-B93E3A8A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03CC-6AE8-4B9C-9750-914E247E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8B38-428B-4967-B9E9-13C94250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71BD-C7CE-498A-98CE-3AD094FE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1392-8070-4B07-8A91-EF97FB78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DC7EA-5D39-4FC6-9E55-A90A9F34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6D19-E315-4B51-9E7D-53C8A8D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AEB-CEE3-4F16-B7A0-D6A8818E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0737-BB3A-482C-A213-05347A84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5FC2-5808-49CE-90C0-92DBF019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C3DD-4C63-420A-955C-B97B15F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08DC-26DA-49D9-9789-DA42C3D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7034-ACED-4E0E-B770-370B9BA9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7633-8D46-4647-8FD9-D994E27A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B95F-8674-4A91-9953-61264E69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EC224-E4F6-41CC-A24F-596130FB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73AB-5624-40C0-BAF0-8EADF33E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A6CE7-EE42-4C64-BA31-23AC3612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9C6-2104-4687-98CB-739862E2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53BC-961F-474B-BA70-E85D08C6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559C1-0B36-40D9-9E11-E6D46A9A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CD7E-33EA-4A7F-80AB-80108045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3194-EB89-4B54-AC89-8DBB5EFB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5B65-D3F7-4A13-BC44-B310DCDA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0A741-1C37-4B0C-BBD7-8A280A6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1569-F03A-473D-997D-2BC82A92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08045-0FE2-4ABA-B79D-DC374C1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1DECD-D01A-4412-90DA-A79773A3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62A9-91AD-4E82-9991-922E336D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385-CC4B-4F5E-8AFD-D9102AEE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FB79A-8C27-448B-84E7-7232D5FE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C076-1762-4EB7-BC54-9CC7E9C8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D3492-97D3-4BD5-9603-A0B88CB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28DC7-0FCA-4A53-9B67-3E698E0B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32053-23B8-480C-B846-BE850906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1CE54-9768-4A3C-8EAB-371B0167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0CA0-2889-4D3F-9967-1E4359EC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10CE1-767D-4066-9DA1-63D310B4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DA281-98BB-4111-91BE-AD5E99F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3398-0D56-4AB5-B895-CD1E48E4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BAF-2AD2-4984-8B5B-BC59D6E0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518F-6230-4ACD-B9B0-B912A231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B9B0-5049-47D7-8786-1F17830B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6E0BC-A71A-4801-ACFA-3D6DCAA6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412A2-C934-4C5E-B620-967FEA68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3B62-AECF-4BF1-93A8-9A1827C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1229-304A-41F4-8550-C0FE7951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C97F6-2265-4FF9-A9C4-1F77922F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52677-6BED-48AF-A291-EBEDEAD1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114E2-FDE5-4A47-B827-C1806EAB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891F5-3E40-4F67-8743-5C01A5A3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A4C-44F5-41DB-9707-A816EE6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A8DF-7CE3-4A72-A0BC-B4C426A9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A53F-8216-4E70-AF42-F4F9A9D1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F4761-E188-4B5A-94F8-CA245DBD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C3C88-9C8C-4B5D-86C4-5C379C8D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5FB6-5342-4830-8AAC-F9AC9EB3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FC5A2-237B-45FC-A01C-C92110CA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21547-0E0D-4425-A2F6-48EA6F32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827DC-FEF4-46AC-BE5F-BF41EAFF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6E3DB-AD72-4917-ACF5-7D2F2262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3DC2-319C-491C-98A4-E6894B5F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B29-5614-438F-AE81-6F4FACA9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E11F-4CB0-4DCE-8B8F-81D6C81E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35640-3718-4EC4-972C-5FB75E6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4973D-6B1F-4CC8-A992-2E0E86F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4D264-B063-4798-9DB7-73FEE37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93705-9860-437F-BD77-E4A26766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4A1F7-3B7A-4F66-AF0F-BC9801C6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10FE2-C986-423B-9327-E7883395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9F5F3-F0D5-471F-9BC5-87C53E18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31A0F-3DCE-48C3-A6C2-AE2E824B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FE663-3B62-4D88-9E79-381EDC74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B30D-DD6F-4C82-961B-5E9EF75D93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189000"/>
            <a:ext cx="741672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部高职高专规划教材     实用语文（第三版）第一册教辅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9A0B-8A4D-479E-890C-A7921449ACD2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PlaceHolder 1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279B-9C4D-4A4F-AEF6-0B1213DD816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54A1-7293-4087-A824-9F058DC3A3B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8D21-2B68-4FA4-8245-F652A11A362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1FC2-2D80-457B-9583-0DEB0E6E31F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7A03-DF75-4FFD-BA94-A1632A4DC60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5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9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3EFA-A0B5-4059-BFC8-E8CB25F09BA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0DE9-3CDB-4A47-8080-B04E4FCBF91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7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964E-2381-4201-A8EA-F8F8B83863CD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8A06-C6BD-4C02-A41E-0AB42F0A29E2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12FA-9E93-498D-AD90-B9B7D527DC9B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200D-B70B-4BBD-9746-4FF9394F5447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1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84360" y="0"/>
            <a:ext cx="180036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第一单元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"/>
          <p:cNvSpPr/>
          <p:nvPr/>
        </p:nvSpPr>
        <p:spPr>
          <a:xfrm>
            <a:off x="395280" y="1341360"/>
            <a:ext cx="840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妄加揣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胡乱的估量推测。揣：估量，忖度；测：推测，料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惴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zhu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）惴不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因为害怕或担心而不安定的样子。惴惴：恐惧、担忧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不期而遇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事先约定而出乎意料的碰上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夸夸其谈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说话或写文章时，不做调查研究，滔滔不绝的乱说一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" descr="ws_C1"/>
          <p:cNvPicPr/>
          <p:nvPr/>
        </p:nvPicPr>
        <p:blipFill>
          <a:blip r:embed="rId2"/>
          <a:stretch/>
        </p:blipFill>
        <p:spPr>
          <a:xfrm>
            <a:off x="6300720" y="189000"/>
            <a:ext cx="2589120" cy="7696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4784400" y="117360"/>
            <a:ext cx="9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文本框 1"/>
          <p:cNvSpPr/>
          <p:nvPr/>
        </p:nvSpPr>
        <p:spPr>
          <a:xfrm>
            <a:off x="395280" y="1197000"/>
            <a:ext cx="832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满城风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消息一传出，就到处轰动起来，议论纷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如坐春风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如同沐浴在和煦的春风里，比喻受到教育和感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梦魇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ǎ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n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梦里遇见可怕的事情二惊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混淆（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xi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á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）乾坤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男女的界限搞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时弊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上一时较有影响的弊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攀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旧时指投靠有权势的人，以求升官发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掌故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历史上的人物事迹、制度沿革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ws_C1"/>
          <p:cNvPicPr/>
          <p:nvPr/>
        </p:nvPicPr>
        <p:blipFill>
          <a:blip r:embed="rId2"/>
          <a:stretch/>
        </p:blipFill>
        <p:spPr>
          <a:xfrm>
            <a:off x="6300720" y="189000"/>
            <a:ext cx="2589120" cy="7696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4784400" y="117360"/>
            <a:ext cx="9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二、解题：“琐忆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琐”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小而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忆”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选取的材料是作者耳闻目睹亲生经历的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本文写法的一大特点：以小见大，以小事来写伟大人格，在选材组材上做到琐而有序、琐而有纲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三、初读课文，了解结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部分（开头——眼睛望着远处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写鲁迅平易近人、爱护青年的事件，体现其“俯首甘为孺子牛”的精神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部分（如果把这段话——结尾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写鲁迅蔑视敌人、抨击时弊的言论，体现其“横眉冷对千夫指”的精神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4356000" y="3500280"/>
            <a:ext cx="1511280" cy="144720"/>
          </a:xfrm>
          <a:prstGeom prst="rightArrow">
            <a:avLst>
              <a:gd name="adj1" fmla="val 100000"/>
              <a:gd name="adj2" fmla="val 22268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708360" y="5516640"/>
            <a:ext cx="1511280" cy="287280"/>
          </a:xfrm>
          <a:prstGeom prst="rightArrow">
            <a:avLst>
              <a:gd name="adj1" fmla="val 50000"/>
              <a:gd name="adj2" fmla="val 13151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545440" y="5373720"/>
            <a:ext cx="91224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120000" y="3213000"/>
            <a:ext cx="91224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356000" y="3500280"/>
            <a:ext cx="1511280" cy="144720"/>
          </a:xfrm>
          <a:prstGeom prst="rightArrow">
            <a:avLst>
              <a:gd name="adj1" fmla="val 100000"/>
              <a:gd name="adj2" fmla="val 22268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20000" y="3213000"/>
            <a:ext cx="91224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708360" y="5516640"/>
            <a:ext cx="1511280" cy="287280"/>
          </a:xfrm>
          <a:prstGeom prst="rightArrow">
            <a:avLst>
              <a:gd name="adj1" fmla="val 50000"/>
              <a:gd name="adj2" fmla="val 13151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356000" y="3500280"/>
            <a:ext cx="1511280" cy="144720"/>
          </a:xfrm>
          <a:prstGeom prst="rightArrow">
            <a:avLst>
              <a:gd name="adj1" fmla="val 100000"/>
              <a:gd name="adj2" fmla="val 22268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20000" y="3213000"/>
            <a:ext cx="91224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45440" y="5373720"/>
            <a:ext cx="91224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08360" y="5516640"/>
            <a:ext cx="1511280" cy="287280"/>
          </a:xfrm>
          <a:prstGeom prst="rightArrow">
            <a:avLst>
              <a:gd name="adj1" fmla="val 50000"/>
              <a:gd name="adj2" fmla="val 13151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356000" y="3500280"/>
            <a:ext cx="1511280" cy="144720"/>
          </a:xfrm>
          <a:prstGeom prst="rightArrow">
            <a:avLst>
              <a:gd name="adj1" fmla="val 100000"/>
              <a:gd name="adj2" fmla="val 22268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120000" y="3213000"/>
            <a:ext cx="91224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403280" y="2565360"/>
            <a:ext cx="6408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问题讨论：记叙哪几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精读有关语段，了解句子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191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精读课文，整体感知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从文中读到了哪些“小而多”的回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"/>
                <a:ea typeface="楷体"/>
              </a:rPr>
              <a:t>主要通过作者和鲁迅先生的</a:t>
            </a:r>
            <a:r>
              <a:rPr b="1" lang="zh-CN" sz="3200" spc="-1" strike="noStrike">
                <a:solidFill>
                  <a:srgbClr val="3333ff"/>
                </a:solidFill>
                <a:latin typeface="楷体"/>
                <a:ea typeface="楷体"/>
              </a:rPr>
              <a:t>7</a:t>
            </a:r>
            <a:r>
              <a:rPr b="1" lang="zh-CN" sz="3200" spc="-1" strike="noStrike">
                <a:solidFill>
                  <a:srgbClr val="3333ff"/>
                </a:solidFill>
                <a:latin typeface="楷体"/>
                <a:ea typeface="楷体"/>
              </a:rPr>
              <a:t>次谈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这七次谈话，展现了一个什么形象的鲁迅先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684360" y="5805360"/>
            <a:ext cx="397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回忆性叙事散文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50920" y="13413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在没有见到鲁迅之前，对鲁迅的印象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26920" y="205740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鲁迅是不容易接近的，还是不去和他接近好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24000" y="27813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后来为什么想见鲁迅？此时他的心情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900000" y="3352680"/>
            <a:ext cx="75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自己写文章让鲁迅挨了骂，想当面道歉又怕被骂，心情惴惴不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4000" y="43657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见到鲁迅以后，情况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90000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切都在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意料之中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一切又都出于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意料之外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76720" y="55627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315200" y="55627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6019920"/>
            <a:ext cx="205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以为会挨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72200" y="6019920"/>
            <a:ext cx="2743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事实并没有挨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435640" y="260280"/>
            <a:ext cx="288144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一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533520" y="13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晌疑云，不，很久以来在我心头积集起来的疑云，一下子，全都消尽散绝了。”这句话的含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2743200"/>
            <a:ext cx="7391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两层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是指作者担心挨骂的疑虑消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二是指敌人对鲁迅的造谣不攻自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800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这次谈话，鲁迅给作者留下的印象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54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平易近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66520" y="476280"/>
            <a:ext cx="25887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期而遇，疑云消散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26920" y="404640"/>
            <a:ext cx="324180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一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067280" y="620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116000" y="184464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倘是狮子，夸说怎样肥大是不妨事的，如果是一口猪或一匹羊，肥大倒不是好兆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一条小溪，明澈见底，即使浅吧，但是却浅得澄清，倘是烂泥塘，谁知道它到底是深是浅呢？也许还是浅点好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26920" y="404640"/>
            <a:ext cx="475308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二、三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042920" y="13413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倘是狮子，夸说怎样肥大是不妨事的，如果是一口猪或一匹羊，肥大倒不是好兆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900000" y="3357720"/>
            <a:ext cx="7632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狮子”比喻国力强盛的国家和民族，“猪、羊”比喻资源丰富但国力衰弱，遭受侵略和掠夺而濒临灭亡的弱小的国家和民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26920" y="404640"/>
            <a:ext cx="475308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二、三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图片 3073" descr="C0901"/>
          <p:cNvPicPr/>
          <p:nvPr/>
        </p:nvPicPr>
        <p:blipFill>
          <a:blip r:embed="rId2"/>
          <a:srcRect l="930" t="0" r="0" b="910"/>
          <a:stretch/>
        </p:blipFill>
        <p:spPr>
          <a:xfrm>
            <a:off x="4572000" y="1628640"/>
            <a:ext cx="3456000" cy="2718000"/>
          </a:xfrm>
          <a:prstGeom prst="rect">
            <a:avLst/>
          </a:prstGeom>
          <a:ln w="0">
            <a:noFill/>
          </a:ln>
        </p:spPr>
      </p:pic>
      <p:sp>
        <p:nvSpPr>
          <p:cNvPr id="715" name="矩形 3074"/>
          <p:cNvSpPr txBox="1"/>
          <p:nvPr/>
        </p:nvSpPr>
        <p:spPr>
          <a:xfrm rot="5400000">
            <a:off x="2087280" y="1233000"/>
            <a:ext cx="136836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华文行楷"/>
              </a:rPr>
              <a:t>琐</a:t>
            </a:r>
            <a:endParaRPr b="0" lang="en-US" sz="9600" spc="-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sp>
        <p:nvSpPr>
          <p:cNvPr id="716" name="矩形 3075"/>
          <p:cNvSpPr txBox="1"/>
          <p:nvPr/>
        </p:nvSpPr>
        <p:spPr>
          <a:xfrm rot="5400000">
            <a:off x="2195640" y="357264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华文行楷"/>
              </a:rPr>
              <a:t>忆</a:t>
            </a:r>
            <a:endParaRPr b="0" lang="en-US" sz="9600" spc="-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sp>
        <p:nvSpPr>
          <p:cNvPr id="717" name=""/>
          <p:cNvSpPr/>
          <p:nvPr/>
        </p:nvSpPr>
        <p:spPr>
          <a:xfrm>
            <a:off x="900000" y="4221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971640" y="1700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一条小溪，明澈见底，即使浅吧，但是却浅得澄清，倘是烂泥塘，谁知道它到底是深是浅呢？也许还是浅点好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00000" y="3789360"/>
            <a:ext cx="7561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溪”比喻学问虽浅，但心性纯正的进步青年；“烂泥塘”比喻学问虽深，但心术不正，夸夸其谈的学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26920" y="404640"/>
            <a:ext cx="475308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二、三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971640" y="1628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鲁迅通过这两个比喻告诉我们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47640" y="263700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当时的中国腐败落后，自夸国大只能招来侵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青年人虽然阅历浅薄却总单纯热情，比那些故弄玄虚的学者好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219640" y="189000"/>
            <a:ext cx="3600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政府腐败，不容夸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219640" y="765000"/>
            <a:ext cx="3600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勉励青年，自信自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39640" y="476280"/>
            <a:ext cx="475308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二、三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971640" y="2924280"/>
            <a:ext cx="431640" cy="1873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2173320" cy="35053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3"/>
          <a:srcRect l="9060" t="0" r="0" b="10314"/>
          <a:stretch/>
        </p:blipFill>
        <p:spPr>
          <a:xfrm>
            <a:off x="7164360" y="1268280"/>
            <a:ext cx="1392120" cy="20653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2843280" y="4292640"/>
            <a:ext cx="5257800" cy="1981080"/>
          </a:xfrm>
          <a:prstGeom prst="wedgeRoundRectCallout">
            <a:avLst>
              <a:gd name="adj1" fmla="val -50875"/>
              <a:gd name="adj2" fmla="val -71472"/>
              <a:gd name="adj3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进化论嘛！我明白你的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思，你的舌头底下压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结论：可怕的进化论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132000" y="1413000"/>
            <a:ext cx="3429000" cy="1295280"/>
          </a:xfrm>
          <a:prstGeom prst="wedgeRoundRectCallout">
            <a:avLst>
              <a:gd name="adj1" fmla="val 64768"/>
              <a:gd name="adj2" fmla="val 41421"/>
              <a:gd name="adj3" fmla="val 16667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这是为的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26920" y="404640"/>
            <a:ext cx="381636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四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627280" y="2060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化论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英国伟大的生物学家达尔文创立的学说，属于自然科学的范畴。它正确地阐明了自然界都是发展变化的基本规律。但它只承认渐变不承认飞跃，对变化发展缺乏对立统一的认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rcRect l="3997" t="2010" r="0" b="9987"/>
          <a:stretch/>
        </p:blipFill>
        <p:spPr>
          <a:xfrm>
            <a:off x="395280" y="2133720"/>
            <a:ext cx="1941480" cy="257004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826920" y="404640"/>
            <a:ext cx="381636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四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826920" y="1413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如何理解“进化论牵制过我”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00000" y="21337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片面理解进化论，认为青年一定比老年进步，后一代一定比前一代进步。不问青年表现怎样都为他服务，做了像为青年补靴这一类事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900000" y="4149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．“我懂得青年也会变猴子，变虫易，这是后来的事”这句话怎么理解？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5445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指青年也有倒退落后的不进步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492160" y="549360"/>
            <a:ext cx="21009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替人补靴与进化论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26920" y="404640"/>
            <a:ext cx="381636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四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900000" y="198900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鲁迅先生讲“攀附阔佬”的目的是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116000" y="285264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用类比法揭露了国民党政权依附美国的丑态，讽刺国民党的做法就和要饭的一样，恬不知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00000" y="45086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这次谈话体现了鲁迅怎样的战斗风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5445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讽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289120" y="692280"/>
            <a:ext cx="2672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攀附阔佬”，丧尽国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26920" y="549360"/>
            <a:ext cx="381636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五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838080" y="1523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鲁迅为什么建议大家一律戴上防毒面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19320" y="21337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用引申法（又叫归谬法，是指从一种错误的观点出发，把这种错误推向极致，推导出一个茺唐的结论，从而证明出发点的错误）驳斥禁止男女同泳的谬论，使我们一眼看穿那些假道学的迂腐和荒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14400" y="4572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这次谈话体现了鲁迅怎样的战斗风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525780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幽默、犀利；嬉笑怒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327640" y="639720"/>
            <a:ext cx="23144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禁止同泳，荒唐可笑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26920" y="549360"/>
            <a:ext cx="381636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六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鲁迅从哪些方面揭露批判了国民党检查官的倒行逆施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79280" y="1628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指出这种做法是“骗子的行当”，是自欺欺人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79280" y="256536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指出他们是吃了“讹兽”的肉，不得不如此，暗示国民党收买的御用文人有意颠倒是非，混淆黑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0920" y="3500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建议出“官批集”，借以讽刺国民党的荒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50920" y="4005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深刻地揭露了国民党这种做法的卑怯心理和垂死挣扎的本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0920" y="5300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这次谈话体现了鲁迅什么样的战斗风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9120" y="624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1280" y="5805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观察分析的深刻、入木三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275080" y="549360"/>
            <a:ext cx="23144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皇帝免冠，卑怯疯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84360" y="476280"/>
            <a:ext cx="3816360" cy="720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第六次谈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5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代人挨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—鲁迅平易近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夸国大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—循循善诱教育青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勉励青年要有自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—循循善诱鼓励青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替人补靴与进化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—对青年“尽心竭力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攀附阔佬的故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—显示鲁迅“讽刺的成功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抨击禁止男女同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—显示鲁迅反击的智慧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议出官批本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—显示鲁迅的“远见卓识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835280" y="189000"/>
            <a:ext cx="5329080" cy="7920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150720" y="189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概括七次谈话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00000" y="907920"/>
            <a:ext cx="79995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鲁迅先生的这七次谈话很分散，内容不一，作者是如何把他们联系起来成为一个有机整体的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785320" y="4149720"/>
            <a:ext cx="383832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横眉冷对千夫指，俯首甘为孺子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572000" y="335772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771640" y="162864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嘲（鲁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运交华盖欲何求，未敢翻身已碰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破帽遮颜过闹市，漏船载酒泛中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横眉冷对千夫指，俯首甘为孺子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躲进小楼成一统，管他冬夏与春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376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11280" y="692280"/>
            <a:ext cx="784836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         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彩线串珠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这是文章常用的技法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它是指以一个具体事物或一种具体的感情为线索，把珍珠一样散乱的生活材料穿起来，组成一个有机整体，从而使文章内容杂而不乱、形散神聚，如念珠在握，历历可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187280" y="105264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403280" y="4076640"/>
            <a:ext cx="152640" cy="1463760"/>
          </a:xfrm>
          <a:custGeom>
            <a:avLst/>
            <a:gdLst>
              <a:gd name="textAreaLeft" fmla="*/ 97560 w 152640"/>
              <a:gd name="textAreaRight" fmla="*/ 153000 w 152640"/>
              <a:gd name="textAreaTop" fmla="*/ 38160 h 1463760"/>
              <a:gd name="textAreaBottom" fmla="*/ 1425600 h 14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07360" y="1174680"/>
            <a:ext cx="152280" cy="1752840"/>
          </a:xfrm>
          <a:custGeom>
            <a:avLst/>
            <a:gdLst>
              <a:gd name="textAreaLeft" fmla="*/ 0 w 152280"/>
              <a:gd name="textAreaRight" fmla="*/ 55080 w 1522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380360" y="42210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5640" y="162864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338960" y="1158840"/>
            <a:ext cx="1033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爱护青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383240" y="4022640"/>
            <a:ext cx="10335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憎恨敌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88640" y="692280"/>
            <a:ext cx="10335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俯首甘为孺子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1720" y="3573360"/>
            <a:ext cx="10335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横眉冷对千夫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651640" y="162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等待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580000" y="2492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己为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435640" y="4149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嘲讽丑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80000" y="836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易近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59280" y="522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揭露丑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692360" y="5229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建议出官批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76360" y="620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挨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826920" y="1268280"/>
            <a:ext cx="51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批评自夸地大物博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403280" y="191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勉励青年要有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332000" y="2492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替人补靴与进化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547640" y="3789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攀附阔佬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547640" y="45086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抨击禁止男女同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219640" y="407664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77120" y="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琐而有序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人物刻画的方法</a:t>
            </a:r>
            <a:br>
              <a:rPr sz="36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63007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外貌描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 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"/>
              </a:rPr>
              <a:t>他留着浓黑的胡须，目光明亮，满头是倔强得一簇簇直竖起来的头发，仿佛处处在告白他对现实社会的不调和。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确：“移就”修辞，“象征”手法。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描式的肖像描写，借头发的形象表现鲁迅倔强的性格，不屈的斗争精神，表现鲁迅坚定、沉着、勇敢而顽强的战士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56860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人物刻画的方法</a:t>
            </a:r>
            <a:br>
              <a:rPr sz="36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093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语言描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"/>
              </a:rPr>
              <a:t>鲁迅先生叹息说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楷体"/>
              </a:rPr>
              <a:t>…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"/>
              </a:rPr>
              <a:t>…浅点好”句中，这里“狮子、猪、羊、小溪、烂泥塘”各喻什么？引用的这些话有何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狮子——比喻强大的国家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猪、羊——比喻弱小的国家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溪——比喻青年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烂泥塘——比喻夸夸其谈的学者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比喻形象地说明了中国正处于政治腐败、国力衰弱、经济落后时期，自夸国大极其危险。青年人单纯、热情，虽然阅历浅，但积极向上，比夸夸其谈的学者故弄玄虚，借以吓人要好得多，有力地表现了鲁迅对广大青年的热爱、言传身教，不用教训方式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7020000" y="1341360"/>
            <a:ext cx="19209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8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8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8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8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的两句诗：“横眉冷对千夫指，俯首甘为孺子牛”，应该成为我们的座右铭。“千夫”在这里就是说敌人，对无论什么凶恶的敌人，我们决不屈服。“孺子”在这里就是说无产阶级人民大众。一切共产党员，都应该学习鲁迅的榜样，做无产阶级和人民大众的“牛”，鞠躬尽瘁，死而后已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——毛泽东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6688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26616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8388360" y="115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 txBox="1"/>
          <p:nvPr/>
        </p:nvSpPr>
        <p:spPr>
          <a:xfrm rot="5400000">
            <a:off x="5579280" y="2349360"/>
            <a:ext cx="453708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鲁迅名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0" name=""/>
          <p:cNvSpPr/>
          <p:nvPr/>
        </p:nvSpPr>
        <p:spPr>
          <a:xfrm>
            <a:off x="539640" y="3500280"/>
            <a:ext cx="6337440" cy="1441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时间就像海绵里的水，只要愿挤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总还是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84360" y="2060640"/>
            <a:ext cx="6337080" cy="1441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其实地上本没有路，走的人多了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也便成了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39640" y="4869000"/>
            <a:ext cx="6337440" cy="1441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时间就是性命。无端的空耗别人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时间，其实是无异于谋财害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334320" y="1014480"/>
            <a:ext cx="115596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我好像是一只牛，吃的是草，挤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的是牛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313080" cy="532944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3"/>
          <a:stretch/>
        </p:blipFill>
        <p:spPr>
          <a:xfrm>
            <a:off x="5830920" y="1052640"/>
            <a:ext cx="3313080" cy="51130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 txBox="1"/>
          <p:nvPr/>
        </p:nvSpPr>
        <p:spPr>
          <a:xfrm rot="5400000">
            <a:off x="2302920" y="2744640"/>
            <a:ext cx="4897440" cy="151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鲁迅诗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4572000" cy="57610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3"/>
          <a:stretch/>
        </p:blipFill>
        <p:spPr>
          <a:xfrm>
            <a:off x="5651640" y="765000"/>
            <a:ext cx="3241440" cy="496908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 txBox="1"/>
          <p:nvPr/>
        </p:nvSpPr>
        <p:spPr>
          <a:xfrm rot="5400000">
            <a:off x="2051640" y="2780280"/>
            <a:ext cx="5256360" cy="122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鲁迅手稿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0" name=""/>
          <p:cNvGraphicFramePr/>
          <p:nvPr/>
        </p:nvGraphicFramePr>
        <p:xfrm>
          <a:off x="826920" y="1628640"/>
          <a:ext cx="3635640" cy="35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628640"/>
                    <a:ext cx="363564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4788000" y="3860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北京师范大学讲演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3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952880" y="2492280"/>
            <a:ext cx="41911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鲁迅和青年</a:t>
            </a:r>
            <a:endParaRPr b="0" lang="en-US" sz="1800" spc="1" strike="noStrike">
              <a:ln w="0">
                <a:noFill/>
              </a:ln>
              <a:solidFill>
                <a:srgbClr val="3333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403280" y="1989000"/>
          <a:ext cx="6588360" cy="417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989000"/>
                    <a:ext cx="65883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7" name=""/>
          <p:cNvSpPr/>
          <p:nvPr/>
        </p:nvSpPr>
        <p:spPr>
          <a:xfrm>
            <a:off x="-12011040" y="-302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88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948760" y="36570240"/>
            <a:ext cx="127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Arial"/>
              </a:rPr>
              <a:t>本文是为纪念鲁迅先生诞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8420120" y="3657024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8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0484720" y="36524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Arial"/>
              </a:rPr>
              <a:t>周年而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1332000" y="457200"/>
            <a:ext cx="73548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琐忆》：纪念鲁迅先生诞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539640" y="40464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知识和能力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能概括各次谈话的要点，能以提要或综述的方法概括课文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正确理解所引的鲁迅诗句在课文谋篇布局中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领会课文以小见大的选材和构思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掌握课文注解中的重要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二）思想情感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和品味鲁迅先生“横眉冷对千夫指，俯首甘为孺子牛”的伟大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203640" y="1052640"/>
            <a:ext cx="2663640" cy="144360"/>
          </a:xfrm>
          <a:prstGeom prst="ellipse">
            <a:avLst/>
          </a:prstGeom>
          <a:gradFill rotWithShape="0">
            <a:gsLst>
              <a:gs pos="0">
                <a:srgbClr val="703dff"/>
              </a:gs>
              <a:gs pos="50000">
                <a:srgbClr val="ffffff"/>
              </a:gs>
              <a:gs pos="100000">
                <a:srgbClr val="703dff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539640" y="189000"/>
            <a:ext cx="80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回想建国以来，纪念鲁迅先生的文章，大多强调鲁迅先生品质中战斗的一面，对‘横眉冷对千夫指’一句阐发得比较充分；但是关于他对同志，对青年的爱就强调得很不够。我认为‘横眉冷对千夫指，俯首甘为孺子牛。’这正是鲁迅先生伟大人格在不同方面的两种表现，二者是辩证统一的，对敌人恨，对同志必然是爱。所以我想在我的纪念文章里应该两方面都讲一讲。三十年代我作为一个青年，曾经和鲁迅先生有过一些接触，亲身感受过他对青年的关心爱护，因此，想从后一方面多说一些，这就是我写《琐忆》时的指导思想。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唐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518184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7243560" y="0"/>
            <a:ext cx="729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横  眉  冷 对  千  夫  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76120" y="0"/>
            <a:ext cx="729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俯  首  甘  为  孺  子  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" action="ppaction://hlinkshowjump?jump=firstslide"/>
          </p:cNvPr>
          <p:cNvSpPr/>
          <p:nvPr/>
        </p:nvSpPr>
        <p:spPr>
          <a:xfrm>
            <a:off x="86104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  <a:path fill="darken" w="21600" h="33922">
                <a:moveTo>
                  <a:pt x="7301" y="16961"/>
                </a:moveTo>
                <a:lnTo>
                  <a:pt x="17806" y="9955"/>
                </a:lnTo>
                <a:lnTo>
                  <a:pt x="17806" y="23968"/>
                </a:lnTo>
                <a:close/>
              </a:path>
              <a:path fill="darken" w="21600" h="33922">
                <a:moveTo>
                  <a:pt x="3794" y="9955"/>
                </a:moveTo>
                <a:lnTo>
                  <a:pt x="5456" y="9955"/>
                </a:lnTo>
                <a:lnTo>
                  <a:pt x="5456" y="23968"/>
                </a:lnTo>
                <a:lnTo>
                  <a:pt x="3794" y="239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第一课时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4360" y="3499920"/>
            <a:ext cx="7696080" cy="19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掌握课文注解中的重要词语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初读课文，整体把握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" descr=""/>
          <p:cNvPicPr/>
          <p:nvPr/>
        </p:nvPicPr>
        <p:blipFill>
          <a:blip r:embed="rId2"/>
          <a:srcRect l="0" t="0" r="0" b="10314"/>
          <a:stretch/>
        </p:blipFill>
        <p:spPr>
          <a:xfrm>
            <a:off x="6300720" y="1413000"/>
            <a:ext cx="2044800" cy="273996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5943600" y="4221000"/>
            <a:ext cx="32004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3-199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79280" y="148428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名唐端毅，曾用笔名风子、晦庵、韦长、仇如山、桑天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出生于浙江省镇海县，后为纪念唐弢先生将甬江镇中心小学改名为唐弢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弢是我国著名作家、文学理论家、鲁迅研究家和文学史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3444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333360"/>
            <a:ext cx="2879640" cy="7920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9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月，第一次以“鲁迅”的笔名，发表了中国现代文学史上第一篇白话小说《狂人日记》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708360" y="404640"/>
            <a:ext cx="3241800" cy="108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鲁迅作品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5616360" cy="342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6767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鲁迅用笔为武器，描写了当时吃人的社会现实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708360" y="404640"/>
            <a:ext cx="273528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鲁迅作品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3529080" cy="25941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6659640" y="2349360"/>
            <a:ext cx="2281320" cy="26370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4"/>
          <a:stretch/>
        </p:blipFill>
        <p:spPr>
          <a:xfrm>
            <a:off x="3924360" y="2276640"/>
            <a:ext cx="2386080" cy="3049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文本框 2"/>
          <p:cNvSpPr/>
          <p:nvPr/>
        </p:nvSpPr>
        <p:spPr>
          <a:xfrm>
            <a:off x="355680" y="1711440"/>
            <a:ext cx="803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睚眦（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y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á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z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）必报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怕是极小的怨恨也要报复；睚眦：发怒时瞪眼睛，引申为极小的怨恨。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众口铄（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shu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ò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）金，积毁销骨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众口一词，就是金石也可以被销毁。在文中比喻舆论的力量极大，众口一词可以混淆是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ws_C1"/>
          <p:cNvPicPr/>
          <p:nvPr/>
        </p:nvPicPr>
        <p:blipFill>
          <a:blip r:embed="rId2"/>
          <a:stretch/>
        </p:blipFill>
        <p:spPr>
          <a:xfrm>
            <a:off x="6300720" y="189000"/>
            <a:ext cx="2589120" cy="7696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784400" y="117360"/>
            <a:ext cx="9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2:37:19Z</dcterms:created>
  <dc:creator>China User</dc:creator>
  <dc:description/>
  <dc:language>en-US</dc:language>
  <cp:lastModifiedBy>user</cp:lastModifiedBy>
  <dcterms:modified xsi:type="dcterms:W3CDTF">2017-10-04T05:23:34Z</dcterms:modified>
  <cp:revision>83</cp:revision>
  <dc:subject/>
  <dc:title>幻灯片 1</dc:title>
</cp:coreProperties>
</file>