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80D-D9E8-4EB7-B30E-57F914AE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20720" y="396432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801-1096-4EC1-94C4-3C5E7B56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160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306-7EFD-4C50-97AE-EB4ABD75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1004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936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2072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1004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936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862-49FD-4EEF-9949-41266B2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C964-C8C0-45B1-9B57-014C0321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CC91-83F0-4B48-A9C5-06A36137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C301-9725-4935-928C-12A1CFAF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3310-4ACD-4D77-838D-3C1649A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D4DD-5786-44C6-B5C6-3A26AF8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20720" y="274320"/>
            <a:ext cx="706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3BA-39FF-4903-B8AE-A98A064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27B6-98AA-4A6E-8312-E5932E6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95F-6251-4DD2-BF79-516D443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4160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C15-0B48-480E-92D9-6D825D6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EB2B-40E0-4D2B-8466-13D4DE3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0720" y="396432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F00B-A845-4E4D-A03A-BCACA67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4160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B282-B518-40D2-9CCE-5DC90A7B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004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9360" y="160020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2072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1004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9360" y="3964320"/>
            <a:ext cx="227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ABD-16A1-4260-B11C-86496F5B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1E1-6AC0-473A-9D72-A75101D6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F63-1961-46B6-804E-26527811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E6F-63E2-4A5C-A68A-E867992D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20720" y="274320"/>
            <a:ext cx="706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A50-7C5C-425D-AEE9-0966F697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F04-843C-4194-A10F-1A3CE1F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1600" y="396432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4A0-B5B4-4144-81E4-FB29482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072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1600" y="1600200"/>
            <a:ext cx="34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20720" y="3964320"/>
            <a:ext cx="706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F16-D72B-45DD-93EE-3394116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01C-92AC-4F37-AE91-B13E6FF403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8900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729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F5D8-037D-46F2-BC24-F6A53EC9E8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68960" y="1268280"/>
            <a:ext cx="74304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华文行楷"/>
              </a:rPr>
              <a:t>第一单元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如何刻画父亲对孩子的舐犊之情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2491920"/>
            <a:ext cx="7570800" cy="29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——</a:t>
            </a:r>
            <a:r>
              <a:rPr b="0" lang="zh-CN" sz="2400" spc="-1" strike="noStrike">
                <a:solidFill>
                  <a:srgbClr val="0000cc"/>
                </a:solidFill>
                <a:latin typeface="Calibri"/>
              </a:rPr>
              <a:t>作者为我们描绘了一个深情的父亲，从他顷刻间消瘦的面庞里，从他那一向注意修饰此刻却乱蓬蓬的头发里，从他那噙满泪水的双眼里，还有那语无伦次的“我在找你，我在找你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……”</a:t>
            </a:r>
            <a:r>
              <a:rPr b="0" lang="zh-CN" sz="2400" spc="-1" strike="noStrike">
                <a:solidFill>
                  <a:srgbClr val="0000cc"/>
                </a:solidFill>
                <a:latin typeface="Calibri"/>
              </a:rPr>
              <a:t>我们都能体会到一种舔犊之情，一种令人震颤的厚重的父爱。体现了亲情之美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60280"/>
            <a:ext cx="706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三、深入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作者怎样描写一个孩童在和亲人走失时的惊慌和无助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2997360"/>
            <a:ext cx="7066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开始时是“大叫”，然后，认为自己再也见不到自己的父母了，便“一声不吭”“也不流泪”。最后认为“父亲大概真的不要我了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父子相见时“扑到父亲的怀抱里”感受父亲那双温暖的大手，用了行为和心理描写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260280"/>
            <a:ext cx="706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360" y="12679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通过上文的分析，请说一说文题为什么叫“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不褪色的迷失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20720" y="2492280"/>
            <a:ext cx="70660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宋体"/>
              </a:rPr>
              <a:t>时光可以老去，照片可以褪色，惟有儿时“迷路”的故事不会遗忘，那故事里弥漫的父子深情的爱不会遗忘，不会褪色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761976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76360" y="260280"/>
            <a:ext cx="706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三、深入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920" y="14130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作者在结尾处为我们勾画出一幅动人的天伦之乐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家三代在西子湖畔散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4629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557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结尾，父亲眼里“闪烁着亮晶晶的泪花” ，有什么用意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3068280"/>
            <a:ext cx="7066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在结构上照应前文，前后呼应。在意脉上深化了主题，由不褪色的父子深情扩大到歌颂人类至真至美的人性。这种人性之美足可以感动任何人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60280"/>
            <a:ext cx="706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三、深入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、艺术特色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78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．本文文字质朴、自然，却不乏清新、美丽。例如：“父亲，在我的记忆中，你是不会老的，看到这张照片，我就仿佛看见，你正在用急匆匆的脚步，满街满城地转着找我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而我，什么时候离开过你的视线呢？”展示父亲对儿子的爱和儿子对父亲的眷恋的那份美丽的亲情，不刻意雕饰却不乏文采，不有意追求而自得其意蕴，有很强的抒情味和感染力。有时，为了增强语言的表达效果，作者运用比喻等修辞方法，表现出文学语言的精彩。例如：“逝去的岁月像从山间流失的溪水”、“它就像奇妙的魔术，不动声色地把逝去的岁月悄然拽回到你的眼前。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、艺术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．文章体现了作者的深邃的思想，宏阔的意境。在娓娓的叙述往事时，两次提到民警对我们父子的热情帮助。这不经意的一笔，展示了时代背景，使人感受社会大家庭的温暖。从作品所反映的主题来说，对人类至真至美的亲情的歌颂，何尝不是关乎社会的走向，关乎人类自身的发展的深邃思想的体现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268280"/>
            <a:ext cx="7561440" cy="7164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、艺术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．以叙述为主，综合运用多种表达方式，尤其是精彩的细节描写，起到画龙点睛的作用。文章最为感人的一段细节，是父子离散重逢时，作者对父亲的模样、表情和语言作了极为细致的描绘，淋漓尽致地表现了他们的焦灼和欢欣，有一种婉转而忧伤的美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308640"/>
            <a:ext cx="7561080" cy="7164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268280"/>
            <a:ext cx="7561440" cy="7164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20720" y="160020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5843880" cy="4383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1052640"/>
            <a:ext cx="7561080" cy="7128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60280"/>
            <a:ext cx="706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五、延伸对比：《背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五、延伸对比：《背影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背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抓住人物形象的一个特征“背影”，抒发特定环境下的思想感情。对父亲那卖橘子的背影、黑色的背影、蹒跚的背影、艰难努力的背影、离别的背影的描绘取得强烈的艺术效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褪色的迷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是着力于人物肖像、神情、语言的描绘，尤其是细节描绘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不多，但饱含深情。在这父子走散的特定情境下，父亲的模样，才那样引起作者的注目，父亲那一脸的焦灼，才那样感人至深，给作者留下难以磨灭的印象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1341360"/>
            <a:ext cx="77724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华文新魏"/>
              </a:rPr>
              <a:t>不褪色的迷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3068640"/>
            <a:ext cx="6400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赵丽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565360"/>
            <a:ext cx="7561440" cy="7164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2830680"/>
            <a:ext cx="3960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总结全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文以朴实的语言，记实的手法，深情叙写了四十年前父子走散的往事。表达了亲情的可贵和美好，字里行间流溢的亲情，令人感染，令人震颤。写得极为真挚动人。全文结构合理，思路清晰，是一篇典范的叙事散文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善于从细处落笔，小中见大，翻一翻照片本也是一件平常事，却能表达感悟，启示人生。这种感悟来源于平时的观察和思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64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alibri"/>
                <a:ea typeface="楷体"/>
              </a:rPr>
              <a:t>谁言寸草心，报得三春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你注意过父母的背影吗？你关注过他们的变化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也请以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背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为题，写一篇你和父母间的亲情故事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341360"/>
            <a:ext cx="7561440" cy="7164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教学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学习作者清新宏阔的创作风格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通过学习使学生感受本文的温馨动人的亲情，体会人世间丰富美好的感情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 欣赏名家美文，品味和积累优美的文学语言，培养学生阅读文学作品的兴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413000"/>
            <a:ext cx="7561080" cy="7128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导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600360" cy="24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205092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031840" cy="270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59280" y="1197000"/>
            <a:ext cx="3673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家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52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赵丽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生，上海市崇明县人。当代散文家，诗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高中毕业后回故乡插队，当过木匠、乡邮员、教师、县机关工作人员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7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考入华东师范大学中文系，并开始创作诗歌和散文。大学毕业后当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萌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杂志编辑，后为上海作家协会专业作家，中国作家协会会员。曾任上海市青年联合会副主席，全国政协委员，现为上海作协副主席，最近出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海文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社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0559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要作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散文集《生命草》、《诗魂》、《维纳斯在海边》、《玛雅之谜》、《死有余响》、《心里的珍珠》、《天堂就在你身边》、《在岁月的荒滩上》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诗集《珊瑚》、《沉默的冬青》、《抒情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》、《挑战罗布泊》等；散文诗集《人生遐思》、《心魂之恋》、《银舟远翔》、《落英缤纷》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报告文学和传记集《心画》、《牛顿传》等，有《赵丽宏自选集》四卷行世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品曾二十余次在国内外获各种文学奖，散文集《诗魂》获中国新时期优秀散文集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26240" y="1197000"/>
            <a:ext cx="1701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、初步感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朗读全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理清文章的结构线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理清线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——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：作者由一张照片引出对儿时往事的回忆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——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：用细腻的笔法叙写了“不褪色”的记忆： “我”走失的故事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——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段：回到现实，抒发对父亲深切的依恋和感激之情，使人们感受美好的亲情永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8240" y="4724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线索：一张旧照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2072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三、深入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6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既然往事迷离经历模糊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作者认为“不褪色”的是什么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是照片唤醒的记忆。一段难忘而美丽的记忆，一个感人的亲情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052640"/>
            <a:ext cx="7561440" cy="71280"/>
          </a:xfrm>
          <a:prstGeom prst="flowChartTerminator">
            <a:avLst/>
          </a:prstGeom>
          <a:solidFill>
            <a:srgbClr val="eeece1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3633840"/>
            <a:ext cx="41767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65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65" fill="hold"/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user</cp:lastModifiedBy>
  <dcterms:modified xsi:type="dcterms:W3CDTF">2017-09-27T14:19:2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