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54950-233B-461D-BF59-C1ED03C3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4C5D8-183C-4D5F-8404-2158F166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A3F99-6275-47B2-B982-E50E2245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CB6EC-D7D9-403F-90E9-BEC3C995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27895-D896-402A-8917-E8DB18F5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3049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052C0-F164-4351-9C9D-1EB5C18A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F82CD-FBC1-4E53-A9B5-3337CEE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2130D-A979-4197-B9F6-2810913E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4E7A6-1C18-4604-96DB-19F2BBD4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BA561-A676-4969-9D33-D5BA1B04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26343-31ED-43D0-97A1-512DFE4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DBDBA-4B61-4578-892D-A5D227F5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6E866-3A80-48FA-9EE9-E78A80E0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18C43-D1B3-47D8-B584-7B29097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08B01-AA61-4B82-A6FD-E2A6F46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B22A0-889E-485D-A458-D55D9E5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85F3A-2FF8-44D0-9A46-9671D18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7720" y="3049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2CDE1-8915-4C10-BE97-F284D8E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308E4-9B64-4948-B114-9B77C0A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C9C98-F42A-4031-AE0F-774F423C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59B7B-4CA0-45F7-BEED-4701F76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DED20-A273-4A8F-AB17-24C8F47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59165-F326-4868-A442-C5E78498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A5DEE-D895-438C-94FE-5DF69543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F763A-6FBF-4235-925A-CD9D3D6E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3CF71-DED3-42E4-A5BD-69365D9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D3FA1-30EC-4D56-AED8-26AB5F8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8E1EF-7354-4994-AD0C-97C0480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5680E-FBA2-4D63-A21C-11B8D6A5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7720" y="3049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4E8DE-BCFF-4B92-AAC6-AA602B9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AD6B3-976C-491A-9AD5-62A5CB0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E540B-C738-495E-BAA3-3514A42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D8651-DA14-408F-8A7D-4B3499F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088BB-10FE-4F21-948C-46E2C519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615AD-7EA8-4FEC-ADDF-581CC78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C6A2E-E7AD-44F8-855C-2A9CC302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049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115920"/>
            <a:ext cx="741672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9d9475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" name="图片 3" descr=""/>
          <p:cNvPicPr/>
          <p:nvPr/>
        </p:nvPicPr>
        <p:blipFill>
          <a:blip r:embed="rId5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308C-40E4-45B5-9CF1-398169E91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DD2-2F08-4145-BB21-17C77BA7C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1A61-4D84-42D4-9949-8F740FC15E37}" type="slidenum"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3840" y="1700280"/>
            <a:ext cx="21351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  <a:ea typeface="华文隶书"/>
              </a:rPr>
              <a:t>第四单元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347920"/>
            <a:ext cx="414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文言文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丧乱帖2"/>
          <p:cNvPicPr/>
          <p:nvPr/>
        </p:nvPicPr>
        <p:blipFill>
          <a:blip r:embed="rId2"/>
          <a:stretch/>
        </p:blipFill>
        <p:spPr>
          <a:xfrm>
            <a:off x="165240" y="1068480"/>
            <a:ext cx="8799480" cy="4306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324000" y="5373720"/>
            <a:ext cx="8381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丧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得示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袒腹东床.jpg"/>
          <p:cNvPicPr/>
          <p:nvPr/>
        </p:nvPicPr>
        <p:blipFill>
          <a:blip r:embed="rId2"/>
          <a:stretch/>
        </p:blipFill>
        <p:spPr>
          <a:xfrm>
            <a:off x="4859280" y="2781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矩形 2"/>
          <p:cNvSpPr/>
          <p:nvPr/>
        </p:nvSpPr>
        <p:spPr>
          <a:xfrm>
            <a:off x="5081040" y="30286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黑体"/>
                <a:ea typeface="黑体"/>
              </a:rPr>
              <a:t>袒腹东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1" name="图片 1" descr="王羲之以书换鹅.jpg"/>
          <p:cNvPicPr/>
          <p:nvPr/>
        </p:nvPicPr>
        <p:blipFill>
          <a:blip r:embed="rId3"/>
          <a:stretch/>
        </p:blipFill>
        <p:spPr>
          <a:xfrm>
            <a:off x="1116000" y="981000"/>
            <a:ext cx="3467160" cy="3446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2"/>
          <p:cNvSpPr/>
          <p:nvPr/>
        </p:nvSpPr>
        <p:spPr>
          <a:xfrm>
            <a:off x="404280" y="68580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王羲之以书换鹅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876240" y="500040"/>
            <a:ext cx="170460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背景介绍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矩形 2"/>
          <p:cNvSpPr/>
          <p:nvPr/>
        </p:nvSpPr>
        <p:spPr>
          <a:xfrm>
            <a:off x="395280" y="1413000"/>
            <a:ext cx="85010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晋政治恐怖，统治集团内部互相倾轧，残杀现象时有发生。士大夫不满，普遍崇尚老庄，追求清静无为自由放任的生活。玄学盛行，对士人的思想，生活以及文学创作都产生了很复杂的影响。文学创作内容消沉，出世入仙和逃避现实的情调很浓。东晋时期，清谈老庄玄理的风气很盛，是玄言文学泛滥之时。但王羲之一反“清虚寡欲，尤善玄言”的风气和追求骈体的形式主义之气，抒写了一篇情真语笃，朴素自然的优美散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兰亭集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不但在东晋文坛上占有一席之地，而且在中国文学史上享有崇高声誉。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4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401004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5"/>
          <p:cNvSpPr/>
          <p:nvPr/>
        </p:nvSpPr>
        <p:spPr>
          <a:xfrm>
            <a:off x="108000" y="501336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Tahoma"/>
                <a:ea typeface="Kozuka Gothic Pr6N L"/>
              </a:rPr>
              <a:t>流觞曲水：是旧时上巳节的一种饮宴风俗，其大致方式是众人围坐在回环弯曲的水渠边，将特制的酒杯置于上游，任其顺着曲折的水流缓缓漂浮，酒杯漂到谁的跟前，谁就取杯饮酒。如此循环往复，直到尽兴为止。文人则将此俗发展成名士雅集。魏晋时，文人雅士喜袭古风之尚，整日饮酒作乐，纵情山水，清淡老庄，游心翰墨，作流觞曲水之举。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1"/>
          <p:cNvSpPr/>
          <p:nvPr/>
        </p:nvSpPr>
        <p:spPr>
          <a:xfrm>
            <a:off x="815400" y="785880"/>
            <a:ext cx="170460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文体知识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285840" y="1870200"/>
            <a:ext cx="84294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兰亭集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篇序言。“序言”简称“序”，也叫前言，属实用文体，同“跋”是一类。列于卷首叫序，附于卷末叫“跋”。其作用在于推荐介绍某人著作或某一材料，说明写作过程、写作目的、主要内容或说明一些同书本有关的事情，帮助读者更好地去阅读或理解。序言，有自己作的，叫“自序”；也有请他人写的，叫“他序”，他序除了介绍著作外，往往还有一些评价的内容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2654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文体知识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137440" cy="482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文章的体裁，序有书序和赠序之分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序相当于前言后记，一般是介绍作家的生平或成书过程与宗旨，为阅读和评价作品提供一定的参考资料，或给以必要的引导，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兰亭集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赠序与书序的性质不同，始于唐朝，是临别赠言性质的文字，内容多是勉励、推重、赞许之辞表达离别时的某种思想感情，往往因人立论，阐明某些观点，相当于议论性散文，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送东阳马生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2"/>
          <p:cNvSpPr/>
          <p:nvPr/>
        </p:nvSpPr>
        <p:spPr>
          <a:xfrm>
            <a:off x="1154160" y="720720"/>
            <a:ext cx="140004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整体感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500040" y="2000160"/>
            <a:ext cx="792972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第一部分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自然段）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叙事、写景，先叙述集会的时间、地点，然后点染出兰亭优美的自然环境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第二部分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自然段）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抒情、议论，由欣赏良辰美景、流觞畅饮，而引发出乐与忧、生与死的感慨。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8"/>
          <p:cNvSpPr/>
          <p:nvPr/>
        </p:nvSpPr>
        <p:spPr>
          <a:xfrm>
            <a:off x="315360" y="571680"/>
            <a:ext cx="1399320" cy="28573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生词注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571840" y="428760"/>
            <a:ext cx="4000320" cy="66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癸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丑（     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会稽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山（       ）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修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禊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事（       ）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激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湍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        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流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觞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         ）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骋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怀（        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放浪形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骸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    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趣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舍万殊 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(     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一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契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        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嗟悼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         ）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彭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殇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         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3889800" y="571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ɡuǐ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3990960" y="1071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kuài jī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矩形 7"/>
          <p:cNvSpPr/>
          <p:nvPr/>
        </p:nvSpPr>
        <p:spPr>
          <a:xfrm>
            <a:off x="4117680" y="160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x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矩形 8"/>
          <p:cNvSpPr/>
          <p:nvPr/>
        </p:nvSpPr>
        <p:spPr>
          <a:xfrm>
            <a:off x="3791160" y="21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tuān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矩形 9"/>
          <p:cNvSpPr/>
          <p:nvPr/>
        </p:nvSpPr>
        <p:spPr>
          <a:xfrm>
            <a:off x="3791160" y="2714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shān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矩形 10"/>
          <p:cNvSpPr/>
          <p:nvPr/>
        </p:nvSpPr>
        <p:spPr>
          <a:xfrm>
            <a:off x="3777480" y="3286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chěn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矩形 11"/>
          <p:cNvSpPr/>
          <p:nvPr/>
        </p:nvSpPr>
        <p:spPr>
          <a:xfrm>
            <a:off x="4524840" y="3786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há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4551120" y="43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qū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3975120" y="489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q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矩形 14"/>
          <p:cNvSpPr/>
          <p:nvPr/>
        </p:nvSpPr>
        <p:spPr>
          <a:xfrm>
            <a:off x="3607560" y="5429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jiē dà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矩形 15"/>
          <p:cNvSpPr/>
          <p:nvPr/>
        </p:nvSpPr>
        <p:spPr>
          <a:xfrm>
            <a:off x="3829320" y="6000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shān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838080" y="990720"/>
            <a:ext cx="60199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禊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事也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茂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竹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短随化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列坐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丝竹管弦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盛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俯察品类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游目骋怀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兴怀，其致一也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足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极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视听之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夫人之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50920" y="260280"/>
            <a:ext cx="367164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实、虚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4572000" y="1052640"/>
            <a:ext cx="43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古代的一种风俗。修，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859280" y="1413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高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859280" y="1916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4876920" y="2438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旁边，水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932360" y="3141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热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32360" y="3500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繁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076720" y="4221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用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5105520" y="4648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原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5003640" y="52293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动词，穷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5076720" y="5877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交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33520" y="762120"/>
            <a:ext cx="64767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诸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怀抱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悟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言一室之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曾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不知老之将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况修短随化，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期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于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未尝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临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文嗟悼，不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喻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之于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固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死生为虚诞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齐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彭殇为妄作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每览昔人兴感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由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后之视今，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犹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今之视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后之览者，亦将有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斯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076720" y="76500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有的人；之于；会面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940360" y="13413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乃，竟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943600" y="2057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动词，至，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012000" y="2708280"/>
            <a:ext cx="25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面对；明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140360" y="3357720"/>
            <a:ext cx="46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本来；动词，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··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看作一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219640" y="39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动词，把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··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看作相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084720" y="4581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5943600" y="5013360"/>
            <a:ext cx="29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如同，好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012000" y="5661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对；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rcRect l="5040" t="0" r="5502" b="0"/>
          <a:stretch/>
        </p:blipFill>
        <p:spPr>
          <a:xfrm>
            <a:off x="5435640" y="1413000"/>
            <a:ext cx="1120680" cy="3168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2920" y="3789360"/>
            <a:ext cx="1521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王羲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21720" y="2708280"/>
            <a:ext cx="851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集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序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2"/>
          <p:cNvSpPr/>
          <p:nvPr/>
        </p:nvSpPr>
        <p:spPr>
          <a:xfrm>
            <a:off x="757440" y="404640"/>
            <a:ext cx="10342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参考译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1403280" y="1285920"/>
            <a:ext cx="738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永和九年，这年是癸丑年，三月初，（名士们）在会稽郡山阴县的兰亭集会，为的是到水边进行消灾求福的活动。许多有声望有才气的人都来了，有年轻的，也有年长的都聚集在一起。这里有高大的山和险峻的岭，有茂密的树林和高高的竹子，又有清水急流，（在亭的）左右辉映环绕，把水引到（亭中）环形水渠里来，让酒杯漂流水上（供人们取饮），人们在曲水旁边排列而坐。虽然没有管弦齐奏的盛况，一边饮酒一边赋诗，也足以痛快地表达各自幽雅的情怀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2"/>
          <p:cNvSpPr/>
          <p:nvPr/>
        </p:nvSpPr>
        <p:spPr>
          <a:xfrm>
            <a:off x="646200" y="571680"/>
            <a:ext cx="10342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参考译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矩形 3"/>
          <p:cNvSpPr/>
          <p:nvPr/>
        </p:nvSpPr>
        <p:spPr>
          <a:xfrm>
            <a:off x="755640" y="2205000"/>
            <a:ext cx="7599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这一天，天气晴朗空气清新，和风吹来心情舒畅。向上看，天空广大无边，向下看，地上事物如此繁多，（这样）来纵展眼力，开阔胸怀，尽视和听的乐趣，实在快乐啊！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2"/>
          <p:cNvSpPr/>
          <p:nvPr/>
        </p:nvSpPr>
        <p:spPr>
          <a:xfrm>
            <a:off x="646200" y="357120"/>
            <a:ext cx="10342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参考译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357120" y="928800"/>
            <a:ext cx="8572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人与人相交往，很快便度过一生。有的人喜欢讲自己的抱负志趣，（与朋友）在一室之内面对面交谈；有的人随着自己所爱好的事物寄托情怀，不受任何约束放纵地生活。尽管各人的爱好千差万别，或好静或好动各不相同，但当他对所接触的事物感到高兴，一时很自得，快乐而满足，竟不觉得衰老将要到来；等到他对自己喜爱的事物感到厌倦，心情随着事物的变化而变化，感慨也就随着产生了。从前感兴趣的事，转眼之间，已成为陈迹了，还不能不因此而引起心中的感慨；何况人的寿命长短听凭造化，终归于尽。古人说：“死和生是一件大事啊。”这怎么不叫人悲痛万分呢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646200" y="571680"/>
            <a:ext cx="10342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参考译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357120" y="1341360"/>
            <a:ext cx="8786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每当我看到古人（对死生）发生感慨的原因，（跟我所感慨的）如同符契那样相合，总是面对着（他们的）文章而嗟叹感伤，心里又不明白为什么会这样。（我）本来知道，把生和死同等看待是荒诞的，把长寿和短命同等看待是妄造的。后人看待今天，也像今人看待从前一样，真是可悲啊！因此我一一记下参加这次聚会的人，抄录了他们的诗作，尽管时代不同情况不同，但人们的思想情致却是一样的。后代的读者读这本诗集也将有感于生命这件大事吧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第二课时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8"/>
          <p:cNvSpPr/>
          <p:nvPr/>
        </p:nvSpPr>
        <p:spPr>
          <a:xfrm>
            <a:off x="6804000" y="350028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71680" y="5057640"/>
            <a:ext cx="84294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修禊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古人于阴历三月上旬巳日，到水边洗涤以拔除妖邪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禊：洁也。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0" name="图片 10" descr="明 文徵明《兰亭修禊图》.jpg"/>
          <p:cNvPicPr/>
          <p:nvPr/>
        </p:nvPicPr>
        <p:blipFill>
          <a:blip r:embed="rId2"/>
          <a:stretch/>
        </p:blipFill>
        <p:spPr>
          <a:xfrm>
            <a:off x="-9360" y="1268280"/>
            <a:ext cx="9153360" cy="3714840"/>
          </a:xfrm>
          <a:prstGeom prst="rect">
            <a:avLst/>
          </a:prstGeom>
          <a:ln w="0">
            <a:noFill/>
          </a:ln>
        </p:spPr>
      </p:pic>
      <p:sp>
        <p:nvSpPr>
          <p:cNvPr id="261" name="矩形 12"/>
          <p:cNvSpPr/>
          <p:nvPr/>
        </p:nvSpPr>
        <p:spPr>
          <a:xfrm>
            <a:off x="2926800" y="4334040"/>
            <a:ext cx="27453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明 文徵明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兰亭修禊图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293400" y="2349360"/>
            <a:ext cx="127764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集会盛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5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时间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永和九年，岁在癸丑，暮春之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914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地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990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会稽山阴之兰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事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1905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修禊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57200"/>
            <a:ext cx="990360" cy="0"/>
          </a:xfrm>
          <a:prstGeom prst="line">
            <a:avLst/>
          </a:prstGeom>
          <a:ln w="38160">
            <a:solidFill>
              <a:srgbClr val="dcd9c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1295280"/>
            <a:ext cx="990360" cy="0"/>
          </a:xfrm>
          <a:prstGeom prst="line">
            <a:avLst/>
          </a:prstGeom>
          <a:ln w="38160">
            <a:solidFill>
              <a:srgbClr val="dcd9c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2209680"/>
            <a:ext cx="1066680" cy="0"/>
          </a:xfrm>
          <a:prstGeom prst="line">
            <a:avLst/>
          </a:prstGeom>
          <a:ln w="38160">
            <a:solidFill>
              <a:srgbClr val="dcd9c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352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环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2666880"/>
            <a:ext cx="472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崇山峻岭，茂林修竹，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清流激湍，映带左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5486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引以为流觞曲水，列坐其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9625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天朗气清，惠风和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057400" y="3276720"/>
            <a:ext cx="1143000" cy="304560"/>
          </a:xfrm>
          <a:prstGeom prst="line">
            <a:avLst/>
          </a:prstGeom>
          <a:ln w="28440">
            <a:solidFill>
              <a:srgbClr val="dcd9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3733920"/>
            <a:ext cx="1066680" cy="457200"/>
          </a:xfrm>
          <a:prstGeom prst="line">
            <a:avLst/>
          </a:prstGeom>
          <a:ln w="28440">
            <a:solidFill>
              <a:srgbClr val="dcd9c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381240" cy="5181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410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人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5410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60958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觞一咏，亦足以畅叙幽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133720" y="5181120"/>
            <a:ext cx="1218960" cy="381240"/>
          </a:xfrm>
          <a:prstGeom prst="line">
            <a:avLst/>
          </a:prstGeom>
          <a:ln w="28440">
            <a:solidFill>
              <a:srgbClr val="dcd9c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5867280"/>
            <a:ext cx="1143000" cy="381240"/>
          </a:xfrm>
          <a:prstGeom prst="line">
            <a:avLst/>
          </a:prstGeom>
          <a:ln w="28440">
            <a:solidFill>
              <a:srgbClr val="dcd9c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457200"/>
            <a:ext cx="228600" cy="5867280"/>
          </a:xfrm>
          <a:custGeom>
            <a:avLst/>
            <a:gdLst>
              <a:gd name="textAreaLeft" fmla="*/ 0 w 228600"/>
              <a:gd name="textAreaRight" fmla="*/ 82440 w 228600"/>
              <a:gd name="textAreaTop" fmla="*/ 153000 h 5867280"/>
              <a:gd name="textAreaBottom" fmla="*/ 5714280 h 58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88760" y="1981080"/>
            <a:ext cx="1155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信  可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  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48006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群贤毕至，少长咸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5715000"/>
            <a:ext cx="1218960" cy="0"/>
          </a:xfrm>
          <a:prstGeom prst="line">
            <a:avLst/>
          </a:prstGeom>
          <a:ln w="28440">
            <a:solidFill>
              <a:srgbClr val="dcd9c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32000" y="2349360"/>
            <a:ext cx="64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楷体"/>
              </a:rPr>
              <a:t>岂不痛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10526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之相与，俯仰一世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15000" y="533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或取诸怀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0" y="141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或因寄所托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3760" y="2209680"/>
            <a:ext cx="53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其欣于所遇，快然自足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40080" y="304812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情随事迁，感慨系之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3760" y="4038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俯仰之间，已为陈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3760" y="4876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短随化，终期于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87640" y="60213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死生亦大矣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7640" y="1676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7640" y="37339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51280" y="549576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2514600"/>
            <a:ext cx="216000" cy="838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5160" y="4191120"/>
            <a:ext cx="204840" cy="990360"/>
          </a:xfrm>
          <a:custGeom>
            <a:avLst/>
            <a:gdLst>
              <a:gd name="textAreaLeft" fmla="*/ 131040 w 204840"/>
              <a:gd name="textAreaRight" fmla="*/ 205200 w 2048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64440" y="836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6840" y="36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理清思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rcRect l="0" t="4518" r="3541" b="9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rcRect l="0" t="53474" r="42093" b="0"/>
          <a:stretch/>
        </p:blipFill>
        <p:spPr>
          <a:xfrm>
            <a:off x="5038560" y="5589720"/>
            <a:ext cx="4105440" cy="1268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1844640"/>
            <a:ext cx="828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来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永不满足的内在欲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“欣于所遇”便“快然自足”，及其“所之既倦”“感慨系之矣”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次来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外在世界的流转不定，难以依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即“向之所欣，俯仰之间，已为陈迹”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来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个体生命的短暂有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即“修短随化，终期于尽”。最后以“死生亦大矣，岂不痛哉？”作结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理清思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理解写景言情时重点词语的作用及影响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了解兰亭雅集的文化内涵，理解作者感情由乐转悲的原因及暗含的人生哲理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了解本文骈散并行而以散为主的行文笔法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835280" y="1052280"/>
            <a:ext cx="273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11280" y="2781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悲夫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1469880"/>
            <a:ext cx="45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兴感之由     若合一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6560" y="290988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临文嗟悼     不能喻之于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62200" y="4205160"/>
            <a:ext cx="50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死生为虚诞  齐彭殇为妄作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28880" y="5502240"/>
            <a:ext cx="42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之视今     亦由今之视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1844640"/>
            <a:ext cx="287280" cy="3625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94320 h 3625920"/>
              <a:gd name="textAreaBottom" fmla="*/ 3531600 h 362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2349360"/>
            <a:ext cx="360360" cy="384480"/>
          </a:xfrm>
          <a:prstGeom prst="downArrow">
            <a:avLst>
              <a:gd name="adj1" fmla="val 50000"/>
              <a:gd name="adj2" fmla="val 26673"/>
            </a:avLst>
          </a:prstGeom>
          <a:solidFill>
            <a:srgbClr val="cccc00"/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3840" y="3645000"/>
            <a:ext cx="3618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35280" y="4941720"/>
            <a:ext cx="362160" cy="432000"/>
          </a:xfrm>
          <a:prstGeom prst="downArrow">
            <a:avLst>
              <a:gd name="adj1" fmla="val 50000"/>
              <a:gd name="adj2" fmla="val 29821"/>
            </a:avLst>
          </a:prstGeom>
          <a:solidFill>
            <a:srgbClr val="cccc00"/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59640" y="2205000"/>
            <a:ext cx="2232000" cy="28062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今及古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今推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沧桑感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厚重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理清思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4362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找出文中最能表现作者思想情感的动词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755640" y="213372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"/>
              </a:rPr>
              <a:t>俯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79280" y="2997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、作者俯仰什么？俯仰的心情是怎样的？</a:t>
            </a:r>
            <a:r>
              <a:rPr b="1" lang="zh-CN" sz="3200" spc="-1" strike="noStrike">
                <a:solidFill>
                  <a:srgbClr val="dcd9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627280" y="3933720"/>
            <a:ext cx="576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信可乐也。（第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岂不痛哉。（第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悲夫           （第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合作研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6804000" y="2205000"/>
            <a:ext cx="1008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兰亭超细黑简体"/>
              </a:rPr>
              <a:t>信可乐也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合作研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249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良辰：暮春之初  惠风和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贤毕至  少长咸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美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流激湍  映带左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乐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水流觞  畅叙幽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赏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仰观俯察  游目聘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7"/>
          <p:cNvGrpSpPr/>
          <p:nvPr/>
        </p:nvGrpSpPr>
        <p:grpSpPr>
          <a:xfrm>
            <a:off x="7236000" y="3573360"/>
            <a:ext cx="934920" cy="1223280"/>
            <a:chOff x="7236000" y="3573360"/>
            <a:chExt cx="934920" cy="1223280"/>
          </a:xfrm>
        </p:grpSpPr>
        <p:grpSp>
          <p:nvGrpSpPr>
            <p:cNvPr id="329" name="Group 8"/>
            <p:cNvGrpSpPr/>
            <p:nvPr/>
          </p:nvGrpSpPr>
          <p:grpSpPr>
            <a:xfrm>
              <a:off x="7236000" y="3682440"/>
              <a:ext cx="934920" cy="1114200"/>
              <a:chOff x="7236000" y="3682440"/>
              <a:chExt cx="934920" cy="1114200"/>
            </a:xfrm>
          </p:grpSpPr>
          <p:sp>
            <p:nvSpPr>
              <p:cNvPr id="330" name="Oval 9"/>
              <p:cNvSpPr/>
              <p:nvPr/>
            </p:nvSpPr>
            <p:spPr>
              <a:xfrm>
                <a:off x="7245720" y="3717720"/>
                <a:ext cx="925200" cy="1078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1" name="Oval 10"/>
              <p:cNvSpPr/>
              <p:nvPr/>
            </p:nvSpPr>
            <p:spPr>
              <a:xfrm>
                <a:off x="7236000" y="3682440"/>
                <a:ext cx="925200" cy="1078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32" name="Oval 11"/>
            <p:cNvSpPr/>
            <p:nvPr/>
          </p:nvSpPr>
          <p:spPr>
            <a:xfrm>
              <a:off x="7280280" y="3573360"/>
              <a:ext cx="836640" cy="102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7291440" y="3579120"/>
              <a:ext cx="815760" cy="998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299360" y="3589200"/>
              <a:ext cx="776160" cy="933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340760" y="3609720"/>
              <a:ext cx="684000" cy="75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a50021"/>
                  </a:solidFill>
                  <a:latin typeface="Times New Roman"/>
                  <a:ea typeface="隶书"/>
                </a:rPr>
                <a:t>痛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4895640" cy="647640"/>
          </a:xfrm>
          <a:prstGeom prst="rect">
            <a:avLst/>
          </a:prstGeom>
          <a:solidFill>
            <a:srgbClr val="b3c39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3.</a:t>
            </a:r>
            <a:r>
              <a:rPr b="0" lang="zh-CN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俯仰人生</a:t>
            </a:r>
            <a:r>
              <a:rPr b="0" lang="en-US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,</a:t>
            </a:r>
            <a:r>
              <a:rPr b="0" lang="zh-CN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为何而痛</a:t>
            </a:r>
            <a:r>
              <a:rPr b="0" lang="en-US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?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000" y="2781000"/>
            <a:ext cx="655164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Times New Roman"/>
              </a:rPr>
              <a:t>俯仰一世，老之将至   </a:t>
            </a: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隶书"/>
              </a:rPr>
              <a:t>人生短暂之痛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Times New Roman"/>
              </a:rPr>
              <a:t>所之既倦，情随事迁   </a:t>
            </a: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隶书"/>
              </a:rPr>
              <a:t>世事无常之痛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Times New Roman"/>
              </a:rPr>
              <a:t>向之所欣，已为陈迹   </a:t>
            </a: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隶书"/>
              </a:rPr>
              <a:t>往事不再之痛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Times New Roman"/>
              </a:rPr>
              <a:t>修短随化，终期于尽   </a:t>
            </a:r>
            <a:r>
              <a:rPr b="1" lang="zh-CN" sz="3000" spc="-1" strike="noStrike">
                <a:solidFill>
                  <a:srgbClr val="cc3300"/>
                </a:solidFill>
                <a:latin typeface="Times New Roman"/>
                <a:ea typeface="隶书"/>
              </a:rPr>
              <a:t>生死难测之痛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AutoShape 16"/>
          <p:cNvSpPr/>
          <p:nvPr/>
        </p:nvSpPr>
        <p:spPr>
          <a:xfrm>
            <a:off x="6948360" y="3141720"/>
            <a:ext cx="287640" cy="2087640"/>
          </a:xfrm>
          <a:custGeom>
            <a:avLst/>
            <a:gdLst>
              <a:gd name="textAreaLeft" fmla="*/ 0 w 287640"/>
              <a:gd name="textAreaRight" fmla="*/ 103680 w 287640"/>
              <a:gd name="textAreaTop" fmla="*/ 52200 h 2087640"/>
              <a:gd name="textAreaBottom" fmla="*/ 2035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4"/>
                  <a:pt x="10800" y="1728"/>
                </a:cubicBezTo>
                <a:lnTo>
                  <a:pt x="10800" y="8799"/>
                </a:lnTo>
                <a:cubicBezTo>
                  <a:pt x="10800" y="9663"/>
                  <a:pt x="16200" y="10527"/>
                  <a:pt x="21600" y="10527"/>
                </a:cubicBezTo>
                <a:cubicBezTo>
                  <a:pt x="16200" y="10527"/>
                  <a:pt x="10800" y="11391"/>
                  <a:pt x="10800" y="12255"/>
                </a:cubicBezTo>
                <a:lnTo>
                  <a:pt x="10800" y="19872"/>
                </a:lnTo>
                <a:cubicBezTo>
                  <a:pt x="10800" y="2073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合作研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4284720" y="2708280"/>
            <a:ext cx="266544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今之视昔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今（我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后之视今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5256000" cy="648000"/>
          </a:xfrm>
          <a:prstGeom prst="rect">
            <a:avLst/>
          </a:prstGeom>
          <a:solidFill>
            <a:srgbClr val="b3c39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4.</a:t>
            </a:r>
            <a:r>
              <a:rPr b="0" lang="zh-CN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俯仰古今，为何而悲</a:t>
            </a:r>
            <a:r>
              <a:rPr b="0" lang="en-US" sz="3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?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1440" y="2533680"/>
            <a:ext cx="340056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览昔人兴感之由，若合一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死生为虚诞        齐彭殇为妄作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之览者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亦将有感于斯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3" name="Group 5"/>
          <p:cNvGrpSpPr/>
          <p:nvPr/>
        </p:nvGrpSpPr>
        <p:grpSpPr>
          <a:xfrm>
            <a:off x="7236000" y="3429000"/>
            <a:ext cx="1366200" cy="791640"/>
            <a:chOff x="7236000" y="3429000"/>
            <a:chExt cx="1366200" cy="791640"/>
          </a:xfrm>
        </p:grpSpPr>
        <p:grpSp>
          <p:nvGrpSpPr>
            <p:cNvPr id="344" name="Group 6"/>
            <p:cNvGrpSpPr/>
            <p:nvPr/>
          </p:nvGrpSpPr>
          <p:grpSpPr>
            <a:xfrm>
              <a:off x="7236000" y="3499560"/>
              <a:ext cx="1366200" cy="721080"/>
              <a:chOff x="7236000" y="3499560"/>
              <a:chExt cx="1366200" cy="721080"/>
            </a:xfrm>
          </p:grpSpPr>
          <p:sp>
            <p:nvSpPr>
              <p:cNvPr id="345" name="Oval 7"/>
              <p:cNvSpPr/>
              <p:nvPr/>
            </p:nvSpPr>
            <p:spPr>
              <a:xfrm>
                <a:off x="7250040" y="3523320"/>
                <a:ext cx="1352160" cy="69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6" name="Oval 8"/>
              <p:cNvSpPr/>
              <p:nvPr/>
            </p:nvSpPr>
            <p:spPr>
              <a:xfrm>
                <a:off x="7236000" y="3499560"/>
                <a:ext cx="1352160" cy="69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47" name="Oval 9"/>
            <p:cNvSpPr/>
            <p:nvPr/>
          </p:nvSpPr>
          <p:spPr>
            <a:xfrm>
              <a:off x="7300800" y="3429000"/>
              <a:ext cx="1221840" cy="663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7317000" y="3431880"/>
              <a:ext cx="1193760" cy="647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Oval 11"/>
            <p:cNvSpPr/>
            <p:nvPr/>
          </p:nvSpPr>
          <p:spPr>
            <a:xfrm>
              <a:off x="7327800" y="3438360"/>
              <a:ext cx="1136520" cy="604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Oval 12"/>
            <p:cNvSpPr/>
            <p:nvPr/>
          </p:nvSpPr>
          <p:spPr>
            <a:xfrm>
              <a:off x="7388640" y="3452400"/>
              <a:ext cx="999720" cy="488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a50021"/>
                  </a:solidFill>
                  <a:latin typeface="Times New Roman"/>
                  <a:ea typeface="隶书"/>
                </a:rPr>
                <a:t>悲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1" name="AutoShape 14"/>
          <p:cNvSpPr/>
          <p:nvPr/>
        </p:nvSpPr>
        <p:spPr>
          <a:xfrm>
            <a:off x="7020000" y="2421000"/>
            <a:ext cx="144360" cy="2808360"/>
          </a:xfrm>
          <a:custGeom>
            <a:avLst/>
            <a:gdLst>
              <a:gd name="textAreaLeft" fmla="*/ 0 w 144360"/>
              <a:gd name="textAreaRight" fmla="*/ 52200 w 1443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11"/>
                </a:lnTo>
                <a:cubicBezTo>
                  <a:pt x="10800" y="9811"/>
                  <a:pt x="16200" y="10711"/>
                  <a:pt x="21600" y="10711"/>
                </a:cubicBezTo>
                <a:cubicBezTo>
                  <a:pt x="16200" y="10711"/>
                  <a:pt x="10800" y="11611"/>
                  <a:pt x="10800" y="125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合作研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95280" y="1197000"/>
            <a:ext cx="8001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抒情基调为什么会由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转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痛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转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悲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24000" y="2205000"/>
            <a:ext cx="85071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以“悲”为抒情基调，上文兰亭聚饮，赋诗，是乐事，但有聚就有散，聚会难而短，分散易而长。这种欢聚难常的感触已经使人情绪低落，由此，进而想到人生短促，所以聚散生死始终笼罩文学家的心，故作者有乐转悲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深入研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3"/>
          <p:cNvSpPr/>
          <p:nvPr/>
        </p:nvSpPr>
        <p:spPr>
          <a:xfrm>
            <a:off x="611280" y="2421000"/>
            <a:ext cx="82864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写景抒情，叙议结合。如叙说“此地有崇山峻岭，茂林修竹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列坐其次。”下面紧接着引申而论“虽无丝竹之盛，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亦足以畅叙幽情”；下面也同样是叙议结合：“是日也，天朗气清，惠风和畅。”由良辰、美景、赏心、乐事得出这样的结论：“仰观宇宙之大，俯察品类之盛，所以游目骋怀，足以极视听之娱，信可乐也。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矩形 2"/>
          <p:cNvSpPr/>
          <p:nvPr/>
        </p:nvSpPr>
        <p:spPr>
          <a:xfrm>
            <a:off x="428760" y="4572000"/>
            <a:ext cx="82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深入研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395280" y="1197000"/>
            <a:ext cx="8001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第一、二自然段文字写法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何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特点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4"/>
          <p:cNvSpPr/>
          <p:nvPr/>
        </p:nvSpPr>
        <p:spPr>
          <a:xfrm>
            <a:off x="468360" y="2060640"/>
            <a:ext cx="82152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千古同心，千古同慨，作者的思绪从有限转入无限，又归结到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兰亭集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的撰集上，既点出了作序的缘起，又留下了无穷的回味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随着时光的流逝，人的生命也终有尽期。作者在感时之余，转为伤逝。把庄子之言斥为“虚诞”和“妄作。”不能学太上之忘情，忘掉生和死的界限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深入研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395280" y="1197000"/>
            <a:ext cx="8001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最后一段表达了作者怎样的感情？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305160" cy="642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修辞：对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矩形 5"/>
          <p:cNvSpPr/>
          <p:nvPr/>
        </p:nvSpPr>
        <p:spPr>
          <a:xfrm>
            <a:off x="714240" y="1428840"/>
            <a:ext cx="778680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句中对：同一句上下两个词语互相对偶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例如：清流激湍、游目骋怀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单句对：上下两句互相对偶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例如：崇山峻岭，茂林修竹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群贤毕至，少长咸集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隔句对：第一句对第三句，第二句对第四句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例如：或取诸怀抱，悟言一室之内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或因寄所托，放浪形骸之外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4"/>
          <p:cNvSpPr/>
          <p:nvPr/>
        </p:nvSpPr>
        <p:spPr>
          <a:xfrm>
            <a:off x="785880" y="157176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1.“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不知老之将至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‧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述而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：“其为人也，发愤忘食，乐以忘忧，不知老之将至云尔。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2.“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死生亦大矣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庄子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‧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德充符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引孔子之言：“死生亦大矣，而不得与之变；虽天地覆坠，亦将不与之遗。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原是用来形容“道”的作用。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24000" y="333360"/>
            <a:ext cx="3305160" cy="642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修辞：引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262160" y="5286240"/>
            <a:ext cx="64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唐人冯承素摹本，北京故宫博物院收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5" name="图片 4" descr="《兰亭集序》书法.jpg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95280" y="260280"/>
            <a:ext cx="215892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艺术特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立意高远，蕴藉深长作者善于借题发挥，从一次普通的游宴活动谈到了他的生死观，并以此批判了当时士大夫阶层中崇尚虚无的思想倾向，使全篇在立意上显得不同凡响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文笔洗练，自然有致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多用短句，节奏简洁明快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55640" y="1700280"/>
            <a:ext cx="7704000" cy="3096720"/>
            <a:chOff x="755640" y="1700280"/>
            <a:chExt cx="7704000" cy="3096720"/>
          </a:xfrm>
        </p:grpSpPr>
        <p:grpSp>
          <p:nvGrpSpPr>
            <p:cNvPr id="371" name=""/>
            <p:cNvGrpSpPr/>
            <p:nvPr/>
          </p:nvGrpSpPr>
          <p:grpSpPr>
            <a:xfrm>
              <a:off x="765000" y="1721880"/>
              <a:ext cx="7685280" cy="3052440"/>
              <a:chOff x="765000" y="1721880"/>
              <a:chExt cx="7685280" cy="3052440"/>
            </a:xfrm>
          </p:grpSpPr>
          <p:sp>
            <p:nvSpPr>
              <p:cNvPr id="372" name=""/>
              <p:cNvSpPr/>
              <p:nvPr/>
            </p:nvSpPr>
            <p:spPr>
              <a:xfrm>
                <a:off x="765000" y="1721880"/>
                <a:ext cx="7685280" cy="3052440"/>
              </a:xfrm>
              <a:prstGeom prst="rect">
                <a:avLst/>
              </a:prstGeom>
              <a:noFill/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cc00"/>
                    </a:solidFill>
                    <a:latin typeface="宋体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本文仅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25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字，文中先记兰亭之会的概况，而后就死生问题发表议论；虽是书序，却以抒情笔调出之，淋漓满纸，美不胜收；加以文笔洗练，自然有致，更足以发人深思。</a:t>
                </a:r>
                <a:endParaRPr b="0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5000" y="1721880"/>
                <a:ext cx="7685280" cy="30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55640" y="1700280"/>
              <a:ext cx="7704000" cy="30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5" name="Rectangle 2"/>
          <p:cNvSpPr/>
          <p:nvPr/>
        </p:nvSpPr>
        <p:spPr>
          <a:xfrm>
            <a:off x="324000" y="333360"/>
            <a:ext cx="1439640" cy="642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小结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8480" y="500040"/>
            <a:ext cx="671508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中国书法圣地</a:t>
            </a:r>
            <a:r>
              <a:rPr b="1" lang="en-US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……</a:t>
            </a:r>
            <a:r>
              <a:rPr b="1" lang="zh-TW" sz="2800" spc="-1" strike="noStrike">
                <a:solidFill>
                  <a:srgbClr val="333333"/>
                </a:solidFill>
                <a:latin typeface="Times New Roman"/>
                <a:ea typeface="標楷體"/>
              </a:rPr>
              <a:t>绍兴兰亭</a:t>
            </a:r>
            <a:r>
              <a:rPr b="1" lang="en-US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…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7" name="Picture 7" descr="圖片13"/>
          <p:cNvPicPr/>
          <p:nvPr/>
        </p:nvPicPr>
        <p:blipFill>
          <a:blip r:embed="rId2"/>
          <a:stretch/>
        </p:blipFill>
        <p:spPr>
          <a:xfrm>
            <a:off x="4000680" y="2303640"/>
            <a:ext cx="4748040" cy="3054240"/>
          </a:xfrm>
          <a:prstGeom prst="rect">
            <a:avLst/>
          </a:prstGeom>
          <a:ln w="0">
            <a:noFill/>
          </a:ln>
        </p:spPr>
      </p:pic>
      <p:sp>
        <p:nvSpPr>
          <p:cNvPr id="378" name="矩形 5"/>
          <p:cNvSpPr/>
          <p:nvPr/>
        </p:nvSpPr>
        <p:spPr>
          <a:xfrm>
            <a:off x="428760" y="1785960"/>
            <a:ext cx="3500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被称为中国书法圣地的“兰亭”，位在浙江省绍兴县的西南部，春秋时越王勾践植兰于此，汉代时建有驿亭，因而得名，这个古朴典雅的园子虽然不大，却为中外游人所瞩目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0"/>
          <p:cNvSpPr/>
          <p:nvPr/>
        </p:nvSpPr>
        <p:spPr>
          <a:xfrm>
            <a:off x="285840" y="4727520"/>
            <a:ext cx="4321080" cy="9205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兰亭”两字系清康熙手迹，文革期间碑被红卫兵砸断，劫后余生，遂成残字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0" name="Picture 14" descr="圖片9"/>
          <p:cNvPicPr/>
          <p:nvPr/>
        </p:nvPicPr>
        <p:blipFill>
          <a:blip r:embed="rId2"/>
          <a:stretch/>
        </p:blipFill>
        <p:spPr>
          <a:xfrm>
            <a:off x="5143680" y="598320"/>
            <a:ext cx="3786120" cy="54738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5" descr="0904051904459013.jpg"/>
          <p:cNvPicPr/>
          <p:nvPr/>
        </p:nvPicPr>
        <p:blipFill>
          <a:blip r:embed="rId3"/>
          <a:stretch/>
        </p:blipFill>
        <p:spPr>
          <a:xfrm>
            <a:off x="285840" y="598320"/>
            <a:ext cx="4572000" cy="34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圖片21"/>
          <p:cNvPicPr/>
          <p:nvPr/>
        </p:nvPicPr>
        <p:blipFill>
          <a:blip r:embed="rId2"/>
          <a:stretch/>
        </p:blipFill>
        <p:spPr>
          <a:xfrm>
            <a:off x="3643200" y="189000"/>
            <a:ext cx="4372200" cy="6454800"/>
          </a:xfrm>
          <a:prstGeom prst="rect">
            <a:avLst/>
          </a:prstGeom>
          <a:ln w="0">
            <a:noFill/>
          </a:ln>
        </p:spPr>
      </p:pic>
      <p:sp>
        <p:nvSpPr>
          <p:cNvPr id="383" name="矩形 4"/>
          <p:cNvSpPr/>
          <p:nvPr/>
        </p:nvSpPr>
        <p:spPr>
          <a:xfrm>
            <a:off x="428760" y="2500200"/>
            <a:ext cx="3071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康熙临摹所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0" lang="zh-TW" sz="2800" spc="-1" strike="noStrike">
                <a:solidFill>
                  <a:srgbClr val="333333"/>
                </a:solidFill>
                <a:latin typeface="黑体"/>
                <a:ea typeface="黑体"/>
              </a:rPr>
              <a:t>兰亭集序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6"/>
          <p:cNvSpPr/>
          <p:nvPr/>
        </p:nvSpPr>
        <p:spPr>
          <a:xfrm>
            <a:off x="500040" y="3824280"/>
            <a:ext cx="8143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传说“鹅池”两字出自王羲之、王献之父子两人的手笔。当年，王羲之在池边刚写完“鹅”字，忽然听到“圣旨到”，便搁笔迎旨。一旁正在练字的儿子王献之，趁父亲离开之际，提笔补上了“池”字，一碑两字，父子合璧，成了千古佳话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5" name="图片 7" descr="鹅池.jpg"/>
          <p:cNvPicPr/>
          <p:nvPr/>
        </p:nvPicPr>
        <p:blipFill>
          <a:blip r:embed="rId2"/>
          <a:stretch/>
        </p:blipFill>
        <p:spPr>
          <a:xfrm>
            <a:off x="900000" y="907920"/>
            <a:ext cx="3965760" cy="2643480"/>
          </a:xfrm>
          <a:prstGeom prst="rect">
            <a:avLst/>
          </a:prstGeom>
          <a:ln w="0">
            <a:noFill/>
          </a:ln>
        </p:spPr>
      </p:pic>
      <p:sp>
        <p:nvSpPr>
          <p:cNvPr id="386" name="矩形 10"/>
          <p:cNvSpPr/>
          <p:nvPr/>
        </p:nvSpPr>
        <p:spPr>
          <a:xfrm>
            <a:off x="5357880" y="1357200"/>
            <a:ext cx="3000240" cy="89820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鹅池的左旁，是一座式样别致的三角形石质碑亭。碑上镌刻“鹅池”两字，气势磅震荡礡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圖片26"/>
          <p:cNvPicPr/>
          <p:nvPr/>
        </p:nvPicPr>
        <p:blipFill>
          <a:blip r:embed="rId2"/>
          <a:stretch/>
        </p:blipFill>
        <p:spPr>
          <a:xfrm>
            <a:off x="1071720" y="357120"/>
            <a:ext cx="7056360" cy="4589640"/>
          </a:xfrm>
          <a:prstGeom prst="rect">
            <a:avLst/>
          </a:prstGeom>
          <a:ln w="0">
            <a:noFill/>
          </a:ln>
        </p:spPr>
      </p:pic>
      <p:sp>
        <p:nvSpPr>
          <p:cNvPr id="388" name="矩形 4"/>
          <p:cNvSpPr/>
          <p:nvPr/>
        </p:nvSpPr>
        <p:spPr>
          <a:xfrm>
            <a:off x="642960" y="5143680"/>
            <a:ext cx="7929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每年农历三月初三这里都会举办“中国兰亭书法节”，书坛名家雅集兰亭，研讨书学，泼墨挥毫，流觞赋诗，盛况非凡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560" y="1142640"/>
            <a:ext cx="889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东晋王羲之、王献之父子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钟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国魏钟繇、东晋王羲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苏黄米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宋“四大家”苏轼、黄庭坚、米芾、蔡襄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颜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书家颜真卿、柳公权，书史上又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“颜筋柳骨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称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初唐四大书法家－－虞世南、欧阳询、褚遂良、薛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草书的杰出代表“颠张醉素”－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张旭和怀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东汉张芝、唐代张旭二位善草书之书家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赵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元代赵孟俯，明之董其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邢张米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晚明四大家邢侗、张瑞图、米万钟、董其昌四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虞欧褚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初唐的四大书法家虞世南、欧阳询、褚遂良、薛稷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矩形 3"/>
          <p:cNvSpPr/>
          <p:nvPr/>
        </p:nvSpPr>
        <p:spPr>
          <a:xfrm>
            <a:off x="1044720" y="214200"/>
            <a:ext cx="200952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古代书法名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对酒当歌，人生几何？譬如朝露，去日苦多。”       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（曹操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短歌行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人生一世间，忽若暮春草”    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（徐干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室思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但恐须臾间，魂气随风飘”。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（阮籍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咏怀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天高地迥，觉宇宙之无穷；兴尽悲来，识盈虚之有数。”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（王勃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滕王阁序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哀吾生之须臾，羡长江之无穷。” 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（苏轼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前赤壁赋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人生易老天难老，岁岁重阳，今又重阳。”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                                 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毛泽东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采桑子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·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重阳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谈谈你对人生的一些看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钱钟书曾说“目光放远，万事且悲”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魏晋时代，由于社会黑暗，现实残酷，人们便转向了内心世界的思考。从某种意义上说，魏晋时代人们的精神是最解放最自由的。他们对时间和死亡的恐惧，并没有必然导致消极悲观，反而激发起更强烈的创造冲动，以扎实的现实努力来抗拒人生的虚无。虽然王羲之慨叹了人生的无常，但是他的这种慨叹不是消沉的，而是一种奋起和抗争。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矩形 3"/>
          <p:cNvSpPr/>
          <p:nvPr/>
        </p:nvSpPr>
        <p:spPr>
          <a:xfrm>
            <a:off x="839880" y="214200"/>
            <a:ext cx="140004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拓展作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8105400" y="2637000"/>
            <a:ext cx="60696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兰亭集序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（局部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7" name="图片 4" descr=""/>
          <p:cNvPicPr/>
          <p:nvPr/>
        </p:nvPicPr>
        <p:blipFill>
          <a:blip r:embed="rId2"/>
          <a:srcRect l="51384" t="0" r="18160" b="0"/>
          <a:stretch/>
        </p:blipFill>
        <p:spPr>
          <a:xfrm>
            <a:off x="0" y="0"/>
            <a:ext cx="76676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2324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861840" y="1150920"/>
            <a:ext cx="22860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6836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0" y="0"/>
            <a:ext cx="24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化常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2556000" y="1700280"/>
            <a:ext cx="6337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王羲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03—36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字逸少，琅邪临沂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属山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官至右军将军，会稽内史，故后世称为“王右军”。出身于两晋的名门望族。十二岁时经父亲传授笔法论，从当时著名的女书法家卫夫人学习书法。后渡江北游名山，博采众长，观摩学习“兼撮众法，备成一家”，达到了“贵越群品，古今莫二”的高度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的行草书最能表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雄逸流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艺术美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晋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其书法“古今之冠”，以为“飘若浮云，矫若惊龙”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2576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2362320" y="1600200"/>
            <a:ext cx="6019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091040" y="990720"/>
            <a:ext cx="505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               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2324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861840" y="1150920"/>
            <a:ext cx="22860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矩形 9"/>
          <p:cNvSpPr/>
          <p:nvPr/>
        </p:nvSpPr>
        <p:spPr>
          <a:xfrm>
            <a:off x="2556000" y="1773360"/>
            <a:ext cx="65880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王羲之在书法上是个革新家，他的书法圆转凝重，全然突破了隶书的笔意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王羲之作品的真迹已难得见，我们所看到的都是摹本。王羲之楷、行、草、飞白等体皆能，如楷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乐毅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庭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草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十七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行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姨母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快雪时晴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丧乱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行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兰亭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具有代表性。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0" y="0"/>
            <a:ext cx="24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化常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2576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" descr="王羲之黄庭经墨迹(唐临本.jpg"/>
          <p:cNvPicPr/>
          <p:nvPr/>
        </p:nvPicPr>
        <p:blipFill>
          <a:blip r:embed="rId2"/>
          <a:stretch/>
        </p:blipFill>
        <p:spPr>
          <a:xfrm>
            <a:off x="182556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2"/>
          <p:cNvSpPr/>
          <p:nvPr/>
        </p:nvSpPr>
        <p:spPr>
          <a:xfrm>
            <a:off x="6675480" y="836640"/>
            <a:ext cx="103356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王羲之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黄庭经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墨迹</a:t>
            </a: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唐临本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姨母帖2"/>
          <p:cNvPicPr/>
          <p:nvPr/>
        </p:nvPicPr>
        <p:blipFill>
          <a:blip r:embed="rId2"/>
          <a:stretch/>
        </p:blipFill>
        <p:spPr>
          <a:xfrm>
            <a:off x="1467000" y="0"/>
            <a:ext cx="57481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6940440" y="5143680"/>
            <a:ext cx="10335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姨母帖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4:00:29Z</dcterms:created>
  <dc:creator>limin</dc:creator>
  <dc:description/>
  <dc:language>en-US</dc:language>
  <cp:lastModifiedBy>user</cp:lastModifiedBy>
  <dcterms:modified xsi:type="dcterms:W3CDTF">2017-10-14T05:27:04Z</dcterms:modified>
  <cp:revision>127</cp:revision>
  <dc:subject/>
  <dc:title>PowerPoint 演示文稿</dc:title>
</cp:coreProperties>
</file>