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B68C-DCD3-45AE-BA87-C255428CE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7FAF-B83C-4923-9A9F-0413CE97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D787-74E7-48A8-82DB-9542D416E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1ACE-C2F2-4764-B746-DC5D6802C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217C-5A25-4840-ACC8-B08706C3C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EFBA-FFFF-438D-B1D4-4DAF4965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C14F6-3F93-43B3-ABF9-FAB02394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4947-B21F-4C2E-9206-B0314FE0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866D-BD1C-4CE9-9BEC-4A5DDC02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469C-ECE1-4690-871F-FEDBE15A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DEB6-79A8-46AB-B4D4-876707F4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9C3B-4490-47B1-AF28-B3E38F96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4EB2-6FBB-4FB8-874C-F358C354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683AB-9D4B-401F-A7D8-40E92C03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FC07-FE4C-423B-91B8-BCC7D1ED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C47F-F976-419A-A2B4-ED1CCC897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5C235-36C8-40C3-9AD4-98CF8152D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6164-5B03-4B2D-9575-4E61A86C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9FB3-1F01-4529-BE5A-27CBF06B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282E-F800-428A-BB9E-B257034A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C321-28E9-4730-98FB-A4FB5FD3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A633-EE7D-41EF-A9A5-EEB60DDE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8911-90B8-4C55-A369-9A91B71F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D227-C870-4248-B418-D380DD52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BFC0-4837-4A11-BC69-A4A21F5E1D86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1E0B-882E-4905-B8D7-0B2580D19014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52280"/>
            <a:ext cx="7417080" cy="368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c0c0c0"/>
                </a:solidFill>
                <a:latin typeface="Arial"/>
              </a:rPr>
              <a:t>教育部高职高专规划教材     实用语文（第三版）第一册教辅课件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6" name="图片 3" descr=""/>
          <p:cNvPicPr/>
          <p:nvPr/>
        </p:nvPicPr>
        <p:blipFill>
          <a:blip r:embed="rId4"/>
          <a:stretch/>
        </p:blipFill>
        <p:spPr>
          <a:xfrm>
            <a:off x="0" y="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99"/>
                </a:solidFill>
                <a:latin typeface="Arial"/>
                <a:ea typeface="楷体"/>
              </a:rPr>
              <a:t>第三单元</a:t>
            </a:r>
            <a:endParaRPr b="0" lang="en-US" sz="6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研读第一层，讨论祥林嫂的反复重复“我真傻真的”为什么没人愿听下去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"/>
              </a:rPr>
              <a:t>因为大家都已经几乎能够背诵她的话，不能提供新的未知的信息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谈谈“有物”的具体含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"/>
              </a:rPr>
              <a:t>就是有读者、听者所不知道的内容，具有最大信息量。话语的表达效果首先取决于所传达的信息量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066680"/>
            <a:ext cx="8229600" cy="76320"/>
          </a:xfrm>
          <a:prstGeom prst="flowChartTerminator">
            <a:avLst/>
          </a:prstGeom>
          <a:solidFill>
            <a:srgbClr val="007a77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28600"/>
            <a:ext cx="2057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黑体"/>
              </a:rPr>
              <a:t>深入探讨</a:t>
            </a:r>
            <a:br>
              <a:rPr sz="3600"/>
            </a:b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案例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《隋书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牛洪传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1066680"/>
            <a:ext cx="8229600" cy="76320"/>
          </a:xfrm>
          <a:prstGeom prst="flowChartTerminator">
            <a:avLst/>
          </a:prstGeom>
          <a:solidFill>
            <a:srgbClr val="007a77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228600"/>
            <a:ext cx="2057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黑体"/>
              </a:rPr>
              <a:t>深入探讨</a:t>
            </a:r>
            <a:br>
              <a:rPr sz="3600"/>
            </a:b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267080" y="1447920"/>
            <a:ext cx="390708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研读第二层，讨论“驴唇不对马嘴”的含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"/>
              </a:rPr>
              <a:t>不仅要有信息量，还要有切合讨论对象的、说话目的的信息量，否则达不到预期效果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066680"/>
            <a:ext cx="8229600" cy="76320"/>
          </a:xfrm>
          <a:prstGeom prst="flowChartTerminator">
            <a:avLst/>
          </a:prstGeom>
          <a:solidFill>
            <a:srgbClr val="007a77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228600"/>
            <a:ext cx="2057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黑体"/>
              </a:rPr>
              <a:t>深入探讨</a:t>
            </a:r>
            <a:br>
              <a:rPr sz="3600"/>
            </a:b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案例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《南史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王僧虔传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1066680"/>
            <a:ext cx="8229600" cy="76320"/>
          </a:xfrm>
          <a:prstGeom prst="flowChartTerminator">
            <a:avLst/>
          </a:prstGeom>
          <a:solidFill>
            <a:srgbClr val="007a77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228600"/>
            <a:ext cx="2057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黑体"/>
              </a:rPr>
              <a:t>深入探讨</a:t>
            </a:r>
            <a:br>
              <a:rPr sz="3600"/>
            </a:b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案例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《南史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王僧虔传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案例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《南史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王僧虔传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495680" y="2057400"/>
            <a:ext cx="400068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研读第三层，结合王僧虔的“假话”，讨论“真实”的含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"/>
              </a:rPr>
              <a:t>真实是“人所皆知的尝试”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066680"/>
            <a:ext cx="8229600" cy="76320"/>
          </a:xfrm>
          <a:prstGeom prst="flowChartTerminator">
            <a:avLst/>
          </a:prstGeom>
          <a:solidFill>
            <a:srgbClr val="007a77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28600"/>
            <a:ext cx="2057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黑体"/>
              </a:rPr>
              <a:t>深入探讨</a:t>
            </a:r>
            <a:br>
              <a:rPr sz="3600"/>
            </a:b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研读第四层，讨论怎样做才能做到“适量”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"/>
              </a:rPr>
              <a:t>适量的原则就是，给予对方的信息量“要多少，给多少”。有时候故意少给或者多给，也能起到较好的修辞效果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066680"/>
            <a:ext cx="8229600" cy="76320"/>
          </a:xfrm>
          <a:prstGeom prst="flowChartTerminator">
            <a:avLst/>
          </a:prstGeom>
          <a:solidFill>
            <a:srgbClr val="007a77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228600"/>
            <a:ext cx="2057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黑体"/>
              </a:rPr>
              <a:t>深入探讨</a:t>
            </a:r>
            <a:br>
              <a:rPr sz="3600"/>
            </a:b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主题突出，论证清晰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层次分明，环环相扣，层层推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叙议结合，多重论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1066680"/>
            <a:ext cx="8229600" cy="76320"/>
          </a:xfrm>
          <a:prstGeom prst="flowChartTerminator">
            <a:avLst/>
          </a:prstGeom>
          <a:solidFill>
            <a:srgbClr val="007a77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228600"/>
            <a:ext cx="2057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黑体"/>
              </a:rPr>
              <a:t>本文结构</a:t>
            </a:r>
            <a:br>
              <a:rPr sz="3600"/>
            </a:b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1066680"/>
            <a:ext cx="8229600" cy="76320"/>
          </a:xfrm>
          <a:prstGeom prst="flowChartTerminator">
            <a:avLst/>
          </a:prstGeom>
          <a:solidFill>
            <a:srgbClr val="007a77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0"/>
            <a:ext cx="2057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黑体"/>
              </a:rPr>
              <a:t>拓展阅读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鲁迅《祥林嫂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王希杰《语言是人类最重要的交际工具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比阅读冰心《尼罗河上的春天》与《三国演义》第四十九回，寻找语言表达的异同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066680"/>
            <a:ext cx="8229600" cy="76320"/>
          </a:xfrm>
          <a:prstGeom prst="flowChartTerminator">
            <a:avLst/>
          </a:prstGeom>
          <a:solidFill>
            <a:srgbClr val="007a77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0"/>
            <a:ext cx="2057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黑体"/>
              </a:rPr>
              <a:t>作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1932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有物、切题、真实、适量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914400" y="3504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王希杰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142640" y="2666520"/>
            <a:ext cx="7162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理清全文思路，把握作者观点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合有关语言知识或现象，理解文中富有深意的语句。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培养迁移运用能力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2666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作家简介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373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王希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4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生，江苏淮安人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南京大学教授、博士生导师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要著作有：《汉语修辞学》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8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、《修辞学新论》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9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、《修辞学通论》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9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、《修辞学导论》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、《数词、量词、代词》、《动物文化小品集》、《说写的学问和情趣》、《说话的情理法》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486400" y="4649760"/>
            <a:ext cx="3200400" cy="22082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57200" y="1066680"/>
            <a:ext cx="8229600" cy="76320"/>
          </a:xfrm>
          <a:prstGeom prst="flowChartTerminator">
            <a:avLst/>
          </a:prstGeom>
          <a:solidFill>
            <a:srgbClr val="007a77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杂文：是一种直接、迅速反映社会事变或动向的文艺性论文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特点：“杂而有文”，短小、锋利、隽永，富于文艺工作者色彩和诗的语言，具有独特的艺术感染力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066680"/>
            <a:ext cx="8229600" cy="76320"/>
          </a:xfrm>
          <a:prstGeom prst="flowChartTerminator">
            <a:avLst/>
          </a:prstGeom>
          <a:solidFill>
            <a:srgbClr val="007a77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533160" y="304920"/>
            <a:ext cx="259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文体常识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259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文体常识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15652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国文学史上第一个提出“杂文”这个概念，并把它当作一种独立的文体的人，是南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艺理论家刘勰。《文心雕龙》中专门写了题名“杂文”的一章，总结前人的杂文创作情况，并总括其名为“杂文”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唐宋时科举考试项目之一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《新唐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选举志上》：“乃诏自今明经试帖粗十得六以上，进士试杂文二篇，通文律者然后试策。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066680"/>
            <a:ext cx="8229600" cy="76320"/>
          </a:xfrm>
          <a:prstGeom prst="flowChartTerminator">
            <a:avLst/>
          </a:prstGeom>
          <a:solidFill>
            <a:srgbClr val="007a77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者认为，语言表达的“八字方针”是什么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有物、切题、真实、适量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066680"/>
            <a:ext cx="8229600" cy="76320"/>
          </a:xfrm>
          <a:prstGeom prst="flowChartTerminator">
            <a:avLst/>
          </a:prstGeom>
          <a:solidFill>
            <a:srgbClr val="007a77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228600"/>
            <a:ext cx="2057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黑体"/>
              </a:rPr>
              <a:t>研读课文</a:t>
            </a:r>
            <a:br>
              <a:rPr sz="3600"/>
            </a:b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2057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黑体"/>
              </a:rPr>
              <a:t>理清思路</a:t>
            </a:r>
            <a:br>
              <a:rPr sz="3600"/>
            </a:b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40640" cy="419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部分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开门见山，提出论点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部分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末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分四个层次论述“八字方针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066680"/>
            <a:ext cx="8229600" cy="76320"/>
          </a:xfrm>
          <a:prstGeom prst="flowChartTerminator">
            <a:avLst/>
          </a:prstGeom>
          <a:solidFill>
            <a:srgbClr val="007a77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案例：《祥林嫂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038480" y="1905120"/>
            <a:ext cx="4381560" cy="33955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57200" y="1066680"/>
            <a:ext cx="8229600" cy="76320"/>
          </a:xfrm>
          <a:prstGeom prst="flowChartTerminator">
            <a:avLst/>
          </a:prstGeom>
          <a:solidFill>
            <a:srgbClr val="007a77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228600"/>
            <a:ext cx="2057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黑体"/>
              </a:rPr>
              <a:t>深入探讨</a:t>
            </a:r>
            <a:br>
              <a:rPr sz="3600"/>
            </a:b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10-09T15:02:51Z</dcterms:modified>
  <cp:revision>8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