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gif" ContentType="image/gif"/>
  <Override PartName="/ppt/media/CAMERA.WAV" ContentType="audio/x-wav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145E-3258-4767-930D-15AD6FEDC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BB63-7E13-420E-94B9-27CF61396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31D1-7322-43B2-85F4-81B3D3B36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23D1-F9D3-4199-B9CC-5FA212908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C477-4349-4E77-806C-65ED2A0EB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C241-AEEB-4E6E-8714-3FBBF6C87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AE9B-6B87-466D-AFED-19F6CA9E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2193-BB07-428A-9FF7-48D4FB62B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163C-B50D-42BF-AE2E-B21C8A89B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FF08-8155-45EA-8319-D3CA9F43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49B1-DE34-4255-9A09-BDB53EA6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75C7-D5C0-4D74-A4F3-D86B24C8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DD5DC-59DE-4E42-88A8-C94E2AA7B31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11280" y="115920"/>
            <a:ext cx="7416720" cy="3682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808080"/>
                </a:solidFill>
                <a:latin typeface="Arial"/>
              </a:rPr>
              <a:t>教育部高职高专规划教材     实用语文（第三版）第一册教辅课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图片 3" descr=""/>
          <p:cNvPicPr/>
          <p:nvPr/>
        </p:nvPicPr>
        <p:blipFill>
          <a:blip r:embed="rId4"/>
          <a:stretch/>
        </p:blipFill>
        <p:spPr>
          <a:xfrm>
            <a:off x="0" y="0"/>
            <a:ext cx="719280" cy="71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5.xml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" Target="slide18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58920" y="1700280"/>
            <a:ext cx="2135160" cy="44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第四单元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2362320"/>
            <a:ext cx="414036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文言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1403280" y="1773360"/>
            <a:ext cx="6913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林觉民是黄花冈七十二烈士之一，这封信是在起义前三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日即农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日夜四更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写给妻子陈意映的一封绝笔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这封绝笔信中，作者诚挚地表达了对革命势力、事业的热诚和对妻子的至爱，同时也深刻地阐明了个人的爱情和幸福同革命事业、全体人民的幸福紧密相联，有主有从的辩证关系；表白了他作为一名坚定的民主主义革命志士的革命人生观；体现了作者舍身为人民的崇高精神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692280"/>
            <a:ext cx="810072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重点词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63640" y="1744560"/>
            <a:ext cx="339408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称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心快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几家能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必不能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使之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肖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依依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汝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</a:t>
            </a:r>
            <a:r>
              <a:rPr b="1" lang="zh-CN" sz="4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4716360" y="181620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chè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4788000" y="24652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gò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4788000" y="3184560"/>
            <a:ext cx="129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jī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4716360" y="390528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xià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5076720" y="472428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bà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4768920" y="5518080"/>
            <a:ext cx="18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tò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755640" y="17002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汝幸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4427640" y="1523880"/>
            <a:ext cx="42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名词“偶”用作动词，“嫁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826920" y="234936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吾老以及人之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4284720" y="2133720"/>
            <a:ext cx="4541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前“老”为形作动，“尊敬”，后“老”作名词，“老人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826920" y="3429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幼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吾幼以及人之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4284720" y="3429000"/>
            <a:ext cx="462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前“幼”为形作动，“爱怜”，后“幼”为名词，“孩童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755640" y="479736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称心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快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4500720" y="4724280"/>
            <a:ext cx="4038480" cy="12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快”，使动，使意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1362240" y="5589720"/>
            <a:ext cx="202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卒不忍独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其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3995640" y="551664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善，形容词作动词，保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词类活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900000" y="1268280"/>
            <a:ext cx="76327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其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〖代词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第三人称代词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他（她、它）（们）（的）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时活用为第一人称代词  “自己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指示代词    “这”“那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〖副词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将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反诘  “难道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祈使  “一定”“要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〖连词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表假设   “如果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选择   “是……还是……”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〖助词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无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3428640" y="-360"/>
            <a:ext cx="259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一词多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99640" y="1267920"/>
            <a:ext cx="7559640" cy="157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"/>
              </a:rPr>
              <a:t>吾作此书，泪珠和笔墨齐下，不能竟书而欲搁笔，又恐汝不察吾衷，谓吾忍舍汝而死，谓吾不知汝不欲吾死也，故遂忍悲为汝言之。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5280" y="3141360"/>
            <a:ext cx="755820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我写这封信时，泪珠和笔墨一起洒落下来，不忍写完而想搁笔，又担心你不能体察我的心情，以为我忍心抛弃你而去死，以为我不了解你是多么不想我死去（希望我活下去），所以就强忍着悲痛给你写下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81400" y="4446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参考译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99640" y="1268280"/>
            <a:ext cx="7634520" cy="198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然遍地腥云，满街狼犬，称心如意，几家能彀？司马青衫，吾不能学太上之忘情也。语云：仁者“老吾老，以及人之老；幼吾幼，以及人之幼”。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26560" y="3357360"/>
            <a:ext cx="7488360" cy="292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然而遍地是腥血，满街是狼犬，有几家能够称心快意地过日子呢？（人民的灾难使我像）白居易那样泪湿青衫，我不能学古代圣人那样忘情。古语说：有仁爱心肠的人“尊敬我家里的长辈，从而推广到尊敬别人家里的长辈；爱护我家里的儿女，从而推广到爱护别人家里的儿女”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81400" y="4446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参考译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9880" y="1267920"/>
            <a:ext cx="761976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吾尝语曰：“与使吾先死也，无宁汝先吾而死。”汝初闻言而怒，后经吾婉解，虽不谓吾言为是，而亦无词相答。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99640" y="3357360"/>
            <a:ext cx="74883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我曾经告诉你说：“与其我先死，不如你比我先死（在我之前而死），你开始听了发怒，后来经过我委婉的解释，你虽然不认为我的话是对的，但也无言回答我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81400" y="4446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参考译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560" y="1267920"/>
            <a:ext cx="7705800" cy="22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"/>
              </a:rPr>
              <a:t>吾诚愿与汝相守以死，第以今日事势观之，天灾可以死，盗贼可以死，瓜分之日可以死，奸官污吏虐民可以死，吾辈处今日之中国，国中无地无时不可以死，到那时使吾眼睁睁看汝死，或使汝眼睁睁看我死，吾能之乎？抑汝能之乎？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1280" y="3357720"/>
            <a:ext cx="7740720" cy="281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确实是希望跟你共同生活到老，但拿今天的形势看来，天灾能够造成死亡，盗贼能够造成死亡，国家被列强瓜分那天起能够造成死亡，贪官污吏虐待平民百姓能够造成死亡，我们这代人身处今天的中国，国内每个地方，每时每刻，都可能造成死亡，到那个时候使我眼睁睁看你死，或者让你眼睁睁看我死，我能这样做么？还是你能这样做么？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81400" y="4446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参考译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00000" y="1267920"/>
            <a:ext cx="7575840" cy="165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"/>
              </a:rPr>
              <a:t>天下人之不当死而死与不愿离而离者，不可数计，钟情如我辈者，能忍之乎？此吾所以敢率性就死不顾汝也。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96400" y="3026880"/>
            <a:ext cx="7488360" cy="28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全国人民中不当死而死（不应当死却死了）、不愿分离而被迫分离的，多得不能用数字来计算。像我们这样感情浓挚的人，能忍看这种（惨状）吗？这就是我断然干脆地（果断勇敢地）（为革命而）死、舍你不顾的原因。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81400" y="4446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参考译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16000" y="1413000"/>
            <a:ext cx="73548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今人又言心电感应有道，吾亦望其言是实，则吾之死，吾灵尚依依旁汝也，汝不必以无侣悲。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1280" y="357336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现在有人提出（死人和活人之间）有心电感应的现象，我也希望他们说的是事实，那么我死后，我的灵魂还依偎在你身旁，你不必因为失去伴侣而悲痛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81400" y="4446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参考译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3"/>
          <p:cNvSpPr/>
          <p:nvPr/>
        </p:nvSpPr>
        <p:spPr>
          <a:xfrm>
            <a:off x="5508720" y="357336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林觉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4" descr="林觉民"/>
          <p:cNvPicPr/>
          <p:nvPr/>
        </p:nvPicPr>
        <p:blipFill>
          <a:blip r:embed="rId2"/>
          <a:stretch/>
        </p:blipFill>
        <p:spPr>
          <a:xfrm>
            <a:off x="900000" y="1268280"/>
            <a:ext cx="3456000" cy="47991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6"/>
          <p:cNvSpPr/>
          <p:nvPr/>
        </p:nvSpPr>
        <p:spPr>
          <a:xfrm>
            <a:off x="4827600" y="4005360"/>
            <a:ext cx="471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40360" y="1483920"/>
            <a:ext cx="43178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与妻书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15640" y="1197000"/>
            <a:ext cx="720108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吾平生未尝以吾所志语汝，是吾不是处；然语之又恐汝日日为吾担忧。吾牺牲百死而不辞，而使汝担忧，的的非吾所思。吾爱汝至，所以为汝体者唯恐未尽。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55640" y="3284280"/>
            <a:ext cx="7772400" cy="307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平日从没有把我的志向告诉你，是我不对的地方；然而告诉了你，又恐怕你天天为我担忧。我（对于）牺牲，（即使是）死一百次我都不会推辞，可是让你为此担忧，确确实实不是我能忍心的。我爱你到了极点，所以为你考虑的只怕不周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81400" y="4446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参考译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img49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467480" y="6423120"/>
            <a:ext cx="1616040" cy="4348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1258920" y="1844640"/>
            <a:ext cx="7335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一部分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：说明与妻书的原因和心情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汝永别”，“忍悲为汝言之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1258920" y="3357720"/>
            <a:ext cx="75042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二部分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-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：阐述“吾至爱汝，即此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汝一念，使吾勇于就死也”的情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1258920" y="4869000"/>
            <a:ext cx="7431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三部分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-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：再诉“吾不能舍汝”的永别的哀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1476360" y="411120"/>
            <a:ext cx="676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梳理结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99640" y="3068280"/>
            <a:ext cx="7417080" cy="19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"/>
              </a:rPr>
              <a:t>吾至爱汝，即此爱汝一念，使吾勇于就死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2050920" y="1413000"/>
            <a:ext cx="4681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cc3300"/>
                </a:solidFill>
                <a:latin typeface="黑体"/>
                <a:ea typeface="黑体"/>
              </a:rPr>
              <a:t>全文中心句是哪一句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973080" y="620640"/>
            <a:ext cx="381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1476360" y="404640"/>
            <a:ext cx="676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合作探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692360" y="4076640"/>
            <a:ext cx="5905440" cy="20224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1042920" y="2852640"/>
            <a:ext cx="6696000" cy="116928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写遗书的原因：“吾今以此书与汝永别矣。”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表死别之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写遗书时的心情：故遂忍悲为汝言       之。  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悲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1187280" y="1341360"/>
            <a:ext cx="72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读第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段，作者写《与妻书》的原因是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当时的心情如何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1476360" y="404640"/>
            <a:ext cx="676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合作探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971640" y="213372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读第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—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段，请用简洁的语言概括这两段中所追忆的夫妇生活中三件事，并分析作者追忆这三件事的目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187280" y="4221000"/>
            <a:ext cx="4824720" cy="58140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汝忆否、回忆、又回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1116000" y="333360"/>
            <a:ext cx="676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合作探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900000" y="2495880"/>
            <a:ext cx="576360" cy="106884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三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2771640" y="1558800"/>
            <a:ext cx="1981440" cy="52056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夫妻谁先死的谈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2843280" y="3029040"/>
            <a:ext cx="2109600" cy="52056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新婚的甜蜜生活情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2843280" y="4659480"/>
            <a:ext cx="2185920" cy="137376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次离家未能将实情告诉妻子的原因和心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6324480" y="2437920"/>
            <a:ext cx="2438640" cy="137376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对妻子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黑体"/>
              </a:rPr>
              <a:t>眷念之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为妻子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黑体"/>
              </a:rPr>
              <a:t>着想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所不至”，用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黑体"/>
              </a:rPr>
              <a:t>事实说明自己绝不是一个无情的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5410080" y="1371600"/>
            <a:ext cx="503280" cy="57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5334120" y="2971800"/>
            <a:ext cx="503280" cy="57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5334120" y="4800600"/>
            <a:ext cx="503280" cy="57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6400800" y="5029200"/>
            <a:ext cx="205740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论说“吾至爱汝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6"/>
          <p:cNvSpPr/>
          <p:nvPr/>
        </p:nvSpPr>
        <p:spPr>
          <a:xfrm>
            <a:off x="539640" y="429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1116000" y="333360"/>
            <a:ext cx="676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合作探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08000" y="1557360"/>
            <a:ext cx="432000" cy="4103640"/>
          </a:xfrm>
          <a:custGeom>
            <a:avLst/>
            <a:gdLst>
              <a:gd name="textAreaLeft" fmla="*/ 276120 w 432000"/>
              <a:gd name="textAreaRight" fmla="*/ 432360 w 432000"/>
              <a:gd name="textAreaTop" fmla="*/ 106920 h 4103640"/>
              <a:gd name="textAreaBottom" fmla="*/ 399672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3"/>
          <p:cNvSpPr/>
          <p:nvPr/>
        </p:nvSpPr>
        <p:spPr>
          <a:xfrm>
            <a:off x="395280" y="3072960"/>
            <a:ext cx="217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论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就死”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2340000" y="2201760"/>
            <a:ext cx="2003400" cy="52056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当时国家腐败，社会黑暗，灾难深重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2590920" y="3894480"/>
            <a:ext cx="1676160" cy="94716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假设了人们命运的两种情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5219640" y="3793320"/>
            <a:ext cx="982800" cy="52056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死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5257800" y="4545720"/>
            <a:ext cx="1092240" cy="52056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离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7676640" y="1413000"/>
            <a:ext cx="606960" cy="49528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启发妻子深思，让妻子理解、谅解自己的行为和心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11"/>
          <p:cNvSpPr/>
          <p:nvPr/>
        </p:nvSpPr>
        <p:spPr>
          <a:xfrm>
            <a:off x="4572000" y="3933720"/>
            <a:ext cx="433440" cy="360360"/>
          </a:xfrm>
          <a:prstGeom prst="rightArrow">
            <a:avLst>
              <a:gd name="adj1" fmla="val 50000"/>
              <a:gd name="adj2" fmla="val 300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12"/>
          <p:cNvSpPr/>
          <p:nvPr/>
        </p:nvSpPr>
        <p:spPr>
          <a:xfrm>
            <a:off x="4572000" y="4648320"/>
            <a:ext cx="433440" cy="360360"/>
          </a:xfrm>
          <a:prstGeom prst="rightArrow">
            <a:avLst>
              <a:gd name="adj1" fmla="val 50000"/>
              <a:gd name="adj2" fmla="val 300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13"/>
          <p:cNvSpPr/>
          <p:nvPr/>
        </p:nvSpPr>
        <p:spPr>
          <a:xfrm>
            <a:off x="6659640" y="1700280"/>
            <a:ext cx="287280" cy="3744720"/>
          </a:xfrm>
          <a:custGeom>
            <a:avLst/>
            <a:gdLst>
              <a:gd name="textAreaLeft" fmla="*/ 0 w 287280"/>
              <a:gd name="textAreaRight" fmla="*/ 103680 w 287280"/>
              <a:gd name="textAreaTop" fmla="*/ 97560 h 3744720"/>
              <a:gd name="textAreaBottom" fmla="*/ 3647160 h 37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14" descr="a04-fu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 flipH="1" rot="10800000">
            <a:off x="468360" y="6324480"/>
            <a:ext cx="623880" cy="763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1"/>
          <p:cNvSpPr/>
          <p:nvPr/>
        </p:nvSpPr>
        <p:spPr>
          <a:xfrm>
            <a:off x="1116000" y="333360"/>
            <a:ext cx="676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合作探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79640" y="1773360"/>
            <a:ext cx="288720" cy="3240000"/>
          </a:xfrm>
          <a:custGeom>
            <a:avLst/>
            <a:gdLst>
              <a:gd name="textAreaLeft" fmla="*/ 184680 w 288720"/>
              <a:gd name="textAreaRight" fmla="*/ 289080 w 288720"/>
              <a:gd name="textAreaTop" fmla="*/ 84240 h 3240000"/>
              <a:gd name="textAreaBottom" fmla="*/ 3155760 h 32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55640" y="155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此处提出“一嘱”“三愿”，请列出，并说说表现出何种感情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6000" y="3141360"/>
            <a:ext cx="765504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嘱：     嘱咐后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愿：     一愿九泉之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哭相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愿真有鬼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愿心电感应有道，是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感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说出志愿，再表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吾至爱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之衷情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1116000" y="333360"/>
            <a:ext cx="676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合作探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4"/>
          <p:cNvSpPr/>
          <p:nvPr/>
        </p:nvSpPr>
        <p:spPr>
          <a:xfrm>
            <a:off x="1116000" y="1628640"/>
            <a:ext cx="7343640" cy="27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读第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段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汝幸而偶我，又何不幸而生今日之中国！吾幸而得汝，又何不幸而生今日之中国！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卒不忍独善其身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幸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不幸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分别指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826920" y="4149720"/>
            <a:ext cx="77058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"/>
              </a:rPr>
              <a:t>幸”，夫妻恩爱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"/>
              </a:rPr>
              <a:t>不幸”，国难当头，“忍舍汝而死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1116000" y="333360"/>
            <a:ext cx="676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合作探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732720" y="1773360"/>
            <a:ext cx="1871640" cy="504720"/>
          </a:xfrm>
          <a:prstGeom prst="wedgeRoundRectCallout">
            <a:avLst>
              <a:gd name="adj1" fmla="val -97583"/>
              <a:gd name="adj2" fmla="val 11289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全文总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9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4"/>
          <p:cNvSpPr/>
          <p:nvPr/>
        </p:nvSpPr>
        <p:spPr>
          <a:xfrm>
            <a:off x="1042920" y="1700280"/>
            <a:ext cx="7274160" cy="34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、读第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段，如何理解“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当尽吾意为幸。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希望妻子透彻了解遗书的意思，也就是全文的中心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——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吾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吾至爱汝，即此爱汝一念，使吾勇于就死也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1"/>
          <p:cNvSpPr/>
          <p:nvPr/>
        </p:nvSpPr>
        <p:spPr>
          <a:xfrm>
            <a:off x="1116000" y="333360"/>
            <a:ext cx="676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合作探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042560" y="1557000"/>
            <a:ext cx="75596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习目标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ts val="1199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、了解作者和写作背景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ts val="4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、掌握其中的文言词语，能流畅翻译特殊句式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ts val="4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、学习革命前辈牺牲一己，“为天下谋永福”的光辉思想和高尚情操。感受林觉民的家国之情，培养自己的爱国情怀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ts val="4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ts val="2999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411280" y="533160"/>
            <a:ext cx="536112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小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76000" y="1916280"/>
            <a:ext cx="6838920" cy="33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贯穿全文一个“情”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"/>
              </a:rPr>
              <a:t>对妻子的爱恋和怀念之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"/>
              </a:rPr>
              <a:t>死别的悲哀和伤痛之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"/>
              </a:rPr>
              <a:t>对黑暗现实的愤懑之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"/>
              </a:rPr>
              <a:t>献身革命的豪迈之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1987920" y="5257800"/>
            <a:ext cx="37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（儿女情长，英雄志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2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900000" y="1557360"/>
            <a:ext cx="74358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白居易《琵琶行》：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座中泣下谁最多？江州司马青衫湿。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诗中写白居易听琵琶女弹奏琵琶曲，深受乐曲的感染，联想到自己被贬的不幸遭遇，十分感伤，落下的泪水打湿了青布衫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林觉民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司马青衫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典故，表达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下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幸遭遇的深切同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典故（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）“司马青衫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1116000" y="1700280"/>
            <a:ext cx="7129440" cy="30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语出《世说新语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·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伤逝》。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圣人忘情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后世多作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太上忘情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意思是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圣明的人忘记了喜怒哀乐之情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林觉民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吾不能学太上之忘情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意在表达自己关心民众的痛苦，与人民的感情息息相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典故（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）“太上之忘情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0" y="0"/>
            <a:ext cx="914400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典故（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）“老吾老，以及人之老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幼吾幼，以及人之幼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00000" y="1628640"/>
            <a:ext cx="34578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语出《孟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梁惠王上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者引用这句话，意在表示，自己要把爱妻子的感情推广到爱“天下人”，为“天下人”的幸福，宁可牺牲自己的一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427640" y="2349360"/>
            <a:ext cx="4024080" cy="32893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971640" y="2133720"/>
            <a:ext cx="748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36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语出杜甫《寄越州贾司马六丈巴州严八使君两阁老五十韵》：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归好肠堪断，新愁眼欲穿。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望眼欲穿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化用。意思是极目远望，眼睛都快要破了，形容盼望非常急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66800" y="549360"/>
            <a:ext cx="281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典故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）“眼成穿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3"/>
          <p:cNvSpPr/>
          <p:nvPr/>
        </p:nvSpPr>
        <p:spPr>
          <a:xfrm>
            <a:off x="971640" y="2060640"/>
            <a:ext cx="741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36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语出南朝宋刘义庆《幽明录》：“武昌北山有望夫石，状若人立。古传云：昔有贞妇，其夫从役，远赴国难，携弱子饯送北山，立望夫而化为立石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林觉民用这个典故，意在说明在当时的社会条件下，夫妻离散，相见无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94480" y="547560"/>
            <a:ext cx="24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典故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）“骨化石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900000" y="1773360"/>
            <a:ext cx="73440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36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仿宋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破镜重圆”事见唐•孟棨《本事诗•情感》，记载南朝陈公主乐昌公主与驸马战后凭借铜镜重圆之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者反用“破镜重圆”的典故，意在说明在反动统治者肆虐的中国，夫妻离散，永无团圆之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83320" y="476280"/>
            <a:ext cx="330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典故（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）“破镜能重圆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3"/>
          <p:cNvSpPr/>
          <p:nvPr/>
        </p:nvSpPr>
        <p:spPr>
          <a:xfrm>
            <a:off x="755640" y="2205000"/>
            <a:ext cx="777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36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语出《孟子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</a:rPr>
              <a:t>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尽心上》：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穷则独善其身，达则兼善天下。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意思是处于困窘的境地，也要搞好自身的修养。后用来指保持自身的节操；只顾自身好而不顾大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林觉民说自己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忍独善其身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表明了他心系国家、人民的伟大胸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61600" y="476280"/>
            <a:ext cx="30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典故（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7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）“独善其身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971640" y="2133720"/>
            <a:ext cx="712944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抒情、记叙、议论相结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其情深挚，其理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种修辞，富有感情色彩的词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加强表现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216320" y="504720"/>
            <a:ext cx="130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艺术手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900000" y="549360"/>
            <a:ext cx="5977080" cy="45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结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文是一篇以写情为主、情理结合的记叙文。全文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忍悲为汝言吾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吾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线索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结合叙情忆事，进行深刻的说理，阐明了本文的中心思想─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吾至爱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吾充吾爱汝之心，助天下人爱其所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从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吾勇于就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敢先汝而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进而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汝不必以无侣为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6659640" y="1484280"/>
            <a:ext cx="1738080" cy="33735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林觉民与妻书"/>
          <p:cNvPicPr/>
          <p:nvPr/>
        </p:nvPicPr>
        <p:blipFill>
          <a:blip r:embed="rId2"/>
          <a:stretch/>
        </p:blipFill>
        <p:spPr>
          <a:xfrm>
            <a:off x="1187280" y="1341360"/>
            <a:ext cx="6913800" cy="3732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" name="Rectangle 3"/>
          <p:cNvSpPr/>
          <p:nvPr/>
        </p:nvSpPr>
        <p:spPr>
          <a:xfrm>
            <a:off x="2771640" y="515772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林觉民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妻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原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作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42920" y="1844280"/>
            <a:ext cx="741528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收集黄花岗七十二烈士其他人的材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给自己最重要的亲人或朋友写一封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971640" y="1268280"/>
            <a:ext cx="6659640" cy="4994280"/>
          </a:xfrm>
          <a:prstGeom prst="rect">
            <a:avLst/>
          </a:prstGeom>
          <a:ln w="0">
            <a:noFill/>
          </a:ln>
        </p:spPr>
      </p:pic>
      <p:sp>
        <p:nvSpPr>
          <p:cNvPr id="53" name="">
            <a:hlinkClick r:id="rId3" action="ppaction://hlinksldjump"/>
          </p:cNvPr>
          <p:cNvSpPr/>
          <p:nvPr/>
        </p:nvSpPr>
        <p:spPr>
          <a:xfrm>
            <a:off x="7427160" y="765000"/>
            <a:ext cx="1716840" cy="576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华文行楷"/>
              </a:rPr>
              <a:t>被誉为天下第一情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561000" y="549360"/>
            <a:ext cx="45900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黄花岗七十二烈士墓(彩)"/>
          <p:cNvPicPr/>
          <p:nvPr/>
        </p:nvPicPr>
        <p:blipFill>
          <a:blip r:embed="rId2"/>
          <a:stretch/>
        </p:blipFill>
        <p:spPr>
          <a:xfrm>
            <a:off x="900000" y="1268280"/>
            <a:ext cx="6451560" cy="4491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7667640" y="1413000"/>
            <a:ext cx="609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花岗七十二烈士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826920" y="4581360"/>
            <a:ext cx="7561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孙中山 《黄花岗七十二烈士事略序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是役也，碧血横飞，浩气四塞，草木为之含悲，风云因而变色” “斯役之价值，直可惊天地，泣鬼神，与武昌革命之役并寿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71640" y="465300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林觉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3348000" y="1268280"/>
            <a:ext cx="5724720" cy="49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林觉民。字意洞，号抖飞，又号天外生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福建闽侯人。黄花岗七十二烈士之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国内求学——接受新思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“中国非革命无以自强”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日本留学——参加同盟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“中国危殆至此，男儿死就死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了，何必效新亭对泣，凡是有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气的男子，怎么能坐视第二次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国的惨状呢？”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参加广州起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黄花岗七十二烈士之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“革命前仆后继，决无退却之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说！不可失信于海外侨胞和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内同胞。”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1332000" y="5300640"/>
            <a:ext cx="15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(1887-191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900000" y="1268280"/>
            <a:ext cx="2414880" cy="3384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林觉民一家"/>
          <p:cNvPicPr/>
          <p:nvPr/>
        </p:nvPicPr>
        <p:blipFill>
          <a:blip r:embed="rId2"/>
          <a:stretch/>
        </p:blipFill>
        <p:spPr>
          <a:xfrm>
            <a:off x="971640" y="1341360"/>
            <a:ext cx="6337080" cy="4734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3"/>
          <p:cNvSpPr/>
          <p:nvPr/>
        </p:nvSpPr>
        <p:spPr>
          <a:xfrm>
            <a:off x="7596360" y="1844640"/>
            <a:ext cx="647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谢家在福州的住所。原系辛亥革命志士林觉民故居，后由冰心祖父租来居住，童年的冰心曾在此住过两年。"/>
          <p:cNvPicPr/>
          <p:nvPr/>
        </p:nvPicPr>
        <p:blipFill>
          <a:blip r:embed="rId2"/>
          <a:stretch/>
        </p:blipFill>
        <p:spPr>
          <a:xfrm>
            <a:off x="971640" y="1268280"/>
            <a:ext cx="6049800" cy="39085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2159280" y="5229360"/>
            <a:ext cx="274104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辛亥革命志士林觉民故居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童年的冰心曾在此住过两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7596360" y="1844640"/>
            <a:ext cx="647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旧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4T08:43:00Z</dcterms:created>
  <dc:creator>胡婵莲</dc:creator>
  <dc:description/>
  <cp:keywords/>
  <dc:language>en-US</dc:language>
  <cp:lastModifiedBy>user</cp:lastModifiedBy>
  <dcterms:modified xsi:type="dcterms:W3CDTF">2017-10-15T10:16:41Z</dcterms:modified>
  <cp:revision>193</cp:revision>
  <dc:subject/>
  <dc:title>与妻书课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7</vt:lpwstr>
  </property>
</Properties>
</file>