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415280" y="6353280"/>
            <a:ext cx="1728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11280" y="1268280"/>
            <a:ext cx="7920000" cy="5185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017360" y="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00"/>
                </a:solidFill>
                <a:latin typeface="Arial"/>
                <a:ea typeface="楷体_GB2312"/>
              </a:rPr>
              <a:t>实用语文（第一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第四单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08000" y="692280"/>
            <a:ext cx="208944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现当代诗歌一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再别康桥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611280" y="2421000"/>
            <a:ext cx="7520040" cy="34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    “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康桥的灵性全在一条河上；康河，我敢说是全世界最秀丽的一条水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                ——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徐志摩《我所知道的康桥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116000" y="1052640"/>
            <a:ext cx="6696000" cy="5570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527120" y="51577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剑桥大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116000" y="1052640"/>
            <a:ext cx="4519800" cy="3382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419640" y="3068640"/>
            <a:ext cx="4895640" cy="32432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80499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配乐诵读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，感受诗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92360" y="2852640"/>
            <a:ext cx="561636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青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xìng)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长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gāo)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浮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zǎo)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漫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sù)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斓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lán)   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shē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758320" y="404640"/>
            <a:ext cx="292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自主诵读，缘景明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5640" y="1557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、找出本文的意象，讨论：选择这些意象有什么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6360" y="3068640"/>
            <a:ext cx="6753240" cy="18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云彩，金柳，柔波，青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青草，星辉等自然景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76360" y="501336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基调：依依惜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984240" y="1484280"/>
            <a:ext cx="3273480" cy="3745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427640" y="2060640"/>
            <a:ext cx="4184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轻轻的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走了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正如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轻轻的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轻轻的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招手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作别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西天的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云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51960" y="5516640"/>
            <a:ext cx="2100960" cy="6426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挥手作别云彩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深入感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84240" y="1484280"/>
            <a:ext cx="3273480" cy="37450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-4623120"/>
            <a:ext cx="76320" cy="1207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00720" y="1268280"/>
            <a:ext cx="39589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和别的离别诗比较，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送别的对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有什么不一样呢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27640" y="2637000"/>
            <a:ext cx="392436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----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般离别诗离别的是人，这首诗离别的却不是人，是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西天的云彩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，告别对象由人间向自然景物转移，跳出了寒喧叮咛的俗套，给人清新飘逸之感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47640" y="53532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挥手作别云彩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深入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深入感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920" y="2276280"/>
            <a:ext cx="7561440" cy="3889080"/>
          </a:xfrm>
          <a:prstGeom prst="rect">
            <a:avLst/>
          </a:prstGeom>
          <a:solidFill>
            <a:srgbClr val="ffffff">
              <a:alpha val="7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实写只身悄悄来到和离开康桥时的情景，使我们仿佛感受到诗人踮着足尖，象一股清风一样来了，又悄无声息地荡去；而那至深的情丝，竟在招手之间，幻成了“西天的云彩。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透露了对康桥依依不舍的淡淡忧愁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并且以轻微跳跃的节奏，衬托了缓步飘然而去的形象，给全诗定下哀而不伤抒情的基调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31240" y="1484280"/>
            <a:ext cx="359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连用三个“轻轻的”，有什么好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042920" y="1413000"/>
            <a:ext cx="3289320" cy="38876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-4699440"/>
            <a:ext cx="76320" cy="1207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27640" y="1916280"/>
            <a:ext cx="4311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隶书"/>
              </a:rPr>
              <a:t>那河畔的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隶书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隶书"/>
              </a:rPr>
              <a:t>金柳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隶书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隶书"/>
              </a:rPr>
              <a:t>是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隶书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隶书"/>
              </a:rPr>
              <a:t>夕阳中的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隶书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隶书"/>
              </a:rPr>
              <a:t>新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隶书"/>
              </a:rPr>
              <a:t>波光里的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隶书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隶书"/>
              </a:rPr>
              <a:t>艳影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隶书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隶书"/>
              </a:rPr>
              <a:t>在我的心头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隶书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隶书"/>
              </a:rPr>
              <a:t>荡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02240" y="624600"/>
            <a:ext cx="2009520" cy="7034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黑体"/>
              </a:rPr>
              <a:t>河畔的金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19280" y="54450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河畔金柳倒影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深入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00000" y="1484280"/>
            <a:ext cx="3289320" cy="388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-4699440"/>
            <a:ext cx="76320" cy="1207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22200" y="1703880"/>
            <a:ext cx="2009520" cy="7034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河畔的金柳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30040" y="3860640"/>
            <a:ext cx="606960" cy="10810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11111"/>
                </a:solidFill>
                <a:latin typeface="Times New Roman"/>
                <a:ea typeface="黑体"/>
              </a:rPr>
              <a:t>比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4076640"/>
            <a:ext cx="2736720" cy="520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夕阳中的新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45400" y="5013360"/>
            <a:ext cx="1674360" cy="9471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Times New Roman"/>
                <a:ea typeface="黑体"/>
              </a:rPr>
              <a:t>无限欢喜和眷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Times New Roman"/>
                <a:ea typeface="黑体"/>
              </a:rPr>
              <a:t>感情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47640" y="54450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河畔金柳倒影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35640" y="2785320"/>
            <a:ext cx="2879640" cy="9471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柳”——“留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有惜别的含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深入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4067280" cy="36082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4699440"/>
            <a:ext cx="76320" cy="1207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13200" y="1844640"/>
            <a:ext cx="4330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隶书"/>
              </a:rPr>
              <a:t>软泥上的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隶书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隶书"/>
              </a:rPr>
              <a:t>青荇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隶书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隶书"/>
              </a:rPr>
              <a:t>油油的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隶书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隶书"/>
              </a:rPr>
              <a:t>在水底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隶书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隶书"/>
              </a:rPr>
              <a:t>招摇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隶书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隶书"/>
              </a:rPr>
              <a:t>在康河的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隶书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隶书"/>
              </a:rPr>
              <a:t>柔波里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隶书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隶书"/>
              </a:rPr>
              <a:t>我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隶书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隶书"/>
              </a:rPr>
              <a:t>甘心做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隶书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隶书"/>
              </a:rPr>
              <a:t>一条水草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92360" y="5229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青草水底招摇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深入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187280" y="2349360"/>
            <a:ext cx="6409080" cy="324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4500720" y="0"/>
          <a:ext cx="1641240" cy="2394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00720" y="0"/>
                    <a:ext cx="1641240" cy="23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3076560" cy="31687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4699440"/>
            <a:ext cx="76320" cy="1207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2060640"/>
            <a:ext cx="54864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那榆阴下的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潭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不是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清泉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是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天上虹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揉碎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浮藻间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沉淀着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彩虹似的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梦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87280" y="51577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榆阴浮藻清潭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深入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72880" y="5232960"/>
            <a:ext cx="2619000" cy="7034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欢喜和眷恋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之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938400" cy="4003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72000" y="1844640"/>
            <a:ext cx="4572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寻梦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?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撑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一支长篙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向青草更青处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漫溯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满载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一船星辉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在星辉斑斓里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放歌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03640" y="4980240"/>
            <a:ext cx="3168720" cy="10688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留连忘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感情达到了高潮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92360" y="55897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撑篙漫溯寻梦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深入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3745080" cy="36021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50920" y="1773360"/>
            <a:ext cx="482436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但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我不能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放歌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悄悄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是别离的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笙箫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夏虫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也为我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沉默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沉默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是今晚的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康桥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9067680" y="-4067640"/>
            <a:ext cx="76320" cy="829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35400" y="4580280"/>
            <a:ext cx="1155960" cy="18104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依恋、无奈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惆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情绪低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18200" y="551664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黑体"/>
              </a:rPr>
              <a:t>黄昏夏虫沉默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深入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4033800" cy="3821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-4623120"/>
            <a:ext cx="76320" cy="1207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88000" y="1628640"/>
            <a:ext cx="4356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悄悄的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我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走了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正如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我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悄悄的来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我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挥一挥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衣袖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不带走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一片云彩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2360" y="5516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招手惜别云彩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32360" y="4872600"/>
            <a:ext cx="3456000" cy="10688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依依不舍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情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洒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深入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916360" y="2893680"/>
            <a:ext cx="568944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选择这些意象有什么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诗人告别康桥时，避开送行的人，周围的高楼大厦，车水马龙等平常物象，而选取云彩，金柳，柔波，青荇，青草，星辉等自然景物，这就避开了人间烟火，造出一种清新感。同时，借景抒情，融情入景，抒发了对康桥的无限欣喜和眷念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2203200" cy="3960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深入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14400" y="5410080"/>
            <a:ext cx="28195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依依不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挥手作别云彩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19320" y="4114800"/>
            <a:ext cx="26226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欢喜和眷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河畔金柳倒影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2819520"/>
            <a:ext cx="3784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康桥的永久恋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青草水底招摇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76360" y="1523880"/>
            <a:ext cx="3813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更加欢喜和眷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榆阴浮藻清潭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457200"/>
            <a:ext cx="29527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感情达到高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撑篙漫溯寻梦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2971800"/>
            <a:ext cx="32004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情绪低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黄昏夏虫沉默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43600" y="5105520"/>
            <a:ext cx="25909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依依不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招手惜别云彩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 rot="5400000">
            <a:off x="-2144520" y="2827080"/>
            <a:ext cx="5553000" cy="50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cap="rnd" w="936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  <a:solidFill>
                  <a:srgbClr val="ff0000"/>
                </a:solidFill>
                <a:latin typeface="宋体"/>
              </a:rPr>
              <a:t>意境，情趣与意象的融合</a:t>
            </a:r>
            <a:endParaRPr b="0" lang="en-US" sz="4000" spc="1" strike="noStrike"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46" name=""/>
          <p:cNvSpPr/>
          <p:nvPr/>
        </p:nvSpPr>
        <p:spPr>
          <a:xfrm>
            <a:off x="1332000" y="692280"/>
            <a:ext cx="6481800" cy="5414760"/>
          </a:xfrm>
          <a:custGeom>
            <a:avLst/>
            <a:gdLst/>
            <a:ahLst/>
            <a:rect l="l" t="t" r="r" b="b"/>
            <a:pathLst>
              <a:path w="4083" h="3320">
                <a:moveTo>
                  <a:pt x="0" y="3274"/>
                </a:moveTo>
                <a:cubicBezTo>
                  <a:pt x="749" y="1637"/>
                  <a:pt x="1498" y="0"/>
                  <a:pt x="2178" y="8"/>
                </a:cubicBezTo>
                <a:cubicBezTo>
                  <a:pt x="2858" y="16"/>
                  <a:pt x="3470" y="1668"/>
                  <a:pt x="4083" y="332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87640" y="5589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Verdana"/>
              </a:rPr>
              <a:t>感情基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88000" y="55166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Verdana"/>
              </a:rPr>
              <a:t>首尾呼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知人论世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490160" cy="374472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彩虹似的梦”的追寻与幻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为徐志摩是纯理想主义者，追求“爱、美、自由”，在剑桥留学期间，积极追求个性解放的人生理想，追求在中国建立英国似的资产阶级民主政治的理想。但事与愿违，当时的中国，列强割据，军阀混战，百姓涂炭，社会现实如此残酷，不可能实现他的理想，他苦闷彷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康桥夕阳中的云彩，金柳，柔波，青荇，青草，星辉及彩虹，正如诗人自由的理想王国，它给了诗人欣慰、兴奋。当回到祖国，残酷的现实使他不得不与理想王国做深情告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40000" y="148428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黑体"/>
              </a:rPr>
              <a:t>为什么徐志摩对康桥有无限欣喜和眷念之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00000" y="2492280"/>
            <a:ext cx="7596360" cy="206460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胡适《追悼志摩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志摩的人生观是一种单纯信仰，这里面只有三个大字——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爱，自由，美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6372360" y="765000"/>
          <a:ext cx="1641240" cy="239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72360" y="765000"/>
                    <a:ext cx="1641240" cy="23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3" descr="林徽音"/>
          <p:cNvPicPr/>
          <p:nvPr/>
        </p:nvPicPr>
        <p:blipFill>
          <a:blip r:embed="rId2"/>
          <a:stretch/>
        </p:blipFill>
        <p:spPr>
          <a:xfrm>
            <a:off x="826920" y="1700280"/>
            <a:ext cx="2305080" cy="38163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3348000" y="1989000"/>
            <a:ext cx="46814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那里，他结识了影响他生命、终生为之倾慕的一个重要女性——林徽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4"/>
          <p:cNvSpPr/>
          <p:nvPr/>
        </p:nvSpPr>
        <p:spPr>
          <a:xfrm>
            <a:off x="2364840" y="476280"/>
            <a:ext cx="453924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康桥：诗人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</a:rPr>
              <a:t>爱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之梦破灭的地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26920" y="1413000"/>
            <a:ext cx="3313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916</a:t>
            </a:r>
            <a:r>
              <a:rPr b="1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年考入北大，与</a:t>
            </a:r>
            <a:r>
              <a:rPr b="1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6</a:t>
            </a:r>
            <a:r>
              <a:rPr b="1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岁的</a:t>
            </a:r>
            <a:r>
              <a:rPr b="1" lang="zh-CN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张幼仪</a:t>
            </a:r>
            <a:r>
              <a:rPr b="1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结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918</a:t>
            </a:r>
            <a:r>
              <a:rPr b="1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年赴美留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920</a:t>
            </a:r>
            <a:r>
              <a:rPr b="1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年赴英国，就读于剑桥大学，攻读博士学位，期间邂逅了</a:t>
            </a:r>
            <a:r>
              <a:rPr b="1" lang="zh-CN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林徽音</a:t>
            </a:r>
            <a:r>
              <a:rPr b="1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922</a:t>
            </a:r>
            <a:r>
              <a:rPr b="1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年</a:t>
            </a:r>
            <a:r>
              <a:rPr b="1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月，</a:t>
            </a:r>
            <a:r>
              <a:rPr b="1" lang="zh-CN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与张幼仪离异</a:t>
            </a:r>
            <a:r>
              <a:rPr b="1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月回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859280" y="1341360"/>
            <a:ext cx="3241800" cy="22114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932360" y="4005360"/>
            <a:ext cx="3313080" cy="2111400"/>
          </a:xfrm>
          <a:prstGeom prst="rect">
            <a:avLst/>
          </a:prstGeom>
          <a:ln w="0">
            <a:noFill/>
          </a:ln>
        </p:spPr>
      </p:pic>
      <p:sp>
        <p:nvSpPr>
          <p:cNvPr id="161" name="矩形 4"/>
          <p:cNvSpPr/>
          <p:nvPr/>
        </p:nvSpPr>
        <p:spPr>
          <a:xfrm>
            <a:off x="2364840" y="476280"/>
            <a:ext cx="453924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康桥：诗人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</a:rPr>
              <a:t>爱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之梦破灭的地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7848360" cy="3527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体会《再别康桥》所蕴涵的感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理解《再别康桥》运用意象、修辞表达感情的特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了解《再别康桥》与新月诗的“三美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有感情的朗诵和背诵《再别康桥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187280" y="1557360"/>
            <a:ext cx="2438640" cy="338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128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将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在茫茫人海中寻访我唯一之灵魂伴侣。得之，我幸；不得，我命。”－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―――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徐志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矩形 4"/>
          <p:cNvSpPr/>
          <p:nvPr/>
        </p:nvSpPr>
        <p:spPr>
          <a:xfrm>
            <a:off x="2364840" y="476280"/>
            <a:ext cx="453924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康桥：诗人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</a:rPr>
              <a:t>爱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之梦破灭的地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5435640" y="1557360"/>
            <a:ext cx="2533680" cy="34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796000" y="1916280"/>
            <a:ext cx="2411280" cy="35002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26560" y="1557360"/>
            <a:ext cx="497844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梁启超证婚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徐志摩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你这个人性情浮躁，所以在学问方面没有成就。你这个人用情不专，以致离婚再娶……你们两人都是过来人，离过婚又重新结婚，都是用情不专。以后痛自悔悟，重新做人！愿你们这次是最后一次结婚！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与泰戈尔在一起"/>
          <p:cNvPicPr/>
          <p:nvPr/>
        </p:nvPicPr>
        <p:blipFill>
          <a:blip r:embed="rId2"/>
          <a:stretch/>
        </p:blipFill>
        <p:spPr>
          <a:xfrm>
            <a:off x="5219640" y="1916280"/>
            <a:ext cx="2986200" cy="34923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971640" y="1844640"/>
            <a:ext cx="4054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在剑桥，他遇到了当时伟大的诗人泰戈尔，他的诗作很大程度上都受到了这位大师的影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5003640" y="55897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林徽音、泰戈尔与徐志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5"/>
          <p:cNvSpPr/>
          <p:nvPr/>
        </p:nvSpPr>
        <p:spPr>
          <a:xfrm>
            <a:off x="755640" y="476280"/>
            <a:ext cx="75009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康桥：诗人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</a:rPr>
              <a:t>美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之梦蕴积的地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9640" y="1508040"/>
            <a:ext cx="568800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那里，他与英国伟大的哲学家罗素、文学家狄更斯结为挚友。“就我个人说，我的眼是康桥教我睁的，我的求知欲是康桥给我拨动的，我的自由的意识，是康桥给我胚胎的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徐志摩《我所知道的康桥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300720" y="2349360"/>
            <a:ext cx="2190960" cy="2921040"/>
          </a:xfrm>
          <a:prstGeom prst="rect">
            <a:avLst/>
          </a:prstGeom>
          <a:ln w="0">
            <a:noFill/>
          </a:ln>
        </p:spPr>
      </p:pic>
      <p:sp>
        <p:nvSpPr>
          <p:cNvPr id="174" name="矩形 5"/>
          <p:cNvSpPr/>
          <p:nvPr/>
        </p:nvSpPr>
        <p:spPr>
          <a:xfrm>
            <a:off x="900000" y="476280"/>
            <a:ext cx="75009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康桥：诗人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</a:rPr>
              <a:t>自由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之梦蕴积的地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品味语言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软泥上的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青荇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油油的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在水底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招摇”句中“油油的”“招摇”两个词有什么好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6920" y="2831400"/>
            <a:ext cx="76327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招摇”：常含贬义，此处“招手摇摆”义。另有 </a:t>
            </a:r>
            <a:r>
              <a:rPr b="1" lang="zh-CN" sz="2400" spc="-1" strike="noStrike">
                <a:solidFill>
                  <a:srgbClr val="a50021"/>
                </a:solidFill>
                <a:latin typeface="宋体"/>
              </a:rPr>
              <a:t>“逍遥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义，用 “逍遥”写水草，显现出</a:t>
            </a:r>
            <a:r>
              <a:rPr b="1" lang="zh-CN" sz="2400" spc="-1" strike="noStrike">
                <a:solidFill>
                  <a:srgbClr val="a50021"/>
                </a:solidFill>
                <a:latin typeface="宋体"/>
              </a:rPr>
              <a:t>无拘无束，自由自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情态。仿佛康桥在对诗人</a:t>
            </a:r>
            <a:r>
              <a:rPr b="1" lang="zh-CN" sz="2400" spc="-1" strike="noStrike">
                <a:solidFill>
                  <a:srgbClr val="a50021"/>
                </a:solidFill>
                <a:latin typeface="宋体"/>
              </a:rPr>
              <a:t>招手示意，表示欢迎，拟人手法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更显生动、形象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4655880"/>
            <a:ext cx="7632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油油”是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光润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样子，用它修饰“招摇”，不但增强了水草的自在感，而且还使我们想起了水草得以“招摇”的河水：微风轻拂，水波轻涌，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水质清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那些像涂了凝脂的水草在水中随微波来回轻摆，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自在安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这是怎样一幅美景啊！而这美景全赖诗人的“招摇”。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2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005720" y="568440"/>
            <a:ext cx="1278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品味诗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00000" y="162684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《再别康桥》形式上具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新月派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三美：建筑美，音乐美，绘画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5640" y="3141720"/>
            <a:ext cx="770400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 建筑美（形式）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节的匀称和句的整齐。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字数相近   错落排列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《再别康桥》共七节，每节两句，单行和双行错开一格排列，无论从排列上，还是从字数上看，也都整齐划一，给人以</a:t>
            </a: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美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26920" y="1773360"/>
            <a:ext cx="7632720" cy="39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音乐美（语言）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韵律和谐、节奏鲜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对诗歌的音节而言，朗朗上口，错落有致，都是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音乐美的表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押韵，韵脚为：来，彩；娘，漾；摇，草；虹，梦；溯，歌；箫，桥；来，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音节和谐，节奏感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回环复沓。首节和末节，语意相似，节奏相同，构成回环呼应的结构形式。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05720" y="568440"/>
            <a:ext cx="1278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品味诗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826920" y="2331360"/>
            <a:ext cx="756144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绘画美（色彩与意境）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指诗的语言多选用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黑体"/>
              </a:rPr>
              <a:t>有色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词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全诗中选用了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云彩，金柳，夕阳，波光，艳影，青荇，彩虹，青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”等词语，给读者视觉上的色彩想象，同时也表达了作者对康桥的一片深情。全诗共七节，几乎每一节都包含一个可以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黑体"/>
              </a:rPr>
              <a:t>画得出的画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05720" y="568440"/>
            <a:ext cx="1278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品味诗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小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42560" y="2204640"/>
            <a:ext cx="7201080" cy="290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《再别康桥》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世纪中国最出色的一首别离诗，犹如一首轻柔优美的小夜曲，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诗人的自由天性、潇洒飘逸的风格与康桥宁静优美的自然风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融会成了别具一格诗境之美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00000" y="1413000"/>
            <a:ext cx="7489800" cy="324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江淹《別赋》：“黯然销魂者，唯别而已也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骆宾王：《于易水送人一绝》：“此地别燕丹，壮士发冲冠。昔时人已没，今日水犹寒。 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王勃：《送杜少府之任蜀州》：“与君离别意，同是宦游人。海内存知己，天涯若比邻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王昌龄：《芙蓉楼送辛渐》：“寒雨连江夜入吴，平明送客楚山孤。洛阳亲友如相问，一片冰心在玉壶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柳永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雨霖铃》执手相看泪眼，竟无语凝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柳宗元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别舍弟宗一》零落残魂倍黯然，双垂别泪越江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627280" y="549360"/>
            <a:ext cx="4392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拓展延伸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离别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116000" y="836640"/>
            <a:ext cx="7058160" cy="529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5122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ff33"/>
                </a:solidFill>
                <a:latin typeface="Times New Roman"/>
              </a:rPr>
              <a:t>          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沙 扬 娜 拉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                   ——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赠日本女郎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最是那一低头的温柔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像一朵水莲花不胜凉风的娇羞，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道一声珍重，道一声珍重，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那一声珍重里有蜜甜的忧愁——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沙场娜拉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404640"/>
            <a:ext cx="774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拓展阅读</a:t>
            </a:r>
            <a:r>
              <a:rPr b="1" lang="zh-CN" sz="4400" spc="-1" strike="noStrike">
                <a:solidFill>
                  <a:srgbClr val="ccff33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导入：我们的母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55640" y="1341360"/>
            <a:ext cx="7416720" cy="4884840"/>
          </a:xfrm>
          <a:prstGeom prst="rect">
            <a:avLst/>
          </a:prstGeom>
          <a:ln w="0">
            <a:noFill/>
          </a:ln>
        </p:spPr>
      </p:pic>
    </p:spTree>
  </p:cSld>
  <p:transition advTm="4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1280" y="2735280"/>
            <a:ext cx="4967280" cy="1190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我个人说，我的眼是康桥教我睁的，我的求知欲是康桥给我拨动的，我的自由的意识，是康桥给我胚胎的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徐志摩《我所知道的康桥》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364000" y="1413000"/>
            <a:ext cx="3238560" cy="38606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2256120" y="549360"/>
            <a:ext cx="350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徐志摩的 “康桥情结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55640" y="1628280"/>
            <a:ext cx="7578720" cy="411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徐志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897—193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名徐章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纪最重要的诗人之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月派的代表人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5076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54936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一代诗人徐志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580000" y="1628640"/>
            <a:ext cx="2587680" cy="345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258920" y="5084640"/>
            <a:ext cx="7129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3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由南京乘飞机到北平，因遇雾在济南附近触山，机坠身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116000" y="1341360"/>
            <a:ext cx="6912000" cy="51134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1921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年赴英国留学。开始创作新诗。 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1922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年回国后在报刊上发表大量诗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1924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年与胡适、陈西滢等创办《现代评论》周刊，任北京大学教授。印度大诗人泰戈尔访华时任翻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1926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年在北京主编《晨报》副刊《诗镌》，与闻一多、朱湘等人开展新诗格律化运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1927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年在上海参加创办新月书店。次年《新月》月刊创刊后任主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1930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年任中华文化基金委员会委员，被选为英国诗社社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1931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年初，与陈梦家、方玮德创办《诗刊》季刊，被推选为笔会中国分会理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61360" y="0"/>
            <a:ext cx="1682640" cy="2205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63160" y="476280"/>
            <a:ext cx="1278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"/>
              </a:rPr>
              <a:t>作者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4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4360" y="1197000"/>
            <a:ext cx="6696000" cy="2022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著有诗集《志摩的诗》，《翡冷翠的一夜》、《猛虎集》、《云游》，散文集《落叶》、《巴黎的鳞爪》、《自剖》、 《想飞》、《我所知道的康桥》、《翡冷翠山居闲话》 ，戏剧《卞昆冈》（与陆小曼合写），日记《爱眉小札》、《志摩日记》，译著《曼殊斐尔小说集》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新月派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闻一多提出“三美”即“音乐美、绘画美、建筑美”，奠定了新格律诗派的理论基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380360" y="3789360"/>
            <a:ext cx="1031760" cy="1494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380360" y="1197000"/>
            <a:ext cx="1589040" cy="2232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647160" y="476280"/>
            <a:ext cx="1278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"/>
              </a:rPr>
              <a:t>作者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6:08:22Z</dcterms:created>
  <dc:creator>liuhong</dc:creator>
  <dc:description/>
  <dc:language>en-US</dc:language>
  <cp:lastModifiedBy>user</cp:lastModifiedBy>
  <dcterms:modified xsi:type="dcterms:W3CDTF">2017-12-17T15:19:26Z</dcterms:modified>
  <cp:revision>47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40c000000000001023600</vt:lpwstr>
  </property>
</Properties>
</file>