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</p:sldMasterIdLst>
  <p:sldIdLst>
    <p:sldId id="256" r:id="rId60"/>
    <p:sldId id="257" r:id="rId61"/>
    <p:sldId id="258" r:id="rId62"/>
    <p:sldId id="259" r:id="rId63"/>
    <p:sldId id="260" r:id="rId64"/>
    <p:sldId id="261" r:id="rId65"/>
    <p:sldId id="262" r:id="rId66"/>
    <p:sldId id="263" r:id="rId67"/>
    <p:sldId id="264" r:id="rId68"/>
    <p:sldId id="265" r:id="rId69"/>
    <p:sldId id="266" r:id="rId70"/>
    <p:sldId id="267" r:id="rId71"/>
    <p:sldId id="268" r:id="rId72"/>
    <p:sldId id="269" r:id="rId73"/>
    <p:sldId id="270" r:id="rId74"/>
    <p:sldId id="271" r:id="rId75"/>
    <p:sldId id="272" r:id="rId76"/>
    <p:sldId id="273" r:id="rId77"/>
    <p:sldId id="274" r:id="rId78"/>
    <p:sldId id="275" r:id="rId79"/>
    <p:sldId id="276" r:id="rId80"/>
    <p:sldId id="277" r:id="rId81"/>
    <p:sldId id="278" r:id="rId82"/>
    <p:sldId id="279" r:id="rId83"/>
    <p:sldId id="280" r:id="rId8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" Target="slides/slide1.xml"/><Relationship Id="rId61" Type="http://schemas.openxmlformats.org/officeDocument/2006/relationships/slide" Target="slides/slide2.xml"/><Relationship Id="rId62" Type="http://schemas.openxmlformats.org/officeDocument/2006/relationships/slide" Target="slides/slide3.xml"/><Relationship Id="rId63" Type="http://schemas.openxmlformats.org/officeDocument/2006/relationships/slide" Target="slides/slide4.xml"/><Relationship Id="rId64" Type="http://schemas.openxmlformats.org/officeDocument/2006/relationships/slide" Target="slides/slide5.xml"/><Relationship Id="rId65" Type="http://schemas.openxmlformats.org/officeDocument/2006/relationships/slide" Target="slides/slide6.xml"/><Relationship Id="rId66" Type="http://schemas.openxmlformats.org/officeDocument/2006/relationships/slide" Target="slides/slide7.xml"/><Relationship Id="rId67" Type="http://schemas.openxmlformats.org/officeDocument/2006/relationships/slide" Target="slides/slide8.xml"/><Relationship Id="rId68" Type="http://schemas.openxmlformats.org/officeDocument/2006/relationships/slide" Target="slides/slide9.xml"/><Relationship Id="rId69" Type="http://schemas.openxmlformats.org/officeDocument/2006/relationships/slide" Target="slides/slide10.xml"/><Relationship Id="rId70" Type="http://schemas.openxmlformats.org/officeDocument/2006/relationships/slide" Target="slides/slide11.xml"/><Relationship Id="rId71" Type="http://schemas.openxmlformats.org/officeDocument/2006/relationships/slide" Target="slides/slide12.xml"/><Relationship Id="rId72" Type="http://schemas.openxmlformats.org/officeDocument/2006/relationships/slide" Target="slides/slide13.xml"/><Relationship Id="rId73" Type="http://schemas.openxmlformats.org/officeDocument/2006/relationships/slide" Target="slides/slide14.xml"/><Relationship Id="rId74" Type="http://schemas.openxmlformats.org/officeDocument/2006/relationships/slide" Target="slides/slide15.xml"/><Relationship Id="rId75" Type="http://schemas.openxmlformats.org/officeDocument/2006/relationships/slide" Target="slides/slide16.xml"/><Relationship Id="rId76" Type="http://schemas.openxmlformats.org/officeDocument/2006/relationships/slide" Target="slides/slide17.xml"/><Relationship Id="rId77" Type="http://schemas.openxmlformats.org/officeDocument/2006/relationships/slide" Target="slides/slide18.xml"/><Relationship Id="rId78" Type="http://schemas.openxmlformats.org/officeDocument/2006/relationships/slide" Target="slides/slide19.xml"/><Relationship Id="rId79" Type="http://schemas.openxmlformats.org/officeDocument/2006/relationships/slide" Target="slides/slide20.xml"/><Relationship Id="rId80" Type="http://schemas.openxmlformats.org/officeDocument/2006/relationships/slide" Target="slides/slide21.xml"/><Relationship Id="rId81" Type="http://schemas.openxmlformats.org/officeDocument/2006/relationships/slide" Target="slides/slide22.xml"/><Relationship Id="rId82" Type="http://schemas.openxmlformats.org/officeDocument/2006/relationships/slide" Target="slides/slide23.xml"/><Relationship Id="rId83" Type="http://schemas.openxmlformats.org/officeDocument/2006/relationships/slide" Target="slides/slide24.xml"/><Relationship Id="rId84" Type="http://schemas.openxmlformats.org/officeDocument/2006/relationships/slide" Target="slides/slide25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312-0C0E-4C9F-92A8-8A510F41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5409-FC11-4AC3-BD81-43723F00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65362-6DAD-437A-9C0B-479C12C6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D966F-632D-43EC-BEC9-D32ECC25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6C458-AB04-43CB-892F-06213BF7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D16A4-B6EA-414F-8D10-AAEF31EF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DFB74-F775-41B6-AC3D-58D3A7B2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F9065-07F7-438D-B116-828C4728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43A26-DCB2-4158-9A47-C29F6B53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5C392-E161-40DA-9371-0CCEBA6C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3BC33-1F4E-4672-8E2D-01CB85B8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06676-EE95-4F60-9298-53D53BD2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5871-66C7-44CD-B0A0-79E2702B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BD663-BD59-48FA-91A9-FDA4E54D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9FBFC-E9EF-42D4-9482-28B62C29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3D683-C42C-4EC7-BD5D-AA7D75CE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EBCE9-41BE-4F0B-B0EB-9B03DDD1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7FB67-899E-4567-8493-2EF8DD27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13759-CA56-4D39-9A29-7D57831E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F3279-6F19-4C3D-9242-7B0D80D1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DB35B-20E0-48AC-8755-79AD2D3B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682B3-6172-4525-9936-09EDD28C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535D4-AD64-4296-B64F-EC1E258D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B692-767D-44EB-A376-82CCDB46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738C6-42BF-455C-8A4A-A54A882C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96A01-4FF7-4EB5-B103-BA6E9762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C714D-58FA-42B7-9B21-05D5EAE8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60419-49AF-49B3-A92B-520F919D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547D0-F242-4566-8CC9-5153906A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CF977-0FF4-409C-B6A8-8E9DBA0F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9C7AB-E126-49F2-8BE8-33FC3CB3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7C7B5-BC5C-4CCD-A66E-D454014C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36EDD-1534-40FB-B129-3B770E60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51EDE-1E19-41D5-814A-2A1E2834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C026-0E03-421D-8920-3F6056F8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9AFC5-026B-4AFA-BF7C-EB1969C3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9582D-68A7-44F5-9E63-75F01CB0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4CAEF-1E2A-429F-800B-2CEA4340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057C7-DA8F-4027-9943-268DBC96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6EA02-0195-4FBC-A20F-CB2B17DE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84989-939F-4D41-AA6E-150209E1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DA7DA-139C-4EC0-B9FD-C177A385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A74DE-ADD0-4E57-8A2D-02ED9D7A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C7806-04FE-4163-9B02-1238CDB5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5C34F-3C34-4057-9927-674BBA29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693A-5C16-4065-A8E0-3928B576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8D84A-72D1-46BB-B1A8-5971BD23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624D6-729C-43EE-911C-4784369A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0C799-FD25-4684-BD88-C9223D53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D542B-C045-46AE-A528-3475A71C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6F573-921B-46D1-8B41-042C15EA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ACC26-FA6D-442B-B2B9-EC8E6C0D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89F43-857C-4C1C-815A-F509D6FB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2ECA7B-82FA-4659-83AD-5B51494E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5E69C-B0EC-4B28-AD2E-DF39F839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FCF826-5084-4737-A214-493BFAD1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FD99-C258-4392-BB45-BC1F6B0B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E32F6-AC4D-4D08-9096-D1441E50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55D10C-818E-4FAA-AA2C-2CCC766A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962B99-9F96-4B6B-BE7D-D6A9F4D4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96E56-7B97-4746-8A88-42221378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D5DB7-CB2B-4A8F-A812-71DA7BBB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C0C19-34F4-493E-9447-C6016642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328109-304E-4D28-A388-B20944C7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B5A4D0-D712-4D44-9BFB-D26EF9C0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B4B912-E12B-4313-B0A7-6EE0457F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AE8088-AB21-4B70-A7BF-59C64CDE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07ED-A99B-4762-AF78-EA3E2400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EFF303-71E6-4919-8F18-4D10CA8C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DFDA62-B74C-40D5-9264-9C92337D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508E38-519C-4375-91FB-0167527F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24F38F-E196-49A4-B885-2D7B124D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28D11-0789-4407-9D8D-BCB1C5B4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AF895-A1F9-4A64-8F2A-3BEAF8F4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35FBB4-1F1B-4F5D-8083-B0B9E646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C2B66F-86FE-47D9-BA03-EC9BF3E8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CA1453-040A-413E-A16F-B12825A2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2E3B20-1631-4988-8EEA-2E39CC41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D34D-A629-4007-A553-7E40C0E1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BFACCC-39A5-4A28-98BB-E24B7BC6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4C14C5-BDBF-4BBD-BD90-7423FB75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A4B7BB-8723-4833-9073-9EE1F245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6C3563-BD16-42BA-BADD-45F6A081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870049-1805-44E6-AADD-0F8CAB4B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49A85E-DC0C-4AD9-B720-8C9412AC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84963D-6641-4D2C-8711-8221DB32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04B618-410B-47D1-8B32-437146E6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2965D6-870F-4FBB-84FC-115E020B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1994D8-FAE3-4F10-9617-04D169D7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A18F-7223-4203-857D-FE990FC5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EA5450-2E27-4C03-A7D6-8E08491B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011A41-89EB-4C23-99B6-924C0470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56D1EA-F2CE-4808-9B3F-E1825F79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E904BD-261F-4E16-9BDB-C48FE2CA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5B01EC-5EAB-460A-B1CC-7EA9919E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370B87-F4CD-46CD-A891-8443D538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A0F398-CBE4-4118-8E5A-C3D137FE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D68CFB-2310-41AE-9A01-364B19F9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A4A903-48F4-46D6-B79E-107F23DA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E8E96E-E127-4567-BDC1-47D68E11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2DAD-8C25-4E77-B184-F699C454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EE9E39-F45C-466C-947C-645FECD2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E661EE-9E46-40A0-90F4-852F70AE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74F608-758A-432E-9972-CC5140E9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6BAAF6-2635-4F11-B317-7A5BB6C9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03F63E-15BF-428F-88B6-0FC5B29C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15ACCC-7254-4FB0-A44E-0963C4AB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8D0690-E1E7-4705-8772-D8A47518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9F2E52-B278-4CCE-B719-70361364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8ABE53-B7B4-4CF6-8B7B-FD4DC523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5019FE-FF99-449F-B2CD-2FA4A150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BEB-42EB-42C1-AE43-64D00358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A164-0F66-4BCF-A9CE-583C7399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CAEAE6-412D-4268-91AF-C294C9E2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E4B3E8-992F-4788-BA7F-93ADF683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472D87-AE3F-4F00-A831-D8B6504B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13056E-FA07-4501-9BFE-19952FDB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1FABD9-B3D8-47F3-8DF8-5CD1CCCA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DA0E27-8D9D-4DD1-81A5-FFCEA988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6B35EC-4477-4B8B-A687-B4C6363D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A5E00C-48E8-445F-8699-7F16F6E5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CD44D6-323C-46A3-88CD-781F0C55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6BC851-392A-4ACD-862A-7EC0F4E8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91AB-F103-49E3-9230-0704B358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F6348A-C985-4BDA-B14A-1ABACC70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D7E999-8596-4739-90E4-D2324559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CF7B13-691B-4DAF-A40B-CE6F5890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7EED20-8FC8-4054-B33A-CDA5825B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733143-A379-43F1-BFC9-2AA5F10B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A6564C-1BFE-4A82-8ACB-AD24E355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358190-1A6E-444C-9386-E0117E42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3F2465-A896-43B5-86F1-157A150A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E6FBD9-0C84-495F-8E87-0693B52A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ECF9AA-F3F2-43C4-9463-2CD67013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B4F1-3EC5-4A13-B5E8-C4276C7E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24035C-A3F4-4BC8-A88D-9C1CED57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5D60EE-9D1C-4838-82A8-73181ED7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66DEE8-BACC-41B2-9524-A9AFC733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298009-3D37-4DF1-9712-EAF934F8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8AC734-F57B-4687-A35E-2AC06D63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538699-10F1-4CD9-9E2A-89F6387F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ED4CB8-325A-4F64-8558-2604C10B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BDFC32-8A37-4916-B3FA-156F43CA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A43267-9D81-44E0-8A14-C354094D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2DA3DA-B71B-4AEA-A8A3-F42B6F2C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6706-0431-49A3-961B-740337CA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8E3962-92E3-45C4-A14A-A295134C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04394F-6872-4AEA-A8DE-B6040A9F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FC8C70-4AB7-4341-A866-EF2DCED5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4C770A-65C8-4443-9BEB-2A2E675A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0DBDA1-EB5C-4528-89ED-69900B24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2E642B-F5F2-47A0-9B2B-5C090207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4F841A-CB83-454F-AC66-A02ADEE7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664C3C-05F1-4F40-AF21-6322B28C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2163AB-EFEB-4CB6-8E9D-7FD43F62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FA45AF-59E6-4357-9266-3276D0F5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C892-0D67-436C-972E-A3E2652D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377BFD-BEC7-42BC-94A7-E8D1FBC8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07A6A9-7F07-42A4-BC72-8FA45E15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AB3189-8A3C-4B39-A699-BF083D3A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C8E6B8-6D81-4D46-983D-EC118C66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3C7141-21FF-4235-B549-82048F72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92F401-BD52-450F-88D7-826201BA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019DB3-4890-4AB8-B5A3-59BBBA51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BF886A-FDC7-4B09-8B23-7B6A359E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3FFA34-524B-4E8E-89C9-38C8144F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257DB7-BBD6-4FA1-B920-553F95AA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89A37-8D5D-4516-86C9-C2C67BB2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E814AF-56E6-402B-B35D-23753F1A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EC63B0-D1D9-4DFE-BD93-B4A38289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627D1F-9455-499C-BDFC-BF4C969B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A8A51C-7E24-4F14-9485-46E4D2AE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CB9FAF-819F-4B67-ABE4-8E9AFB01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A42576-EB79-4AB7-93AD-AAB0B390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C684E9-552A-4CDC-95B7-55BFE83E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660967-028D-4328-BF3F-38E6EC74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87D37D-A2AA-4C8A-9DD2-B4FD6B91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37DB64-D9E7-4092-B2CB-91EC47DE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CB8C6-4772-40AA-84EE-CE864C74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6DABC3-F2B7-4EEE-9F38-08E018EA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B0E86C-366C-46E3-9675-763F1432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B40F36-B6DE-4415-8E88-0733064B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B76D8C-597C-42F3-AC27-3E2BA090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0E4E2C-492A-49A1-AA7D-7C8B267E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489869-B007-4B3E-8BB1-51FF0E38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8BA22B-CEEF-47E6-B761-6EBB90FC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33BFB1-DEB5-4EF5-88FD-FCD56371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94C913-27E6-441F-89CD-EDF27625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807782-6065-45FC-B668-5A7697C3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F19E2-2E25-4471-BD9A-7DC9F122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2DE9A1-0CE4-44B8-986F-B775C565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45FA74-74EA-43C1-A0C0-9BA3F702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01EEA7-B996-47CD-820A-165D23B1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4E9C46-5A0A-439E-8C7E-AE225579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9E8CCC-3903-47A9-BFC1-85A24FBA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B312AF-1FF0-4B9D-AB6E-592A8A99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8DA971-0529-4A12-B88C-B9F4FD35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C34051-BB73-4BB1-9DAA-8E3F4D99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A14EAA-AD30-4A19-AB55-97FEC579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6507C4-C7FF-4E79-A7C5-9366A4E5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8C8B2-C107-4733-94B3-EC21F59B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436481-1232-451D-95FC-5A6A98B0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CDD35E-4754-43E4-AE03-D1991E80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4AE571-7AAF-470F-AD5A-E4AAD5C0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19E17A-8F4A-48C3-BD0C-804CC761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92D545-A001-4037-A177-853B7E90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5515D2-628C-4A27-8A50-04B2F92D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829A25-B040-4530-B256-9D8E89A0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16134D-FE3C-4C76-8E7B-B8F13578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C60600-873B-4A86-86E3-41660CBA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8BCEF0-E889-47E6-B8EF-AA0AB13F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0B29C-1BC0-4775-B7EC-3D0DD597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AA73A0-2074-4AFC-AAB4-71B900B6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33D19D-A52B-47F4-8FC8-1B5DCA93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B16A39-07E2-40FF-9F36-75FBF419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3F52DC-9B7D-4387-BE8E-3D23CF2A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802F40-E904-48D5-A906-55318B04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0096A3-1E54-4845-856D-030ABB8B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6A8F3F-2FF9-4F5E-94E6-9D4F81AF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D4B179-D16E-4A1A-84D5-F4C202C7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A4C81B-89A5-4A2C-91D2-9D658F63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18C756-509B-44C2-B245-04E47F7C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9F3-D309-4315-B162-2802A830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48D99-1ED4-4804-B53D-932DAB82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C4EEEC-7520-4CE4-9917-0753EF9F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AD15B8-99A7-4B54-B0C1-0E218F68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6D4793-AB79-4DF4-AB1A-865A6F4E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5FB139-32A8-4A8D-9F79-CEC634B3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090158-13E2-4C1E-9691-654BC4E5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36871A-22F1-4D2B-B0CA-6247D1A4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429011-1AF0-4089-BC19-45BA752D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AB8199-D624-460C-B9B1-B97DD356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057301-B989-4D0D-882F-069D4E51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276E3C-A5D8-46BB-81FC-035D23EC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A123A-8E59-42B3-95C9-8B902C9C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7658DC-BE28-45B3-8C3E-F11C55DC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9AB44E-C853-49D3-804D-D65175B8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8469C4-E628-4FBB-AC35-EC69D47D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9A3F89-2D03-4D24-9533-E8B6EAD2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6BCE70-8643-4344-AC74-2FDC46A0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754A0D-AA83-4DFF-810A-63926C79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56F3C3-0617-4FC6-9EF1-C9463417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86155B-4D8E-43D9-9587-E6EFE181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737763-3916-4F47-B1C3-F4AF284E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995772-C74C-4B45-8593-AA7360AB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C0102-F238-4875-8070-4C4BFA16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71341C-D49E-4C65-8A92-2E0E45E6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787375-A348-4E39-B7FA-036DC6D5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52BF9B-3161-407D-9F31-2E1DC4C1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7D662E-879D-412A-8A6B-1264A696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43DF39-0016-4EAA-BB5F-B3A0D4E1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1C2A8D-F29D-4293-9BDA-CFDD4625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2950EE-DEB9-4112-B320-2A378C5F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003501-44E0-483B-87EE-3C3C9D3F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945EE7-2324-4DB5-A407-B79B6018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BF9E36-1549-44FF-A546-DC780740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CC31B-7B25-4971-90F4-864DFC69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DF6DCF-2E21-403F-83C5-DD678643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93112D-36E5-43ED-B44B-80C20207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7110AE-EA53-44D5-8013-3D74CA04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DDC2EF-9263-4592-A972-4D77C3F6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86ECDF-B06B-4A96-BE50-508F9ED7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26A223-FC63-40C5-BDBA-4D01FE63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629543-12F5-4C3F-B6AA-9A110743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F60AFC-BD3A-4579-852B-43DD1205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63FB83-1694-4FD6-B9AC-E617531D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0BFFF9-3CC7-4105-80F7-0ACD1CF0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BD3D9-46F0-4152-9229-4F4A4A5E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249E9D-216A-4B84-B30A-BC64A6AB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57B3C7-E43A-444B-BD9E-EB51EE67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EA6782-A549-472D-9E3E-BA7FB40C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37387B-C092-447D-8E73-244DE7BD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0A0DB1-8690-4F29-8E1D-599F35D1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EFD232-D55F-4011-8310-7CCB4544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A06274-B81B-4280-A5CC-28D0D405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993503-CCA0-4DE7-8A3A-706B9D4F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129AFC-85D7-4AD7-8C91-0903226A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C03FFD-3DD6-4398-9DD0-0777B965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EF31-6DE1-423E-80E5-8ADE21A7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D7A444-4E2B-48BB-9477-3955E551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823652-602E-439D-B31B-C5496964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F2C236-98A8-456A-8ED9-E0602AA3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C9C9D9-730D-4A94-99CB-A2FB8B20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8E78FE-2FB9-4C64-A6E0-C639A734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7C80E4-E3ED-4958-B35F-4556B79F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94A23E-DB38-4967-AA85-2AE6F670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B95337-791C-41A4-9644-241BF846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D4489D-7C97-41DC-A80C-6E50F4E4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5BD5F3-B5A7-4F0E-8943-6A0CB792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B797D-972E-4CD4-BF7B-C14D31DF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D2F211-B62B-47D1-A1E2-FE081663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499BF6-B1DC-40BE-BB79-079A9214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9129F5-3607-4339-B06A-30BBA5A8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87CDCD-E007-473E-937C-DC568FCA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523EE8-2F87-4A5B-AF0E-E0629080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158274-1452-4E97-BB75-A6098E9C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6ACD6D-0B27-49FB-8494-0C0DB542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4FC4F6-DA36-4A98-A1E3-FFE1BEB4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8B54F1-9202-44F3-86DD-54717CFA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78C520-F61A-49E5-8394-77CA4A5B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E7C9E-1E6F-412C-A2B1-CFA6E179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FC9C2A-AD29-4B09-86DB-465B9F95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9766B3-C76B-42F2-9D0B-108187BB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3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4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49D797-925F-4320-9FD2-083A7F36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FF27C0-F706-424F-9C87-84558976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D883784-0FFB-4D0B-A24B-6B4E9B7F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54CB63-D3C5-48EF-9636-9122AF3F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80FAC0-051B-43B8-BE73-CA90C4BB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F469E4-791B-4647-8EB0-761AF170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A2C887-5472-44D8-A2E3-B896BB60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D46784-39CF-4D4F-8262-0BD89F43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8ACB7-1304-4389-987F-4449E606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CEC9D91-236B-4D2D-B113-3604679E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C8A06B-0161-4080-A67B-2CC198CB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079A63-AF88-44E8-98C6-4495FE47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638A1D-1BB8-4F3C-B232-1439D639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243B18-8C5B-4B0D-9B76-0DA1FB0C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A161D38-9AD3-44D5-A85B-6E5EFC9E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D409DC-7971-42A7-A427-2C01693C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0A29F2-BFDF-47BC-97FD-A508F6FA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196CB3-35F4-459E-929A-7A9FC7D4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ECE5B2-D763-4692-A5BA-7053D99D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68D1A-9088-469C-A53D-9DEC8A1E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A354EE-EB08-4393-9D58-517E58C6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40E486-DC55-41DC-BC54-F04E7416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C90DA7-53F4-4DA3-B75B-55093F99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56641B-787F-4CBD-A3E3-41129905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514D67-F96C-4330-ADA5-AD6C9E81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3AE3D9C-CFFA-4778-8864-648D6456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5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6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675669-9368-44DC-A5E2-34ECFAE5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8423125-61A4-45B1-A9A8-EC1016E9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966CAF-F74F-45E3-98DB-1DE0156F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B79F16-C043-49EE-9512-18DF57DC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7DE-1357-4220-9349-F97EE215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81354-F0CB-486E-9DB8-D44FF1B2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0DEA53-FFD4-4DD1-9C38-43A82815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14418F-0ECB-4ACC-A390-45E08556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78C1DB9-C150-4DC2-A6D0-DC37E052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3F5A5A-70D8-4826-8ED2-6A15E36B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8550EF-C1C6-477C-A731-74D1E0CB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57D1129-9EC8-43DC-AF08-8D21F733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EA38262-59AB-47E7-B40C-2AD43510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7CA86F-1CEA-42C1-AE6E-EFF0E978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1AF46A-EEF0-4B4B-AB41-A0CA279E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8D4342-4AA3-43DD-BE07-20957F97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66359-E276-4DD6-A567-8F6B826F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9AD4BCC-C2F7-4114-ABC8-5F4100E2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663D5B3-DE1B-4AC6-84FB-FF2FDE60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6363339-4379-4B2C-9D53-0908B154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0954E7-C7E9-4322-83DD-7D0DAB3E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E629E00-7310-40BB-BD59-48BE5AF9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B02B84-8C7F-4A60-9D97-27E4EFA2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D143BB-D920-48A0-9131-74D46B20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702A14-A460-4344-86ED-DC85FFC5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B1D594-BECE-47A6-B389-12858381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E9B943-53AB-4056-9AAE-8C6A0D52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1377E-B8FF-4DCB-B695-E42DCCAE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B36D4D9-E566-4CE3-907A-618B177D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B874BE2-2405-4C04-B33E-DEBB3EFB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FF7F89F-B04A-4C0A-8A6F-6058C66C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9A1F91-8BD7-4E58-A5B7-F0A1BFC1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AD78A73-E41F-4DC8-80B4-2F73743F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616B27-223A-4D96-A06E-D865B635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C5DAC5D-D3F3-4AD9-94B6-9E835560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CBD2809-524A-41F7-9465-8672A88F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769FA7-2E1A-4338-9846-8E329F3D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6EAA988-7B4C-4761-A638-F3F6B9FA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51265-2747-4AA0-AF90-514738B2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2B746A8-D763-4DC7-A065-A5F12DA2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BABC00-2D75-47A6-98EB-3C3248A7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3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4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D897A74-B477-4B1D-90AC-FADE3886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CCF9D23-86DD-4453-B558-E9189563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2F60257-0D66-4FA0-8AC7-769BBB29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C3D617C-286D-4F13-9C28-D71D7A69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D6A7889-6A1B-4E46-8F96-1848ED05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1DE5496-A522-4963-BB5C-86926FCB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56333B2-CC0E-4CC5-87FB-F6505C1F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71D679D-763D-444B-A8B5-E88E3324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D3E72-418C-43E4-9318-538D9CC1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4B7F396-4365-4E59-9F12-9E546199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EF77107-DE72-49A4-B5B4-172A501C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0708E35-4555-4F34-93A7-61A36630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F344ED2-83EE-4620-8AEF-2DDF80FB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65334B4-3D43-4E8F-B69D-D119C66C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0076F6A-944F-4904-9571-0D3264D7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E57572E-C846-410D-BDB4-0E1DB38F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4EA5F39-F690-4C64-B2C2-370D5EB1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57F5183-AF2D-437B-A61B-A7336343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3C2D82A-CC55-46D1-AAC9-66E77E27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B5E3C-32B5-4666-B7F2-F5B9FE00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184D620-BC91-4BD0-B844-03722156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EEB9DCB-6527-44F0-B603-F87865BB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BE55730-F44B-4ADB-A3DE-8A5E54C9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BD34412-753B-41B7-BFCD-8922557F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C4187A-EC4E-42D2-8D63-20102E0E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C1BE8AC-CB84-4C24-9736-6CD17C25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5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6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54C056F-AE12-4B31-84BE-E56F282E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6694FAD-02BD-40BE-B1A7-A63C7B77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4484AE0-C572-48E6-A4C5-624EE1BF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0783BBB-0931-495A-A747-7DB900BA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37160-8136-4F66-ADAB-A6BA55CC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2044131-A666-46E5-8CD7-656611DE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F2736E2-FB83-4FF0-B96C-895F20A7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918B3A0-2B3A-4125-B8FB-CE3E2622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6607B0D-5269-4C8E-B79F-DB1C7742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B807389-36F4-4B13-B1A0-51FCEFEE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B2CB76E-8657-4BFF-AD9B-253C67F5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8973719-9891-40AD-B8FD-B6C66A7E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A4E416A-5D9D-4C5E-BFC1-C0F6AC6B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1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2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68FC2DB-C7AF-44E3-8213-183A6DA2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A3691EF-2D05-4C65-BE34-32617308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2710A-03FC-4E46-B9C5-8FB0552E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3D6B2A6-D41A-4900-89F1-4600C47E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7460B3E-B03E-435A-952A-E2D04B1E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38A9F3B-2A48-4507-A7CF-5657538C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A0F28E8-A0F4-409B-BF9D-3F2A4F8D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845C280-E2A2-4C8B-9A60-0FB0984D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FF447BF-CE55-4A34-9EE6-A6D6653C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1354B4C-0F58-48B3-A2AC-919187B4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3A7396E-A3D4-4D4C-AA0C-5621BA74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3D8AAA2-24EA-4A8F-8EC8-6088A764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DD25963-DDA7-446B-9864-E0434E2D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5E0A6-C464-46B2-B7D4-7636218B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7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8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2CCF1D0-1BA1-4406-B7B1-BD765281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280FEA8-C93F-48B6-9B36-4C5ACF11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6CAD630-5491-4F69-ABEE-60553774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E3D91F3-6D11-43DB-82CA-E302570D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3290F4A-7611-41C7-8C30-1B95B072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A0B2297-BED6-4D3D-A1F3-13AF982F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75F82E9-FA75-4AA6-8143-E38DDA87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599AF01-AAB8-4EB5-84B4-4C74D1AA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52048B1-C0F8-4A7A-872F-2C0734EC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488F4B3-2CF2-4206-8C66-BB5585D4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CD137-525D-4D97-B9B1-77A2D856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87B8DB4-6934-4D2B-A5EC-2082F893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982E299-242E-4947-80EF-330BCF4D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3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4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76F89CD-B7BB-44D9-9926-20AF69D6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46D89C4-3878-40E9-B1D1-A58773BA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122AED7-0E00-4DD8-A56A-D87A23B5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B1F3B54-DA4F-46AA-A42D-8E5E74B4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BF9F2EC-50E5-40C1-9628-F47441F6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903197F-30F2-44D7-B609-A54607A1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3EF1F44-4D8C-41F1-88AF-705B5E66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BC2EFC8-BFE8-432C-BD62-433970D7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584-AC14-4EBC-BAFB-F2EA5939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5FBD0-E447-412F-8356-D970A5D0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C829EE8-E365-4A26-B3E4-C8B907EE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FA0894C-0DED-487C-90D7-2DCF4865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A682AD6-DC02-4B45-AB68-3F61A39D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D6BD839-75B9-403D-A304-8CC1C2D6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9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0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F57243F-60FD-4EEA-BF57-9506A472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2E1E2C9-A04E-40F7-BBEA-0F6CDE75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E5603C1-2906-4157-A862-B6A22845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9B442FB-3281-428C-9260-43DF78B2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56BE971-70F9-4EF6-930B-72CCC75A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99BFE01-1F80-40C5-A51B-70F51277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811AF-1851-4CBC-9BD5-F840E162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33E5353-0455-487F-9C1C-0C222D32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06828ED-5852-4278-AF10-CFF6E418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95B98BD-057E-41DC-A3D9-C6A8F0C3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33F3632-E668-4272-8F67-5CAE690E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F1A429C-66AB-4A52-86E7-C445EE95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9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BCC08AA-F7AE-495C-B2C9-8D12E2C7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4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5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6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B8D07F8-B498-4FC3-9065-CC409C60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C13A9F5-F1AD-42DA-A4FB-80857266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0BF2C00-B1F5-4FE3-BD8A-C7EDF10A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B090AC5-F01D-4200-9FE0-5BF8F57E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938CD-5B26-4157-BB74-0586992B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4018E8E-A77B-4D3E-B397-FF86BB23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8971BF3-3F6D-460C-B1DF-B1F071FA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8839442-C6F0-4AF7-B2DB-AAE4534F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C8AD362-A7D3-494E-81A5-04E0D631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24F6765-F8BC-4E04-84FF-983DFEB4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51FAC31-D47A-48B2-9322-6E634548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6FB3485-9ED1-42E9-B067-18FCB0E1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0C1258F-C3A1-468C-A6C5-640968D6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58EC368-840A-4C66-8CA1-1C93261E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29F101E-5777-4F8F-A7D6-21A8CAA7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E0442-0632-4956-83E7-F14960CE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CFFF729-391B-41F3-8CA5-493DD177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C5371F7-220A-459B-A664-42EBE932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D9D5D2F-868B-4AB1-8841-864990E8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E0F14BE-3031-4914-A2F1-71716738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F4A0162-204F-4ABD-9CF0-DB3CF24B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1930CBE-686F-471D-A3E9-0CC36F02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E65692B-7061-4D9D-BE57-4D7D5B22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4BCFFD1-B518-4ABE-93A8-28307C23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C9717B4-DE9F-4CFD-9065-6D3F5255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A68D3EE-35EF-48C4-9B14-F9D5272B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76CD3-261F-4E16-AD33-090CBFF7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7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8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7022D72-0F43-4231-8324-4A0486A2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0B9DD7A-8A34-4B9E-B6E2-9E983EE6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A18F05E-777D-451C-902C-C91D07BA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21FF0F4-A6BE-4F0F-978D-4309B8F4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78909DE-7073-43BE-97C3-B5BB7C41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2E8B08F-C451-4D53-8E78-705E3FD3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D6AF87B-C042-4126-A3BF-74332F63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FE15DCB-7BD6-4EE5-AB58-6912E9A4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A669629-B20A-44CB-992F-154F04D4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9AF65E1-6C09-4F73-B54A-5D2B1DF7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A8419-43A7-4A51-8337-7C0EA2B3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362C550-6AF3-4F1B-9954-5F4B38F8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5E6BA0A-5730-4442-AEB6-F1D44831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3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4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FB53E25-4B38-4B78-8B2C-332A8A51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D959E35-AA21-4D21-BF03-67DC37E6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AECCA8C-FA46-44BA-B5D0-B1B0A43E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7A28DAD-BECE-465B-B18C-F68407F8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5B43DA2-A34D-4027-9756-962E7F4E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8B0703C-D931-41CC-8244-02FC0EEE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1443E8C-1909-4FC2-A909-C1F0735C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806C8F6-D11D-4181-AFEC-270C8082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10035-F268-4FD2-BBA3-CA88C7A3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C6BA822-EB63-4EF8-A706-4C1C69FA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1DDF5ED-F496-41FC-B24A-3C984B66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7807441-97EF-4CCD-AC73-47F1CE18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F97106A-78BF-4B2D-A942-3782347A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8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9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0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C7ADA78-FEDE-4A61-B7B3-33E5027B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E726482-70B8-45BD-A4C7-D5FCA9B8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CF5DB0B-67F6-4DFB-BA88-1C681765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21570A8-782E-40AF-B5FD-AA862B85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98BA0FA-EF98-4700-AA0D-2E734F3C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3F6B2EF-CD34-4BB7-9031-5801F9B5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644AB-8866-48F0-B40C-A9212DDD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5014751-FDB2-4982-8019-111AFE83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C7B2611-AF09-4820-800C-97C08FD1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46DCEDE-342A-4DA8-94D7-57C893DB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6157074-6AD7-44B4-84FD-88495840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99722A8-DDBB-4A76-A018-E7B925A6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83FFDDC-D7DF-4053-B444-C5147A62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4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5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6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D7A5206-6543-467D-9F6E-92F63408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F52B401-1FA7-46B7-80F3-36DA1485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5C7FF53-CBBD-434B-804C-95DB9F34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4681F00-91E1-41D4-803F-AA454F88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005CE-90DB-4C17-B542-B27E0C04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0424775-8BB1-4141-8B20-BDFCF0F2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CFE005B-55DD-4F08-B47C-3F8AF886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4151E05-5719-4D45-9AF2-A5A7FA32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EC79A63-8355-4616-B87D-5DB06C47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61B07AE-F834-467F-B963-EE6CA427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C72DC7D-3022-4D4C-95CF-20B6C5EE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9737FD5-8D08-4E38-A2F3-8918C9F7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5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B3FD71B-9319-4041-985B-DF24D7DA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1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2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EF17756-9300-4901-85B9-E5CB40E1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DF57BEC-CB65-43E9-9A15-69A32677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54797-A01E-4FC2-BAC6-D84B1622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0BF4604-C777-4545-9BB0-B276820E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6461DBE-4885-43E7-A868-7AED5ED9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4801D0C-DDF3-4719-993F-7C4FB7B9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7EBC800-380E-433A-91E4-E5AE59C3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F913E71-A789-48D5-840F-2F084CF2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96C3343-B66B-47C7-BFB8-7DE8AAC5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40ED7D9-43DC-486A-A835-14C06F5A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9DEFB73-A2EA-440C-94A6-3C1E692C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3633FB8-5F3A-4708-8444-F42EC5CC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1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A4283DE-6415-4B48-A4BF-6D564473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3D6-05FB-435A-8061-8DEDD770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7C191-5864-4F56-8B1B-B12FCA90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7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8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FCDA133-A365-4985-A81D-53717CFE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04037F4-0A8E-4BA6-A354-C60FACF6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A91C02C-EBC9-474E-9ACA-30F4E8C6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DFECDE2-5311-4B84-A428-44F98722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A7B689E-FCBB-4E17-9FB9-EB36265F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FE57C1D-1CF3-400D-A2E8-1C40E3C6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BFBAA07-D693-4BE9-8DA2-F431C520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1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D6AB651-67B4-4F55-99E9-B71EFD29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5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9FA915B-8E5E-45B7-9283-5979D52F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D9401BC-9335-4361-941D-612F977D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9F34C-3954-4E7F-829C-C93B8A47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0FC3D89-CD93-4228-9C80-08DFBCC4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26B4EA1-AE9B-414C-9D75-A1429CCE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2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3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4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64B5D84-18CC-428F-994A-3FD25896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E1F9248-5555-4B71-9CF1-8019D8A1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5CFEEC4-4BDA-4ED1-92FC-7B3592C5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2068802-978A-4B36-B94A-3600D728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3116B85-5278-42D5-8B31-37CA1B4F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B33A115-1841-45AC-A3A4-FE6C4EE6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917D212-6861-4778-A88E-8A9F8047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7635028-E909-4F8A-B395-18B5C88A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2A942-3F3B-4E31-90CD-271D56FF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A5D2140-9BE6-4445-8F76-39FBFE6D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100169C-FE6F-4D8D-89AB-990BDF04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EB54320-9594-4685-85B4-49AD4F74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3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261B58D-A683-43A3-911B-F19BB936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8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9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0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61CC958-B566-4CF6-B024-BC744465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DCDC04B-63BA-4853-98CF-F1388B59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90A12D6-11FC-4151-AC15-A821C899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8631791-7850-4AAE-B618-E9080B19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6198E91-CBC7-4645-8DBB-FE6D566D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D4BDD12-5EE3-4DAA-90AA-D89264C0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513D4-4F1A-41EB-A03A-1823E053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486EBEC-A5CA-4E04-9CEB-22D67D45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1DBFBAD-074F-4218-BACE-539D0C90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A57805F-3A11-4A7E-A0A6-D40EBCCB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1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CB599CD-1CCE-4F87-BA98-1859A4BB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1D522BD-4091-4AE7-93AD-419ADC20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9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1F7F98F-AB5D-4BCB-B81B-FED8EFDB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5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6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411CF66-0C8B-4023-9C13-653DD53F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385A9B4-B9E3-49FA-8ACD-4B08C0ED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A9B91F4-2BBE-40D7-A9E9-2D3B9AF4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6F6D92D-A6B5-4B44-A4C6-8D709354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3D154-82E1-4A5D-B1E9-AF756780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46E68E9-9CD7-4F87-BCEF-50F24B58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E96509E-A64D-4D8F-A9F5-0B9852C2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F49E385-5C49-4181-8D6D-54025242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AF74E62-677C-48B1-8D36-6014A260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4A23D62-A8D8-4065-A7FD-7CFB4228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C144F86-31FE-40F6-B71A-07984C64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D7243E0-03D8-4DD8-9428-48F87E87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E2CD4D7-0CC7-436D-803E-1FEB9293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0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1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2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92B0F76-A981-4452-B449-45D2DABE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98DD91E-1582-494C-ABC3-CC6A4D29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AC2E3-74FA-4120-A6EE-A1D31256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D8CF7A5-962F-4AC3-81C1-A6E44B21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997C1DE-2FC7-4B1B-8C00-DB5C934D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1AE6B75-2A74-4831-A56B-AF75D7B3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FF7311A-527B-4A0A-AA65-950B1371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FEE40C8-169D-49A0-A902-8BEE90A6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A9B5790-1121-47A7-A618-6527BE13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C7723A8-7F36-4137-880D-D4AB83BC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8B07E60-8822-478A-B111-4F1687BE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F83BF05-F39E-41B1-AA8A-796E8F46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1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D659238-52A9-45B5-8EBC-5B5F1866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A92E2-7C87-449C-86E4-6942C8A3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6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7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8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7776AE7-95D6-4927-9AC6-B6341B31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24FB46F-170B-48FE-9168-3F19BB1D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2B3664E-3930-4C5E-B7EB-76A6F33B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77A2650-C03E-46E4-A90F-19DB2D2C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A54FBA0-F363-4075-85BC-BA1C7EB6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C166D50-3BB6-4546-8104-B1DB1F68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26BA06F-1FF6-48E6-95EB-78F3B928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1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360BA1F-656C-4FA4-A83F-624C453C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5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2755B10-73B8-473A-A29B-5CF23E51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430E96D-05D6-4010-87BB-0D8140E0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8428B-7D34-4B75-9E23-19C2FDE3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D4527B9-7ACF-4341-B15F-8242B34B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7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7950026-909C-4634-A471-7C5D13A8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2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3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4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9EB9022-8AD8-4492-B27A-015C54F7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1D642A5-6240-4C18-A675-E8DB8459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4D14DF9-DDD5-4E53-AF14-B8BC292F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3D0D6FD-8F7A-4D76-9E44-FF2B0DE6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93375FE-DD45-4D67-A913-FDB75035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6DF9498-A745-44EC-8A19-16425337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7CD6EA7-9232-4FB4-AC45-5D3E95F2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5ACDDE2-9243-4BA8-BBFC-7E507DA6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64FE3-D4CA-41B2-9C9B-044E7735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67163CD-1CB5-4964-916F-E828D626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5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F7C6306-0F65-4717-B3E2-48986E89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4807355-2E94-47C2-9176-3E19A8EA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2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3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B5A7358-03FE-4B54-9038-FA8C64DC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8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9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0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C19B642-F4E6-4537-8605-64CB34D2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4BC5959-D349-4025-9480-7AEC67FF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C677D41-5612-46ED-B2CA-A251F46F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E06C282-46F0-4B72-96BA-17272E7E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B0D60B4-65F9-445A-B76F-C25C3C1B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B98FC49-38AC-4E4C-899D-60601BA4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D1CBB-A4BD-4B82-AA21-73A1500D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4AFE626-ED69-4AE8-9767-E699BA68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8E5CE15-FC2C-4539-8264-5DEF0EBD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9752EEE-4B08-406C-A0DB-485C006B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1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7FC4A22-D3B4-4B5A-A625-D8D70E59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4A5B032-7FFC-483C-A4F4-24639E3F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8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9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8598AB8-5B48-4666-B739-2E05DDBB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4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5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6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5F31EF4-B0CD-4BFB-AB25-1CE6AF39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A86A-A67B-4DDA-9F4F-04715C67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7DB4A-2C7E-4F37-8E97-4D678565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1E08A-EB95-45F2-9749-E995944F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B14A4-A4DC-4E73-B735-C3AAC55D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67DB0-897F-4B8A-9472-2B65E0E2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03445-D1D5-4451-8571-C9D574E9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6B557-2492-4325-B031-85D3C95B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EE635-9574-4DEF-B72F-C5B6336A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7551A-8DB4-48F9-8E05-4C0B9D13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5E69D-FDDE-4756-87DB-B69CBE96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14FFD-6C68-4BB8-9662-ACB42007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33D1-59F5-42A4-8206-61C328B7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7E4D0-E9EE-46B2-A9A0-4B809F4C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5259F-FE7D-4634-8E05-309AABD3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B6EB1-C230-4AEC-AA94-95ACCE94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4AB45-B4C3-4AA2-8C6D-17810462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890E7-7E50-40ED-AD63-1B803A32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66044-22B7-431B-B12E-AD72AE40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3B6F5-918A-4B61-B7CB-9AC42C65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388B5-B058-4568-96EF-D7366C5A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6335B-3DD3-46C3-B76C-0A1448C4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F703B-4DB9-4E8A-9F68-750F52FB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7284-440C-44E9-924E-76E73525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AB0E6-66D1-4A6E-AD5C-A0F7B3E4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FB042-DC2E-4A28-8222-CB6BFF9C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0FC96-A5ED-4519-89B8-78494838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B00B6-7303-47EF-9AC1-C5B77B57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5000" y="4048200"/>
            <a:ext cx="8915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BFCA9-6F7D-4423-BF35-86E09E50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950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63400" y="4048200"/>
            <a:ext cx="4350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B4CBA-3CE1-4A12-AD37-8C00BE46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9500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50964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524280" y="4048200"/>
            <a:ext cx="28706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07F12-CA4B-44CA-9D15-D209F168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B5B58-0A04-4068-8E35-8CF0E672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4C520-6CF9-4353-A210-97302C84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E381B-09BE-4F75-AC9C-0E716BE8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90612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2080" y="6400440"/>
            <a:ext cx="34671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778360" y="6400440"/>
            <a:ext cx="40449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457520" y="6400440"/>
            <a:ext cx="99036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466D-93F0-4DDB-B02F-9DC6221C8841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90612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矩形 6"/>
          <p:cNvSpPr/>
          <p:nvPr/>
        </p:nvSpPr>
        <p:spPr>
          <a:xfrm>
            <a:off x="0" y="6678720"/>
            <a:ext cx="990612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5" name="矩形 7"/>
          <p:cNvSpPr/>
          <p:nvPr/>
        </p:nvSpPr>
        <p:spPr>
          <a:xfrm>
            <a:off x="0" y="0"/>
            <a:ext cx="990612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6" name="矩形 8"/>
          <p:cNvSpPr/>
          <p:nvPr/>
        </p:nvSpPr>
        <p:spPr>
          <a:xfrm>
            <a:off x="495360" y="1411200"/>
            <a:ext cx="8915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82080" y="6400440"/>
            <a:ext cx="34671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5778360" y="6400440"/>
            <a:ext cx="40449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4457520" y="6400440"/>
            <a:ext cx="99036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B1C7-E9A7-46C9-B58F-CB9883105A1E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矩形 6"/>
          <p:cNvSpPr/>
          <p:nvPr/>
        </p:nvSpPr>
        <p:spPr>
          <a:xfrm>
            <a:off x="0" y="6678720"/>
            <a:ext cx="990612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9" name="矩形 7"/>
          <p:cNvSpPr/>
          <p:nvPr/>
        </p:nvSpPr>
        <p:spPr>
          <a:xfrm>
            <a:off x="0" y="0"/>
            <a:ext cx="990612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0" name="矩形 8"/>
          <p:cNvSpPr/>
          <p:nvPr/>
        </p:nvSpPr>
        <p:spPr>
          <a:xfrm>
            <a:off x="495360" y="1411200"/>
            <a:ext cx="8915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82080" y="6400440"/>
            <a:ext cx="34671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5778360" y="6400440"/>
            <a:ext cx="40449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4457520" y="6400440"/>
            <a:ext cx="99036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9AC4-22AF-4CB5-AFFB-4C6786D64237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6"/>
          <p:cNvSpPr/>
          <p:nvPr/>
        </p:nvSpPr>
        <p:spPr>
          <a:xfrm>
            <a:off x="0" y="6678720"/>
            <a:ext cx="990612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3" name="矩形 7"/>
          <p:cNvSpPr/>
          <p:nvPr/>
        </p:nvSpPr>
        <p:spPr>
          <a:xfrm>
            <a:off x="0" y="0"/>
            <a:ext cx="990612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4" name="矩形 8"/>
          <p:cNvSpPr/>
          <p:nvPr/>
        </p:nvSpPr>
        <p:spPr>
          <a:xfrm>
            <a:off x="3017880" y="1054080"/>
            <a:ext cx="639612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82080" y="6400440"/>
            <a:ext cx="34671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5778360" y="6400440"/>
            <a:ext cx="40449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4457520" y="6400440"/>
            <a:ext cx="99036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B987-B72F-493A-9899-15FE47024B74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6"/>
          <p:cNvSpPr/>
          <p:nvPr/>
        </p:nvSpPr>
        <p:spPr>
          <a:xfrm>
            <a:off x="0" y="6678720"/>
            <a:ext cx="990612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7" name="矩形 7"/>
          <p:cNvSpPr/>
          <p:nvPr/>
        </p:nvSpPr>
        <p:spPr>
          <a:xfrm>
            <a:off x="0" y="0"/>
            <a:ext cx="990612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7"/>
          </p:nvPr>
        </p:nvSpPr>
        <p:spPr>
          <a:xfrm>
            <a:off x="82080" y="6400440"/>
            <a:ext cx="34671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8"/>
          </p:nvPr>
        </p:nvSpPr>
        <p:spPr>
          <a:xfrm>
            <a:off x="5778360" y="6400440"/>
            <a:ext cx="40449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9"/>
          </p:nvPr>
        </p:nvSpPr>
        <p:spPr>
          <a:xfrm>
            <a:off x="4457520" y="6400440"/>
            <a:ext cx="99036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C1DA-D5DF-4C48-A7DE-7087788CEDC7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矩形 6"/>
          <p:cNvSpPr/>
          <p:nvPr/>
        </p:nvSpPr>
        <p:spPr>
          <a:xfrm>
            <a:off x="0" y="6678720"/>
            <a:ext cx="990612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0" name="矩形 7"/>
          <p:cNvSpPr/>
          <p:nvPr/>
        </p:nvSpPr>
        <p:spPr>
          <a:xfrm>
            <a:off x="0" y="0"/>
            <a:ext cx="990612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1" name="矩形 8"/>
          <p:cNvSpPr/>
          <p:nvPr/>
        </p:nvSpPr>
        <p:spPr>
          <a:xfrm>
            <a:off x="495360" y="1411200"/>
            <a:ext cx="8915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0"/>
          </p:nvPr>
        </p:nvSpPr>
        <p:spPr>
          <a:xfrm>
            <a:off x="82080" y="6400440"/>
            <a:ext cx="34671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1"/>
          </p:nvPr>
        </p:nvSpPr>
        <p:spPr>
          <a:xfrm>
            <a:off x="5778360" y="6400440"/>
            <a:ext cx="40449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2"/>
          </p:nvPr>
        </p:nvSpPr>
        <p:spPr>
          <a:xfrm>
            <a:off x="4457520" y="6400440"/>
            <a:ext cx="99036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CD19-FEF7-4240-B534-67646FEE18FF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495360" y="2363760"/>
            <a:ext cx="8832600" cy="1600200"/>
            <a:chOff x="495360" y="2363760"/>
            <a:chExt cx="8832600" cy="1600200"/>
          </a:xfrm>
        </p:grpSpPr>
        <p:sp>
          <p:nvSpPr>
            <p:cNvPr id="624" name="Arc 3"/>
            <p:cNvSpPr/>
            <p:nvPr/>
          </p:nvSpPr>
          <p:spPr>
            <a:xfrm>
              <a:off x="6182640" y="23637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25" name="Arc 4"/>
            <p:cNvSpPr/>
            <p:nvPr/>
          </p:nvSpPr>
          <p:spPr>
            <a:xfrm>
              <a:off x="6102000" y="25290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26" name="Arc 5"/>
            <p:cNvSpPr/>
            <p:nvPr/>
          </p:nvSpPr>
          <p:spPr>
            <a:xfrm>
              <a:off x="6055560" y="27496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27" name="AutoShape 6"/>
            <p:cNvSpPr/>
            <p:nvPr/>
          </p:nvSpPr>
          <p:spPr>
            <a:xfrm>
              <a:off x="495360" y="30798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3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4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5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9703-FAB3-4C9D-A15E-54AA4B23AB8B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670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71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72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73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6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47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48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44C0-A5F1-422B-86BC-C44BE8502A91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716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17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18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19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49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50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51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9677-DA55-4B12-9081-917E4C4C0FCC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762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63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64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65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52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53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54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CD0C-F307-4788-BF7E-454EA28D3F03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808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09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10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11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55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56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57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3FFC-0245-4897-883F-BCA9064AD95D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44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5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6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7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BDA7-4396-4409-9A6B-0521FA955310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854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55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56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57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58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59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60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30F1-6BB0-4B6E-A374-AD137BD81474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900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01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02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03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1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2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3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37AE-BC32-463B-8B3F-19D88A2A6210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946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47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48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49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dt" idx="64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ftr" idx="65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 type="sldNum" idx="66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AA40-0C6D-49B1-867E-F64D8C804450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1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992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93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94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95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67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68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69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F82D-BF6C-4C90-A590-92012399512B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1038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039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040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041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dt" idx="70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ftr" idx="71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sldNum" idx="72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832E-F0C6-4882-AED0-6F227A0065FA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1084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085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086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087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 type="dt" idx="73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 type="ftr" idx="74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 type="sldNum" idx="75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C9F9-5139-4B99-964E-FE3C2154F85A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9" name="Group 2"/>
          <p:cNvGrpSpPr/>
          <p:nvPr/>
        </p:nvGrpSpPr>
        <p:grpSpPr>
          <a:xfrm>
            <a:off x="495360" y="2363760"/>
            <a:ext cx="8832600" cy="1600200"/>
            <a:chOff x="495360" y="2363760"/>
            <a:chExt cx="8832600" cy="1600200"/>
          </a:xfrm>
        </p:grpSpPr>
        <p:sp>
          <p:nvSpPr>
            <p:cNvPr id="1130" name="Arc 3"/>
            <p:cNvSpPr/>
            <p:nvPr/>
          </p:nvSpPr>
          <p:spPr>
            <a:xfrm>
              <a:off x="6182640" y="23637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131" name="Arc 4"/>
            <p:cNvSpPr/>
            <p:nvPr/>
          </p:nvSpPr>
          <p:spPr>
            <a:xfrm>
              <a:off x="6102000" y="25290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132" name="Arc 5"/>
            <p:cNvSpPr/>
            <p:nvPr/>
          </p:nvSpPr>
          <p:spPr>
            <a:xfrm>
              <a:off x="6055560" y="27496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133" name="AutoShape 6"/>
            <p:cNvSpPr/>
            <p:nvPr/>
          </p:nvSpPr>
          <p:spPr>
            <a:xfrm>
              <a:off x="495360" y="30798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6E22-C526-443E-B8E3-C7CE92A80A2D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5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1176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177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178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179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79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80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81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C6ED-BE0A-4680-82E4-AEB12A05AA15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1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1222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223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224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225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dt" idx="82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ftr" idx="83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 type="sldNum" idx="84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E7D4-CB90-438C-A4F9-BD915A9A7242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7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1268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269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270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271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dt" idx="85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ftr" idx="86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sldNum" idx="87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13E4-2C08-4DE5-ABB4-08029DF46E58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90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1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2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3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C812-AE35-459B-8E3C-68F45BE73115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3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1314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15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16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17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dt" idx="88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ftr" idx="89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 type="sldNum" idx="90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89D0-3230-4C25-9D19-7BC5099080B1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9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1360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61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62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63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 type="dt" idx="91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 type="ftr" idx="92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 type="sldNum" idx="93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7154-76AE-446A-A297-BA429C6D3445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5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1406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407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408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409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94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95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96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929E-6CAC-4546-B878-FADCE626E616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1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1452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453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454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455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 type="dt" idx="97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 type="ftr" idx="98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 type="sldNum" idx="99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8446-97FA-4BB1-BB0E-A5BCE95C88B0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7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1498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499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00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01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100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101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102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EAD6-E6AF-4076-8151-4501955A5C6A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3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1544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45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46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47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dt" idx="103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ftr" idx="104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 type="sldNum" idx="105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1C72-AA62-4457-A7B9-123604847458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9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1590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91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92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93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 type="dt" idx="106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 type="ftr" idx="107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8" name="PlaceHolder 5"/>
          <p:cNvSpPr>
            <a:spLocks noGrp="1"/>
          </p:cNvSpPr>
          <p:nvPr>
            <p:ph type="sldNum" idx="108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D8BF-6973-4E00-80FA-ABDC63A28075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5" name="Group 2"/>
          <p:cNvGrpSpPr/>
          <p:nvPr/>
        </p:nvGrpSpPr>
        <p:grpSpPr>
          <a:xfrm>
            <a:off x="495360" y="2363760"/>
            <a:ext cx="8832600" cy="1600200"/>
            <a:chOff x="495360" y="2363760"/>
            <a:chExt cx="8832600" cy="1600200"/>
          </a:xfrm>
        </p:grpSpPr>
        <p:sp>
          <p:nvSpPr>
            <p:cNvPr id="1636" name="Arc 3"/>
            <p:cNvSpPr/>
            <p:nvPr/>
          </p:nvSpPr>
          <p:spPr>
            <a:xfrm>
              <a:off x="6182640" y="23637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37" name="Arc 4"/>
            <p:cNvSpPr/>
            <p:nvPr/>
          </p:nvSpPr>
          <p:spPr>
            <a:xfrm>
              <a:off x="6102000" y="25290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38" name="Arc 5"/>
            <p:cNvSpPr/>
            <p:nvPr/>
          </p:nvSpPr>
          <p:spPr>
            <a:xfrm>
              <a:off x="6055560" y="27496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39" name="AutoShape 6"/>
            <p:cNvSpPr/>
            <p:nvPr/>
          </p:nvSpPr>
          <p:spPr>
            <a:xfrm>
              <a:off x="495360" y="30798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09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10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11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0B44-8DD2-415C-BCD1-002CA8418E30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1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1682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83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84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85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dt" idx="112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ftr" idx="113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 type="sldNum" idx="114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33F9-01D1-43FF-AA86-9A35C1DB9035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7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1728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29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30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31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 type="dt" idx="115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 type="ftr" idx="116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 type="sldNum" idx="117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E69C-2778-4487-BC1D-792AAEEC1AEA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136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7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8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9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C179-1348-4100-ADA1-DD84F69A57B5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3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1774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75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76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77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 type="dt" idx="118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 type="ftr" idx="119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 type="sldNum" idx="120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9351-8009-486A-A917-39F984F38A3D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9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1820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821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822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823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 type="dt" idx="121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 type="ftr" idx="122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 type="sldNum" idx="123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670C-13A9-4DE2-93AD-1F44290C153C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5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1866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867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868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869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 type="dt" idx="124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 type="ftr" idx="125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 type="sldNum" idx="126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0156-9861-4627-B581-10ADAE7BFC53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1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1912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913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914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915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 type="dt" idx="127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 type="ftr" idx="128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 type="sldNum" idx="129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1A6E-4198-492C-A447-E182114DB5B1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7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1958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959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960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961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 type="dt" idx="130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 type="ftr" idx="131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66" name="PlaceHolder 5"/>
          <p:cNvSpPr>
            <a:spLocks noGrp="1"/>
          </p:cNvSpPr>
          <p:nvPr>
            <p:ph type="sldNum" idx="132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2676-A410-4B45-99A9-E1BE979ED17D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3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2004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005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006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007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dt" idx="133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 type="ftr" idx="134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12" name="PlaceHolder 5"/>
          <p:cNvSpPr>
            <a:spLocks noGrp="1"/>
          </p:cNvSpPr>
          <p:nvPr>
            <p:ph type="sldNum" idx="135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7AAD-8C61-40A4-888B-CC0EB6204B3C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9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2050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051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052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053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 type="dt" idx="136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 type="ftr" idx="137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 type="sldNum" idx="138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3A57-BCD8-4167-B5E8-69E7E45289CE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5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2096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097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098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099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 type="dt" idx="139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 type="ftr" idx="140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 type="sldNum" idx="141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28E2-9884-497F-A6C1-71EFDD18A6AD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1" name="Group 2"/>
          <p:cNvGrpSpPr/>
          <p:nvPr/>
        </p:nvGrpSpPr>
        <p:grpSpPr>
          <a:xfrm>
            <a:off x="495360" y="2363760"/>
            <a:ext cx="8832600" cy="1600200"/>
            <a:chOff x="495360" y="2363760"/>
            <a:chExt cx="8832600" cy="1600200"/>
          </a:xfrm>
        </p:grpSpPr>
        <p:sp>
          <p:nvSpPr>
            <p:cNvPr id="2142" name="Arc 3"/>
            <p:cNvSpPr/>
            <p:nvPr/>
          </p:nvSpPr>
          <p:spPr>
            <a:xfrm>
              <a:off x="6182640" y="23637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143" name="Arc 4"/>
            <p:cNvSpPr/>
            <p:nvPr/>
          </p:nvSpPr>
          <p:spPr>
            <a:xfrm>
              <a:off x="6102000" y="25290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144" name="Arc 5"/>
            <p:cNvSpPr/>
            <p:nvPr/>
          </p:nvSpPr>
          <p:spPr>
            <a:xfrm>
              <a:off x="6055560" y="27496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145" name="AutoShape 6"/>
            <p:cNvSpPr/>
            <p:nvPr/>
          </p:nvSpPr>
          <p:spPr>
            <a:xfrm>
              <a:off x="495360" y="30798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 type="dt" idx="142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 type="ftr" idx="143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50" name="PlaceHolder 5"/>
          <p:cNvSpPr>
            <a:spLocks noGrp="1"/>
          </p:cNvSpPr>
          <p:nvPr>
            <p:ph type="sldNum" idx="144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3A87-5BE3-4FD0-AABB-1BD88AB69942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7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2188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189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190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191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dt" idx="145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ftr" idx="146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96" name="PlaceHolder 5"/>
          <p:cNvSpPr>
            <a:spLocks noGrp="1"/>
          </p:cNvSpPr>
          <p:nvPr>
            <p:ph type="sldNum" idx="147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F1C0-8341-4566-83D2-F3075F313612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182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83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84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E6F2-AD00-493E-9E9A-8E3D5D933F6E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3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2234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235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236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237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 type="dt" idx="148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41" name="PlaceHolder 4"/>
          <p:cNvSpPr>
            <a:spLocks noGrp="1"/>
          </p:cNvSpPr>
          <p:nvPr>
            <p:ph type="ftr" idx="149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42" name="PlaceHolder 5"/>
          <p:cNvSpPr>
            <a:spLocks noGrp="1"/>
          </p:cNvSpPr>
          <p:nvPr>
            <p:ph type="sldNum" idx="150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5047-3952-4A58-888D-D89EB3B7FD86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9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2280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281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282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283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 type="dt" idx="151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 type="ftr" idx="152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 type="sldNum" idx="153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57A9-8705-4EE3-A431-1C7F215E1027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5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2326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327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328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329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 type="dt" idx="154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 type="ftr" idx="155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 type="sldNum" idx="156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9016-48A6-4860-AECD-B27C34BFA0C5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1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2372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373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374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375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8" name="PlaceHolder 3"/>
          <p:cNvSpPr>
            <a:spLocks noGrp="1"/>
          </p:cNvSpPr>
          <p:nvPr>
            <p:ph type="dt" idx="157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79" name="PlaceHolder 4"/>
          <p:cNvSpPr>
            <a:spLocks noGrp="1"/>
          </p:cNvSpPr>
          <p:nvPr>
            <p:ph type="ftr" idx="158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80" name="PlaceHolder 5"/>
          <p:cNvSpPr>
            <a:spLocks noGrp="1"/>
          </p:cNvSpPr>
          <p:nvPr>
            <p:ph type="sldNum" idx="159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9C6C-A535-4F94-AC3F-FA8F7AFD6806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7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2418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419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420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421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 type="dt" idx="160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 type="ftr" idx="161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26" name="PlaceHolder 5"/>
          <p:cNvSpPr>
            <a:spLocks noGrp="1"/>
          </p:cNvSpPr>
          <p:nvPr>
            <p:ph type="sldNum" idx="162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98EE-D610-45B6-8CAE-6930138DC287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3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2464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465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466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467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 type="dt" idx="163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 type="ftr" idx="164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72" name="PlaceHolder 5"/>
          <p:cNvSpPr>
            <a:spLocks noGrp="1"/>
          </p:cNvSpPr>
          <p:nvPr>
            <p:ph type="sldNum" idx="165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C12F-EB54-4DA5-A683-740BE910C181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9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2510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511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512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513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 type="dt" idx="166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17" name="PlaceHolder 4"/>
          <p:cNvSpPr>
            <a:spLocks noGrp="1"/>
          </p:cNvSpPr>
          <p:nvPr>
            <p:ph type="ftr" idx="167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18" name="PlaceHolder 5"/>
          <p:cNvSpPr>
            <a:spLocks noGrp="1"/>
          </p:cNvSpPr>
          <p:nvPr>
            <p:ph type="sldNum" idx="168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F883-2B31-42F6-A7FF-BAF25E91E8B0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5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2556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557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558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559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 type="dt" idx="169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 type="ftr" idx="170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64" name="PlaceHolder 5"/>
          <p:cNvSpPr>
            <a:spLocks noGrp="1"/>
          </p:cNvSpPr>
          <p:nvPr>
            <p:ph type="sldNum" idx="171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199C-D8F1-4984-9589-5DCED88BE198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1" name="Group 2"/>
          <p:cNvGrpSpPr/>
          <p:nvPr/>
        </p:nvGrpSpPr>
        <p:grpSpPr>
          <a:xfrm>
            <a:off x="495360" y="992160"/>
            <a:ext cx="8832600" cy="1600200"/>
            <a:chOff x="495360" y="992160"/>
            <a:chExt cx="8832600" cy="1600200"/>
          </a:xfrm>
        </p:grpSpPr>
        <p:sp>
          <p:nvSpPr>
            <p:cNvPr id="2602" name="Arc 3"/>
            <p:cNvSpPr/>
            <p:nvPr/>
          </p:nvSpPr>
          <p:spPr>
            <a:xfrm>
              <a:off x="6182640" y="992160"/>
              <a:ext cx="314532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603" name="Arc 4"/>
            <p:cNvSpPr/>
            <p:nvPr/>
          </p:nvSpPr>
          <p:spPr>
            <a:xfrm>
              <a:off x="6102000" y="1157400"/>
              <a:ext cx="314892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604" name="Arc 5"/>
            <p:cNvSpPr/>
            <p:nvPr/>
          </p:nvSpPr>
          <p:spPr>
            <a:xfrm>
              <a:off x="6055560" y="1378080"/>
              <a:ext cx="314676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605" name="AutoShape 6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 type="dt" idx="172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09" name="PlaceHolder 4"/>
          <p:cNvSpPr>
            <a:spLocks noGrp="1"/>
          </p:cNvSpPr>
          <p:nvPr>
            <p:ph type="ftr" idx="173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10" name="PlaceHolder 5"/>
          <p:cNvSpPr>
            <a:spLocks noGrp="1"/>
          </p:cNvSpPr>
          <p:nvPr>
            <p:ph type="sldNum" idx="174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F518-9351-4589-8D08-4479A15B740E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6"/>
          <p:cNvSpPr/>
          <p:nvPr/>
        </p:nvSpPr>
        <p:spPr>
          <a:xfrm>
            <a:off x="0" y="6678720"/>
            <a:ext cx="990612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8" name="矩形 7"/>
          <p:cNvSpPr/>
          <p:nvPr/>
        </p:nvSpPr>
        <p:spPr>
          <a:xfrm>
            <a:off x="0" y="0"/>
            <a:ext cx="990612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743040" y="3197160"/>
            <a:ext cx="842004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82080" y="6400440"/>
            <a:ext cx="34671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5778360" y="6400440"/>
            <a:ext cx="40449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4457520" y="6400440"/>
            <a:ext cx="99036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7C5A-7FA0-400A-B405-7E365FC17CBF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4680" y="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实用语文（第一册）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6"/>
          <p:cNvSpPr/>
          <p:nvPr/>
        </p:nvSpPr>
        <p:spPr>
          <a:xfrm>
            <a:off x="0" y="6678720"/>
            <a:ext cx="990612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3" name="矩形 7"/>
          <p:cNvSpPr/>
          <p:nvPr/>
        </p:nvSpPr>
        <p:spPr>
          <a:xfrm>
            <a:off x="0" y="0"/>
            <a:ext cx="990612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4" name="矩形 8"/>
          <p:cNvSpPr/>
          <p:nvPr/>
        </p:nvSpPr>
        <p:spPr>
          <a:xfrm>
            <a:off x="495360" y="1411200"/>
            <a:ext cx="8915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78840" y="6400440"/>
            <a:ext cx="34671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5775480" y="6400440"/>
            <a:ext cx="40449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4457520" y="6400440"/>
            <a:ext cx="99036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2534-113D-4284-BCF5-BBD560F2FAF0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矩形 6"/>
          <p:cNvSpPr/>
          <p:nvPr/>
        </p:nvSpPr>
        <p:spPr>
          <a:xfrm>
            <a:off x="0" y="6678720"/>
            <a:ext cx="990612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7" name="矩形 7"/>
          <p:cNvSpPr/>
          <p:nvPr/>
        </p:nvSpPr>
        <p:spPr>
          <a:xfrm>
            <a:off x="0" y="0"/>
            <a:ext cx="990612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8" name="矩形 8"/>
          <p:cNvSpPr/>
          <p:nvPr/>
        </p:nvSpPr>
        <p:spPr>
          <a:xfrm>
            <a:off x="743040" y="3143160"/>
            <a:ext cx="842004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82080" y="6400440"/>
            <a:ext cx="34671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78360" y="6400440"/>
            <a:ext cx="40449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457520" y="6400440"/>
            <a:ext cx="99036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FD1F-AC8F-4C43-AC52-F607AC331E6B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6"/>
          <p:cNvSpPr/>
          <p:nvPr/>
        </p:nvSpPr>
        <p:spPr>
          <a:xfrm>
            <a:off x="0" y="6678720"/>
            <a:ext cx="990612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1" name="矩形 7"/>
          <p:cNvSpPr/>
          <p:nvPr/>
        </p:nvSpPr>
        <p:spPr>
          <a:xfrm>
            <a:off x="0" y="0"/>
            <a:ext cx="990612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2" name="矩形 8"/>
          <p:cNvSpPr/>
          <p:nvPr/>
        </p:nvSpPr>
        <p:spPr>
          <a:xfrm>
            <a:off x="495360" y="1411200"/>
            <a:ext cx="8915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82080" y="6400440"/>
            <a:ext cx="34671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778360" y="6400440"/>
            <a:ext cx="40449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4457520" y="6400440"/>
            <a:ext cx="99036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7B96-EE09-4DEC-B696-6555A3397CEA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hityhoo.8u8.com/img/haizi2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350640" y="476280"/>
            <a:ext cx="2228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Franklin Gothic Medium"/>
              </a:rPr>
              <a:t>第四单元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2066400" y="692280"/>
            <a:ext cx="226404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Franklin Gothic Book"/>
                <a:ea typeface="华文行楷"/>
              </a:rPr>
              <a:t>现当代诗歌一组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TextBox 2"/>
          <p:cNvSpPr/>
          <p:nvPr/>
        </p:nvSpPr>
        <p:spPr>
          <a:xfrm>
            <a:off x="2865600" y="1197000"/>
            <a:ext cx="26701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深入感知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79" name="Rectangle 3"/>
          <p:cNvSpPr/>
          <p:nvPr/>
        </p:nvSpPr>
        <p:spPr>
          <a:xfrm>
            <a:off x="200160" y="2565360"/>
            <a:ext cx="8915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Franklin Gothic Book"/>
                <a:ea typeface="幼圆"/>
              </a:rPr>
              <a:t>怎样理解“面朝大海”、 “春暖花开”这两个意象？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80" name="矩形 7"/>
          <p:cNvSpPr/>
          <p:nvPr/>
        </p:nvSpPr>
        <p:spPr>
          <a:xfrm>
            <a:off x="384120" y="3716280"/>
            <a:ext cx="823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面朝大海”即人应心胸开阔，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春暖花开”即世界一片美好。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Text Box 4"/>
          <p:cNvSpPr/>
          <p:nvPr/>
        </p:nvSpPr>
        <p:spPr>
          <a:xfrm>
            <a:off x="0" y="4076640"/>
            <a:ext cx="85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幼圆"/>
                <a:ea typeface="幼圆"/>
              </a:rPr>
              <a:t>2. 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  <a:ea typeface="幼圆"/>
              </a:rPr>
              <a:t>是不是作者渴望的幸福就是具体的去做这些事？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82" name="Text Box 5"/>
          <p:cNvSpPr/>
          <p:nvPr/>
        </p:nvSpPr>
        <p:spPr>
          <a:xfrm>
            <a:off x="0" y="4869000"/>
            <a:ext cx="9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Franklin Gothic Book"/>
                <a:ea typeface="幼圆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这是诗歌的意象，并不是具体的事件描述，这其实是表现了作者对尘世幸福的向往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83" name="Text Box 8"/>
          <p:cNvSpPr/>
          <p:nvPr/>
        </p:nvSpPr>
        <p:spPr>
          <a:xfrm>
            <a:off x="272880" y="2205000"/>
            <a:ext cx="84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幼圆"/>
                <a:ea typeface="幼圆"/>
              </a:rPr>
              <a:t>1. 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  <a:ea typeface="幼圆"/>
              </a:rPr>
              <a:t>朗读第一节，作者想要的幸福是什么？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84" name="Text Box 9"/>
          <p:cNvSpPr/>
          <p:nvPr/>
        </p:nvSpPr>
        <p:spPr>
          <a:xfrm>
            <a:off x="488880" y="314172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喂马，劈柴，周游世界，关心粮食和蔬菜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85" name="TextBox 2"/>
          <p:cNvSpPr/>
          <p:nvPr/>
        </p:nvSpPr>
        <p:spPr>
          <a:xfrm>
            <a:off x="3224160" y="692280"/>
            <a:ext cx="26701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深入感知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2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1000"/>
                                        <p:tgtEl>
                                          <p:spTgt spid="2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1000"/>
                                        <p:tgtEl>
                                          <p:spTgt spid="2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2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Text Box 6"/>
          <p:cNvSpPr/>
          <p:nvPr/>
        </p:nvSpPr>
        <p:spPr>
          <a:xfrm>
            <a:off x="60480" y="3633840"/>
            <a:ext cx="9905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幼圆"/>
                <a:ea typeface="幼圆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  <a:ea typeface="幼圆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  <a:ea typeface="幼圆"/>
              </a:rPr>
              <a:t>诗里的“房子”是什么？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87" name="Text Box 7"/>
          <p:cNvSpPr/>
          <p:nvPr/>
        </p:nvSpPr>
        <p:spPr>
          <a:xfrm>
            <a:off x="382680" y="4724280"/>
            <a:ext cx="955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Franklin Gothic Book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房子，指的是作者的</a:t>
            </a:r>
            <a:r>
              <a:rPr b="1" lang="zh-CN" sz="28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精神家园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。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88" name="Text Box 8"/>
          <p:cNvSpPr/>
          <p:nvPr/>
        </p:nvSpPr>
        <p:spPr>
          <a:xfrm>
            <a:off x="0" y="1557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幼圆"/>
                <a:ea typeface="幼圆"/>
              </a:rPr>
              <a:t>３</a:t>
            </a:r>
            <a:r>
              <a:rPr b="1" lang="en-US" sz="2400" spc="-1" strike="noStrike">
                <a:solidFill>
                  <a:srgbClr val="0000cc"/>
                </a:solidFill>
                <a:latin typeface="幼圆"/>
                <a:ea typeface="幼圆"/>
              </a:rPr>
              <a:t>.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  <a:ea typeface="幼圆"/>
              </a:rPr>
              <a:t>那么作者为什么用这些意象？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89" name="Text Box 9"/>
          <p:cNvSpPr/>
          <p:nvPr/>
        </p:nvSpPr>
        <p:spPr>
          <a:xfrm>
            <a:off x="393840" y="227664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作者是农民的儿子童年在乡村里度过，他对乡村生活是熟悉的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90" name="TextBox 2"/>
          <p:cNvSpPr/>
          <p:nvPr/>
        </p:nvSpPr>
        <p:spPr>
          <a:xfrm>
            <a:off x="3224160" y="692280"/>
            <a:ext cx="26701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深入感知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1000"/>
                                        <p:tgtEl>
                                          <p:spTgt spid="2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10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1000"/>
                                        <p:tgtEl>
                                          <p:spTgt spid="2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Text Box 2"/>
          <p:cNvSpPr/>
          <p:nvPr/>
        </p:nvSpPr>
        <p:spPr>
          <a:xfrm>
            <a:off x="0" y="1219320"/>
            <a:ext cx="990612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从明天起，做一个幸福的人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喂马，劈柴，周游世界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幼圆"/>
              </a:rPr>
              <a:t>         　……………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闲散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幼圆"/>
              </a:rPr>
              <a:t>    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从明天起，关心粮食和蔬菜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幼圆"/>
              </a:rPr>
              <a:t>　　　……………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凡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我有一所房子，面朝大海，春暖花开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 隐逸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92" name="Text Box 3"/>
          <p:cNvSpPr/>
          <p:nvPr/>
        </p:nvSpPr>
        <p:spPr>
          <a:xfrm>
            <a:off x="7475400" y="2590920"/>
            <a:ext cx="549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93" name="AutoShape 4"/>
          <p:cNvSpPr/>
          <p:nvPr/>
        </p:nvSpPr>
        <p:spPr>
          <a:xfrm>
            <a:off x="7759800" y="2209680"/>
            <a:ext cx="82440" cy="1752840"/>
          </a:xfrm>
          <a:custGeom>
            <a:avLst/>
            <a:gdLst>
              <a:gd name="textAreaLeft" fmla="*/ 0 w 82440"/>
              <a:gd name="textAreaRight" fmla="*/ 29880 w 8244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94" name="Text Box 5"/>
          <p:cNvSpPr/>
          <p:nvPr/>
        </p:nvSpPr>
        <p:spPr>
          <a:xfrm>
            <a:off x="7842240" y="2743200"/>
            <a:ext cx="206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清新潮润（虚无缥缈）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95" name="Text Box 6"/>
          <p:cNvSpPr/>
          <p:nvPr/>
        </p:nvSpPr>
        <p:spPr>
          <a:xfrm>
            <a:off x="7924680" y="152388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向往幸福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96" name="Line 7"/>
          <p:cNvSpPr/>
          <p:nvPr/>
        </p:nvSpPr>
        <p:spPr>
          <a:xfrm>
            <a:off x="858528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Text Box 2"/>
          <p:cNvSpPr/>
          <p:nvPr/>
        </p:nvSpPr>
        <p:spPr>
          <a:xfrm>
            <a:off x="507960" y="260280"/>
            <a:ext cx="4367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98" name="Text Box 5"/>
          <p:cNvSpPr/>
          <p:nvPr/>
        </p:nvSpPr>
        <p:spPr>
          <a:xfrm>
            <a:off x="271440" y="170028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ranklin Gothic Book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Franklin Gothic Book"/>
                <a:ea typeface="楷体_GB2312"/>
              </a:rPr>
              <a:t>从明天起”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99" name="Text Box 6"/>
          <p:cNvSpPr/>
          <p:nvPr/>
        </p:nvSpPr>
        <p:spPr>
          <a:xfrm>
            <a:off x="2768760" y="1052640"/>
            <a:ext cx="35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楷体_GB2312"/>
              </a:rPr>
              <a:t>喂马、劈柴、周游世界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00" name="Text Box 7"/>
          <p:cNvSpPr/>
          <p:nvPr/>
        </p:nvSpPr>
        <p:spPr>
          <a:xfrm>
            <a:off x="2792520" y="1628640"/>
            <a:ext cx="30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楷体_GB2312"/>
              </a:rPr>
              <a:t>粮食和蔬菜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01" name="Text Box 8"/>
          <p:cNvSpPr/>
          <p:nvPr/>
        </p:nvSpPr>
        <p:spPr>
          <a:xfrm>
            <a:off x="2768760" y="2276640"/>
            <a:ext cx="35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楷体_GB2312"/>
              </a:rPr>
              <a:t>有一所房子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02" name="AutoShape 9"/>
          <p:cNvSpPr/>
          <p:nvPr/>
        </p:nvSpPr>
        <p:spPr>
          <a:xfrm>
            <a:off x="2535120" y="1197000"/>
            <a:ext cx="77760" cy="1368360"/>
          </a:xfrm>
          <a:custGeom>
            <a:avLst/>
            <a:gdLst>
              <a:gd name="textAreaLeft" fmla="*/ 49680 w 77760"/>
              <a:gd name="textAreaRight" fmla="*/ 78120 w 777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03" name="AutoShape 10"/>
          <p:cNvSpPr/>
          <p:nvPr/>
        </p:nvSpPr>
        <p:spPr>
          <a:xfrm>
            <a:off x="6356520" y="1197000"/>
            <a:ext cx="79200" cy="1368360"/>
          </a:xfrm>
          <a:custGeom>
            <a:avLst/>
            <a:gdLst>
              <a:gd name="textAreaLeft" fmla="*/ 0 w 79200"/>
              <a:gd name="textAreaRight" fmla="*/ 28440 w 792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04" name="Text Box 11"/>
          <p:cNvSpPr/>
          <p:nvPr/>
        </p:nvSpPr>
        <p:spPr>
          <a:xfrm>
            <a:off x="6669000" y="1628640"/>
            <a:ext cx="22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Franklin Gothic Book"/>
                <a:ea typeface="楷体_GB2312"/>
              </a:rPr>
              <a:t>尘世幸福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05" name="Text Box 12"/>
          <p:cNvSpPr/>
          <p:nvPr/>
        </p:nvSpPr>
        <p:spPr>
          <a:xfrm>
            <a:off x="660240" y="3809880"/>
            <a:ext cx="875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06" name="Text Box 13"/>
          <p:cNvSpPr/>
          <p:nvPr/>
        </p:nvSpPr>
        <p:spPr>
          <a:xfrm>
            <a:off x="560520" y="3284640"/>
            <a:ext cx="682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第一节，诗人描绘了尘世生活的图景，这一图景可以让人达到“做一个幸福的人”的理想，但是这一切都将“从明天起”，所以今天仍然孤独，仍然徘徊在尘世之外。诗句所表现的清新外表之下却透出隐含的悲凉。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07" name="TextBox 2"/>
          <p:cNvSpPr/>
          <p:nvPr/>
        </p:nvSpPr>
        <p:spPr>
          <a:xfrm>
            <a:off x="3152880" y="404640"/>
            <a:ext cx="26701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梳理思路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Text Box 29"/>
          <p:cNvSpPr/>
          <p:nvPr/>
        </p:nvSpPr>
        <p:spPr>
          <a:xfrm>
            <a:off x="415800" y="2133720"/>
            <a:ext cx="91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通读第二节，探讨：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幸福是什么样的？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09" name="Text Box 38"/>
          <p:cNvSpPr/>
          <p:nvPr/>
        </p:nvSpPr>
        <p:spPr>
          <a:xfrm>
            <a:off x="704880" y="2997360"/>
            <a:ext cx="72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Franklin Gothic Book"/>
                <a:ea typeface="幼圆"/>
              </a:rPr>
              <a:t>和每一个亲人通信，告诉每一个人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10" name="Text Box 9"/>
          <p:cNvSpPr/>
          <p:nvPr/>
        </p:nvSpPr>
        <p:spPr>
          <a:xfrm>
            <a:off x="488880" y="3716280"/>
            <a:ext cx="77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从第二节是不是可以看出作者什么样的情感？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11" name="Text Box 10"/>
          <p:cNvSpPr/>
          <p:nvPr/>
        </p:nvSpPr>
        <p:spPr>
          <a:xfrm>
            <a:off x="560520" y="443700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Franklin Gothic Book"/>
                <a:ea typeface="幼圆"/>
              </a:rPr>
              <a:t>珍惜亲情、友情，希望和人们进行精神沟通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12" name="TextBox 2"/>
          <p:cNvSpPr/>
          <p:nvPr/>
        </p:nvSpPr>
        <p:spPr>
          <a:xfrm>
            <a:off x="3008160" y="765000"/>
            <a:ext cx="26704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深入感知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1000"/>
                                        <p:tgtEl>
                                          <p:spTgt spid="2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10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1000"/>
                                        <p:tgtEl>
                                          <p:spTgt spid="2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Text Box 2"/>
          <p:cNvSpPr/>
          <p:nvPr/>
        </p:nvSpPr>
        <p:spPr>
          <a:xfrm>
            <a:off x="507960" y="260280"/>
            <a:ext cx="4367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14" name="Text Box 5"/>
          <p:cNvSpPr/>
          <p:nvPr/>
        </p:nvSpPr>
        <p:spPr>
          <a:xfrm>
            <a:off x="200160" y="2276640"/>
            <a:ext cx="25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ranklin Gothic Book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Franklin Gothic Book"/>
                <a:ea typeface="楷体_GB2312"/>
              </a:rPr>
              <a:t>从明天起”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15" name="AutoShape 6"/>
          <p:cNvSpPr/>
          <p:nvPr/>
        </p:nvSpPr>
        <p:spPr>
          <a:xfrm>
            <a:off x="2576520" y="1844640"/>
            <a:ext cx="79200" cy="1297080"/>
          </a:xfrm>
          <a:custGeom>
            <a:avLst/>
            <a:gdLst>
              <a:gd name="textAreaLeft" fmla="*/ 50760 w 79200"/>
              <a:gd name="textAreaRight" fmla="*/ 79560 w 792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16" name="Text Box 7"/>
          <p:cNvSpPr/>
          <p:nvPr/>
        </p:nvSpPr>
        <p:spPr>
          <a:xfrm>
            <a:off x="2720880" y="184464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楷体_GB2312"/>
              </a:rPr>
              <a:t>和每一个亲人通信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17" name="Text Box 8"/>
          <p:cNvSpPr/>
          <p:nvPr/>
        </p:nvSpPr>
        <p:spPr>
          <a:xfrm>
            <a:off x="2720880" y="2852640"/>
            <a:ext cx="30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楷体_GB2312"/>
              </a:rPr>
              <a:t>告诉他们我的幸福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18" name="AutoShape 9"/>
          <p:cNvSpPr/>
          <p:nvPr/>
        </p:nvSpPr>
        <p:spPr>
          <a:xfrm>
            <a:off x="5600880" y="2060640"/>
            <a:ext cx="79200" cy="1297080"/>
          </a:xfrm>
          <a:custGeom>
            <a:avLst/>
            <a:gdLst>
              <a:gd name="textAreaLeft" fmla="*/ 0 w 79200"/>
              <a:gd name="textAreaRight" fmla="*/ 28440 w 792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19" name="Text Box 10"/>
          <p:cNvSpPr/>
          <p:nvPr/>
        </p:nvSpPr>
        <p:spPr>
          <a:xfrm>
            <a:off x="5961240" y="2276640"/>
            <a:ext cx="24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Franklin Gothic Book"/>
                <a:ea typeface="楷体_GB2312"/>
              </a:rPr>
              <a:t>精神沟通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20" name="Text Box 11"/>
          <p:cNvSpPr/>
          <p:nvPr/>
        </p:nvSpPr>
        <p:spPr>
          <a:xfrm>
            <a:off x="272880" y="3645000"/>
            <a:ext cx="74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，诗人要把这种幸福告诉每一个亲人，每一个人，希望能把祝福与问候的温暖传递个每一个人。他并不希望永远沉默，他也希望能够和人们进行精神上的沟通，这是诗人向外部世界的敞开的刹那。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21" name="TextBox 2"/>
          <p:cNvSpPr/>
          <p:nvPr/>
        </p:nvSpPr>
        <p:spPr>
          <a:xfrm>
            <a:off x="3008160" y="765000"/>
            <a:ext cx="26704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梳理思路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WordArt 5"/>
          <p:cNvSpPr txBox="1"/>
          <p:nvPr/>
        </p:nvSpPr>
        <p:spPr>
          <a:xfrm>
            <a:off x="920880" y="549360"/>
            <a:ext cx="148572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第三节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723" name="Text Box 8"/>
          <p:cNvSpPr/>
          <p:nvPr/>
        </p:nvSpPr>
        <p:spPr>
          <a:xfrm>
            <a:off x="895320" y="457200"/>
            <a:ext cx="568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24" name="Text Box 12"/>
          <p:cNvSpPr/>
          <p:nvPr/>
        </p:nvSpPr>
        <p:spPr>
          <a:xfrm>
            <a:off x="344520" y="2852640"/>
            <a:ext cx="756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25" name="Text Box 13"/>
          <p:cNvSpPr/>
          <p:nvPr/>
        </p:nvSpPr>
        <p:spPr>
          <a:xfrm>
            <a:off x="0" y="3860640"/>
            <a:ext cx="955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　２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作者给陌生人祝福 表现了什么？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26" name="Text Box 14"/>
          <p:cNvSpPr/>
          <p:nvPr/>
        </p:nvSpPr>
        <p:spPr>
          <a:xfrm>
            <a:off x="0" y="4581360"/>
            <a:ext cx="93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2400" spc="-1" strike="noStrike">
                <a:solidFill>
                  <a:srgbClr val="6600cc"/>
                </a:solidFill>
                <a:latin typeface="Franklin Gothic Book"/>
                <a:ea typeface="幼圆"/>
              </a:rPr>
              <a:t>此处表现作者对他人的爱。也表现了作者博爱宽广的胸襟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27" name="Text Box 6"/>
          <p:cNvSpPr/>
          <p:nvPr/>
        </p:nvSpPr>
        <p:spPr>
          <a:xfrm>
            <a:off x="0" y="2349360"/>
            <a:ext cx="92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1"/>
                </a:solidFill>
                <a:latin typeface="幼圆"/>
                <a:ea typeface="幼圆"/>
              </a:rPr>
              <a:t> </a:t>
            </a:r>
            <a:r>
              <a:rPr b="1" lang="zh-CN" sz="2400" spc="-1" strike="noStrike">
                <a:solidFill>
                  <a:srgbClr val="111111"/>
                </a:solidFill>
                <a:latin typeface="幼圆"/>
                <a:ea typeface="幼圆"/>
              </a:rPr>
              <a:t>１</a:t>
            </a:r>
            <a:r>
              <a:rPr b="1" lang="en-US" sz="2400" spc="-1" strike="noStrike">
                <a:solidFill>
                  <a:srgbClr val="111111"/>
                </a:solidFill>
                <a:latin typeface="幼圆"/>
                <a:ea typeface="幼圆"/>
              </a:rPr>
              <a:t>.</a:t>
            </a:r>
            <a:r>
              <a:rPr b="1" lang="zh-CN" sz="2400" spc="-1" strike="noStrike">
                <a:solidFill>
                  <a:srgbClr val="111111"/>
                </a:solidFill>
                <a:latin typeface="幼圆"/>
                <a:ea typeface="幼圆"/>
              </a:rPr>
              <a:t>作者为什么要给每一条河流每一座山取一个温暖的名字？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28" name="Text Box 7"/>
          <p:cNvSpPr/>
          <p:nvPr/>
        </p:nvSpPr>
        <p:spPr>
          <a:xfrm>
            <a:off x="344520" y="3213000"/>
            <a:ext cx="65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Franklin Gothic Book"/>
                <a:ea typeface="幼圆"/>
              </a:rPr>
              <a:t>体现了作者对生活，对自然的热爱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29" name="TextBox 2"/>
          <p:cNvSpPr/>
          <p:nvPr/>
        </p:nvSpPr>
        <p:spPr>
          <a:xfrm>
            <a:off x="3008160" y="765000"/>
            <a:ext cx="26704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深入感知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"/>
                                        <p:tgtEl>
                                          <p:spTgt spid="2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4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1000"/>
                                        <p:tgtEl>
                                          <p:spTgt spid="2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Text Box 2"/>
          <p:cNvSpPr/>
          <p:nvPr/>
        </p:nvSpPr>
        <p:spPr>
          <a:xfrm>
            <a:off x="507960" y="260280"/>
            <a:ext cx="4367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31" name="Text Box 5"/>
          <p:cNvSpPr/>
          <p:nvPr/>
        </p:nvSpPr>
        <p:spPr>
          <a:xfrm>
            <a:off x="415800" y="2205000"/>
            <a:ext cx="19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Franklin Gothic Book"/>
                <a:ea typeface="楷体_GB2312"/>
              </a:rPr>
              <a:t>尘世祝福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32" name="AutoShape 6"/>
          <p:cNvSpPr/>
          <p:nvPr/>
        </p:nvSpPr>
        <p:spPr>
          <a:xfrm>
            <a:off x="2289240" y="1773360"/>
            <a:ext cx="156960" cy="1511280"/>
          </a:xfrm>
          <a:custGeom>
            <a:avLst/>
            <a:gdLst>
              <a:gd name="textAreaLeft" fmla="*/ 100440 w 156960"/>
              <a:gd name="textAreaRight" fmla="*/ 157320 w 1569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33" name="Text Box 7"/>
          <p:cNvSpPr/>
          <p:nvPr/>
        </p:nvSpPr>
        <p:spPr>
          <a:xfrm>
            <a:off x="2505240" y="1557360"/>
            <a:ext cx="39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楷体_GB2312"/>
              </a:rPr>
              <a:t>愿你有一个灿烂的前程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34" name="Text Box 8"/>
          <p:cNvSpPr/>
          <p:nvPr/>
        </p:nvSpPr>
        <p:spPr>
          <a:xfrm>
            <a:off x="2505240" y="2276640"/>
            <a:ext cx="33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楷体_GB2312"/>
              </a:rPr>
              <a:t>愿有情人终成眷属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35" name="Text Box 9"/>
          <p:cNvSpPr/>
          <p:nvPr/>
        </p:nvSpPr>
        <p:spPr>
          <a:xfrm>
            <a:off x="2576520" y="292428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楷体_GB2312"/>
              </a:rPr>
              <a:t>愿你在尘世获得幸福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36" name="AutoShape 10"/>
          <p:cNvSpPr/>
          <p:nvPr/>
        </p:nvSpPr>
        <p:spPr>
          <a:xfrm>
            <a:off x="5889600" y="1773360"/>
            <a:ext cx="79560" cy="1582560"/>
          </a:xfrm>
          <a:custGeom>
            <a:avLst/>
            <a:gdLst>
              <a:gd name="textAreaLeft" fmla="*/ 0 w 79560"/>
              <a:gd name="textAreaRight" fmla="*/ 28800 w 79560"/>
              <a:gd name="textAreaTop" fmla="*/ 41040 h 1582560"/>
              <a:gd name="textAreaBottom" fmla="*/ 1541520 h 15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37" name="Text Box 11"/>
          <p:cNvSpPr/>
          <p:nvPr/>
        </p:nvSpPr>
        <p:spPr>
          <a:xfrm>
            <a:off x="6105600" y="1844640"/>
            <a:ext cx="28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只愿面朝大海，春暖花开”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38" name="Text Box 12"/>
          <p:cNvSpPr/>
          <p:nvPr/>
        </p:nvSpPr>
        <p:spPr>
          <a:xfrm>
            <a:off x="272880" y="3429000"/>
            <a:ext cx="790596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第三节，诗人给予人们最世俗的三个祝福，也恰是最质朴，最真诚的三个祝福。但是诗人却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只愿面朝大海，春暖花开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，只愿一个人留在尘世之外，这份遗世独立的情怀不完全是来自社会，更是来自一种与生俱来的悲剧情怀。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39" name="TextBox 2"/>
          <p:cNvSpPr/>
          <p:nvPr/>
        </p:nvSpPr>
        <p:spPr>
          <a:xfrm>
            <a:off x="3008160" y="765000"/>
            <a:ext cx="26704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梳理思路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Rectangle 5"/>
          <p:cNvSpPr/>
          <p:nvPr/>
        </p:nvSpPr>
        <p:spPr>
          <a:xfrm>
            <a:off x="0" y="1700280"/>
            <a:ext cx="990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１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诗中“从明天起”有什么深层意义？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         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41" name="TextBox 1"/>
          <p:cNvSpPr/>
          <p:nvPr/>
        </p:nvSpPr>
        <p:spPr>
          <a:xfrm>
            <a:off x="193680" y="2924280"/>
            <a:ext cx="82882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Franklin Gothic Book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Franklin Gothic Book"/>
                <a:ea typeface="宋体"/>
              </a:rPr>
              <a:t>从明天起”，说明今天仍然不幸福，诗人的生活与他描述的正相反，他无暇关心物质，不会生活，仍然孤独，表达了作者对幸福的渴望。诗句所表现出来的清新外表之下透出隐含的悲凉。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Franklin Gothic Book"/>
                <a:ea typeface="宋体"/>
              </a:rPr>
              <a:t>（结合诗人生活现状，与诗句内容形成鲜明对比）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42" name="TextBox 2"/>
          <p:cNvSpPr/>
          <p:nvPr/>
        </p:nvSpPr>
        <p:spPr>
          <a:xfrm>
            <a:off x="3008160" y="765000"/>
            <a:ext cx="26704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合作探讨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9" name="" descr=""/>
          <p:cNvPicPr/>
          <p:nvPr/>
        </p:nvPicPr>
        <p:blipFill>
          <a:blip r:embed="rId2"/>
          <a:stretch/>
        </p:blipFill>
        <p:spPr>
          <a:xfrm>
            <a:off x="909972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650" name=""/>
          <p:cNvSpPr/>
          <p:nvPr/>
        </p:nvSpPr>
        <p:spPr>
          <a:xfrm>
            <a:off x="631800" y="1773360"/>
            <a:ext cx="678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面朝大海，春暖花开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   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4222800" y="407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海子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 spd="slow" advTm="8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" dur="20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26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26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3296880" y="620280"/>
            <a:ext cx="2297160" cy="70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f2f"/>
                </a:solidFill>
                <a:latin typeface="Franklin Gothic Medium"/>
              </a:rPr>
              <a:t>海子之死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7265880" cy="391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ranklin Gothic Book"/>
              </a:rPr>
              <a:t>海子生前的好友、诗人西川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子没有幸福的找到他在生活中的一席之地，这或许是由于他的偏颇。在他的房间里，你找不到电视机 ，录音机，甚至收音机。海子在贫穷，单调与孤独中写作，他既不会跳舞、游泳，也不会骑自行车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57960" y="2421000"/>
            <a:ext cx="24512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Rectangle 5"/>
          <p:cNvSpPr/>
          <p:nvPr/>
        </p:nvSpPr>
        <p:spPr>
          <a:xfrm>
            <a:off x="415800" y="1557360"/>
            <a:ext cx="938844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黑体"/>
              </a:rPr>
              <a:t>、诗中“闪电”给人什么感受？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黑体"/>
              </a:rPr>
              <a:t>作者为什么用“闪电”这个意象？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         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47" name="TextBox 1"/>
          <p:cNvSpPr/>
          <p:nvPr/>
        </p:nvSpPr>
        <p:spPr>
          <a:xfrm>
            <a:off x="349200" y="2781360"/>
            <a:ext cx="56959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不确定，不持久，转瞬即逝。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48" name="TextBox 2"/>
          <p:cNvSpPr/>
          <p:nvPr/>
        </p:nvSpPr>
        <p:spPr>
          <a:xfrm>
            <a:off x="378000" y="3549600"/>
            <a:ext cx="8972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这里表现了这是作者瞬间的一种感受，他与别人不一样没无法融入这个尘世。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49" name="TextBox 3"/>
          <p:cNvSpPr/>
          <p:nvPr/>
        </p:nvSpPr>
        <p:spPr>
          <a:xfrm>
            <a:off x="351000" y="4486320"/>
            <a:ext cx="8923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在西方诗歌传统中，它具有天启和神谕的意义，是上天与神界在关键的时候给孩子以启示。海子在“闪电”之前加了“幸福”二字，但此幸福非彼幸福，海子承认别人的幸福，承认尘世的幸福，但自己却无法融入这样的幸福。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50" name="TextBox 2"/>
          <p:cNvSpPr/>
          <p:nvPr/>
        </p:nvSpPr>
        <p:spPr>
          <a:xfrm>
            <a:off x="3008160" y="765000"/>
            <a:ext cx="26704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合作探讨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7" dur="2000"/>
                                        <p:tgtEl>
                                          <p:spTgt spid="2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20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"/>
          <p:cNvSpPr txBox="1"/>
          <p:nvPr/>
        </p:nvSpPr>
        <p:spPr>
          <a:xfrm>
            <a:off x="-360" y="2636640"/>
            <a:ext cx="819324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47546"/>
                </a:solidFill>
                <a:latin typeface="幼圆"/>
                <a:ea typeface="幼圆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  <a:ea typeface="宋体"/>
              </a:rPr>
              <a:t>前面的是尘世的幸福（此岸），而作者向往精神的追求（彼岸）。所以这个</a:t>
            </a:r>
            <a:r>
              <a:rPr b="1" lang="zh-CN" sz="2400" spc="-1" strike="noStrike">
                <a:solidFill>
                  <a:srgbClr val="0000cc"/>
                </a:solidFill>
                <a:latin typeface="Franklin Gothic Book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  <a:ea typeface="宋体"/>
              </a:rPr>
              <a:t>只愿</a:t>
            </a:r>
            <a:r>
              <a:rPr b="1" lang="zh-CN" sz="2400" spc="-1" strike="noStrike">
                <a:solidFill>
                  <a:srgbClr val="0000cc"/>
                </a:solidFill>
                <a:latin typeface="Franklin Gothic Book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  <a:ea typeface="宋体"/>
              </a:rPr>
              <a:t>，可以看做是作者在犹豫彷徨以后终于做出了决定，独面大海，背对世俗，说明尘世的幸福与精神追求的一种对立。作者对两者的渴望却又无法同时获得这两种幸福。作者由此苦闷，这也就是作者走上绝路的根本原因。另一方面也看出了作者的本质孤独和一种清高的追求。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2" name="Rectangle 5"/>
          <p:cNvSpPr/>
          <p:nvPr/>
        </p:nvSpPr>
        <p:spPr>
          <a:xfrm>
            <a:off x="200160" y="1628640"/>
            <a:ext cx="7761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者最后说，我只愿面朝大海，春暖花开。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里的“只愿”表达了什么意思？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         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53" name="TextBox 2"/>
          <p:cNvSpPr/>
          <p:nvPr/>
        </p:nvSpPr>
        <p:spPr>
          <a:xfrm>
            <a:off x="3008160" y="765000"/>
            <a:ext cx="26704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合作探讨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5" dur="2000"/>
                                        <p:tgtEl>
                                          <p:spTgt spid="2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0" dur="2000"/>
                                        <p:tgtEl>
                                          <p:spTgt spid="2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"/>
          <p:cNvSpPr txBox="1"/>
          <p:nvPr/>
        </p:nvSpPr>
        <p:spPr>
          <a:xfrm>
            <a:off x="415440" y="1773360"/>
            <a:ext cx="720108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en-US" sz="2800" spc="-1" strike="noStrike">
                <a:solidFill>
                  <a:srgbClr val="c47546"/>
                </a:solidFill>
                <a:latin typeface="Franklin Gothic Book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海子对幸福的理解是复杂的，他的思想与内心是极为矛盾的，一方面，现实生活的贫困、不如意让他异常的渴望亲情、友情、爱情，渴望打开封闭而孤独的世界融入世俗；另一方面，他又坚持、不肯放弃对于诗歌世界、纯粹的精神的追求，这又使得他非常谨慎，拒绝进入世俗。最后，他选择面朝大海，春暖花开，在那里安放灵魂，“放眼神明赐予的宁静”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5" name="TextBox 2"/>
          <p:cNvSpPr/>
          <p:nvPr/>
        </p:nvSpPr>
        <p:spPr>
          <a:xfrm>
            <a:off x="3008160" y="765000"/>
            <a:ext cx="26704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小结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Text Box 6"/>
          <p:cNvSpPr/>
          <p:nvPr/>
        </p:nvSpPr>
        <p:spPr>
          <a:xfrm>
            <a:off x="920880" y="189000"/>
            <a:ext cx="46098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海子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击众神死亡的草原上野花一片 　　 远在远方的风比远方更远 　　 我的琴声呜咽 泪水全无 　　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把这远方的远归还草原 　　 一个叫木头 一个叫马尾 　　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琴声呜咽 泪水全无 　　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方只有在死亡中凝聚野花一片 　　 明月如镜 高悬草原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映照千年岁月 　　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琴声呜咽 泪水全无 　　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身打马过草原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孤单寂寞地走向绚美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"/>
          <p:cNvSpPr txBox="1"/>
          <p:nvPr/>
        </p:nvSpPr>
        <p:spPr>
          <a:xfrm>
            <a:off x="583920" y="1844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、背诵诗歌，并以小组为单位合诵比赛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、搜集三位以上朦胧诗人的代表作品，与大家分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8" name=""/>
          <p:cNvSpPr/>
          <p:nvPr/>
        </p:nvSpPr>
        <p:spPr>
          <a:xfrm>
            <a:off x="4255200" y="692280"/>
            <a:ext cx="6685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业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学习目标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560160" y="206064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、欣赏诗歌独特的意象与优美的意境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、了解诗人海子及朦胧诗歌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、感受生活之美、生命之美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导入：幸福的模样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2655" name="" descr=""/>
          <p:cNvPicPr/>
          <p:nvPr/>
        </p:nvPicPr>
        <p:blipFill>
          <a:blip r:embed="rId2"/>
          <a:stretch/>
        </p:blipFill>
        <p:spPr>
          <a:xfrm>
            <a:off x="2865600" y="3333600"/>
            <a:ext cx="4230360" cy="2818080"/>
          </a:xfrm>
          <a:prstGeom prst="rect">
            <a:avLst/>
          </a:prstGeom>
          <a:ln w="0">
            <a:noFill/>
          </a:ln>
        </p:spPr>
      </p:pic>
      <p:pic>
        <p:nvPicPr>
          <p:cNvPr id="2656" name="" descr=""/>
          <p:cNvPicPr/>
          <p:nvPr/>
        </p:nvPicPr>
        <p:blipFill>
          <a:blip r:embed="rId3"/>
          <a:stretch/>
        </p:blipFill>
        <p:spPr>
          <a:xfrm>
            <a:off x="200160" y="1197000"/>
            <a:ext cx="3657600" cy="2746440"/>
          </a:xfrm>
          <a:prstGeom prst="rect">
            <a:avLst/>
          </a:prstGeom>
          <a:ln w="0">
            <a:noFill/>
          </a:ln>
        </p:spPr>
      </p:pic>
      <p:pic>
        <p:nvPicPr>
          <p:cNvPr id="2657" name="" descr=""/>
          <p:cNvPicPr/>
          <p:nvPr/>
        </p:nvPicPr>
        <p:blipFill>
          <a:blip r:embed="rId4"/>
          <a:stretch/>
        </p:blipFill>
        <p:spPr>
          <a:xfrm>
            <a:off x="6969240" y="1916280"/>
            <a:ext cx="228420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8" name="" descr=""/>
          <p:cNvPicPr/>
          <p:nvPr/>
        </p:nvPicPr>
        <p:blipFill>
          <a:blip r:embed="rId2"/>
          <a:stretch/>
        </p:blipFill>
        <p:spPr>
          <a:xfrm>
            <a:off x="1641600" y="1557360"/>
            <a:ext cx="6480000" cy="4645080"/>
          </a:xfrm>
          <a:prstGeom prst="rect">
            <a:avLst/>
          </a:prstGeom>
          <a:ln w="0">
            <a:noFill/>
          </a:ln>
        </p:spPr>
      </p:pic>
      <p:sp>
        <p:nvSpPr>
          <p:cNvPr id="2659" name=""/>
          <p:cNvSpPr/>
          <p:nvPr/>
        </p:nvSpPr>
        <p:spPr>
          <a:xfrm>
            <a:off x="704880" y="4762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导入：幸福的模样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Text Box 6"/>
          <p:cNvSpPr/>
          <p:nvPr/>
        </p:nvSpPr>
        <p:spPr>
          <a:xfrm>
            <a:off x="344520" y="549360"/>
            <a:ext cx="642312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海子生平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原名查海生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6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月生于安徽省怀宁县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7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年，考入北京大学法律系，时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 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年毕业后分配至中国政法大学哲学系任教。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获得北京大学第一届艺术节五四文学大奖赛特别奖。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获得第三届文学奖荣誉奖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8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在河北省山海关至龙家营一段慢车道上卧轨自杀。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此诗写于他自杀前两个月）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61" name="Text Box 7"/>
          <p:cNvSpPr/>
          <p:nvPr/>
        </p:nvSpPr>
        <p:spPr>
          <a:xfrm>
            <a:off x="1549440" y="48499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662" name="Picture 30" descr="200396231310106"/>
          <p:cNvPicPr/>
          <p:nvPr/>
        </p:nvPicPr>
        <p:blipFill>
          <a:blip r:embed="rId2"/>
          <a:stretch/>
        </p:blipFill>
        <p:spPr>
          <a:xfrm>
            <a:off x="6753240" y="3141720"/>
            <a:ext cx="2376360" cy="2614680"/>
          </a:xfrm>
          <a:prstGeom prst="rect">
            <a:avLst/>
          </a:prstGeom>
          <a:ln w="0">
            <a:noFill/>
          </a:ln>
        </p:spPr>
      </p:pic>
      <p:sp>
        <p:nvSpPr>
          <p:cNvPr id="2663" name="Text Box 32"/>
          <p:cNvSpPr/>
          <p:nvPr/>
        </p:nvSpPr>
        <p:spPr>
          <a:xfrm>
            <a:off x="6753240" y="2060640"/>
            <a:ext cx="286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介绍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" dur="500"/>
                                        <p:tgtEl>
                                          <p:spTgt spid="2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4" name="Picture 4" descr="4"/>
          <p:cNvPicPr/>
          <p:nvPr/>
        </p:nvPicPr>
        <p:blipFill>
          <a:blip r:embed="rId2"/>
          <a:stretch/>
        </p:blipFill>
        <p:spPr>
          <a:xfrm>
            <a:off x="5025960" y="2060640"/>
            <a:ext cx="3089520" cy="3833640"/>
          </a:xfrm>
          <a:prstGeom prst="rect">
            <a:avLst/>
          </a:prstGeom>
          <a:ln w="0">
            <a:noFill/>
          </a:ln>
        </p:spPr>
      </p:pic>
      <p:sp>
        <p:nvSpPr>
          <p:cNvPr id="2665" name="Text Box 6"/>
          <p:cNvSpPr/>
          <p:nvPr/>
        </p:nvSpPr>
        <p:spPr>
          <a:xfrm>
            <a:off x="704880" y="404640"/>
            <a:ext cx="39369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198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年的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亚洲铜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日的最后一首诗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春天，十个海子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，海子创造了数量惊人的诗歌作品，包括短诗、长诗、诗剧和一些札记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读书时摘记的要点和心得体会及见闻的单篇文章。汇集多篇成书，乃称“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札记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”。</a:t>
            </a:r>
            <a:r>
              <a:rPr b="0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。其中影响最大，在青年中流传最为广泛的是他的短诗。比较著名的有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面朝大海，春暖花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》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亚洲铜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麦地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以梦为马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黑夜的献诗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献给黑夜的女儿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等。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66" name="Text Box 32"/>
          <p:cNvSpPr/>
          <p:nvPr/>
        </p:nvSpPr>
        <p:spPr>
          <a:xfrm>
            <a:off x="5097600" y="1341360"/>
            <a:ext cx="28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介绍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7" name="Picture 10" descr="20060721185113460"/>
          <p:cNvPicPr/>
          <p:nvPr/>
        </p:nvPicPr>
        <p:blipFill>
          <a:blip r:embed="rId2"/>
          <a:stretch/>
        </p:blipFill>
        <p:spPr>
          <a:xfrm>
            <a:off x="2075040" y="1052640"/>
            <a:ext cx="2415960" cy="2736720"/>
          </a:xfrm>
          <a:prstGeom prst="rect">
            <a:avLst/>
          </a:prstGeom>
          <a:ln w="0">
            <a:noFill/>
          </a:ln>
        </p:spPr>
      </p:pic>
      <p:pic>
        <p:nvPicPr>
          <p:cNvPr id="2668" name="Picture 12" descr="hzpz"/>
          <p:cNvPicPr/>
          <p:nvPr/>
        </p:nvPicPr>
        <p:blipFill>
          <a:blip r:embed="rId3"/>
          <a:stretch/>
        </p:blipFill>
        <p:spPr>
          <a:xfrm>
            <a:off x="0" y="1557360"/>
            <a:ext cx="1987560" cy="2448000"/>
          </a:xfrm>
          <a:prstGeom prst="rect">
            <a:avLst/>
          </a:prstGeom>
          <a:ln w="0">
            <a:noFill/>
          </a:ln>
        </p:spPr>
      </p:pic>
      <p:pic>
        <p:nvPicPr>
          <p:cNvPr id="2669" name="Picture 13" descr="jdhz"/>
          <p:cNvPicPr/>
          <p:nvPr/>
        </p:nvPicPr>
        <p:blipFill>
          <a:blip r:embed="rId4"/>
          <a:stretch/>
        </p:blipFill>
        <p:spPr>
          <a:xfrm>
            <a:off x="1496880" y="3284640"/>
            <a:ext cx="2694240" cy="3024000"/>
          </a:xfrm>
          <a:prstGeom prst="rect">
            <a:avLst/>
          </a:prstGeom>
          <a:ln w="0">
            <a:noFill/>
          </a:ln>
        </p:spPr>
      </p:pic>
      <p:sp>
        <p:nvSpPr>
          <p:cNvPr id="2670" name="Text Box 14"/>
          <p:cNvSpPr/>
          <p:nvPr/>
        </p:nvSpPr>
        <p:spPr>
          <a:xfrm>
            <a:off x="4484520" y="1700280"/>
            <a:ext cx="483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71" name="Text Box 15"/>
          <p:cNvSpPr/>
          <p:nvPr/>
        </p:nvSpPr>
        <p:spPr>
          <a:xfrm>
            <a:off x="4665600" y="620640"/>
            <a:ext cx="49532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出版作品有长诗</a:t>
            </a:r>
            <a:r>
              <a:rPr b="1" lang="en-US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土地</a:t>
            </a:r>
            <a:r>
              <a:rPr b="1" lang="en-US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、短诗选集</a:t>
            </a:r>
            <a:r>
              <a:rPr b="1" lang="en-US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海子、骆一禾作品集</a:t>
            </a:r>
            <a:r>
              <a:rPr b="1" lang="en-US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海子的诗</a:t>
            </a:r>
            <a:r>
              <a:rPr b="1" lang="en-US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等，另外近年出版了</a:t>
            </a:r>
            <a:r>
              <a:rPr b="1" lang="en-US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海子诗全编</a:t>
            </a:r>
            <a:r>
              <a:rPr b="1" lang="en-US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（上海三联</a:t>
            </a:r>
            <a:r>
              <a:rPr b="1" lang="en-US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1997</a:t>
            </a: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年初版）。他的作品后来影响甚至感召一代青年学子并越来越引起各界重视，海子是个极有天赋的诗人，他独有的自由率真的抒情风格、对美好事物的眷恋，使他的作品有一种童真梦幻般的吸引力。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Franklin Gothic Book"/>
                <a:ea typeface="黑体"/>
              </a:rPr>
              <a:t>海子，寓意“海的儿子”，他没有海边生活的体验，但他对海有特殊的感情，诗中经常写到“大海”，海寄寓了他的某种理想，他向往大海。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2" name="Picture 6" descr="042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2673" name="Text Box 5"/>
          <p:cNvSpPr/>
          <p:nvPr/>
        </p:nvSpPr>
        <p:spPr>
          <a:xfrm>
            <a:off x="1515960" y="345960"/>
            <a:ext cx="242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从明天起</a:t>
            </a:r>
            <a:r>
              <a:rPr b="1" lang="en-US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做一个幸福的人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喂马</a:t>
            </a:r>
            <a:r>
              <a:rPr b="1" lang="en-US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劈柴</a:t>
            </a:r>
            <a:r>
              <a:rPr b="1" lang="en-US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周游世界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从明天起</a:t>
            </a:r>
            <a:r>
              <a:rPr b="1" lang="en-US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关心粮食和蔬菜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我有一所房子</a:t>
            </a:r>
            <a:r>
              <a:rPr b="1" lang="en-US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面朝大海</a:t>
            </a:r>
            <a:r>
              <a:rPr b="1" lang="en-US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春暖花开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74" name="Text Box 5"/>
          <p:cNvSpPr/>
          <p:nvPr/>
        </p:nvSpPr>
        <p:spPr>
          <a:xfrm>
            <a:off x="5788440" y="260280"/>
            <a:ext cx="33998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华文行楷"/>
                <a:ea typeface="华文行楷"/>
              </a:rPr>
              <a:t>面朝大海</a:t>
            </a:r>
            <a:endParaRPr b="1" lang="en-US" sz="6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华文行楷"/>
                <a:ea typeface="华文行楷"/>
              </a:rPr>
              <a:t>    </a:t>
            </a:r>
            <a:r>
              <a:rPr b="1" lang="zh-CN" sz="6000" spc="-1" strike="noStrike">
                <a:solidFill>
                  <a:srgbClr val="ffff66"/>
                </a:solidFill>
                <a:latin typeface="华文行楷"/>
                <a:ea typeface="华文行楷"/>
              </a:rPr>
              <a:t>春暖花开</a:t>
            </a:r>
            <a:endParaRPr b="1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75" name="Rectangle 13"/>
          <p:cNvSpPr/>
          <p:nvPr/>
        </p:nvSpPr>
        <p:spPr>
          <a:xfrm>
            <a:off x="479520" y="2128680"/>
            <a:ext cx="49528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从明天起，和每一个亲人通信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告诉他们我的幸福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那幸福的闪电告诉我的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我将告诉每一个人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76" name="Text Box 8"/>
          <p:cNvSpPr/>
          <p:nvPr/>
        </p:nvSpPr>
        <p:spPr>
          <a:xfrm>
            <a:off x="1937160" y="3857760"/>
            <a:ext cx="23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给每一条河每一座山取一个温暖的名字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陌生人，我也为你祝福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愿你有一个灿烂的前程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愿你有情人终成眷属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愿你在尘世获得幸福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我只愿面朝大海，春暖花开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677" name="《面朝大海，春暖花开》mp3配乐朗读.mp3" descr=""/>
          <p:cNvPicPr/>
          <p:nvPr/>
        </p:nvPicPr>
        <p:blipFill>
          <a:blip r:embed="rId3"/>
          <a:stretch/>
        </p:blipFill>
        <p:spPr>
          <a:xfrm>
            <a:off x="590076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34" repeatCount="1000">
                                  <p:stCondLst>
                                    <p:cond delay="12000"/>
                                  </p:stCondLst>
                                  <p:iterate type="lt">
                                    <p:tmAbs val="4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5" dur="2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8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9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34" repeatCount="1000">
                                  <p:stCondLst>
                                    <p:cond delay="30000"/>
                                  </p:stCondLst>
                                  <p:iterate type="lt">
                                    <p:tmAbs val="3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" dur="17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" dur="8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" dur="875" fill="hold">
                                          <p:stCondLst>
                                            <p:cond delay="875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4" dur="875" fill="hold">
                                          <p:stCondLst>
                                            <p:cond delay="175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5" dur="875" fill="hold">
                                          <p:stCondLst>
                                            <p:cond delay="2625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34" repeatCount="1000">
                                  <p:stCondLst>
                                    <p:cond delay="42000"/>
                                  </p:stCondLst>
                                  <p:iterate type="lt">
                                    <p:tmAbs val="4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7" dur="2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1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267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267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94519" fill="hold"/>
                                        <p:tgtEl>
                                          <p:spTgt spid="2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13:16:34Z</dcterms:created>
  <dc:creator>jutie</dc:creator>
  <dc:description/>
  <dc:language>en-US</dc:language>
  <cp:lastModifiedBy>user</cp:lastModifiedBy>
  <dcterms:modified xsi:type="dcterms:W3CDTF">2017-12-19T02:20:11Z</dcterms:modified>
  <cp:revision>58</cp:revision>
  <dc:subject/>
  <dc:title>PowerPoint 演示文稿</dc:title>
</cp:coreProperties>
</file>