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type.wav" ContentType="audio/x-wav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7.jpeg" ContentType="image/jpeg"/>
  <Override PartName="/ppt/media/image16.png" ContentType="image/png"/>
  <Override PartName="/ppt/media/chimes.wav" ContentType="audio/x-wav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EAAC-B6EF-4F3E-B89E-071929FAB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A1A3-F61D-4919-8BFF-806295E2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6FCC-1DF0-44E2-A28A-566F2C735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BFB2-D6B5-474E-80D5-D653FE713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A9A8-6C6A-4506-BA44-0FB4414C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ACFD-CCC4-4C9A-8BC1-EB84BB72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42B3-B5C9-4C25-A47A-BFA1EDB7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3094-989C-4CAE-B656-191D0D24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C229-E4A7-4021-A1A7-9DC98514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A73D-A46F-43B2-826B-66A1ABC0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CB0D-1238-4F92-AAE0-91DB0E9C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5A01-6A0E-4D82-A787-E7AE513D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ECD2-B752-4F8F-80B0-CF12369A66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77000" y="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a800"/>
                </a:solidFill>
                <a:latin typeface="Arial"/>
                <a:ea typeface="楷体_GB2312"/>
              </a:rPr>
              <a:t>实用语文（第一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" Target="slide28.xm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aike.baidu.com/view/1042047.htm" TargetMode="External"/><Relationship Id="rId3" Type="http://schemas.openxmlformats.org/officeDocument/2006/relationships/hyperlink" Target="http://baike.baidu.com/view/19993.htm" TargetMode="External"/><Relationship Id="rId4" Type="http://schemas.openxmlformats.org/officeDocument/2006/relationships/hyperlink" Target="http://baike.baidu.com/view/21934.htm" TargetMode="External"/><Relationship Id="rId5" Type="http://schemas.openxmlformats.org/officeDocument/2006/relationships/hyperlink" Target="http://baike.baidu.com/view/65376.htm" TargetMode="External"/><Relationship Id="rId6" Type="http://schemas.openxmlformats.org/officeDocument/2006/relationships/hyperlink" Target="http://baike.baidu.com/view/122841.htm" TargetMode="External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629040" y="533160"/>
            <a:ext cx="20574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细黑"/>
              </a:rPr>
              <a:t>第二单元（泛读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837720"/>
            <a:ext cx="6019920" cy="58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Arial"/>
              </a:rPr>
              <a:t>道德情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Arial"/>
              </a:rPr>
              <a:t>                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Arial"/>
              </a:rPr>
              <a:t>          </a:t>
            </a:r>
            <a:r>
              <a:rPr b="0" lang="zh-CN" sz="4800" spc="-1" strike="noStrike">
                <a:solidFill>
                  <a:srgbClr val="0000cc"/>
                </a:solidFill>
                <a:latin typeface="Arial"/>
              </a:rPr>
              <a:t>责任追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作者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5943600" cy="467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梁衡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94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出生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96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毕业于中国人民大学。历任内蒙古日报记者、光明日记者、国家新闻出版署副署长。现任人民日报副总编辑、中国人民大学新闻学院博士生导师、中国作家协会全委会委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作品：《梁衡文集》和新闻三部曲《没有新闻的角落》、《新闻绿叶的脉络》、《新闻原理的思考》，散文集《只求新去处》、《人杰鬼雄》、《名山大川》，科学史章回小说《数理化通俗演义》、政论集《继承与超越》等。《晋祠》、《夏感》、《觅渡，觅渡，渡何处》、《跨越百年的美丽》等四篇作品入选中学课本和师范教材。曾获青年文学奖、赵树理文学奖、全国优秀科普作品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2"/>
          <a:stretch/>
        </p:blipFill>
        <p:spPr>
          <a:xfrm>
            <a:off x="152280" y="1676520"/>
            <a:ext cx="243864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260880" y="1546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2073240" cy="2286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819520" y="2133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858000" y="4929120"/>
            <a:ext cx="2057400" cy="19288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梁衡与“学者散文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09320" y="1523520"/>
            <a:ext cx="670572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者散文又称为大散文，文化散文。指在创作中注重文化含量。往往取材于具有一定得历史文化内涵的自然景物和人文景观，或通过一些景物人事探究历史文化精神的散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者散文”的作者大都有较为丰富的学术修养，往往将学术知识和理性思考融入散文的表达之中。他们也并不特别注重散文的文体“规范”，而将其视为专业研究之外的另一种自我表达或关注现实的形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表作家：余秋雨、陈平原、朱学勤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260880" y="1546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2073240" cy="2286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819520" y="2133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58000" y="4929120"/>
            <a:ext cx="2057400" cy="19288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梁衡与“学者散文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133360" y="1523880"/>
            <a:ext cx="66294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创作特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者散文”在风格上大多较为节制，通常会以智性的幽默来平衡情感的因素。学理知识的渗透，也使其具有特别的思想深度和情感厚度。这些散文随笔与“杂文”的不同之处是，它更关注的往往不是“识”，而是“情”与“理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514600" y="3808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初读感知，掌握字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声鼎沸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rēn shēng dǐng fèi)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群发出的声音像水在锅里沸腾一样，形容人声嘈杂喧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庄重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zhuāng zhòng)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严肃稳重。不随便，不轻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卓有成效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zhuó yǒu chéng xiào)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卓：卓越，高超。有突出的成绩和效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侵蚀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qīn shí)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逐渐地破坏或腐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捐赠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juān zèng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赠送（物品给国家或集体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溶解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róng ji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种物质（溶质）分散于另一种物质（溶剂）中成为溶液的过程。如食盐或糖溶解于水而成为溶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整体感知，梳理思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一部分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-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自然段）：描写居里夫人在法国科学院作学术报告的场面，突出了居里夫人美丽的形象和伟大的成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二部分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-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自然段）：居里夫人为了探索”其他物质有没有放射性“而进行了艰苦卓绝的研究，直到发现了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三部分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5-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自然段）：写了居里夫人在名利面前的态度和做法，表现了居里夫人淡泊名利的高贵人格和全身心投入科学的忘我精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0" y="343080"/>
            <a:ext cx="8761320" cy="65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0" y="944640"/>
            <a:ext cx="2214720" cy="5913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2057040" y="2286000"/>
            <a:ext cx="6078600" cy="961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文章中，居里夫人的 “美丽”表现在哪些方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09600" y="491760"/>
            <a:ext cx="22222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合作探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4"/>
          <p:cNvSpPr/>
          <p:nvPr/>
        </p:nvSpPr>
        <p:spPr>
          <a:xfrm>
            <a:off x="2714760" y="485784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96720" y="549000"/>
            <a:ext cx="8423280" cy="54990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她的报告使全场震惊，物理学进入了一个新的时代，而她那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美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庄重的形象也就从此定格在历史上，定格在每个人的心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皮埃儿说：“我只是希望它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美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颜色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它真的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极美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颜色，在幽暗的破木棚里发出略带蓝色的荧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这点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美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淡蓝色的荧光，融入了一个女子美丽的生命和不屈的信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她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美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健康的容貌在悄悄地隐退，逐渐变得眼花耳鸣，浑身乏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5"/>
          <p:cNvSpPr txBox="1"/>
          <p:nvPr/>
        </p:nvSpPr>
        <p:spPr>
          <a:xfrm>
            <a:off x="1332000" y="5373720"/>
            <a:ext cx="23032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容貌美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0" name="WordArt 6"/>
          <p:cNvSpPr txBox="1"/>
          <p:nvPr/>
        </p:nvSpPr>
        <p:spPr>
          <a:xfrm>
            <a:off x="4213080" y="5373720"/>
            <a:ext cx="2232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内在美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7"/>
          <p:cNvSpPr txBox="1"/>
          <p:nvPr/>
        </p:nvSpPr>
        <p:spPr>
          <a:xfrm>
            <a:off x="685800" y="609480"/>
            <a:ext cx="1676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cc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外在美</a:t>
            </a:r>
            <a:endParaRPr b="1" lang="en-US" sz="66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cc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2819520" y="1600200"/>
            <a:ext cx="571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段： 玛丽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居里穿着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一袭黑色长裙，白净端庄的脸庞显出坚定又略带淡泊的神情，而那双微微内陷的大眼睛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则让你觉得能看透一切，看透未来。她的报告使全场震惊，物理学进入了一个新时代，而她那美丽而庄重的形象也就从此定格在历史上，定格在每个人的心里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09480" y="1828800"/>
            <a:ext cx="1951200" cy="23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38160" y="60480"/>
            <a:ext cx="9066240" cy="674208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10" descr=""/>
          <p:cNvPicPr/>
          <p:nvPr/>
        </p:nvPicPr>
        <p:blipFill>
          <a:blip r:embed="rId3"/>
          <a:stretch/>
        </p:blipFill>
        <p:spPr>
          <a:xfrm>
            <a:off x="7658280" y="1440"/>
            <a:ext cx="714240" cy="533520"/>
          </a:xfrm>
          <a:prstGeom prst="rect">
            <a:avLst/>
          </a:prstGeom>
          <a:ln w="0">
            <a:noFill/>
          </a:ln>
        </p:spPr>
      </p:pic>
      <p:sp>
        <p:nvSpPr>
          <p:cNvPr id="106" name="矩形 4"/>
          <p:cNvSpPr/>
          <p:nvPr/>
        </p:nvSpPr>
        <p:spPr>
          <a:xfrm>
            <a:off x="3352680" y="1828800"/>
            <a:ext cx="3915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你认为居里夫人的“美丽”还表现在哪些方面？（找出文章当中的句子，并用自己的话概括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4" descr=""/>
          <p:cNvPicPr/>
          <p:nvPr/>
        </p:nvPicPr>
        <p:blipFill>
          <a:blip r:embed="rId4"/>
          <a:stretch/>
        </p:blipFill>
        <p:spPr>
          <a:xfrm>
            <a:off x="990720" y="1523880"/>
            <a:ext cx="22971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2"/>
          <p:cNvSpPr/>
          <p:nvPr/>
        </p:nvSpPr>
        <p:spPr>
          <a:xfrm>
            <a:off x="0" y="0"/>
            <a:ext cx="9144000" cy="1008000"/>
          </a:xfrm>
          <a:prstGeom prst="rect">
            <a:avLst/>
          </a:prstGeom>
          <a:solidFill>
            <a:srgbClr val="def6f1">
              <a:alpha val="71000"/>
            </a:srgbClr>
          </a:solidFill>
          <a:ln w="25560">
            <a:solidFill>
              <a:srgbClr val="236f23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7"/>
          <p:cNvSpPr/>
          <p:nvPr/>
        </p:nvSpPr>
        <p:spPr>
          <a:xfrm>
            <a:off x="609480" y="3505320"/>
            <a:ext cx="7929720" cy="3000240"/>
          </a:xfrm>
          <a:prstGeom prst="rect">
            <a:avLst/>
          </a:prstGeom>
          <a:solidFill>
            <a:srgbClr val="def6f1">
              <a:alpha val="67000"/>
            </a:srgbClr>
          </a:solidFill>
          <a:ln w="25560">
            <a:solidFill>
              <a:srgbClr val="236f23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3"/>
          <p:cNvSpPr/>
          <p:nvPr/>
        </p:nvSpPr>
        <p:spPr>
          <a:xfrm>
            <a:off x="2786040" y="142920"/>
            <a:ext cx="293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 格 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组合 30"/>
          <p:cNvGrpSpPr/>
          <p:nvPr/>
        </p:nvGrpSpPr>
        <p:grpSpPr>
          <a:xfrm>
            <a:off x="500040" y="1071720"/>
            <a:ext cx="7858080" cy="2006280"/>
            <a:chOff x="500040" y="1071720"/>
            <a:chExt cx="7858080" cy="2006280"/>
          </a:xfrm>
        </p:grpSpPr>
        <p:sp>
          <p:nvSpPr>
            <p:cNvPr id="112" name="矩形 3"/>
            <p:cNvSpPr/>
            <p:nvPr/>
          </p:nvSpPr>
          <p:spPr>
            <a:xfrm>
              <a:off x="500040" y="1071720"/>
              <a:ext cx="7858080" cy="2006280"/>
            </a:xfrm>
            <a:prstGeom prst="rect">
              <a:avLst/>
            </a:prstGeom>
            <a:solidFill>
              <a:srgbClr val="def6f1">
                <a:alpha val="67000"/>
              </a:srgbClr>
            </a:solidFill>
            <a:ln w="25560">
              <a:solidFill>
                <a:srgbClr val="236f23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组合 34"/>
            <p:cNvGrpSpPr/>
            <p:nvPr/>
          </p:nvGrpSpPr>
          <p:grpSpPr>
            <a:xfrm>
              <a:off x="784800" y="1363680"/>
              <a:ext cx="7502040" cy="1527120"/>
              <a:chOff x="784800" y="1363680"/>
              <a:chExt cx="7502040" cy="1527120"/>
            </a:xfrm>
          </p:grpSpPr>
          <p:sp>
            <p:nvSpPr>
              <p:cNvPr id="114" name="矩形 6"/>
              <p:cNvSpPr/>
              <p:nvPr/>
            </p:nvSpPr>
            <p:spPr>
              <a:xfrm>
                <a:off x="784800" y="1935000"/>
                <a:ext cx="782280" cy="476280"/>
              </a:xfrm>
              <a:prstGeom prst="rect">
                <a:avLst/>
              </a:prstGeom>
              <a:solidFill>
                <a:srgbClr val="f4d000"/>
              </a:solidFill>
              <a:ln w="25560">
                <a:solidFill>
                  <a:srgbClr val="236f23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矩形 10"/>
              <p:cNvSpPr/>
              <p:nvPr/>
            </p:nvSpPr>
            <p:spPr>
              <a:xfrm>
                <a:off x="1929240" y="1363680"/>
                <a:ext cx="6357600" cy="1527120"/>
              </a:xfrm>
              <a:prstGeom prst="rect">
                <a:avLst/>
              </a:prstGeom>
              <a:noFill/>
              <a:ln w="25560">
                <a:solidFill>
                  <a:srgbClr val="f4d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Box 14"/>
              <p:cNvSpPr/>
              <p:nvPr/>
            </p:nvSpPr>
            <p:spPr>
              <a:xfrm>
                <a:off x="785520" y="1935360"/>
                <a:ext cx="13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def6f1"/>
                    </a:solidFill>
                    <a:latin typeface="微软雅黑"/>
                    <a:ea typeface="微软雅黑"/>
                  </a:rPr>
                  <a:t>  </a:t>
                </a:r>
                <a:r>
                  <a:rPr b="1" lang="en-US" sz="2400" spc="-1" strike="noStrike">
                    <a:solidFill>
                      <a:srgbClr val="def6f1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Box 24"/>
              <p:cNvSpPr/>
              <p:nvPr/>
            </p:nvSpPr>
            <p:spPr>
              <a:xfrm>
                <a:off x="1929240" y="1377720"/>
                <a:ext cx="635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别人在海滩上捡到一个贝壳，她却要研究一下这贝壳是怎样生、怎样 长，怎样冲到海滩上来的。别人摸瓜她寻藤，别人摘叶她问根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组合 45"/>
          <p:cNvGrpSpPr/>
          <p:nvPr/>
        </p:nvGrpSpPr>
        <p:grpSpPr>
          <a:xfrm>
            <a:off x="714240" y="3643200"/>
            <a:ext cx="7858440" cy="2786040"/>
            <a:chOff x="714240" y="3643200"/>
            <a:chExt cx="7858440" cy="2786040"/>
          </a:xfrm>
        </p:grpSpPr>
        <p:sp>
          <p:nvSpPr>
            <p:cNvPr id="119" name="矩形 17"/>
            <p:cNvSpPr/>
            <p:nvPr/>
          </p:nvSpPr>
          <p:spPr>
            <a:xfrm>
              <a:off x="1914480" y="3714480"/>
              <a:ext cx="6645600" cy="2714760"/>
            </a:xfrm>
            <a:prstGeom prst="rect">
              <a:avLst/>
            </a:prstGeom>
            <a:noFill/>
            <a:ln w="25560">
              <a:solidFill>
                <a:srgbClr val="e5a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11"/>
            <p:cNvSpPr/>
            <p:nvPr/>
          </p:nvSpPr>
          <p:spPr>
            <a:xfrm>
              <a:off x="714240" y="4500360"/>
              <a:ext cx="799920" cy="474480"/>
            </a:xfrm>
            <a:prstGeom prst="rect">
              <a:avLst/>
            </a:prstGeom>
            <a:solidFill>
              <a:srgbClr val="e5a951"/>
            </a:solidFill>
            <a:ln w="25560">
              <a:solidFill>
                <a:srgbClr val="236f23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20"/>
            <p:cNvSpPr/>
            <p:nvPr/>
          </p:nvSpPr>
          <p:spPr>
            <a:xfrm>
              <a:off x="714240" y="4500360"/>
              <a:ext cx="94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f6f1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def6f1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26"/>
            <p:cNvSpPr/>
            <p:nvPr/>
          </p:nvSpPr>
          <p:spPr>
            <a:xfrm>
              <a:off x="1914840" y="3643200"/>
              <a:ext cx="6657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化验室只是一个废弃的破棚子，玛丽终日在烟熏火燎中搅拌着锅里的矿渣。她衣裙上，双手上，留下了酸碱的点点烧痕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 Box 5"/>
          <p:cNvSpPr/>
          <p:nvPr/>
        </p:nvSpPr>
        <p:spPr>
          <a:xfrm>
            <a:off x="3809880" y="2590920"/>
            <a:ext cx="4122720" cy="520560"/>
          </a:xfrm>
          <a:prstGeom prst="rec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（善于发现问题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4724280" y="5481720"/>
            <a:ext cx="3803760" cy="520560"/>
          </a:xfrm>
          <a:prstGeom prst="rec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（艰苦奋斗的作风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6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6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66640" y="838080"/>
            <a:ext cx="15210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华文行楷"/>
                <a:ea typeface="华文行楷"/>
              </a:rPr>
              <a:t>跨 越 百 年 的 美 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46280" y="5661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308640" y="5813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352680" y="1447920"/>
            <a:ext cx="3105360" cy="2857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705360" y="5562360"/>
            <a:ext cx="1981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梁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876132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3"/>
          <p:cNvSpPr/>
          <p:nvPr/>
        </p:nvSpPr>
        <p:spPr>
          <a:xfrm>
            <a:off x="571680" y="1143000"/>
            <a:ext cx="8143560" cy="1357200"/>
          </a:xfrm>
          <a:prstGeom prst="rect">
            <a:avLst/>
          </a:prstGeom>
          <a:solidFill>
            <a:srgbClr val="def6f1">
              <a:alpha val="67000"/>
            </a:srgbClr>
          </a:solidFill>
          <a:ln w="25560">
            <a:solidFill>
              <a:srgbClr val="236f23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7"/>
          <p:cNvSpPr/>
          <p:nvPr/>
        </p:nvSpPr>
        <p:spPr>
          <a:xfrm>
            <a:off x="571680" y="3286080"/>
            <a:ext cx="8143560" cy="1214640"/>
          </a:xfrm>
          <a:prstGeom prst="rect">
            <a:avLst/>
          </a:prstGeom>
          <a:solidFill>
            <a:srgbClr val="def6f1">
              <a:alpha val="67000"/>
            </a:srgbClr>
          </a:solidFill>
          <a:ln w="25560">
            <a:solidFill>
              <a:srgbClr val="236f23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8"/>
          <p:cNvSpPr/>
          <p:nvPr/>
        </p:nvSpPr>
        <p:spPr>
          <a:xfrm>
            <a:off x="500040" y="3071880"/>
            <a:ext cx="8143920" cy="1495440"/>
          </a:xfrm>
          <a:prstGeom prst="rect">
            <a:avLst/>
          </a:prstGeom>
          <a:solidFill>
            <a:srgbClr val="def6f1">
              <a:alpha val="67000"/>
            </a:srgbClr>
          </a:solidFill>
          <a:ln w="25560">
            <a:solidFill>
              <a:srgbClr val="236f23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组合 34"/>
          <p:cNvGrpSpPr/>
          <p:nvPr/>
        </p:nvGrpSpPr>
        <p:grpSpPr>
          <a:xfrm>
            <a:off x="714240" y="1285920"/>
            <a:ext cx="7643880" cy="1020600"/>
            <a:chOff x="714240" y="1285920"/>
            <a:chExt cx="7643880" cy="1020600"/>
          </a:xfrm>
        </p:grpSpPr>
        <p:sp>
          <p:nvSpPr>
            <p:cNvPr id="129" name="矩形 6"/>
            <p:cNvSpPr/>
            <p:nvPr/>
          </p:nvSpPr>
          <p:spPr>
            <a:xfrm>
              <a:off x="714240" y="1285920"/>
              <a:ext cx="1133280" cy="1020600"/>
            </a:xfrm>
            <a:prstGeom prst="rect">
              <a:avLst/>
            </a:prstGeom>
            <a:solidFill>
              <a:srgbClr val="f4d000"/>
            </a:solidFill>
            <a:ln w="25560">
              <a:solidFill>
                <a:srgbClr val="236f23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矩形 10"/>
            <p:cNvSpPr/>
            <p:nvPr/>
          </p:nvSpPr>
          <p:spPr>
            <a:xfrm>
              <a:off x="1898280" y="1285920"/>
              <a:ext cx="6459840" cy="1020600"/>
            </a:xfrm>
            <a:prstGeom prst="rect">
              <a:avLst/>
            </a:prstGeom>
            <a:noFill/>
            <a:ln w="25560">
              <a:solidFill>
                <a:srgbClr val="f4d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Box 14"/>
            <p:cNvSpPr/>
            <p:nvPr/>
          </p:nvSpPr>
          <p:spPr>
            <a:xfrm>
              <a:off x="856800" y="1500120"/>
              <a:ext cx="78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f6f1"/>
                  </a:solidFill>
                  <a:latin typeface="微软雅黑"/>
                  <a:ea typeface="微软雅黑"/>
                </a:rPr>
                <a:t>  </a:t>
              </a:r>
              <a:r>
                <a:rPr b="1" lang="en-US" sz="2400" spc="-1" strike="noStrike">
                  <a:solidFill>
                    <a:srgbClr val="def6f1"/>
                  </a:solidFill>
                  <a:latin typeface="微软雅黑"/>
                  <a:ea typeface="微软雅黑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24"/>
            <p:cNvSpPr/>
            <p:nvPr/>
          </p:nvSpPr>
          <p:spPr>
            <a:xfrm>
              <a:off x="1897560" y="1315800"/>
              <a:ext cx="6254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终于经过三年又九个月，他们在成吨的矿渣中提炼出了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．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克镭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37"/>
          <p:cNvGrpSpPr/>
          <p:nvPr/>
        </p:nvGrpSpPr>
        <p:grpSpPr>
          <a:xfrm>
            <a:off x="928800" y="3214800"/>
            <a:ext cx="7929360" cy="3643200"/>
            <a:chOff x="928800" y="3214800"/>
            <a:chExt cx="7929360" cy="3643200"/>
          </a:xfrm>
        </p:grpSpPr>
        <p:sp>
          <p:nvSpPr>
            <p:cNvPr id="134" name="矩形 18"/>
            <p:cNvSpPr/>
            <p:nvPr/>
          </p:nvSpPr>
          <p:spPr>
            <a:xfrm>
              <a:off x="2071800" y="6812280"/>
              <a:ext cx="6299280" cy="45720"/>
            </a:xfrm>
            <a:prstGeom prst="rect">
              <a:avLst/>
            </a:prstGeom>
            <a:noFill/>
            <a:ln w="25560">
              <a:solidFill>
                <a:srgbClr val="54ad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Box 21"/>
            <p:cNvSpPr/>
            <p:nvPr/>
          </p:nvSpPr>
          <p:spPr>
            <a:xfrm>
              <a:off x="928800" y="4546440"/>
              <a:ext cx="76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ef6f1"/>
                  </a:solidFill>
                  <a:latin typeface="微软雅黑"/>
                  <a:ea typeface="微软雅黑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Box 27"/>
            <p:cNvSpPr/>
            <p:nvPr/>
          </p:nvSpPr>
          <p:spPr>
            <a:xfrm>
              <a:off x="1928880" y="3214800"/>
              <a:ext cx="692928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镭射线也在无声地侵蚀着她的肌体。她美丽健康的容貌在悄悄地隐退，她逐渐变得眼花耳鸣，苍白乏力。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矩形 13"/>
          <p:cNvSpPr/>
          <p:nvPr/>
        </p:nvSpPr>
        <p:spPr>
          <a:xfrm>
            <a:off x="714240" y="3429000"/>
            <a:ext cx="1143000" cy="928800"/>
          </a:xfrm>
          <a:prstGeom prst="rect">
            <a:avLst/>
          </a:prstGeom>
          <a:solidFill>
            <a:srgbClr val="a0b43c"/>
          </a:solidFill>
          <a:ln w="25560">
            <a:solidFill>
              <a:srgbClr val="236f23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4"/>
          <p:cNvSpPr/>
          <p:nvPr/>
        </p:nvSpPr>
        <p:spPr>
          <a:xfrm>
            <a:off x="928800" y="357192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f6f1"/>
                </a:solidFill>
                <a:latin typeface="微软雅黑"/>
                <a:ea typeface="微软雅黑"/>
              </a:rPr>
              <a:t>  </a:t>
            </a:r>
            <a:r>
              <a:rPr b="1" lang="en-US" sz="2400" spc="-1" strike="noStrike">
                <a:solidFill>
                  <a:srgbClr val="def6f1"/>
                </a:solidFill>
                <a:latin typeface="微软雅黑"/>
                <a:ea typeface="微软雅黑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4"/>
          <p:cNvSpPr/>
          <p:nvPr/>
        </p:nvSpPr>
        <p:spPr>
          <a:xfrm>
            <a:off x="5181480" y="2057400"/>
            <a:ext cx="312444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坚定信念和执着追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5"/>
          <p:cNvSpPr/>
          <p:nvPr/>
        </p:nvSpPr>
        <p:spPr>
          <a:xfrm>
            <a:off x="4714920" y="4071960"/>
            <a:ext cx="371484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献身科学事业的精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3"/>
          <p:cNvSpPr/>
          <p:nvPr/>
        </p:nvSpPr>
        <p:spPr>
          <a:xfrm>
            <a:off x="2786040" y="142920"/>
            <a:ext cx="293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 格 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6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6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2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2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6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6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矩形 3"/>
          <p:cNvSpPr/>
          <p:nvPr/>
        </p:nvSpPr>
        <p:spPr>
          <a:xfrm>
            <a:off x="571680" y="1143000"/>
            <a:ext cx="8143560" cy="1571760"/>
          </a:xfrm>
          <a:prstGeom prst="rect">
            <a:avLst/>
          </a:prstGeom>
          <a:solidFill>
            <a:srgbClr val="def6f1">
              <a:alpha val="67000"/>
            </a:srgbClr>
          </a:solidFill>
          <a:ln w="25560">
            <a:solidFill>
              <a:srgbClr val="236f23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7"/>
          <p:cNvSpPr/>
          <p:nvPr/>
        </p:nvSpPr>
        <p:spPr>
          <a:xfrm>
            <a:off x="500040" y="3071880"/>
            <a:ext cx="8143920" cy="1500120"/>
          </a:xfrm>
          <a:prstGeom prst="rect">
            <a:avLst/>
          </a:prstGeom>
          <a:solidFill>
            <a:srgbClr val="def6f1">
              <a:alpha val="67000"/>
            </a:srgbClr>
          </a:solidFill>
          <a:ln w="25560">
            <a:solidFill>
              <a:srgbClr val="236f23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8"/>
          <p:cNvSpPr/>
          <p:nvPr/>
        </p:nvSpPr>
        <p:spPr>
          <a:xfrm flipV="1">
            <a:off x="2286000" y="7215120"/>
            <a:ext cx="6286680" cy="285840"/>
          </a:xfrm>
          <a:prstGeom prst="rect">
            <a:avLst/>
          </a:prstGeom>
          <a:solidFill>
            <a:srgbClr val="def6f1">
              <a:alpha val="67000"/>
            </a:srgbClr>
          </a:solidFill>
          <a:ln w="25560">
            <a:solidFill>
              <a:srgbClr val="236f23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合 34"/>
          <p:cNvGrpSpPr/>
          <p:nvPr/>
        </p:nvGrpSpPr>
        <p:grpSpPr>
          <a:xfrm>
            <a:off x="714240" y="1357200"/>
            <a:ext cx="7643880" cy="1214640"/>
            <a:chOff x="714240" y="1357200"/>
            <a:chExt cx="7643880" cy="1214640"/>
          </a:xfrm>
        </p:grpSpPr>
        <p:sp>
          <p:nvSpPr>
            <p:cNvPr id="146" name="矩形 6"/>
            <p:cNvSpPr/>
            <p:nvPr/>
          </p:nvSpPr>
          <p:spPr>
            <a:xfrm>
              <a:off x="714240" y="1500120"/>
              <a:ext cx="1071360" cy="857520"/>
            </a:xfrm>
            <a:prstGeom prst="rect">
              <a:avLst/>
            </a:prstGeom>
            <a:solidFill>
              <a:srgbClr val="f4d000"/>
            </a:solidFill>
            <a:ln w="25560">
              <a:solidFill>
                <a:srgbClr val="236f23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矩形 10"/>
            <p:cNvSpPr/>
            <p:nvPr/>
          </p:nvSpPr>
          <p:spPr>
            <a:xfrm>
              <a:off x="1898280" y="1357200"/>
              <a:ext cx="6459840" cy="1214640"/>
            </a:xfrm>
            <a:prstGeom prst="rect">
              <a:avLst/>
            </a:prstGeom>
            <a:noFill/>
            <a:ln w="25560">
              <a:solidFill>
                <a:srgbClr val="f4d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14"/>
            <p:cNvSpPr/>
            <p:nvPr/>
          </p:nvSpPr>
          <p:spPr>
            <a:xfrm>
              <a:off x="856800" y="1643040"/>
              <a:ext cx="78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f6f1"/>
                  </a:solidFill>
                  <a:latin typeface="微软雅黑"/>
                  <a:ea typeface="微软雅黑"/>
                </a:rPr>
                <a:t>  </a:t>
              </a:r>
              <a:r>
                <a:rPr b="1" lang="en-US" sz="2400" spc="-1" strike="noStrike">
                  <a:solidFill>
                    <a:srgbClr val="def6f1"/>
                  </a:solidFill>
                  <a:latin typeface="微软雅黑"/>
                  <a:ea typeface="微软雅黑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Box 24"/>
            <p:cNvSpPr/>
            <p:nvPr/>
          </p:nvSpPr>
          <p:spPr>
            <a:xfrm>
              <a:off x="1897560" y="1387080"/>
              <a:ext cx="6254640" cy="46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组合 45"/>
          <p:cNvGrpSpPr/>
          <p:nvPr/>
        </p:nvGrpSpPr>
        <p:grpSpPr>
          <a:xfrm>
            <a:off x="571680" y="1357200"/>
            <a:ext cx="8358120" cy="3143520"/>
            <a:chOff x="571680" y="1357200"/>
            <a:chExt cx="8358120" cy="3143520"/>
          </a:xfrm>
        </p:grpSpPr>
        <p:sp>
          <p:nvSpPr>
            <p:cNvPr id="151" name="矩形 17"/>
            <p:cNvSpPr/>
            <p:nvPr/>
          </p:nvSpPr>
          <p:spPr>
            <a:xfrm>
              <a:off x="1785960" y="3286080"/>
              <a:ext cx="7143840" cy="1214640"/>
            </a:xfrm>
            <a:prstGeom prst="rect">
              <a:avLst/>
            </a:prstGeom>
            <a:noFill/>
            <a:ln w="25560">
              <a:solidFill>
                <a:srgbClr val="e5a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20"/>
            <p:cNvSpPr/>
            <p:nvPr/>
          </p:nvSpPr>
          <p:spPr>
            <a:xfrm>
              <a:off x="571680" y="2928960"/>
              <a:ext cx="1136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f6f1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f6f1"/>
                  </a:solidFill>
                  <a:latin typeface="Times New Roman"/>
                </a:rPr>
                <a:t>     </a:t>
              </a:r>
              <a:r>
                <a:rPr b="1" lang="en-US" sz="2400" spc="-1" strike="noStrike">
                  <a:solidFill>
                    <a:srgbClr val="def6f1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Box 26"/>
            <p:cNvSpPr/>
            <p:nvPr/>
          </p:nvSpPr>
          <p:spPr>
            <a:xfrm>
              <a:off x="1785960" y="1357200"/>
              <a:ext cx="6359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她一如既往，埋头工作到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67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岁离开人世，离开了她心爱的实验室。直到她死后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年，她用过的笔记本里，还有射线在不停地释放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组合 37"/>
          <p:cNvGrpSpPr/>
          <p:nvPr/>
        </p:nvGrpSpPr>
        <p:grpSpPr>
          <a:xfrm>
            <a:off x="423720" y="3286080"/>
            <a:ext cx="8720280" cy="4429080"/>
            <a:chOff x="423720" y="3286080"/>
            <a:chExt cx="8720280" cy="4429080"/>
          </a:xfrm>
        </p:grpSpPr>
        <p:sp>
          <p:nvSpPr>
            <p:cNvPr id="155" name="矩形 12"/>
            <p:cNvSpPr/>
            <p:nvPr/>
          </p:nvSpPr>
          <p:spPr>
            <a:xfrm>
              <a:off x="423720" y="7659360"/>
              <a:ext cx="78480" cy="55800"/>
            </a:xfrm>
            <a:prstGeom prst="rect">
              <a:avLst/>
            </a:prstGeom>
            <a:solidFill>
              <a:srgbClr val="54adb6"/>
            </a:solidFill>
            <a:ln w="25560">
              <a:solidFill>
                <a:srgbClr val="236f23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矩形 18"/>
            <p:cNvSpPr/>
            <p:nvPr/>
          </p:nvSpPr>
          <p:spPr>
            <a:xfrm>
              <a:off x="1623240" y="7659360"/>
              <a:ext cx="6265080" cy="55800"/>
            </a:xfrm>
            <a:prstGeom prst="rect">
              <a:avLst/>
            </a:prstGeom>
            <a:noFill/>
            <a:ln w="25560">
              <a:solidFill>
                <a:srgbClr val="54ad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Box 27"/>
            <p:cNvSpPr/>
            <p:nvPr/>
          </p:nvSpPr>
          <p:spPr>
            <a:xfrm>
              <a:off x="1684080" y="3286080"/>
              <a:ext cx="74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她视名利如粪土，她将奖金赠给科研事业战争中的法国，而将那些奖章送给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岁的小女儿去当玩具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矩形 13"/>
          <p:cNvSpPr/>
          <p:nvPr/>
        </p:nvSpPr>
        <p:spPr>
          <a:xfrm>
            <a:off x="642960" y="3214800"/>
            <a:ext cx="1071720" cy="928440"/>
          </a:xfrm>
          <a:prstGeom prst="rect">
            <a:avLst/>
          </a:prstGeom>
          <a:solidFill>
            <a:srgbClr val="a0b43c"/>
          </a:solidFill>
          <a:ln w="25560">
            <a:solidFill>
              <a:srgbClr val="236f23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4"/>
          <p:cNvSpPr/>
          <p:nvPr/>
        </p:nvSpPr>
        <p:spPr>
          <a:xfrm>
            <a:off x="785880" y="350028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f6f1"/>
                </a:solidFill>
                <a:latin typeface="微软雅黑"/>
                <a:ea typeface="微软雅黑"/>
              </a:rPr>
              <a:t>  </a:t>
            </a:r>
            <a:r>
              <a:rPr b="1" lang="en-US" sz="2400" spc="-1" strike="noStrike">
                <a:solidFill>
                  <a:srgbClr val="def6f1"/>
                </a:solidFill>
                <a:latin typeface="微软雅黑"/>
                <a:ea typeface="微软雅黑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4"/>
          <p:cNvSpPr/>
          <p:nvPr/>
        </p:nvSpPr>
        <p:spPr>
          <a:xfrm>
            <a:off x="5429160" y="4214880"/>
            <a:ext cx="290844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淡泊名利的品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5"/>
          <p:cNvSpPr/>
          <p:nvPr/>
        </p:nvSpPr>
        <p:spPr>
          <a:xfrm>
            <a:off x="5638680" y="2286000"/>
            <a:ext cx="277524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献身科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3"/>
          <p:cNvSpPr/>
          <p:nvPr/>
        </p:nvSpPr>
        <p:spPr>
          <a:xfrm>
            <a:off x="2786040" y="142920"/>
            <a:ext cx="293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 格 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6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6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2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2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6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6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28600" y="457200"/>
            <a:ext cx="86868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深入探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为什么用“跨越百年”来修饰“美丽” 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2590920"/>
            <a:ext cx="5562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居里夫人的“美丽”已成为人类共同拥有的精神财富，流传至今，还要继续流传下去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28600" y="9144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、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文章当中写了哪些事例，找出这些事例并加以概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1981080"/>
            <a:ext cx="8382240" cy="277596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正面材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国著名女词人李清照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189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，法国科学家贝克勒尔发现铀盐可以使胶片感光，这是天然放射性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 185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斯佗夫人写了一本《汤姆叔叔的小屋》导致了美国南北战争爆发，林肯说是一个小妇人引发了一场解放黑奴的大革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35080" y="304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深入探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838080" y="228600"/>
            <a:ext cx="716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1600200"/>
            <a:ext cx="8229600" cy="17546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正面材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宋玉说有美女在墙头看他三年而不动心。范仲淹考进士前在一间破庙里读书，晨起煮粥一碗，冷后划作四块，是为一天的口粮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诸葛亮戎马一生，气吞曹吴，却不披一甲，不佩一刃；毛泽东指挥军民万众，在战火中打出一个新中国， 却不背枪支，不受军衔。大音希声，大道无形，大智之人，不耽于形， 不逐于力，不持于技。他们淡淡地生活，静静地思考，执着地进取，直进到智慧高地，自由地驾驭规律，而永葆一种理性的美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9144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、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文章当中写了哪些事例，找出这些事例并加以概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7200" y="1600200"/>
            <a:ext cx="8077320" cy="157212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反面材料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你看有多少女孩子王婆“赏”瓜，顾影自怜 而不知前路。数年前一位母亲对我说她刚上初中的女儿成绩下降。为 什么？答曰：“知道爱美了，上课总用铅笔杆做她的卷卷头。”美对女人人来说是一种附加，就像格律对诗词也是一种附加。律诗难作，美人 难为，做得好惊天动地，做不好就黄花委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她可以趁着年轻貌美如现代女孩吃青春饭那样，在钦羡和礼赞中活个轻松，活个痛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8380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、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文章当中写了哪些事例，找出这些事例并加以概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990720"/>
            <a:ext cx="8715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她一如既往，埋头工作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岁离开人世，离开了她心爱的实验室。直到她身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，她用过的笔记本里，还有射线在不停地释放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2895480"/>
            <a:ext cx="8426520" cy="52056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从这段话里我们可以感受到做实验的时候，射线该是多么强烈</a:t>
            </a:r>
            <a:r>
              <a:rPr b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!</a:t>
            </a:r>
            <a:r>
              <a:rPr b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呀居里夫人知道射线对健康有害，可她还是坚持工作，真正做到了为科学献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35080" y="304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深入探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33520" y="914400"/>
            <a:ext cx="78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点美丽的淡蓝色的荧光，融入了一个女子美丽的生命和不屈的信念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2133720"/>
            <a:ext cx="7558200" cy="16178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淡蓝色的荧光”是居里夫人用三年零九个月的时间提炼出来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克的镭发出的，也就是她的成果，这项成就的取得，是以居里夫人终日的烟熏火撩、身体的疲劳为代价获得的，因而融入了“美丽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命。这项成就的取得也是居里夫人坚持探寻“其他物质有没有放射性”的信念的结果，因而融入了“不屈的信念”。这句话是对居里夫人在科学研究中表现坚持不懈的献身精神的赞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35080" y="304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深入探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3360600"/>
            <a:ext cx="4572000" cy="34974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572000" y="3427560"/>
            <a:ext cx="4572000" cy="34304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04920" y="161424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过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三年又九个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他们终于在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成吨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矿渣中提炼出了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.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240" y="838080"/>
            <a:ext cx="91407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ef6f1"/>
                </a:solidFill>
                <a:latin typeface="楷体_GB2312"/>
                <a:ea typeface="楷体_GB2312"/>
              </a:rPr>
              <a:t> 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她从一个漂亮的小姑娘，一个端庄坚毅的女学者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变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科学教科书里的新名词“放射线”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变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物理学的一个新的计量单位“居里”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变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条条科学定律，她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变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了科学史上一块永远的里程碑。（作者为什么连用四个“变成”？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3276720"/>
            <a:ext cx="8556480" cy="2179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    </a:t>
            </a:r>
            <a:r>
              <a:rPr b="0" lang="zh-CN" sz="3300" spc="-1" strike="noStrike">
                <a:solidFill>
                  <a:srgbClr val="3333ff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这个句子采用了“从……变成……”的排比句式，这种“变”不是一般的变成，而是一种人生价值的提升，生命境界的飞跃，四个“变成”概括了居里夫人奋斗的一生以及不朽的功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35080" y="304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深入探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理解文中含义深刻的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了解学者散文的创作艺术。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体会居里夫人为科学献身的精神，理解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跨越百年的美丽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深刻内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0" y="343080"/>
            <a:ext cx="8761320" cy="65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660680" y="12114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33520" y="228600"/>
            <a:ext cx="8153280" cy="63244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286000" y="2165400"/>
            <a:ext cx="4572000" cy="10688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皮埃尔说：“我只是希望它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美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的颜色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它真的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极美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的颜色，在幽暗的破木棚里发出略带蓝色的荧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724360" y="1268280"/>
            <a:ext cx="3048120" cy="3816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rcRect l="0" t="0" r="779" b="11200"/>
          <a:stretch/>
        </p:blipFill>
        <p:spPr>
          <a:xfrm>
            <a:off x="324000" y="1413000"/>
            <a:ext cx="525600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146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华文中宋"/>
              </a:rPr>
              <a:t>——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华文中宋"/>
              </a:rPr>
              <a:t>著名科学家爱因斯坦说过：“在所有的世界著名人物中，玛丽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华文中宋"/>
              </a:rPr>
              <a:t>·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华文中宋"/>
              </a:rPr>
              <a:t>居里是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华文中宋"/>
              </a:rPr>
              <a:t>唯一没有被盛名宠坏的人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华文中宋"/>
              </a:rPr>
              <a:t>。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华文中宋"/>
              </a:rPr>
              <a:t>——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华文中宋"/>
              </a:rPr>
              <a:t>她本来可以躺在任何一项大奖或任何一个荣誉上尽情地享受，但是，她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华文中宋"/>
              </a:rPr>
              <a:t>视名利如粪土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华文中宋"/>
              </a:rPr>
              <a:t>，她将奖金捐赠给科研事业和战争中的法国，而将那些奖章送给６岁的小女儿当玩具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40464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中宋"/>
              </a:rPr>
              <a:t>居里夫人是怎样对待她的“美名”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70840" y="1125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淡泊名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0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3" dur="2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258920" y="126828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-364680" y="2421000"/>
            <a:ext cx="1277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美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7"/>
          <p:cNvSpPr/>
          <p:nvPr/>
        </p:nvSpPr>
        <p:spPr>
          <a:xfrm>
            <a:off x="755640" y="1844640"/>
            <a:ext cx="360360" cy="2952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0 h 2952720"/>
              <a:gd name="textAreaBottom" fmla="*/ 295308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7920"/>
                </a:lnTo>
                <a:cubicBezTo>
                  <a:pt x="10800" y="7920"/>
                  <a:pt x="5400" y="7920"/>
                  <a:pt x="0" y="7920"/>
                </a:cubicBezTo>
                <a:cubicBezTo>
                  <a:pt x="5400" y="7920"/>
                  <a:pt x="10800" y="7920"/>
                  <a:pt x="10800" y="792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87280" y="1701720"/>
            <a:ext cx="14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外在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187280" y="458136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在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56000" y="2060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74160" y="1773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美丽端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82840" y="27097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伟大的成就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44720" y="4365720"/>
            <a:ext cx="18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科学的精神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8"/>
          <p:cNvSpPr/>
          <p:nvPr/>
        </p:nvSpPr>
        <p:spPr>
          <a:xfrm>
            <a:off x="4645080" y="41497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03640" y="400536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坚定执著的追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32360" y="47260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忘我奉献的精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8"/>
          <p:cNvSpPr/>
          <p:nvPr/>
        </p:nvSpPr>
        <p:spPr>
          <a:xfrm>
            <a:off x="2484360" y="3070080"/>
            <a:ext cx="360360" cy="3218040"/>
          </a:xfrm>
          <a:custGeom>
            <a:avLst/>
            <a:gdLst>
              <a:gd name="textAreaLeft" fmla="*/ 230400 w 360360"/>
              <a:gd name="textAreaRight" fmla="*/ 360720 w 360360"/>
              <a:gd name="textAreaTop" fmla="*/ 83880 h 3218040"/>
              <a:gd name="textAreaBottom" fmla="*/ 3134160 h 3218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916360" y="5877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高尚的人格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61080" y="5877000"/>
            <a:ext cx="18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淡泊名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31000" y="40464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Arial"/>
              </a:rPr>
              <a:t>跨越百年的美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471280" y="278136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发现放射性金属元素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895480" y="1371600"/>
            <a:ext cx="4991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小结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本文运用联想、引用、类比、对比等手法，突出了居里夫人的美丽，深化了主题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0" y="914400"/>
            <a:ext cx="2725560" cy="335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28600" y="53352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弱者坐待时机；强者制造时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们必须有恒心，尤其要有自信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如果能随理想而生活，本着正直自由的精神，勇敢直前的毅力，诚实不自欺的思想而行，则定能臻于至美至善的境地。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0400" y="35812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居里夫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2280" y="3505320"/>
            <a:ext cx="12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35080" y="304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资料延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镭放射出的射线能破坏人体内的恶性组织，因此常用来治疗癌症，所以居里先生去世后，居里夫人把千辛万苦提炼出来的，价值高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万金法郎以上的镭，无偿地赠送给了研究治癌的实验室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钋是一种银白色金属，能在黑暗中发光，由著名科学家居里夫人与丈夫</a:t>
            </a:r>
            <a:r>
              <a:rPr b="0" lang="zh-CN" sz="2400" spc="-1" strike="noStrike" u="sng">
                <a:solidFill>
                  <a:srgbClr val="0066cc"/>
                </a:solidFill>
                <a:uFillTx/>
                <a:latin typeface="楷体_GB2312"/>
                <a:ea typeface="楷体_GB2312"/>
                <a:hlinkClick r:id="rId2"/>
              </a:rPr>
              <a:t>皮埃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9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发现，两人对这种</a:t>
            </a:r>
            <a:r>
              <a:rPr b="0" lang="zh-CN" sz="2400" spc="-1" strike="noStrike" u="sng">
                <a:solidFill>
                  <a:srgbClr val="0066cc"/>
                </a:solidFill>
                <a:uFillTx/>
                <a:latin typeface="楷体_GB2312"/>
                <a:ea typeface="楷体_GB2312"/>
                <a:hlinkClick r:id="rId3"/>
              </a:rPr>
              <a:t>元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命名是为了纪念居里夫人的祖国</a:t>
            </a:r>
            <a:r>
              <a:rPr b="0" lang="zh-CN" sz="2400" spc="-1" strike="noStrike" u="sng">
                <a:solidFill>
                  <a:srgbClr val="0066cc"/>
                </a:solidFill>
                <a:uFillTx/>
                <a:latin typeface="楷体_GB2312"/>
                <a:ea typeface="楷体_GB2312"/>
                <a:hlinkClick r:id="rId4"/>
              </a:rPr>
              <a:t>波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钋是目前已知最稀有的元素之一，在</a:t>
            </a:r>
            <a:r>
              <a:rPr b="0" lang="zh-CN" sz="2400" spc="-1" strike="noStrike" u="sng">
                <a:solidFill>
                  <a:srgbClr val="0066cc"/>
                </a:solidFill>
                <a:uFillTx/>
                <a:latin typeface="楷体_GB2312"/>
                <a:ea typeface="楷体_GB2312"/>
                <a:hlinkClick r:id="rId5"/>
              </a:rPr>
              <a:t>地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含量约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亿分之一。天然的钋存在于所有铀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óu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400" spc="-1" strike="noStrike" u="sng">
                <a:solidFill>
                  <a:srgbClr val="0066cc"/>
                </a:solidFill>
                <a:uFillTx/>
                <a:latin typeface="楷体_GB2312"/>
                <a:ea typeface="楷体_GB2312"/>
                <a:hlinkClick r:id="rId6"/>
              </a:rPr>
              <a:t>矿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钍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ǔ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矿石中，但由于含量过于微小，主要通过人工合成方式取得。钋是世界上最毒的物质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克钋可以杀死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35080" y="304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资料延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163400" y="5791320"/>
            <a:ext cx="100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阅读爱因斯坦的《悼念玛丽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居里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43000" y="15238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收集整理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获得诺贝尔奖的科学家或文学家的生平，小组交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143000" y="32767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借鉴本文中的外貌描写方法，对身边熟悉的人进行一段描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3640" y="44118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导入：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“美”的释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531504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981080" y="3352680"/>
            <a:ext cx="3505320" cy="2103480"/>
          </a:xfrm>
          <a:prstGeom prst="rect">
            <a:avLst/>
          </a:prstGeom>
          <a:ln w="0">
            <a:noFill/>
          </a:ln>
        </p:spPr>
      </p:pic>
      <p:pic>
        <p:nvPicPr>
          <p:cNvPr id="56" name="图片 5" descr="孩子笑脸（震后）.jpg"/>
          <p:cNvPicPr/>
          <p:nvPr/>
        </p:nvPicPr>
        <p:blipFill>
          <a:blip r:embed="rId4"/>
          <a:stretch/>
        </p:blipFill>
        <p:spPr>
          <a:xfrm>
            <a:off x="5638680" y="990720"/>
            <a:ext cx="3505320" cy="31017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1676520" y="1981080"/>
            <a:ext cx="50292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指味、色、声、态的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指才德或品质的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91ae68c6149d0a079d163db4"/>
          <p:cNvPicPr/>
          <p:nvPr/>
        </p:nvPicPr>
        <p:blipFill>
          <a:blip r:embed="rId5"/>
          <a:stretch/>
        </p:blipFill>
        <p:spPr>
          <a:xfrm>
            <a:off x="304920" y="1905120"/>
            <a:ext cx="13683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导入：</a:t>
            </a:r>
            <a:br>
              <a:rPr sz="4000"/>
            </a:b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什么样的美丽能跨越百年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91ae68c6149d0a079d163db4"/>
          <p:cNvPicPr/>
          <p:nvPr/>
        </p:nvPicPr>
        <p:blipFill>
          <a:blip r:embed="rId2"/>
          <a:stretch/>
        </p:blipFill>
        <p:spPr>
          <a:xfrm>
            <a:off x="1143000" y="2286000"/>
            <a:ext cx="1368360" cy="1523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276720" y="1905120"/>
            <a:ext cx="266688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133720" y="1143000"/>
            <a:ext cx="61722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9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是居里夫人和她的丈夫发现镭一百周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跨越百年的‘‘美丽’’不仅是居里夫人的美丽端庄，更是她所体现的坚定执著、为科学献身的精神。这美是永恒的、是经得起岁月的磨砺与洗礼的。走近居里夫人，我们感叹她为人类作出的伟大贡献，更惊叹她在光荣面前的淡定，她的心灵与人格不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65840" y="40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0" y="343080"/>
            <a:ext cx="8761320" cy="6514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0" y="1447920"/>
            <a:ext cx="21067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居里夫人与诺贝尔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133720" y="1371600"/>
            <a:ext cx="632448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玛丽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居里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Marie Curi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），法国科学家。她与丈夫皮埃尔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居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(Pierre Curie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都是放射性的早期研究者，他们发现了放射性元素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(Po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和镭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(Ra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，并因此与法国物理学家亨利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贝克勒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(Henry Becquerel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分享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190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年诺贝尔物理学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之后，居里夫人继续研究了镭在化学和医学上的应用，并且因分离出纯的金属镭而又获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191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年诺贝尔化学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191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年第一次世界大战爆发时，居里夫人用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X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射线设备装备了救护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2106720" cy="24382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438280" y="1032120"/>
            <a:ext cx="5651640" cy="46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9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  热涅奖，巴黎科学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  热涅奖，巴黎科学院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0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  热涅奖，巴黎科学院   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0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                  诺贝尔物理学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0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      奥西利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0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      阿克托尼安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                  诺贝尔化学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2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    艾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理查德研究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    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阿尔让德约侯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大奖及铜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3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                 卡梅伦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21067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居里夫人与诺贝尔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904760" y="1371600"/>
            <a:ext cx="655308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世纪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年代末期，长期受放射线的照射使居里夫人患上白血病，终于在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193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日不治而亡。在此之前几个月，她的女儿依伦和女婿约里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居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(Joliot-Curie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宣布发现人工放射性，荣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193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年诺贝尔化学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居里夫人的大半生都是清贫的，提取镭的艰苦过程是在简陋的条件下完成的。居里夫妇拒绝为他们的任何发现申专利，为的是让每个人都能自由地利用他们的发现。他们把诺贝尔奖金和其奖金都用到了以后的研究中去了。他们研究工作的杰出应用之一就是应用放射性治疗癌症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2106720" cy="24382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11-28T01:53:01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