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12.png" ContentType="image/png"/>
  <Override PartName="/ppt/media/chimes.wav" ContentType="audio/x-wav"/>
  <Override PartName="/ppt/media/image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7.jpeg" ContentType="image/jpeg"/>
  <Override PartName="/ppt/media/image13.png" ContentType="image/png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29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969125" cy="10302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69600" cy="1030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068120" y="849240"/>
            <a:ext cx="464652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46120" y="4944960"/>
            <a:ext cx="587520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0225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946680" y="-360"/>
            <a:ext cx="30225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786600"/>
            <a:ext cx="30225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46680" y="9786600"/>
            <a:ext cx="30225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8732-D196-434C-850E-3F42D78BAE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07920" y="771480"/>
            <a:ext cx="5151600" cy="3863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94800" y="4892760"/>
            <a:ext cx="55753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5A5-27B5-4FCD-8FFB-4A2001C9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E7E-EAFE-45CE-811A-3079A14A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6AD-D550-45B1-975B-CBA0C817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5E3-F2A5-422D-BF0D-7601BEE5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870-8DE3-4066-99FB-81D7B90D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7CC-5F51-4132-9702-36250748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587-AFF4-4B86-A860-621F700F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8F6-7CE7-4C39-BBD1-37372F4A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CBB-2F5C-40EB-8662-76DEE4FC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F19-F8E9-4F25-A442-7C5D0FC1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C48-F3F1-4366-804C-C2FE32D6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5B2-7939-427E-B5F9-72DCE7CE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3A5A-F833-40F8-9A3F-485D8C3774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11280" y="189000"/>
            <a:ext cx="741672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web.com/mingrl/zzq/guju.htm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68960" y="450720"/>
            <a:ext cx="98460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第一单元</a:t>
            </a:r>
            <a:br>
              <a:rPr sz="96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3960" y="339480"/>
            <a:ext cx="75564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重点字词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1628640"/>
            <a:ext cx="88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iè     pì   duó   wěng   mí     niǎo n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煤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屑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路  幽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僻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踱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着  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蓊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郁   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弥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望  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袅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è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ó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qiàn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uán    zhào   liǎn j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羞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涩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斑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驳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倩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影   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媛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女   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棹      敛裾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àn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huì    shā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ì     hān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梵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婀玲  点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缀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树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梢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空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隙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酣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眠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</a:rPr>
              <a:t>霎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初读课文，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根据课文题目，文中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章的结构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3313"/>
          <p:cNvSpPr/>
          <p:nvPr/>
        </p:nvSpPr>
        <p:spPr>
          <a:xfrm>
            <a:off x="2747160" y="562680"/>
            <a:ext cx="34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篇文章主要写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3314"/>
          <p:cNvGrpSpPr/>
          <p:nvPr/>
        </p:nvGrpSpPr>
        <p:grpSpPr>
          <a:xfrm>
            <a:off x="122400" y="250920"/>
            <a:ext cx="914400" cy="3246480"/>
            <a:chOff x="122400" y="250920"/>
            <a:chExt cx="914400" cy="3246480"/>
          </a:xfrm>
        </p:grpSpPr>
        <p:sp>
          <p:nvSpPr>
            <p:cNvPr id="95" name="圆角矩形 13315"/>
            <p:cNvSpPr/>
            <p:nvPr/>
          </p:nvSpPr>
          <p:spPr>
            <a:xfrm>
              <a:off x="122400" y="250920"/>
              <a:ext cx="914400" cy="324648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3246480"/>
                <a:gd name="textAreaBottom" fmla="*/ 3201840 h 3246480"/>
              </a:gdLst>
              <a:ahLst/>
              <a:rect l="textAreaLeft" t="textAreaTop" r="textAreaRight" b="textAreaBottom"/>
              <a:pathLst>
                <a:path w="21600" h="76667">
                  <a:moveTo>
                    <a:pt x="3600" y="0"/>
                  </a:moveTo>
                  <a:arcTo wR="3600" hR="3600" stAng="16200000" swAng="-5400000"/>
                  <a:lnTo>
                    <a:pt x="0" y="73067"/>
                  </a:lnTo>
                  <a:arcTo wR="3600" hR="3600" stAng="10800000" swAng="-5400000"/>
                  <a:lnTo>
                    <a:pt x="18000" y="766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abf11"/>
            </a:solidFill>
            <a:ln w="9360">
              <a:solidFill>
                <a:srgbClr val="960e6f"/>
              </a:solidFill>
              <a:beve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圆角矩形 13316"/>
            <p:cNvSpPr/>
            <p:nvPr/>
          </p:nvSpPr>
          <p:spPr>
            <a:xfrm>
              <a:off x="244080" y="380520"/>
              <a:ext cx="670680" cy="6490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圆角矩形 13317"/>
            <p:cNvSpPr/>
            <p:nvPr/>
          </p:nvSpPr>
          <p:spPr>
            <a:xfrm>
              <a:off x="244080" y="1159560"/>
              <a:ext cx="670680" cy="6490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圆角矩形 13318"/>
            <p:cNvSpPr/>
            <p:nvPr/>
          </p:nvSpPr>
          <p:spPr>
            <a:xfrm>
              <a:off x="244080" y="1938960"/>
              <a:ext cx="670680" cy="6490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13319"/>
            <p:cNvSpPr/>
            <p:nvPr/>
          </p:nvSpPr>
          <p:spPr>
            <a:xfrm>
              <a:off x="244080" y="2718000"/>
              <a:ext cx="670680" cy="6490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3320"/>
            <p:cNvSpPr txBox="1"/>
            <p:nvPr/>
          </p:nvSpPr>
          <p:spPr>
            <a:xfrm>
              <a:off x="305280" y="445680"/>
              <a:ext cx="54864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宋体"/>
                </a:rPr>
                <a:t>解</a:t>
              </a:r>
              <a:endParaRPr b="1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01" name="矩形 13321"/>
            <p:cNvSpPr txBox="1"/>
            <p:nvPr/>
          </p:nvSpPr>
          <p:spPr>
            <a:xfrm>
              <a:off x="305280" y="1224720"/>
              <a:ext cx="54864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新魏"/>
                </a:rPr>
                <a:t>读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102" name="矩形 13322"/>
            <p:cNvSpPr txBox="1"/>
            <p:nvPr/>
          </p:nvSpPr>
          <p:spPr>
            <a:xfrm>
              <a:off x="305280" y="2003760"/>
              <a:ext cx="54864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新魏"/>
                </a:rPr>
                <a:t>题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103" name="矩形 13323"/>
            <p:cNvSpPr txBox="1"/>
            <p:nvPr/>
          </p:nvSpPr>
          <p:spPr>
            <a:xfrm>
              <a:off x="305280" y="2783160"/>
              <a:ext cx="54864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楷体"/>
                </a:rPr>
                <a:t>目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楷体"/>
                <a:ea typeface="华文楷体"/>
              </a:endParaRPr>
            </a:p>
          </p:txBody>
        </p:sp>
      </p:grpSp>
      <p:grpSp>
        <p:nvGrpSpPr>
          <p:cNvPr id="104" name="组合 13324"/>
          <p:cNvGrpSpPr/>
          <p:nvPr/>
        </p:nvGrpSpPr>
        <p:grpSpPr>
          <a:xfrm>
            <a:off x="1523880" y="1599840"/>
            <a:ext cx="2590920" cy="1191240"/>
            <a:chOff x="1523880" y="1599840"/>
            <a:chExt cx="2590920" cy="1191240"/>
          </a:xfrm>
        </p:grpSpPr>
        <p:sp>
          <p:nvSpPr>
            <p:cNvPr id="105" name="椭圆 13325"/>
            <p:cNvSpPr/>
            <p:nvPr/>
          </p:nvSpPr>
          <p:spPr>
            <a:xfrm>
              <a:off x="1523880" y="1828800"/>
              <a:ext cx="2590920" cy="914400"/>
            </a:xfrm>
            <a:prstGeom prst="ellipse">
              <a:avLst/>
            </a:prstGeom>
            <a:solidFill>
              <a:srgbClr val="a7c6e5"/>
            </a:solidFill>
            <a:ln w="9360">
              <a:solidFill>
                <a:srgbClr val="f1ffd5"/>
              </a:solidFill>
              <a:beve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3326"/>
            <p:cNvSpPr/>
            <p:nvPr/>
          </p:nvSpPr>
          <p:spPr>
            <a:xfrm>
              <a:off x="1904760" y="1599840"/>
              <a:ext cx="1581120" cy="1191240"/>
            </a:xfrm>
            <a:prstGeom prst="rect">
              <a:avLst/>
            </a:prstGeom>
            <a:solidFill>
              <a:srgbClr val="a7c6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66"/>
                  </a:solidFill>
                  <a:latin typeface="Arial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荷  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3327"/>
          <p:cNvGrpSpPr/>
          <p:nvPr/>
        </p:nvGrpSpPr>
        <p:grpSpPr>
          <a:xfrm>
            <a:off x="4952880" y="1828800"/>
            <a:ext cx="2590920" cy="914400"/>
            <a:chOff x="4952880" y="1828800"/>
            <a:chExt cx="2590920" cy="914400"/>
          </a:xfrm>
        </p:grpSpPr>
        <p:sp>
          <p:nvSpPr>
            <p:cNvPr id="108" name="椭圆 13328"/>
            <p:cNvSpPr/>
            <p:nvPr/>
          </p:nvSpPr>
          <p:spPr>
            <a:xfrm>
              <a:off x="4952880" y="1828800"/>
              <a:ext cx="2590920" cy="914400"/>
            </a:xfrm>
            <a:prstGeom prst="ellipse">
              <a:avLst/>
            </a:prstGeom>
            <a:solidFill>
              <a:srgbClr val="a7c6e5"/>
            </a:solidFill>
            <a:ln w="9360">
              <a:solidFill>
                <a:srgbClr val="f1ffd5"/>
              </a:solidFill>
              <a:beve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3329"/>
            <p:cNvSpPr/>
            <p:nvPr/>
          </p:nvSpPr>
          <p:spPr>
            <a:xfrm>
              <a:off x="5195160" y="1874160"/>
              <a:ext cx="1922400" cy="642600"/>
            </a:xfrm>
            <a:prstGeom prst="rect">
              <a:avLst/>
            </a:prstGeom>
            <a:solidFill>
              <a:srgbClr val="a7c6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66"/>
                  </a:solidFill>
                  <a:latin typeface="Arial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月  色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十字形 13330"/>
          <p:cNvSpPr/>
          <p:nvPr/>
        </p:nvSpPr>
        <p:spPr>
          <a:xfrm>
            <a:off x="4191120" y="1981080"/>
            <a:ext cx="685800" cy="609840"/>
          </a:xfrm>
          <a:prstGeom prst="plus">
            <a:avLst>
              <a:gd name="adj" fmla="val 40801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331"/>
          <p:cNvSpPr/>
          <p:nvPr/>
        </p:nvSpPr>
        <p:spPr>
          <a:xfrm>
            <a:off x="1036800" y="3245040"/>
            <a:ext cx="8145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第四段侧重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荷塘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，写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月色下的荷塘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5384"/>
          <p:cNvSpPr/>
          <p:nvPr/>
        </p:nvSpPr>
        <p:spPr>
          <a:xfrm>
            <a:off x="1036800" y="4054320"/>
            <a:ext cx="76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第五段侧重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月色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，写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荷塘上的月色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72705" descr="未命名-2"/>
          <p:cNvPicPr/>
          <p:nvPr/>
        </p:nvPicPr>
        <p:blipFill>
          <a:blip r:embed="rId2"/>
          <a:stretch/>
        </p:blipFill>
        <p:spPr>
          <a:xfrm>
            <a:off x="660240" y="2743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72706" descr="未命名-3"/>
          <p:cNvPicPr/>
          <p:nvPr/>
        </p:nvPicPr>
        <p:blipFill>
          <a:blip r:embed="rId3"/>
          <a:stretch/>
        </p:blipFill>
        <p:spPr>
          <a:xfrm>
            <a:off x="6273720" y="1965240"/>
            <a:ext cx="2870280" cy="24764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72707" descr="未命名-12"/>
          <p:cNvPicPr/>
          <p:nvPr/>
        </p:nvPicPr>
        <p:blipFill>
          <a:blip r:embed="rId4"/>
          <a:stretch/>
        </p:blipFill>
        <p:spPr>
          <a:xfrm rot="16947000">
            <a:off x="3512880" y="3352320"/>
            <a:ext cx="196524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116" name="组合 72708"/>
          <p:cNvGrpSpPr/>
          <p:nvPr/>
        </p:nvGrpSpPr>
        <p:grpSpPr>
          <a:xfrm>
            <a:off x="3429000" y="642960"/>
            <a:ext cx="1980720" cy="1643040"/>
            <a:chOff x="3429000" y="642960"/>
            <a:chExt cx="1980720" cy="1643040"/>
          </a:xfrm>
        </p:grpSpPr>
        <p:pic>
          <p:nvPicPr>
            <p:cNvPr id="117" name="图片 72709" descr="未命名-1"/>
            <p:cNvPicPr/>
            <p:nvPr/>
          </p:nvPicPr>
          <p:blipFill>
            <a:blip r:embed="rId5"/>
            <a:stretch/>
          </p:blipFill>
          <p:spPr>
            <a:xfrm>
              <a:off x="3429000" y="642960"/>
              <a:ext cx="19807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文本框 72710"/>
            <p:cNvSpPr/>
            <p:nvPr/>
          </p:nvSpPr>
          <p:spPr>
            <a:xfrm>
              <a:off x="3854880" y="1023840"/>
              <a:ext cx="11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踱小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72711"/>
            <p:cNvSpPr/>
            <p:nvPr/>
          </p:nvSpPr>
          <p:spPr>
            <a:xfrm>
              <a:off x="4045680" y="1557360"/>
              <a:ext cx="771120" cy="0"/>
            </a:xfrm>
            <a:prstGeom prst="line">
              <a:avLst/>
            </a:prstGeom>
            <a:ln w="22320">
              <a:solidFill>
                <a:srgbClr val="cc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72712"/>
          <p:cNvGrpSpPr/>
          <p:nvPr/>
        </p:nvGrpSpPr>
        <p:grpSpPr>
          <a:xfrm>
            <a:off x="3598920" y="4778280"/>
            <a:ext cx="1904760" cy="1536480"/>
            <a:chOff x="3598920" y="4778280"/>
            <a:chExt cx="1904760" cy="1536480"/>
          </a:xfrm>
        </p:grpSpPr>
        <p:pic>
          <p:nvPicPr>
            <p:cNvPr id="121" name="图片 72713" descr="未命名-1"/>
            <p:cNvPicPr/>
            <p:nvPr/>
          </p:nvPicPr>
          <p:blipFill>
            <a:blip r:embed="rId6"/>
            <a:stretch/>
          </p:blipFill>
          <p:spPr>
            <a:xfrm>
              <a:off x="3598920" y="4778280"/>
              <a:ext cx="190476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文本框 72714"/>
            <p:cNvSpPr/>
            <p:nvPr/>
          </p:nvSpPr>
          <p:spPr>
            <a:xfrm>
              <a:off x="4223520" y="5083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出荷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72715"/>
            <p:cNvSpPr/>
            <p:nvPr/>
          </p:nvSpPr>
          <p:spPr>
            <a:xfrm flipH="1">
              <a:off x="4233240" y="5617080"/>
              <a:ext cx="793800" cy="0"/>
            </a:xfrm>
            <a:prstGeom prst="line">
              <a:avLst/>
            </a:prstGeom>
            <a:ln w="22320">
              <a:solidFill>
                <a:srgbClr val="cc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椭圆 72716"/>
          <p:cNvSpPr/>
          <p:nvPr/>
        </p:nvSpPr>
        <p:spPr>
          <a:xfrm>
            <a:off x="2031840" y="1676520"/>
            <a:ext cx="4953240" cy="3276360"/>
          </a:xfrm>
          <a:prstGeom prst="ellipse">
            <a:avLst/>
          </a:prstGeom>
          <a:noFill/>
          <a:ln w="85680">
            <a:solidFill>
              <a:srgbClr val="9abf1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2721"/>
          <p:cNvSpPr/>
          <p:nvPr/>
        </p:nvSpPr>
        <p:spPr>
          <a:xfrm>
            <a:off x="2709720" y="327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72738"/>
          <p:cNvSpPr/>
          <p:nvPr/>
        </p:nvSpPr>
        <p:spPr>
          <a:xfrm>
            <a:off x="571680" y="4724280"/>
            <a:ext cx="15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不宁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郁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72739"/>
          <p:cNvSpPr/>
          <p:nvPr/>
        </p:nvSpPr>
        <p:spPr>
          <a:xfrm>
            <a:off x="5277960" y="1143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寻宁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2740"/>
          <p:cNvSpPr/>
          <p:nvPr/>
        </p:nvSpPr>
        <p:spPr>
          <a:xfrm>
            <a:off x="7029360" y="1317600"/>
            <a:ext cx="117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淡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喜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2741"/>
          <p:cNvSpPr/>
          <p:nvPr/>
        </p:nvSpPr>
        <p:spPr>
          <a:xfrm>
            <a:off x="6858000" y="43434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淡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哀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2742"/>
          <p:cNvSpPr/>
          <p:nvPr/>
        </p:nvSpPr>
        <p:spPr>
          <a:xfrm>
            <a:off x="2437920" y="413064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出宁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依旧郁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7447"/>
          <p:cNvSpPr/>
          <p:nvPr/>
        </p:nvSpPr>
        <p:spPr>
          <a:xfrm>
            <a:off x="1079640" y="213984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家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7448"/>
          <p:cNvSpPr/>
          <p:nvPr/>
        </p:nvSpPr>
        <p:spPr>
          <a:xfrm>
            <a:off x="7184880" y="3216240"/>
            <a:ext cx="16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赏荷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3314"/>
          <p:cNvGrpSpPr/>
          <p:nvPr/>
        </p:nvGrpSpPr>
        <p:grpSpPr>
          <a:xfrm>
            <a:off x="182520" y="165240"/>
            <a:ext cx="731880" cy="2492280"/>
            <a:chOff x="182520" y="165240"/>
            <a:chExt cx="731880" cy="2492280"/>
          </a:xfrm>
        </p:grpSpPr>
        <p:sp>
          <p:nvSpPr>
            <p:cNvPr id="134" name="圆角矩形 13315"/>
            <p:cNvSpPr/>
            <p:nvPr/>
          </p:nvSpPr>
          <p:spPr>
            <a:xfrm>
              <a:off x="182520" y="165240"/>
              <a:ext cx="731880" cy="2492280"/>
            </a:xfrm>
            <a:custGeom>
              <a:avLst/>
              <a:gdLst>
                <a:gd name="textAreaLeft" fmla="*/ 35640 w 731880"/>
                <a:gd name="textAreaRight" fmla="*/ 696240 w 731880"/>
                <a:gd name="textAreaTop" fmla="*/ 35640 h 2492280"/>
                <a:gd name="textAreaBottom" fmla="*/ 2456640 h 2492280"/>
              </a:gdLst>
              <a:ahLst/>
              <a:rect l="textAreaLeft" t="textAreaTop" r="textAreaRight" b="textAreaBottom"/>
              <a:pathLst>
                <a:path w="21600" h="73529">
                  <a:moveTo>
                    <a:pt x="3600" y="0"/>
                  </a:moveTo>
                  <a:arcTo wR="3600" hR="3600" stAng="16200000" swAng="-5400000"/>
                  <a:lnTo>
                    <a:pt x="0" y="69929"/>
                  </a:lnTo>
                  <a:arcTo wR="3600" hR="3600" stAng="10800000" swAng="-5400000"/>
                  <a:lnTo>
                    <a:pt x="18000" y="73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abf11"/>
            </a:solidFill>
            <a:ln w="9360">
              <a:solidFill>
                <a:srgbClr val="960e6f"/>
              </a:solidFill>
              <a:beve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圆角矩形 13316"/>
            <p:cNvSpPr/>
            <p:nvPr/>
          </p:nvSpPr>
          <p:spPr>
            <a:xfrm>
              <a:off x="279720" y="26460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圆角矩形 13317"/>
            <p:cNvSpPr/>
            <p:nvPr/>
          </p:nvSpPr>
          <p:spPr>
            <a:xfrm>
              <a:off x="279720" y="86292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圆角矩形 13318"/>
            <p:cNvSpPr/>
            <p:nvPr/>
          </p:nvSpPr>
          <p:spPr>
            <a:xfrm>
              <a:off x="279720" y="146124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圆角矩形 13319"/>
            <p:cNvSpPr/>
            <p:nvPr/>
          </p:nvSpPr>
          <p:spPr>
            <a:xfrm>
              <a:off x="279720" y="205920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3320"/>
            <p:cNvSpPr txBox="1"/>
            <p:nvPr/>
          </p:nvSpPr>
          <p:spPr>
            <a:xfrm>
              <a:off x="328680" y="31464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宋体"/>
                </a:rPr>
                <a:t>理</a:t>
              </a:r>
              <a:endParaRPr b="1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40" name="矩形 13321"/>
            <p:cNvSpPr txBox="1"/>
            <p:nvPr/>
          </p:nvSpPr>
          <p:spPr>
            <a:xfrm>
              <a:off x="328680" y="91296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新魏"/>
                </a:rPr>
                <a:t>清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141" name="矩形 13322"/>
            <p:cNvSpPr txBox="1"/>
            <p:nvPr/>
          </p:nvSpPr>
          <p:spPr>
            <a:xfrm>
              <a:off x="328680" y="151092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新魏"/>
                </a:rPr>
                <a:t>思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142" name="矩形 13323"/>
            <p:cNvSpPr txBox="1"/>
            <p:nvPr/>
          </p:nvSpPr>
          <p:spPr>
            <a:xfrm>
              <a:off x="328680" y="210924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新魏"/>
                </a:rPr>
                <a:t>路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1280" y="1163160"/>
            <a:ext cx="856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这几天心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颇不宁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这一片天地好像是我的，我也像超出了平常的自己，到了另一世界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我且受用这无边的荷香月色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但热闹是它们的，我什么也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这真是有趣的事，可惜我们现在早已无福消受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这令我到底惦着江南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0720" y="2060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渴求宁静、自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61080" y="2678040"/>
            <a:ext cx="31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暂时获得宁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2200" y="42354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心中怅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60520" y="4754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不再宁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7708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61080" y="3197160"/>
            <a:ext cx="25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心中失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3314"/>
          <p:cNvGrpSpPr/>
          <p:nvPr/>
        </p:nvGrpSpPr>
        <p:grpSpPr>
          <a:xfrm>
            <a:off x="8161200" y="115920"/>
            <a:ext cx="731880" cy="2492280"/>
            <a:chOff x="8161200" y="115920"/>
            <a:chExt cx="731880" cy="2492280"/>
          </a:xfrm>
        </p:grpSpPr>
        <p:sp>
          <p:nvSpPr>
            <p:cNvPr id="151" name="圆角矩形 13315"/>
            <p:cNvSpPr/>
            <p:nvPr/>
          </p:nvSpPr>
          <p:spPr>
            <a:xfrm>
              <a:off x="8161200" y="115920"/>
              <a:ext cx="731880" cy="2492280"/>
            </a:xfrm>
            <a:custGeom>
              <a:avLst/>
              <a:gdLst>
                <a:gd name="textAreaLeft" fmla="*/ 35640 w 731880"/>
                <a:gd name="textAreaRight" fmla="*/ 696240 w 731880"/>
                <a:gd name="textAreaTop" fmla="*/ 35640 h 2492280"/>
                <a:gd name="textAreaBottom" fmla="*/ 2456640 h 2492280"/>
              </a:gdLst>
              <a:ahLst/>
              <a:rect l="textAreaLeft" t="textAreaTop" r="textAreaRight" b="textAreaBottom"/>
              <a:pathLst>
                <a:path w="21600" h="73529">
                  <a:moveTo>
                    <a:pt x="3600" y="0"/>
                  </a:moveTo>
                  <a:arcTo wR="3600" hR="3600" stAng="16200000" swAng="-5400000"/>
                  <a:lnTo>
                    <a:pt x="0" y="69929"/>
                  </a:lnTo>
                  <a:arcTo wR="3600" hR="3600" stAng="10800000" swAng="-5400000"/>
                  <a:lnTo>
                    <a:pt x="18000" y="73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abf11"/>
            </a:solidFill>
            <a:ln w="9360">
              <a:solidFill>
                <a:srgbClr val="960e6f"/>
              </a:solidFill>
              <a:beve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13316"/>
            <p:cNvSpPr/>
            <p:nvPr/>
          </p:nvSpPr>
          <p:spPr>
            <a:xfrm>
              <a:off x="8258400" y="21528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圆角矩形 13317"/>
            <p:cNvSpPr/>
            <p:nvPr/>
          </p:nvSpPr>
          <p:spPr>
            <a:xfrm>
              <a:off x="8258400" y="81360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圆角矩形 13318"/>
            <p:cNvSpPr/>
            <p:nvPr/>
          </p:nvSpPr>
          <p:spPr>
            <a:xfrm>
              <a:off x="8258400" y="141192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圆角矩形 13319"/>
            <p:cNvSpPr/>
            <p:nvPr/>
          </p:nvSpPr>
          <p:spPr>
            <a:xfrm>
              <a:off x="8258400" y="200988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3320"/>
            <p:cNvSpPr txBox="1"/>
            <p:nvPr/>
          </p:nvSpPr>
          <p:spPr>
            <a:xfrm>
              <a:off x="8307360" y="26532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宋体"/>
                </a:rPr>
                <a:t>理</a:t>
              </a:r>
              <a:endParaRPr b="1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57" name="矩形 13321"/>
            <p:cNvSpPr txBox="1"/>
            <p:nvPr/>
          </p:nvSpPr>
          <p:spPr>
            <a:xfrm>
              <a:off x="8307360" y="86364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新魏"/>
                </a:rPr>
                <a:t>清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158" name="矩形 13322"/>
            <p:cNvSpPr txBox="1"/>
            <p:nvPr/>
          </p:nvSpPr>
          <p:spPr>
            <a:xfrm>
              <a:off x="8307360" y="146160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新魏"/>
                </a:rPr>
                <a:t>思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159" name="矩形 13323"/>
            <p:cNvSpPr txBox="1"/>
            <p:nvPr/>
          </p:nvSpPr>
          <p:spPr>
            <a:xfrm>
              <a:off x="8307360" y="205992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新魏"/>
                </a:rPr>
                <a:t>路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细黑"/>
              </a:rPr>
              <a:t>时代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833400"/>
            <a:ext cx="8991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2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，蒋介石发动“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二”反革命政变之后，白色恐怖笼罩了中国大地。旧时代正在崩坏，新时局尚未到来。知识分子不满黑暗现实，向往自由生活，但颓丧和骚动使得他们惶惶然，看不前进的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82296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500280"/>
            <a:ext cx="9144000" cy="1191240"/>
          </a:xfrm>
          <a:prstGeom prst="rect">
            <a:avLst/>
          </a:prstGeom>
          <a:solidFill>
            <a:srgbClr val="ffff00">
              <a:alpha val="56000"/>
            </a:srgbClr>
          </a:solidFill>
          <a:ln w="9360">
            <a:solidFill>
              <a:srgbClr val="960e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朱自清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在旧时代正在崩坏</a:t>
            </a:r>
            <a:r>
              <a:rPr b="1" lang="en-US" sz="2400" spc="-1" strike="noStrike">
                <a:solidFill>
                  <a:srgbClr val="0000cc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新局面尚未到来的时候</a:t>
            </a:r>
            <a:r>
              <a:rPr b="1" lang="en-US" sz="2400" spc="-1" strike="noStrike">
                <a:solidFill>
                  <a:srgbClr val="0000cc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衰退与骚动使得大家惶惶</a:t>
            </a:r>
            <a:r>
              <a:rPr b="1" lang="en-US" sz="2400" spc="-1" strike="noStrike">
                <a:solidFill>
                  <a:srgbClr val="0000cc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只有参加革命或反革命</a:t>
            </a:r>
            <a:r>
              <a:rPr b="1" lang="en-US" sz="2400" spc="-1" strike="noStrike">
                <a:solidFill>
                  <a:srgbClr val="0000cc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才能解决这惶惶然。不能或不愿参加这种实际行动时，便只有暂时逃避的一法</a:t>
            </a:r>
            <a:r>
              <a:rPr b="1" lang="en-US" sz="2400" spc="-1" strike="noStrike">
                <a:solidFill>
                  <a:srgbClr val="0000cc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在三条路里，我将选择哪一条呢？</a:t>
            </a:r>
            <a:r>
              <a:rPr b="1" lang="en-US" sz="2400" spc="-1" strike="noStrike">
                <a:solidFill>
                  <a:srgbClr val="0000cc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我既不能参加革命或反革命，总得找一个依据，才可安心过日子</a:t>
            </a:r>
            <a:r>
              <a:rPr b="1" lang="en-US" sz="2400" spc="-1" strike="noStrike">
                <a:solidFill>
                  <a:srgbClr val="0000cc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我终于在国学里找着了一个题目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哪里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669960"/>
            <a:ext cx="71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几天似乎有些异样，像一叶扁舟在无边的大海上，像一个猎人在无尽的森林里。走路、说话都要费很大的力气；还不能如意。心里是一团乱麻，也可以说是一团火，似乎挣扎着，要明白些什么，但似乎什么也没有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朱自清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的一封信）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219320" y="1052640"/>
          <a:ext cx="7010280" cy="5086080"/>
        </p:xfrm>
        <a:graphic>
          <a:graphicData uri="http://schemas.openxmlformats.org/drawingml/2006/table">
            <a:tbl>
              <a:tblPr/>
              <a:tblGrid>
                <a:gridCol w="990360"/>
                <a:gridCol w="1554120"/>
                <a:gridCol w="1484640"/>
                <a:gridCol w="1555560"/>
                <a:gridCol w="1425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思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游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写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感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结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缘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铺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主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联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呼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  <a:ea typeface="楷体_GB2312"/>
                        </a:rPr>
                        <a:t>主宾分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286000" y="1600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带门出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213372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在路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97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塘边受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6836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塘边回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门进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5157720"/>
            <a:ext cx="1523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路线清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圆和完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1628640"/>
            <a:ext cx="15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院子乘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塘边小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743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下荷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塘上月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塘边树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422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南采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00040" y="464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家门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5229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虚实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主次清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颇不宁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2125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觉得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暂时忘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4221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借酒浇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仍不宁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5229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借酒浇愁愁更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64360" y="1557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6000" y="2133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304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414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465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537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跌宕圆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13314"/>
          <p:cNvGrpSpPr/>
          <p:nvPr/>
        </p:nvGrpSpPr>
        <p:grpSpPr>
          <a:xfrm>
            <a:off x="8161200" y="115920"/>
            <a:ext cx="731880" cy="2492280"/>
            <a:chOff x="8161200" y="115920"/>
            <a:chExt cx="731880" cy="2492280"/>
          </a:xfrm>
        </p:grpSpPr>
        <p:sp>
          <p:nvSpPr>
            <p:cNvPr id="191" name="圆角矩形 13315"/>
            <p:cNvSpPr/>
            <p:nvPr/>
          </p:nvSpPr>
          <p:spPr>
            <a:xfrm>
              <a:off x="8161200" y="115920"/>
              <a:ext cx="731880" cy="2492280"/>
            </a:xfrm>
            <a:custGeom>
              <a:avLst/>
              <a:gdLst>
                <a:gd name="textAreaLeft" fmla="*/ 35640 w 731880"/>
                <a:gd name="textAreaRight" fmla="*/ 696240 w 731880"/>
                <a:gd name="textAreaTop" fmla="*/ 35640 h 2492280"/>
                <a:gd name="textAreaBottom" fmla="*/ 2456640 h 2492280"/>
              </a:gdLst>
              <a:ahLst/>
              <a:rect l="textAreaLeft" t="textAreaTop" r="textAreaRight" b="textAreaBottom"/>
              <a:pathLst>
                <a:path w="21600" h="73529">
                  <a:moveTo>
                    <a:pt x="3600" y="0"/>
                  </a:moveTo>
                  <a:arcTo wR="3600" hR="3600" stAng="16200000" swAng="-5400000"/>
                  <a:lnTo>
                    <a:pt x="0" y="69929"/>
                  </a:lnTo>
                  <a:arcTo wR="3600" hR="3600" stAng="10800000" swAng="-5400000"/>
                  <a:lnTo>
                    <a:pt x="18000" y="73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abf11"/>
            </a:solidFill>
            <a:ln w="9360">
              <a:solidFill>
                <a:srgbClr val="960e6f"/>
              </a:solidFill>
              <a:beve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圆角矩形 13316"/>
            <p:cNvSpPr/>
            <p:nvPr/>
          </p:nvSpPr>
          <p:spPr>
            <a:xfrm>
              <a:off x="8258400" y="21528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圆角矩形 13317"/>
            <p:cNvSpPr/>
            <p:nvPr/>
          </p:nvSpPr>
          <p:spPr>
            <a:xfrm>
              <a:off x="8258400" y="81360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圆角矩形 13318"/>
            <p:cNvSpPr/>
            <p:nvPr/>
          </p:nvSpPr>
          <p:spPr>
            <a:xfrm>
              <a:off x="8258400" y="141192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圆角矩形 13319"/>
            <p:cNvSpPr/>
            <p:nvPr/>
          </p:nvSpPr>
          <p:spPr>
            <a:xfrm>
              <a:off x="8258400" y="2009880"/>
              <a:ext cx="536760" cy="498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960e6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3320"/>
            <p:cNvSpPr txBox="1"/>
            <p:nvPr/>
          </p:nvSpPr>
          <p:spPr>
            <a:xfrm>
              <a:off x="8307360" y="26532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宋体"/>
                </a:rPr>
                <a:t>理</a:t>
              </a:r>
              <a:endParaRPr b="1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97" name="矩形 13321"/>
            <p:cNvSpPr txBox="1"/>
            <p:nvPr/>
          </p:nvSpPr>
          <p:spPr>
            <a:xfrm>
              <a:off x="8307360" y="86364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新魏"/>
                </a:rPr>
                <a:t>清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198" name="矩形 13322"/>
            <p:cNvSpPr txBox="1"/>
            <p:nvPr/>
          </p:nvSpPr>
          <p:spPr>
            <a:xfrm>
              <a:off x="8307360" y="146160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新魏"/>
                </a:rPr>
                <a:t>思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199" name="矩形 13323"/>
            <p:cNvSpPr txBox="1"/>
            <p:nvPr/>
          </p:nvSpPr>
          <p:spPr>
            <a:xfrm>
              <a:off x="8307360" y="2059920"/>
              <a:ext cx="4392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华文新魏"/>
                </a:rPr>
                <a:t>路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4572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42702"/>
                </a:solidFill>
                <a:latin typeface="Times New Roman"/>
                <a:ea typeface="华文隶书"/>
              </a:rPr>
              <a:t>明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15238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a7c6e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19051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7c6e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2666880"/>
            <a:ext cx="1143000" cy="152640"/>
          </a:xfrm>
          <a:prstGeom prst="leftArrow">
            <a:avLst>
              <a:gd name="adj1" fmla="val 50000"/>
              <a:gd name="adj2" fmla="val 187205"/>
            </a:avLst>
          </a:prstGeom>
          <a:solidFill>
            <a:srgbClr val="a7c6e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60948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a7c6e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68720" y="45720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e0000"/>
                </a:solidFill>
                <a:latin typeface="Times New Roman"/>
                <a:ea typeface="华文隶书"/>
              </a:rPr>
              <a:t>游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30160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42702"/>
                </a:solidFill>
                <a:latin typeface="Times New Roman"/>
                <a:ea typeface="华文隶书"/>
              </a:rPr>
              <a:t>暗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44197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a7c6e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510552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7c6e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53341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a7c6e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320040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a7c6e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14240" y="3016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情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61960" y="1295280"/>
            <a:ext cx="1419120" cy="590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124080" y="1314360"/>
            <a:ext cx="5496120" cy="590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324480" y="2438280"/>
            <a:ext cx="1819440" cy="590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4067280" y="2438280"/>
            <a:ext cx="1009440" cy="590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61960" y="4362480"/>
            <a:ext cx="2638440" cy="590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3705120" y="4362480"/>
            <a:ext cx="4676760" cy="590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862440" y="5410080"/>
            <a:ext cx="1419120" cy="590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1447920" y="5410080"/>
            <a:ext cx="14191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7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65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15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65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8600" y="3808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散文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914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散文是一种艺术，艺术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散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散：求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索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22860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90680" y="1677960"/>
            <a:ext cx="3754440" cy="3886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766960" y="2281320"/>
            <a:ext cx="2743200" cy="2678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5564160"/>
            <a:ext cx="8229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文章独特的结构之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3320" y="17874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荷塘月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46800" y="36133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"/>
              </a:rPr>
              <a:t>朱自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3009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品味语言， 学习作者运用语言的技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把握写景抒情散文情景交融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77720" y="1644480"/>
            <a:ext cx="6154920" cy="25311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景抒情散文，分析的时候要解决三个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写什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怎么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勾勒了怎样的意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384200"/>
            <a:ext cx="8610480" cy="3993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中哪两小节直接写荷塘月色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写了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荷塘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荷叶、荷花、荷香、荷波、流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怎样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景物的？作者运用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什么手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荷叶、荷花、荷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景物在作者笔下形态如何？ 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10248"/>
          <p:cNvGrpSpPr/>
          <p:nvPr/>
        </p:nvGrpSpPr>
        <p:grpSpPr>
          <a:xfrm>
            <a:off x="209160" y="152280"/>
            <a:ext cx="2971800" cy="838080"/>
            <a:chOff x="209160" y="152280"/>
            <a:chExt cx="2971800" cy="838080"/>
          </a:xfrm>
        </p:grpSpPr>
        <p:grpSp>
          <p:nvGrpSpPr>
            <p:cNvPr id="232" name="组合 10249"/>
            <p:cNvGrpSpPr/>
            <p:nvPr/>
          </p:nvGrpSpPr>
          <p:grpSpPr>
            <a:xfrm>
              <a:off x="209160" y="152280"/>
              <a:ext cx="2971800" cy="838080"/>
              <a:chOff x="209160" y="152280"/>
              <a:chExt cx="2971800" cy="838080"/>
            </a:xfrm>
          </p:grpSpPr>
          <p:sp>
            <p:nvSpPr>
              <p:cNvPr id="233" name="圆角矩形 10250"/>
              <p:cNvSpPr/>
              <p:nvPr/>
            </p:nvSpPr>
            <p:spPr>
              <a:xfrm rot="5400000">
                <a:off x="1275840" y="-914400"/>
                <a:ext cx="838080" cy="2971800"/>
              </a:xfrm>
              <a:custGeom>
                <a:avLst/>
                <a:gdLst>
                  <a:gd name="textAreaLeft" fmla="*/ 40680 w 838080"/>
                  <a:gd name="textAreaRight" fmla="*/ 797400 w 838080"/>
                  <a:gd name="textAreaTop" fmla="*/ 40680 h 2971800"/>
                  <a:gd name="textAreaBottom" fmla="*/ 2931120 h 2971800"/>
                </a:gdLst>
                <a:ahLst/>
                <a:rect l="textAreaLeft" t="textAreaTop" r="textAreaRight" b="textAreaBottom"/>
                <a:pathLst>
                  <a:path w="21600" h="76569">
                    <a:moveTo>
                      <a:pt x="3600" y="0"/>
                    </a:moveTo>
                    <a:arcTo wR="3600" hR="3600" stAng="16200000" swAng="-5400000"/>
                    <a:lnTo>
                      <a:pt x="0" y="72969"/>
                    </a:lnTo>
                    <a:arcTo wR="3600" hR="3600" stAng="10800000" swAng="-5400000"/>
                    <a:lnTo>
                      <a:pt x="18000" y="765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abf11"/>
              </a:solidFill>
              <a:ln w="9360">
                <a:solidFill>
                  <a:srgbClr val="960e6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圆角矩形 10251"/>
              <p:cNvSpPr/>
              <p:nvPr/>
            </p:nvSpPr>
            <p:spPr>
              <a:xfrm rot="5400000">
                <a:off x="3236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圆角矩形 10252"/>
              <p:cNvSpPr/>
              <p:nvPr/>
            </p:nvSpPr>
            <p:spPr>
              <a:xfrm rot="5400000">
                <a:off x="10094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圆角矩形 10253"/>
              <p:cNvSpPr/>
              <p:nvPr/>
            </p:nvSpPr>
            <p:spPr>
              <a:xfrm rot="5400000">
                <a:off x="16952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圆角矩形 10254"/>
              <p:cNvSpPr/>
              <p:nvPr/>
            </p:nvSpPr>
            <p:spPr>
              <a:xfrm rot="5400000">
                <a:off x="23810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矩形 10255"/>
            <p:cNvSpPr txBox="1"/>
            <p:nvPr/>
          </p:nvSpPr>
          <p:spPr>
            <a:xfrm>
              <a:off x="3999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cc0000"/>
                  </a:solidFill>
                  <a:latin typeface="华文新魏"/>
                </a:rPr>
                <a:t>情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cc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239" name="矩形 10256"/>
            <p:cNvSpPr txBox="1"/>
            <p:nvPr/>
          </p:nvSpPr>
          <p:spPr>
            <a:xfrm>
              <a:off x="10857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景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240" name="矩形 10257"/>
            <p:cNvSpPr txBox="1"/>
            <p:nvPr/>
          </p:nvSpPr>
          <p:spPr>
            <a:xfrm>
              <a:off x="173340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赏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241" name="矩形 10258"/>
            <p:cNvSpPr txBox="1"/>
            <p:nvPr/>
          </p:nvSpPr>
          <p:spPr>
            <a:xfrm>
              <a:off x="24573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析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作者怎样描写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荷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872720"/>
            <a:ext cx="8381880" cy="3962520"/>
          </a:xfrm>
          <a:prstGeom prst="rect">
            <a:avLst/>
          </a:prstGeom>
          <a:solidFill>
            <a:srgbClr val="ffffff">
              <a:alpha val="54000"/>
            </a:srgbClr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楷体"/>
              </a:rPr>
              <a:t>叶子出水很高，像亭亭的舞女的裙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运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修辞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将荷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比喻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亭亭的舞女的裙”，“亭亭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写荷叶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颀挺拔，舞女的裙因旋转而展开，用来表荷叶的浑圆和舒展，造型非常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使人联想到月光下翩翩起舞的舞女，裙摆随舞姿飘荡洒脱，轻灵而欢快，高雅而美丽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作者怎样描写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荷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有袅娜地开着的 ，有羞涩地打着朵儿的；</a:t>
            </a:r>
            <a:r>
              <a:rPr b="1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袅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原本用来形容女子体态轻柔优美的样子。这里采用拟人的修辞手法，表现的荷花在月光下柔美绽放姿态，令人感到亲切可爱 ，产生丰富的联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羞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原本用来形容人难为情的样子。这里采用拟人的修辞手法，表现的荷花在月光下含苞待放的美好姿态，令人感到亲切可爱 ，产生丰富的联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4419720"/>
            <a:ext cx="74674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作者将白花比作“明珠”“星星”实为多见，但将它比作“刚出浴的美人”很新鲜， “刚出浴的美人”身上总有一星半点的水珠，肌肤胜雪，晶莹剔透，纤尘不染自是美得难以形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2484360"/>
            <a:ext cx="74674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形象的绘出了这一类荷花的特点：明亮、晶莹剔透、闪烁不定。把袅娜地开着的荷花喻为“刚出浴的美人”，表现出荷花开放时姿态的优美，色泽的光滑洁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4176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"/>
              </a:rPr>
              <a:t>“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"/>
              </a:rPr>
              <a:t>……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"/>
              </a:rPr>
              <a:t>正如一粒粒的明珠，又如碧天里的星星，又如刚出浴的美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作者怎样描写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荷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   “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微风过处，送来缕缕清香，仿佛远处高楼上渺茫的歌声似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9520" y="2828520"/>
            <a:ext cx="8229600" cy="29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由嗅觉转为听觉，“缕缕清香”与“渺茫的歌声”在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时断时续、若有若无、清淡缥缈、沁人心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方面有相似之处。但“渺茫的歌声”不是单纯的陈述说明，“清香”与“歌声”同属美好的事物，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两个优美的意象叠加在一起，扩大了意境的内涵，使意境变得更加优美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且将“清香”比喻成远处的“歌声”，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也烘托出环境的优雅与宁静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作者怎样描写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荷香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景物描写都用了哪些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417320"/>
            <a:ext cx="9144000" cy="4708440"/>
          </a:xfrm>
          <a:prstGeom prst="rect">
            <a:avLst/>
          </a:prstGeom>
          <a:solidFill>
            <a:srgbClr val="ffff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运用叠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曲曲折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荷塘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田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叶子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亭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舞女的裙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缕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香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脉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流水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薄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青雾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淡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云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弯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杨柳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隐隐约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远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田田”、“层层”写出荷叶的茂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亭亭”写出了荷花的轻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粒粒”写出荷花的晶莹剔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远远近近”、“高高低低”，写出了树的错落有致。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使用的叠词不仅传神地描摹出眼前之景，同时也有一种韵律美，使诵读时音韵和谐，琅琅上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描写景物都用了哪些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7280" y="1417680"/>
            <a:ext cx="8399520" cy="4873680"/>
          </a:xfrm>
          <a:prstGeom prst="rect">
            <a:avLst/>
          </a:prstGeom>
          <a:solidFill>
            <a:srgbClr val="ffffff">
              <a:alpha val="51000"/>
            </a:srgbClr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运用比喻的修辞手法。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如一粒粒的明珠，又如碧天里的星星，又如刚出浴的美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写出了荷花的明亮、繁多、新美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时候叶子与花也有一丝的颤动，像闪电般，霎时传过荷塘的那边去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写风之快捷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叶子出水很高，像亭亭的舞女的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荷叶的浑圆舒展，形态优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酣眠固不可少，小睡也别有风味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酣眠痛快淋漓，比喻月光无遮拦的朗照；小睡迷迷糊糊，比喻朦朦胧胧的月光，这个比喻传神、生动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又像笼着轻纱的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景象很美，突出了月光下飘渺的朦胧之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36865" descr="6226828_214612507160_2"/>
          <p:cNvPicPr/>
          <p:nvPr/>
        </p:nvPicPr>
        <p:blipFill>
          <a:blip r:embed="rId2"/>
          <a:stretch/>
        </p:blipFill>
        <p:spPr>
          <a:xfrm>
            <a:off x="58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36866"/>
          <p:cNvSpPr/>
          <p:nvPr/>
        </p:nvSpPr>
        <p:spPr>
          <a:xfrm>
            <a:off x="217440" y="216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"/>
                <a:ea typeface="黑体"/>
              </a:rPr>
              <a:t>正如一粒粒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明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3555"/>
          <p:cNvSpPr/>
          <p:nvPr/>
        </p:nvSpPr>
        <p:spPr>
          <a:xfrm>
            <a:off x="3164040" y="917640"/>
            <a:ext cx="1466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比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556"/>
          <p:cNvSpPr/>
          <p:nvPr/>
        </p:nvSpPr>
        <p:spPr>
          <a:xfrm>
            <a:off x="662040" y="1874880"/>
            <a:ext cx="4187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晶莹剔透地闪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标题 2"/>
          <p:cNvSpPr/>
          <p:nvPr/>
        </p:nvSpPr>
        <p:spPr>
          <a:xfrm>
            <a:off x="642960" y="1600200"/>
            <a:ext cx="601668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6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"/>
              </a:rPr>
              <a:t>作者处处不忘自我，也处处不忘自然与社会。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"/>
              </a:rPr>
              <a:t>……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"/>
              </a:rPr>
              <a:t>一粒沙里见世界，半瓣花上说人情，就是现代散文的特征之一。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郁达夫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37889" descr="2572038_114938009982_2"/>
          <p:cNvPicPr/>
          <p:nvPr/>
        </p:nvPicPr>
        <p:blipFill>
          <a:blip r:embed="rId2"/>
          <a:stretch/>
        </p:blipFill>
        <p:spPr>
          <a:xfrm>
            <a:off x="54000" y="39600"/>
            <a:ext cx="9090000" cy="6818400"/>
          </a:xfrm>
          <a:prstGeom prst="rect">
            <a:avLst/>
          </a:prstGeom>
          <a:ln w="0">
            <a:noFill/>
          </a:ln>
        </p:spPr>
      </p:pic>
      <p:sp>
        <p:nvSpPr>
          <p:cNvPr id="262" name="文本框 37890"/>
          <p:cNvSpPr/>
          <p:nvPr/>
        </p:nvSpPr>
        <p:spPr>
          <a:xfrm>
            <a:off x="339840" y="3207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又如碧天里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星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4579"/>
          <p:cNvSpPr/>
          <p:nvPr/>
        </p:nvSpPr>
        <p:spPr>
          <a:xfrm>
            <a:off x="2844720" y="961920"/>
            <a:ext cx="14684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比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4580"/>
          <p:cNvSpPr/>
          <p:nvPr/>
        </p:nvSpPr>
        <p:spPr>
          <a:xfrm>
            <a:off x="2112840" y="1973160"/>
            <a:ext cx="4354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忽明忽暗地闪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50177" descr="70_1478_153e8b17fc42fb7"/>
          <p:cNvPicPr/>
          <p:nvPr/>
        </p:nvPicPr>
        <p:blipFill>
          <a:blip r:embed="rId2"/>
          <a:stretch/>
        </p:blipFill>
        <p:spPr>
          <a:xfrm>
            <a:off x="0" y="12600"/>
            <a:ext cx="9144000" cy="7150320"/>
          </a:xfrm>
          <a:prstGeom prst="rect">
            <a:avLst/>
          </a:prstGeom>
          <a:ln w="0">
            <a:noFill/>
          </a:ln>
        </p:spPr>
      </p:pic>
      <p:sp>
        <p:nvSpPr>
          <p:cNvPr id="266" name="文本框 50178"/>
          <p:cNvSpPr/>
          <p:nvPr/>
        </p:nvSpPr>
        <p:spPr>
          <a:xfrm>
            <a:off x="7338240" y="685800"/>
            <a:ext cx="1399320" cy="456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ff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又如刚出浴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美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"/>
          <p:cNvSpPr/>
          <p:nvPr/>
        </p:nvSpPr>
        <p:spPr>
          <a:xfrm>
            <a:off x="687240" y="741240"/>
            <a:ext cx="7837560" cy="3272040"/>
          </a:xfrm>
          <a:prstGeom prst="rect">
            <a:avLst/>
          </a:prstGeom>
          <a:solidFill>
            <a:srgbClr val="ffffff">
              <a:alpha val="5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博喻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几个喻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不同角度反复设喻去说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本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叫博喻，又叫连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用博喻能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加强语意，增添气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辽阔无边的天空掠过一只飞雁，是单纯的底色上一点灵动的色彩，是山川美景中的一点生气，一点情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33793" descr="200412118587727"/>
          <p:cNvPicPr/>
          <p:nvPr/>
        </p:nvPicPr>
        <p:blipFill>
          <a:blip r:embed="rId2"/>
          <a:stretch/>
        </p:blipFill>
        <p:spPr>
          <a:xfrm>
            <a:off x="0" y="0"/>
            <a:ext cx="4132440" cy="4276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611280" y="88920"/>
            <a:ext cx="8820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叶子出水很高，像亭亭的舞女的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33796" descr="133541zc2v6e21q98v6a2z"/>
          <p:cNvPicPr/>
          <p:nvPr/>
        </p:nvPicPr>
        <p:blipFill>
          <a:blip r:embed="rId3"/>
          <a:stretch/>
        </p:blipFill>
        <p:spPr>
          <a:xfrm>
            <a:off x="4132440" y="2917800"/>
            <a:ext cx="5011560" cy="362124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20485"/>
          <p:cNvSpPr/>
          <p:nvPr/>
        </p:nvSpPr>
        <p:spPr>
          <a:xfrm>
            <a:off x="2459160" y="1085760"/>
            <a:ext cx="146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比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0486"/>
          <p:cNvSpPr/>
          <p:nvPr/>
        </p:nvSpPr>
        <p:spPr>
          <a:xfrm>
            <a:off x="2392200" y="202104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舒展、柔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 ③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运用拟人的修辞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袅娜”写出花的姿态之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羞涩”写出花的神态之美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脉脉”将水无声而似含情的微妙神态写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描写景物都用了哪些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34817" descr="1743196_173829390197_2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4818"/>
          <p:cNvSpPr/>
          <p:nvPr/>
        </p:nvSpPr>
        <p:spPr>
          <a:xfrm>
            <a:off x="676440" y="157320"/>
            <a:ext cx="5400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袅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地开着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21507"/>
          <p:cNvSpPr/>
          <p:nvPr/>
        </p:nvSpPr>
        <p:spPr>
          <a:xfrm>
            <a:off x="2459160" y="981000"/>
            <a:ext cx="14684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拟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1508"/>
          <p:cNvSpPr/>
          <p:nvPr/>
        </p:nvSpPr>
        <p:spPr>
          <a:xfrm>
            <a:off x="2459160" y="1914480"/>
            <a:ext cx="5906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花朵饱满，姿态柔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5843" descr="1078875781"/>
          <p:cNvPicPr/>
          <p:nvPr/>
        </p:nvPicPr>
        <p:blipFill>
          <a:blip r:embed="rId3"/>
          <a:stretch/>
        </p:blipFill>
        <p:spPr>
          <a:xfrm>
            <a:off x="0" y="-12600"/>
            <a:ext cx="9198000" cy="6899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35844"/>
          <p:cNvSpPr/>
          <p:nvPr/>
        </p:nvSpPr>
        <p:spPr>
          <a:xfrm>
            <a:off x="88560" y="404640"/>
            <a:ext cx="1521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羞涩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地打着朵儿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2533"/>
          <p:cNvSpPr/>
          <p:nvPr/>
        </p:nvSpPr>
        <p:spPr>
          <a:xfrm>
            <a:off x="2050920" y="914400"/>
            <a:ext cx="1467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拟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2534"/>
          <p:cNvSpPr/>
          <p:nvPr/>
        </p:nvSpPr>
        <p:spPr>
          <a:xfrm>
            <a:off x="4098960" y="914400"/>
            <a:ext cx="43066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含苞欲放，娇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运用通感的修辞手法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微风过处，送来缕缕清香，仿佛远处高楼上渺茫的歌声似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把嗅觉转化为听觉，写出了荷香若有若无，轻淡缥缈，沁人心脾；远处高楼上的歌声，时断时续，隐隐约约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塘中的月色并不均匀；但光与影有着和谐的旋律，如梵婀玲上奏着的名曲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把视觉转化为听觉。逼真的描摹出荷塘上的月色虽然浓淡不一却很和谐的特点，就像小提琴名曲的乐音高低起伏却旋律优美一样。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描写景物都用了哪些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90200" y="662040"/>
            <a:ext cx="4124520" cy="914400"/>
          </a:xfrm>
          <a:prstGeom prst="rect">
            <a:avLst/>
          </a:prstGeom>
          <a:solidFill>
            <a:srgbClr val="a7c6e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修辞手法：通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820520"/>
            <a:ext cx="9144000" cy="3884760"/>
          </a:xfrm>
          <a:prstGeom prst="rect">
            <a:avLst/>
          </a:prstGeom>
          <a:solidFill>
            <a:srgbClr val="ffffff">
              <a:alpha val="54000"/>
            </a:srgbClr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通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种特殊的修辞。通感是指感觉的转化、迁移，是把人们的各种感觉（视觉、听觉、嗅觉、味觉、触觉）通过比喻或形容词沟通起来的修辞方式。通感就是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她笑得很甜。（视觉转为味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人靓歌甜。 （听觉转为味觉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3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3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3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3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365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风过处，送来缕缕清香，仿佛远处高楼上渺茫的歌声似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嗅觉转为听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塘中的月色并不均匀；但光和影有着和谐的旋律，如梵婀玲上奏着的名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视觉转为听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90560" y="662040"/>
            <a:ext cx="4124520" cy="914400"/>
          </a:xfrm>
          <a:prstGeom prst="rect">
            <a:avLst/>
          </a:prstGeom>
          <a:solidFill>
            <a:srgbClr val="a7c6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修辞手法：通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91120" y="1052640"/>
            <a:ext cx="495288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晓出净慈寺送林子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杨万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13280" y="2860560"/>
            <a:ext cx="4743360" cy="7034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毕竟西湖六月中，风光不与四时同。接天莲叶无穷碧，映日荷花别样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75080" y="554040"/>
            <a:ext cx="466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0800" y="1386000"/>
            <a:ext cx="668808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段写“月光下的荷塘”，但是并没有明写月光， 甚至没有提到“月光”二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怎样通过具体景物暗示月光的存在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0248"/>
          <p:cNvGrpSpPr/>
          <p:nvPr/>
        </p:nvGrpSpPr>
        <p:grpSpPr>
          <a:xfrm>
            <a:off x="209160" y="152280"/>
            <a:ext cx="2971800" cy="838080"/>
            <a:chOff x="209160" y="152280"/>
            <a:chExt cx="2971800" cy="838080"/>
          </a:xfrm>
        </p:grpSpPr>
        <p:grpSp>
          <p:nvGrpSpPr>
            <p:cNvPr id="295" name="组合 10249"/>
            <p:cNvGrpSpPr/>
            <p:nvPr/>
          </p:nvGrpSpPr>
          <p:grpSpPr>
            <a:xfrm>
              <a:off x="209160" y="152280"/>
              <a:ext cx="2971800" cy="838080"/>
              <a:chOff x="209160" y="152280"/>
              <a:chExt cx="2971800" cy="838080"/>
            </a:xfrm>
          </p:grpSpPr>
          <p:sp>
            <p:nvSpPr>
              <p:cNvPr id="296" name="圆角矩形 10250"/>
              <p:cNvSpPr/>
              <p:nvPr/>
            </p:nvSpPr>
            <p:spPr>
              <a:xfrm rot="5400000">
                <a:off x="1275840" y="-914400"/>
                <a:ext cx="838080" cy="2971800"/>
              </a:xfrm>
              <a:custGeom>
                <a:avLst/>
                <a:gdLst>
                  <a:gd name="textAreaLeft" fmla="*/ 40680 w 838080"/>
                  <a:gd name="textAreaRight" fmla="*/ 797400 w 838080"/>
                  <a:gd name="textAreaTop" fmla="*/ 40680 h 2971800"/>
                  <a:gd name="textAreaBottom" fmla="*/ 2931120 h 2971800"/>
                </a:gdLst>
                <a:ahLst/>
                <a:rect l="textAreaLeft" t="textAreaTop" r="textAreaRight" b="textAreaBottom"/>
                <a:pathLst>
                  <a:path w="21600" h="76569">
                    <a:moveTo>
                      <a:pt x="3600" y="0"/>
                    </a:moveTo>
                    <a:arcTo wR="3600" hR="3600" stAng="16200000" swAng="-5400000"/>
                    <a:lnTo>
                      <a:pt x="0" y="72969"/>
                    </a:lnTo>
                    <a:arcTo wR="3600" hR="3600" stAng="10800000" swAng="-5400000"/>
                    <a:lnTo>
                      <a:pt x="18000" y="765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abf11"/>
              </a:solidFill>
              <a:ln w="9360">
                <a:solidFill>
                  <a:srgbClr val="960e6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圆角矩形 10251"/>
              <p:cNvSpPr/>
              <p:nvPr/>
            </p:nvSpPr>
            <p:spPr>
              <a:xfrm rot="5400000">
                <a:off x="3236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圆角矩形 10252"/>
              <p:cNvSpPr/>
              <p:nvPr/>
            </p:nvSpPr>
            <p:spPr>
              <a:xfrm rot="5400000">
                <a:off x="10094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圆角矩形 10253"/>
              <p:cNvSpPr/>
              <p:nvPr/>
            </p:nvSpPr>
            <p:spPr>
              <a:xfrm rot="5400000">
                <a:off x="16952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圆角矩形 10254"/>
              <p:cNvSpPr/>
              <p:nvPr/>
            </p:nvSpPr>
            <p:spPr>
              <a:xfrm rot="5400000">
                <a:off x="23810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矩形 10255"/>
            <p:cNvSpPr txBox="1"/>
            <p:nvPr/>
          </p:nvSpPr>
          <p:spPr>
            <a:xfrm>
              <a:off x="3999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cc0000"/>
                  </a:solidFill>
                  <a:latin typeface="华文新魏"/>
                </a:rPr>
                <a:t>情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cc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302" name="矩形 10256"/>
            <p:cNvSpPr txBox="1"/>
            <p:nvPr/>
          </p:nvSpPr>
          <p:spPr>
            <a:xfrm>
              <a:off x="10857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景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303" name="矩形 10257"/>
            <p:cNvSpPr txBox="1"/>
            <p:nvPr/>
          </p:nvSpPr>
          <p:spPr>
            <a:xfrm>
              <a:off x="173340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赏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304" name="矩形 10258"/>
            <p:cNvSpPr txBox="1"/>
            <p:nvPr/>
          </p:nvSpPr>
          <p:spPr>
            <a:xfrm>
              <a:off x="24573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析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4840" y="3505320"/>
            <a:ext cx="667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荷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380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22860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田田 出水很高 像婷婷舞女的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144792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零星   袅娜    明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星星   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2666880"/>
            <a:ext cx="358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缕缕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渺茫的歌声似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0400" y="4343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凝碧的波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00400" y="54864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叶子更见风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1905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15200" y="2286000"/>
            <a:ext cx="304920" cy="3200400"/>
          </a:xfrm>
          <a:custGeom>
            <a:avLst/>
            <a:gdLst>
              <a:gd name="textAreaLeft" fmla="*/ 0 w 304920"/>
              <a:gd name="textAreaRight" fmla="*/ 110160 w 30492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64880" y="3048120"/>
            <a:ext cx="115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幽雅宁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-102600" y="1981080"/>
            <a:ext cx="1155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月下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457200"/>
            <a:ext cx="2133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1080" y="457200"/>
            <a:ext cx="17528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荷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荷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荷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荷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荷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762120"/>
            <a:ext cx="457200" cy="5105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685800"/>
            <a:ext cx="304920" cy="2971800"/>
          </a:xfrm>
          <a:custGeom>
            <a:avLst/>
            <a:gdLst>
              <a:gd name="textAreaLeft" fmla="*/ 0 w 304920"/>
              <a:gd name="textAreaRight" fmla="*/ 110160 w 3049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4495680"/>
            <a:ext cx="304560" cy="1828800"/>
          </a:xfrm>
          <a:custGeom>
            <a:avLst/>
            <a:gdLst>
              <a:gd name="textAreaLeft" fmla="*/ 0 w 304560"/>
              <a:gd name="textAreaRight" fmla="*/ 109800 w 304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590400" y="915840"/>
            <a:ext cx="1295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月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6"/>
          <p:cNvSpPr/>
          <p:nvPr/>
        </p:nvSpPr>
        <p:spPr>
          <a:xfrm>
            <a:off x="1743120" y="844560"/>
            <a:ext cx="6476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2502000" y="988920"/>
            <a:ext cx="60768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写出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月辉照耀，一览无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的景象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化静为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，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动态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58720" y="3252960"/>
            <a:ext cx="1366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青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6"/>
          <p:cNvSpPr/>
          <p:nvPr/>
        </p:nvSpPr>
        <p:spPr>
          <a:xfrm>
            <a:off x="1771560" y="3252960"/>
            <a:ext cx="6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3645720" y="3284640"/>
            <a:ext cx="3992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写出了雾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轻飘柔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，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状态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62160" y="235080"/>
            <a:ext cx="459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动词的妙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92000" y="5008680"/>
            <a:ext cx="618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荷 塘 上 的 月 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56321" descr="荷6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32" name="文本框 56322">
            <a:hlinkClick r:id="rId3" action="ppaction://hlinksldjump"/>
          </p:cNvPr>
          <p:cNvSpPr/>
          <p:nvPr/>
        </p:nvSpPr>
        <p:spPr>
          <a:xfrm>
            <a:off x="380880" y="40464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叶子和花仿佛在牛乳中洗过一 样；又像笼着轻纱的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56323"/>
          <p:cNvSpPr/>
          <p:nvPr/>
        </p:nvSpPr>
        <p:spPr>
          <a:xfrm>
            <a:off x="950760" y="228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56324"/>
          <p:cNvSpPr/>
          <p:nvPr/>
        </p:nvSpPr>
        <p:spPr>
          <a:xfrm>
            <a:off x="7428240" y="304920"/>
            <a:ext cx="49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宋体"/>
              </a:rPr>
              <a:t>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56325"/>
          <p:cNvSpPr/>
          <p:nvPr/>
        </p:nvSpPr>
        <p:spPr>
          <a:xfrm>
            <a:off x="3505320" y="914400"/>
            <a:ext cx="56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宋体"/>
              </a:rPr>
              <a:t>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4627440"/>
            <a:ext cx="4594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动词的妙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54273" descr="userid147230time20110620002417"/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2"/>
          <p:cNvSpPr/>
          <p:nvPr/>
        </p:nvSpPr>
        <p:spPr>
          <a:xfrm>
            <a:off x="2576520" y="4191120"/>
            <a:ext cx="64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写出了月色下叶花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洁白而鲜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，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色彩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2575080" y="5276880"/>
            <a:ext cx="6410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写出了月色下叶花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飘浮虚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5"/>
          <p:cNvSpPr/>
          <p:nvPr/>
        </p:nvSpPr>
        <p:spPr>
          <a:xfrm>
            <a:off x="1835280" y="5276880"/>
            <a:ext cx="6379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631800" y="4686480"/>
            <a:ext cx="1274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叶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1865160" y="4172040"/>
            <a:ext cx="6368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06560" y="2062080"/>
            <a:ext cx="4594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动词的妙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图片 71681" descr="a6539f1d1d3b8bc986d6b661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80060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采莲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876560" y="1371600"/>
            <a:ext cx="4267080" cy="792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采莲旧俗      采莲名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71684"/>
          <p:cNvSpPr/>
          <p:nvPr/>
        </p:nvSpPr>
        <p:spPr>
          <a:xfrm>
            <a:off x="5029200" y="4876920"/>
            <a:ext cx="411480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憎恶现实          向往美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71685"/>
          <p:cNvSpPr/>
          <p:nvPr/>
        </p:nvSpPr>
        <p:spPr>
          <a:xfrm>
            <a:off x="5257800" y="3048120"/>
            <a:ext cx="342576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           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71686"/>
          <p:cNvSpPr/>
          <p:nvPr/>
        </p:nvSpPr>
        <p:spPr>
          <a:xfrm>
            <a:off x="7010280" y="220968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71687"/>
          <p:cNvSpPr/>
          <p:nvPr/>
        </p:nvSpPr>
        <p:spPr>
          <a:xfrm>
            <a:off x="7010280" y="380988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图片 4097" descr="b77fb6234dd809679258078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144320" y="507960"/>
            <a:ext cx="637920" cy="63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892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"/>
              </a:rPr>
              <a:t>一切景语皆情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74753"/>
          <p:cNvSpPr/>
          <p:nvPr/>
        </p:nvSpPr>
        <p:spPr>
          <a:xfrm>
            <a:off x="752400" y="2730600"/>
            <a:ext cx="7696440" cy="17395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通过描写荷塘月色的恬静朦胧，抒发了作者不满黑暗现实，向往自由光明的感情，同时也流露出一个正直的知识分子在那个时代里彷徨苦闷的心情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月下“荷塘”，映照着诗人心灵种种复杂情感的光影，使我们依稀看到诗人在痛苦中无力挣扎、在幻灭中茫然追求的形象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国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荷塘月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讲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0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3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547200"/>
            <a:ext cx="7124760" cy="609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美丽活泼的文字，在新文学创作上，实在是一种稀有的收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哲甫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朱自清虽则是一个诗人，可是他的散文，仍能够满贮着那一种诗意，文学研究会的作家中，除冰心女士外，文字之美，要算他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郁达夫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朱先生的语言，历来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而不失自然，在口语的基础上刻意出新。既有平白如话，毫无雕饰之感的文字，更有精心“拣”的遣词用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量词活用为形容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丝、一带、一道、一二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等，都生动的起了丰富、润饰、强化形象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志华 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第一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19480"/>
            <a:ext cx="822960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能了解掌握文章独特的结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结合时代背景理解直接抒情的语句的含义，体味作者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14176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毛泽东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别了，司徒雷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说他“</a:t>
            </a: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一身重病，宁可饿死，不领美国的救济粮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，“</a:t>
            </a: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表现了我们民族的英雄气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。他就是写出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背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著名作品的散文大家、诗人、学者、民主战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494400" y="2500200"/>
            <a:ext cx="264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朱 自 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98—19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61800" y="1728720"/>
            <a:ext cx="611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朱自清，祖籍浙江绍兴。生于江苏东海，自称“我是扬州人”。中国现代诗人、学者、散文家、民主战士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作品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背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，其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桨声灯影里的秦淮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时人誉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话美文的模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6_zhuziqing01"/>
          <p:cNvPicPr/>
          <p:nvPr/>
        </p:nvPicPr>
        <p:blipFill>
          <a:blip r:embed="rId2"/>
          <a:stretch/>
        </p:blipFill>
        <p:spPr>
          <a:xfrm>
            <a:off x="6869160" y="380880"/>
            <a:ext cx="1660320" cy="262260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0248"/>
          <p:cNvGrpSpPr/>
          <p:nvPr/>
        </p:nvGrpSpPr>
        <p:grpSpPr>
          <a:xfrm>
            <a:off x="209160" y="152280"/>
            <a:ext cx="2971800" cy="838080"/>
            <a:chOff x="209160" y="152280"/>
            <a:chExt cx="2971800" cy="838080"/>
          </a:xfrm>
        </p:grpSpPr>
        <p:grpSp>
          <p:nvGrpSpPr>
            <p:cNvPr id="63" name="组合 10249"/>
            <p:cNvGrpSpPr/>
            <p:nvPr/>
          </p:nvGrpSpPr>
          <p:grpSpPr>
            <a:xfrm>
              <a:off x="209160" y="152280"/>
              <a:ext cx="2971800" cy="838080"/>
              <a:chOff x="209160" y="152280"/>
              <a:chExt cx="2971800" cy="838080"/>
            </a:xfrm>
          </p:grpSpPr>
          <p:sp>
            <p:nvSpPr>
              <p:cNvPr id="64" name="圆角矩形 10250"/>
              <p:cNvSpPr/>
              <p:nvPr/>
            </p:nvSpPr>
            <p:spPr>
              <a:xfrm rot="5400000">
                <a:off x="1275840" y="-914400"/>
                <a:ext cx="838080" cy="2971800"/>
              </a:xfrm>
              <a:custGeom>
                <a:avLst/>
                <a:gdLst>
                  <a:gd name="textAreaLeft" fmla="*/ 40680 w 838080"/>
                  <a:gd name="textAreaRight" fmla="*/ 797400 w 838080"/>
                  <a:gd name="textAreaTop" fmla="*/ 40680 h 2971800"/>
                  <a:gd name="textAreaBottom" fmla="*/ 2931120 h 2971800"/>
                </a:gdLst>
                <a:ahLst/>
                <a:rect l="textAreaLeft" t="textAreaTop" r="textAreaRight" b="textAreaBottom"/>
                <a:pathLst>
                  <a:path w="21600" h="76569">
                    <a:moveTo>
                      <a:pt x="3600" y="0"/>
                    </a:moveTo>
                    <a:arcTo wR="3600" hR="3600" stAng="16200000" swAng="-5400000"/>
                    <a:lnTo>
                      <a:pt x="0" y="72969"/>
                    </a:lnTo>
                    <a:arcTo wR="3600" hR="3600" stAng="10800000" swAng="-5400000"/>
                    <a:lnTo>
                      <a:pt x="18000" y="765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abf11"/>
              </a:solidFill>
              <a:ln w="9360">
                <a:solidFill>
                  <a:srgbClr val="960e6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圆角矩形 10251"/>
              <p:cNvSpPr/>
              <p:nvPr/>
            </p:nvSpPr>
            <p:spPr>
              <a:xfrm rot="5400000">
                <a:off x="3236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圆角矩形 10252"/>
              <p:cNvSpPr/>
              <p:nvPr/>
            </p:nvSpPr>
            <p:spPr>
              <a:xfrm rot="5400000">
                <a:off x="10094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圆角矩形 10253"/>
              <p:cNvSpPr/>
              <p:nvPr/>
            </p:nvSpPr>
            <p:spPr>
              <a:xfrm rot="5400000">
                <a:off x="16952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圆角矩形 10254"/>
              <p:cNvSpPr/>
              <p:nvPr/>
            </p:nvSpPr>
            <p:spPr>
              <a:xfrm rot="5400000">
                <a:off x="23810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矩形 10255"/>
            <p:cNvSpPr txBox="1"/>
            <p:nvPr/>
          </p:nvSpPr>
          <p:spPr>
            <a:xfrm>
              <a:off x="3999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cc0000"/>
                  </a:solidFill>
                  <a:latin typeface="华文新魏"/>
                </a:rPr>
                <a:t>作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cc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70" name="矩形 10256"/>
            <p:cNvSpPr txBox="1"/>
            <p:nvPr/>
          </p:nvSpPr>
          <p:spPr>
            <a:xfrm>
              <a:off x="10857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者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71" name="矩形 10257"/>
            <p:cNvSpPr txBox="1"/>
            <p:nvPr/>
          </p:nvSpPr>
          <p:spPr>
            <a:xfrm>
              <a:off x="173340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简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72" name="矩形 10258"/>
            <p:cNvSpPr txBox="1"/>
            <p:nvPr/>
          </p:nvSpPr>
          <p:spPr>
            <a:xfrm>
              <a:off x="24573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介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</p:grp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145" descr="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70440" y="1281240"/>
            <a:ext cx="320220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6149"/>
          <p:cNvSpPr/>
          <p:nvPr/>
        </p:nvSpPr>
        <p:spPr>
          <a:xfrm>
            <a:off x="324000" y="1413000"/>
            <a:ext cx="5688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华文隶书"/>
                <a:ea typeface="华文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朱自清，原名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自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秋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取“春华秋实”之意，为勉励自己在困境中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丧志，不灰心，保持清白，不与坏人同流合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便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楚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卜居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“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宁廉洁正直以自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中“自清”二字，改名“朱自清”，字“佩弦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6150" descr="n13"/>
          <p:cNvPicPr/>
          <p:nvPr/>
        </p:nvPicPr>
        <p:blipFill>
          <a:blip r:embed="rId4"/>
          <a:stretch/>
        </p:blipFill>
        <p:spPr>
          <a:xfrm>
            <a:off x="179280" y="1052640"/>
            <a:ext cx="5591160" cy="22860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10248"/>
          <p:cNvGrpSpPr/>
          <p:nvPr/>
        </p:nvGrpSpPr>
        <p:grpSpPr>
          <a:xfrm>
            <a:off x="209160" y="152280"/>
            <a:ext cx="2971800" cy="838080"/>
            <a:chOff x="209160" y="152280"/>
            <a:chExt cx="2971800" cy="838080"/>
          </a:xfrm>
        </p:grpSpPr>
        <p:grpSp>
          <p:nvGrpSpPr>
            <p:cNvPr id="77" name="组合 10249"/>
            <p:cNvGrpSpPr/>
            <p:nvPr/>
          </p:nvGrpSpPr>
          <p:grpSpPr>
            <a:xfrm>
              <a:off x="209160" y="152280"/>
              <a:ext cx="2971800" cy="838080"/>
              <a:chOff x="209160" y="152280"/>
              <a:chExt cx="2971800" cy="838080"/>
            </a:xfrm>
          </p:grpSpPr>
          <p:sp>
            <p:nvSpPr>
              <p:cNvPr id="78" name="圆角矩形 10250"/>
              <p:cNvSpPr/>
              <p:nvPr/>
            </p:nvSpPr>
            <p:spPr>
              <a:xfrm rot="5400000">
                <a:off x="1275840" y="-914400"/>
                <a:ext cx="838080" cy="2971800"/>
              </a:xfrm>
              <a:custGeom>
                <a:avLst/>
                <a:gdLst>
                  <a:gd name="textAreaLeft" fmla="*/ 40680 w 838080"/>
                  <a:gd name="textAreaRight" fmla="*/ 797400 w 838080"/>
                  <a:gd name="textAreaTop" fmla="*/ 40680 h 2971800"/>
                  <a:gd name="textAreaBottom" fmla="*/ 2931120 h 2971800"/>
                </a:gdLst>
                <a:ahLst/>
                <a:rect l="textAreaLeft" t="textAreaTop" r="textAreaRight" b="textAreaBottom"/>
                <a:pathLst>
                  <a:path w="21600" h="76569">
                    <a:moveTo>
                      <a:pt x="3600" y="0"/>
                    </a:moveTo>
                    <a:arcTo wR="3600" hR="3600" stAng="16200000" swAng="-5400000"/>
                    <a:lnTo>
                      <a:pt x="0" y="72969"/>
                    </a:lnTo>
                    <a:arcTo wR="3600" hR="3600" stAng="10800000" swAng="-5400000"/>
                    <a:lnTo>
                      <a:pt x="18000" y="765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abf11"/>
              </a:solidFill>
              <a:ln w="9360">
                <a:solidFill>
                  <a:srgbClr val="960e6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10251"/>
              <p:cNvSpPr/>
              <p:nvPr/>
            </p:nvSpPr>
            <p:spPr>
              <a:xfrm rot="5400000">
                <a:off x="3236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圆角矩形 10252"/>
              <p:cNvSpPr/>
              <p:nvPr/>
            </p:nvSpPr>
            <p:spPr>
              <a:xfrm rot="5400000">
                <a:off x="10094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圆角矩形 10253"/>
              <p:cNvSpPr/>
              <p:nvPr/>
            </p:nvSpPr>
            <p:spPr>
              <a:xfrm rot="5400000">
                <a:off x="16952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圆角矩形 10254"/>
              <p:cNvSpPr/>
              <p:nvPr/>
            </p:nvSpPr>
            <p:spPr>
              <a:xfrm rot="5400000">
                <a:off x="2381040" y="266400"/>
                <a:ext cx="6858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ccff99"/>
              </a:solidFill>
              <a:ln w="9360">
                <a:solidFill>
                  <a:srgbClr val="960e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矩形 10255"/>
            <p:cNvSpPr txBox="1"/>
            <p:nvPr/>
          </p:nvSpPr>
          <p:spPr>
            <a:xfrm>
              <a:off x="3999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cc0000"/>
                  </a:solidFill>
                  <a:latin typeface="华文新魏"/>
                </a:rPr>
                <a:t>作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cc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84" name="矩形 10256"/>
            <p:cNvSpPr txBox="1"/>
            <p:nvPr/>
          </p:nvSpPr>
          <p:spPr>
            <a:xfrm>
              <a:off x="10857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者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85" name="矩形 10257"/>
            <p:cNvSpPr txBox="1"/>
            <p:nvPr/>
          </p:nvSpPr>
          <p:spPr>
            <a:xfrm>
              <a:off x="173340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简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86" name="矩形 10258"/>
            <p:cNvSpPr txBox="1"/>
            <p:nvPr/>
          </p:nvSpPr>
          <p:spPr>
            <a:xfrm>
              <a:off x="2457360" y="38088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960e6f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介</a:t>
              </a:r>
              <a:endParaRPr b="0" lang="en-US" sz="1800" spc="-1" strike="noStrike">
                <a:ln w="9360">
                  <a:solidFill>
                    <a:srgbClr val="960e6f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清华大门"/>
          <p:cNvPicPr/>
          <p:nvPr/>
        </p:nvPicPr>
        <p:blipFill>
          <a:blip r:embed="rId2"/>
          <a:stretch/>
        </p:blipFill>
        <p:spPr>
          <a:xfrm>
            <a:off x="4432320" y="217440"/>
            <a:ext cx="4541760" cy="3032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" descr="清华荷塘02"/>
          <p:cNvPicPr/>
          <p:nvPr/>
        </p:nvPicPr>
        <p:blipFill>
          <a:blip r:embed="rId3"/>
          <a:stretch/>
        </p:blipFill>
        <p:spPr>
          <a:xfrm>
            <a:off x="252360" y="2949480"/>
            <a:ext cx="50832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</dc:creator>
  <dc:description/>
  <cp:keywords/>
  <dc:language>en-US</dc:language>
  <cp:lastModifiedBy>user</cp:lastModifiedBy>
  <dcterms:modified xsi:type="dcterms:W3CDTF">2017-09-23T03:30:3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