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7CA-852A-41ED-B50A-9CE51069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438-C6FD-4E87-ACA6-493391EF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B2E-42DD-43E9-9498-40A2A972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863-5252-4334-BE99-6F5E4AAE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18FA-73B4-4D07-BE48-7879AAE7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BCB0-9648-44C9-BB38-5804DCB7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BABC-9336-4E4D-A3B5-8FEA51C9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1557-CD06-4DA7-AB2B-C53913A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40B0-9F12-4732-B2AB-204EDE52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EE8E-4CA5-4DA2-B8EA-F4D9714C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EDC3-B9DB-427C-8924-C08D2B0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BEE-057A-4D65-906A-72951BC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E028-183D-414E-A8C3-85B63F82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CD8E-7B17-4FAA-867B-21CE9030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6A9D-605B-4791-BC66-D6269A24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4E40-6F62-4705-A8BC-4DBE551B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9E14-0252-4234-979E-06D03F79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7ABC-F197-4B79-B965-1B32B13D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E34D-6DD4-482A-A7B5-FC8FC869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83F4-832C-4D72-8C67-F5802121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B86B-B803-41AF-9330-122FAA15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59F4-5CBD-4D98-8DFE-49790A53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0E1-AB19-410E-AC26-8D2E55DC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1E16-EA04-4695-A178-6202725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F5DC-4342-49EA-9ECC-076B33D0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54EE-B119-4F6E-9C97-93B20813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E214-9C16-4E08-916A-C62D16A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2F0F-7AF4-40C2-8EE5-3EF469B6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4D9E-66E6-4AA9-9011-DED628AD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615A-CC34-4229-A9C4-E78DA7E3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DE30-5090-4882-B8BB-80979A49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7792-9B30-4AF0-8290-4A920130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F503-4891-422C-BF49-1E98DCFE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7DE-6879-463B-9C9F-4D114C27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5C36-5FBE-427D-9C89-7A66877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6EDE2-2F46-4F12-A30C-56DC6562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C68A-BA79-4655-B8CE-39530E20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14537-6159-4816-BAA4-DC22FEC6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FFFB-E408-4C01-912B-108A986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C1D1-E761-4445-AD38-EBF5EAE6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1D009-D693-4C3D-A539-06E4ADFC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40CA-022A-4B5B-90D5-4FF3EE2A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20639-5B67-435D-AA32-AB5EE409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0DA5-339E-4114-8828-44F0C9D6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2F2-42CC-4669-9631-7B4D4DDA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D478-D90E-458E-A2DC-876C6B5B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0B23-53B5-45C8-A69D-4F6BFBA7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F761-CDAB-49AC-B867-02FD8473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07C7F-7CDF-48C6-80D1-0A03D107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4A52-0461-478C-9DB9-90AE3B4C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54FDA-0E70-4CC2-9736-DFAF40C6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B4BEA-84A8-45DC-B681-D1D6E7F9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78F3-BB05-4799-AFF1-B840908A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01774-940E-40BA-93F9-D7223014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2672-503B-4DE2-9633-ECE28CFD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F8B-9518-489B-B930-FE4E5636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D834-9412-4910-B6C1-10C30124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57649-D94C-4CEC-923F-CAD09500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72CDE-973D-4B33-AD22-78865F33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2006B-99C4-41E1-8613-69516B6B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22AEB-42FE-48D3-9A1F-6AA3C8B0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06A4B-18FE-430A-9D10-19804312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4EA45-0611-497D-8403-1459C7B1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9AA0-553D-48C3-8885-07C320B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76AF4-3807-43DC-A475-3D549938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0272C-0CD9-495C-8E09-68AC40F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8FF-C171-43F4-9807-A535D3A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923D5-BD60-470A-8305-3272865C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1ED4-FD94-4064-A7DB-8D99C580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B0642-F827-458C-A394-AB429CA0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379BD-6625-48B1-9A85-F5E93F65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09903-7415-484A-99FA-C3686B70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68F59-3183-4631-8C5D-D9E4A14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FDD81-CF46-44C4-88AE-A2796288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5C6EC-C90F-47A8-9814-6CD0CE5C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8C7FA-C885-49EA-B5D0-8D13DDC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7216E-B263-45B8-9770-1F2CB6CD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4E6-3709-4947-8B03-2B36CB45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4E13-BADA-4171-8ADC-AC2FB4A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9A24A-4477-4C72-8B2E-2932D3C1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93022-5A26-40DB-822B-8A7A2B91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655DB-B32B-40CF-AB36-25100357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B1DA-EE9A-407E-8A69-CEB40BF0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4FAF6-B4FF-431B-914D-C6EDCA21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D595-49D0-446D-B1F4-8322C51F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DD897-DBE5-4EB8-91F4-37ACECC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19D12-B1C0-4F89-A76F-DEA03D90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6C3BC-AB87-4C60-BD36-B5CA60F3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748-CDD7-47FD-8AB0-DAE9F3EC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DA5B5-E786-4A10-8412-6D84D579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95F0F-6CCB-4D74-91F8-4075A86B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67F76-12C7-4181-B98B-C759AB1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09815-F017-4C9C-A451-1D8D24A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06C18-37A6-4D4A-8E9B-0C223618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928A6-C28C-4C7B-8BBC-019C0CDF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6A55E-1F37-4A4C-9F62-611DB67E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BDF2-2871-4451-B60B-864D8EB52485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5051-DB3B-4B51-84BF-CDB088276E46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FA8F-1075-42E9-8391-D77931516A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C452-702B-436F-AE67-CE0513A11C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3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45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15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9083-2CAA-44B2-8B5D-F3EC20AB3B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1468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500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523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6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17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18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1FE2-225A-4D05-B702-482A2202FD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8840-D49C-4AED-B9BF-1564E3B251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A78C-9D56-4327-B9ED-6F2E390F82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黑体"/>
              </a:rPr>
              <a:t>第四单元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ahoma"/>
                <a:ea typeface="华文行楷"/>
              </a:rPr>
              <a:t>现当代诗歌一组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42920" y="764640"/>
            <a:ext cx="3745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后来啊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乡愁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是一方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矮矮</a:t>
            </a:r>
            <a:br>
              <a:rPr sz="3200"/>
            </a:b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坟墓</a:t>
            </a:r>
            <a:br>
              <a:rPr sz="3200"/>
            </a:b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在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外头</a:t>
            </a:r>
            <a:br>
              <a:rPr sz="3200"/>
            </a:b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母亲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在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里头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而现在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乡愁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是一湾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浅浅</a:t>
            </a:r>
            <a:br>
              <a:rPr sz="3200"/>
            </a:b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海峡</a:t>
            </a:r>
            <a:br>
              <a:rPr sz="3200"/>
            </a:b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在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这头</a:t>
            </a:r>
            <a:br>
              <a:rPr sz="3200"/>
            </a:b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大陆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在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楷体_GB2312"/>
              </a:rPr>
              <a:t>那头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763640" y="907920"/>
            <a:ext cx="266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小时候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乡愁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是一枚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小小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i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邮票</a:t>
            </a:r>
            <a:br>
              <a:rPr sz="3200"/>
            </a:b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我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在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这头</a:t>
            </a:r>
            <a:br>
              <a:rPr sz="3200"/>
            </a:b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母亲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在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那头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长大后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乡愁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是一张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窄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船票</a:t>
            </a:r>
            <a:br>
              <a:rPr sz="3200"/>
            </a:b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我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在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这头</a:t>
            </a:r>
            <a:br>
              <a:rPr sz="3200"/>
            </a:b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新娘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隶书"/>
              </a:rPr>
              <a:t>在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那头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195640" y="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诵读《乡愁》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352680" y="57913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00400" y="48769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5076720" y="3213000"/>
            <a:ext cx="3886200" cy="284796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1619280" y="907920"/>
            <a:ext cx="4648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9"/>
                </a:solidFill>
                <a:latin typeface="华文行楷"/>
                <a:ea typeface="华文行楷"/>
              </a:rPr>
              <a:t>小时侯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9"/>
                </a:solidFill>
                <a:latin typeface="华文行楷"/>
                <a:ea typeface="华文行楷"/>
              </a:rPr>
              <a:t>乡愁是一枚小小的邮票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我在这头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母亲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/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那头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梳理思路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763280" y="1773000"/>
            <a:ext cx="57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小时候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邮票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母子之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长大后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船票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夫妻之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后来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-------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坟墓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丧母之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现在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-------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海峡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070709"/>
                </a:solidFill>
                <a:latin typeface="Tahoma"/>
              </a:rPr>
              <a:t>恋国之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2"/>
          <a:srcRect l="3244" t="5547" r="2679" b="41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684360" y="765000"/>
            <a:ext cx="7696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长大后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乡愁是一张窄窄的船票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2"/>
          <a:srcRect l="1304" t="4548" r="3623" b="75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54160" y="333360"/>
            <a:ext cx="1003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新娘在那头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53280" y="333360"/>
            <a:ext cx="99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在这头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84160" y="304920"/>
            <a:ext cx="2889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后来啊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乡愁是一方矮矮的坟墓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在外头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15960" y="333360"/>
            <a:ext cx="911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母亲在里头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2587680" cy="343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2"/>
          <a:srcRect l="2381" t="3338" r="2381" b="3205"/>
          <a:stretch/>
        </p:blipFill>
        <p:spPr>
          <a:xfrm>
            <a:off x="1692360" y="220500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7670880" y="2133720"/>
            <a:ext cx="100332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在这头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03280" y="0"/>
            <a:ext cx="6782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而现在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乡愁是一湾浅浅的海峡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9640" y="1773360"/>
            <a:ext cx="803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大陆在那头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84360" y="2708280"/>
            <a:ext cx="2160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邮票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船票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坟墓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海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339640" y="549360"/>
            <a:ext cx="4103640" cy="792000"/>
          </a:xfrm>
          <a:prstGeom prst="rect">
            <a:avLst/>
          </a:prstGeom>
          <a:noFill/>
          <a:ln w="9360">
            <a:solidFill>
              <a:srgbClr val="a0269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诗歌抒情顺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5280" y="2708280"/>
            <a:ext cx="216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小时候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长大后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后来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00720" y="37958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托物言志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32720" y="2205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故乡之思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243920" y="3429000"/>
            <a:ext cx="1215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cc00"/>
                </a:solidFill>
                <a:latin typeface="Times New Roman"/>
                <a:ea typeface="黑体"/>
              </a:rPr>
              <a:t>逐层推进</a:t>
            </a:r>
            <a:endParaRPr b="0" lang="en-US" sz="3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659640" y="5595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家国之情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84720" y="4508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740720" y="3068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4572000" y="5105520"/>
            <a:ext cx="4038480" cy="14191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16000" y="1557360"/>
            <a:ext cx="66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70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70709"/>
                </a:solidFill>
                <a:latin typeface="宋体"/>
              </a:rPr>
              <a:t>、结构上寓变化于统一，节与节，句与句均衡对称，但整齐中又有参差，长句与短句互相变化错落，体现 自由 诗的 特点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765000"/>
            <a:ext cx="748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《乡愁》如何体现结构美和音乐美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43000" y="3886200"/>
            <a:ext cx="7010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70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70709"/>
                </a:solidFill>
                <a:latin typeface="宋体"/>
              </a:rPr>
              <a:t>、同一位置上 的词的 重复与 叠词的 运用，在音乐上造成一种回环往复 ，一 唱三叹的 旋律，给全诗 营造一种 低回怅惘的 基调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11280" y="0"/>
            <a:ext cx="4104000" cy="692280"/>
          </a:xfrm>
          <a:prstGeom prst="rect">
            <a:avLst/>
          </a:prstGeom>
          <a:noFill/>
          <a:ln w="9360">
            <a:solidFill>
              <a:srgbClr val="a02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华文隶书"/>
              </a:rPr>
              <a:t>深入感知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11280" y="162864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诗中为何说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小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邮票”，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窄窄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船票”，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矮矮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坟墓”，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浅浅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海峡”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92360" y="350028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70709"/>
                </a:solidFill>
                <a:latin typeface="Times New Roman"/>
              </a:rPr>
              <a:t>把乡愁浓缩于四个程度轻的对象上，恰恰反衬出诗人内心深处浓烈的思乡之情——以小见大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79440" y="3352680"/>
            <a:ext cx="7864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11280" y="0"/>
            <a:ext cx="4104000" cy="692280"/>
          </a:xfrm>
          <a:prstGeom prst="rect">
            <a:avLst/>
          </a:prstGeom>
          <a:noFill/>
          <a:ln w="9360">
            <a:solidFill>
              <a:srgbClr val="a02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华文隶书"/>
              </a:rPr>
              <a:t>合作探讨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乡      愁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116000" y="378936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070709"/>
                </a:solidFill>
                <a:latin typeface="Tahoma"/>
              </a:rPr>
              <a:t>余光中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611280" y="162864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诗中为何说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小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邮票”，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窄窄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船票”，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矮矮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坟墓”，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浅浅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海峡”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692360" y="350028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70709"/>
                </a:solidFill>
                <a:latin typeface="Times New Roman"/>
              </a:rPr>
              <a:t>把乡愁浓缩于四个程度轻的对象上，恰恰反衬出诗人内心深处浓烈的思乡之情——以小见大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79440" y="3352680"/>
            <a:ext cx="7864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1280" y="0"/>
            <a:ext cx="4104000" cy="692280"/>
          </a:xfrm>
          <a:prstGeom prst="rect">
            <a:avLst/>
          </a:prstGeom>
          <a:noFill/>
          <a:ln w="9360">
            <a:solidFill>
              <a:srgbClr val="a02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华文隶书"/>
              </a:rPr>
              <a:t>合作探讨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7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9"/>
                </a:solidFill>
                <a:latin typeface="Tahoma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070709"/>
                </a:solidFill>
                <a:latin typeface="宋体"/>
              </a:rPr>
              <a:t>这是一首抒情诗，借邮票、船票、坟墓、海峡把抽象的乡愁具体化、实物化，变成具体可感的东西，表达了作者渴望与亲人团聚，渴望祖国早日统一结束分离之苦的强烈愿望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黑体"/>
              </a:rPr>
              <a:t>小结：主题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1547640" y="404640"/>
            <a:ext cx="66978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《乡愁》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席慕蓉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c59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故乡的 歌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是一支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清远的笛 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总在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有月亮的晚上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响起      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故乡的面貌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却是一种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模糊的怅惘    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仿佛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雾里的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挥手别离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别离后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乡愁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是一棵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没有年轮的树  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永不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老去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70709"/>
                </a:solidFill>
                <a:latin typeface="Arial"/>
                <a:ea typeface="黑体"/>
              </a:rPr>
              <a:t>《乡愁四韵》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             ——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华文行楷"/>
              </a:rPr>
              <a:t>余光中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给我一瓢长江水啊长江水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酒一样的长江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醉酒的滋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是乡愁的滋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给我一瓢长江水啊长江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给我一张海棠红啊海棠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血一样的海棠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沸血的烧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是乡愁的烧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给我一张海棠红啊海棠红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5796000" y="3141720"/>
            <a:ext cx="3095640" cy="238752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9"/>
                </a:solidFill>
                <a:latin typeface="Arial"/>
              </a:rPr>
              <a:t>余光中的诗：以时间的变化</a:t>
            </a:r>
            <a:r>
              <a:rPr b="1" lang="zh-CN" sz="3200" spc="-1" strike="noStrike">
                <a:solidFill>
                  <a:srgbClr val="07070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70709"/>
                </a:solidFill>
                <a:latin typeface="Arial"/>
              </a:rPr>
              <a:t>选择几个具体的富含深意的形象来层层推进诗情的表达</a:t>
            </a:r>
            <a:r>
              <a:rPr b="1" lang="zh-CN" sz="3200" spc="-1" strike="noStrike">
                <a:solidFill>
                  <a:srgbClr val="07070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70709"/>
                </a:solidFill>
                <a:latin typeface="Arial"/>
              </a:rPr>
              <a:t>最后将乡愁上升到民族和国家的高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9"/>
                </a:solidFill>
                <a:latin typeface="Arial"/>
              </a:rPr>
              <a:t>席慕蓉的诗：用三个典型的画面和几个有独创性的比喻来抒写心中的乡愁</a:t>
            </a:r>
            <a:r>
              <a:rPr b="1" lang="zh-CN" sz="3200" spc="-1" strike="noStrike">
                <a:solidFill>
                  <a:srgbClr val="07070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70709"/>
                </a:solidFill>
                <a:latin typeface="Arial"/>
              </a:rPr>
              <a:t>表达对故乡永远的怀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79280" y="1197000"/>
            <a:ext cx="8785440" cy="329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当我死时，葬我，在长江与黄河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之间，枕我的头颅，白发盖着黑土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在中国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最美最母亲的国度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我便坦然睡去，睡整张大陆。</a:t>
            </a:r>
            <a:r>
              <a:rPr b="1" lang="zh-CN" sz="2400" spc="-1" strike="noStrike">
                <a:solidFill>
                  <a:srgbClr val="070709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70709"/>
                </a:solidFill>
                <a:latin typeface="Times New Roman"/>
              </a:rPr>
              <a:t>（ 《当我死时》）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70709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我是神经导电的大陆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饮尽黄河水也不能解渴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扪着脉搏，证实有一颗心还没死去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还呼吸雷雨的空气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我的血管是黄河的支流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70709"/>
                </a:solidFill>
                <a:latin typeface="楷体_GB2312"/>
                <a:ea typeface="楷体_GB2312"/>
              </a:rPr>
              <a:t>中国是我 我是中国。</a:t>
            </a:r>
            <a:r>
              <a:rPr b="1" lang="zh-CN" sz="3000" spc="-1" strike="noStrike">
                <a:solidFill>
                  <a:srgbClr val="070709"/>
                </a:solidFill>
                <a:latin typeface="Times New Roman"/>
              </a:rPr>
              <a:t>                                   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70709"/>
                </a:solidFill>
                <a:latin typeface="Times New Roman"/>
              </a:rPr>
              <a:t>                                                      </a:t>
            </a:r>
            <a:r>
              <a:rPr b="1" lang="zh-CN" sz="3000" spc="-1" strike="noStrike">
                <a:solidFill>
                  <a:srgbClr val="070709"/>
                </a:solidFill>
                <a:latin typeface="Times New Roman"/>
              </a:rPr>
              <a:t>（《敲打乐》）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拓展阅读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3979800" cy="27702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1908000" y="2637000"/>
            <a:ext cx="245592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967120" y="660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00600" y="457920"/>
            <a:ext cx="1807200" cy="908280"/>
          </a:xfrm>
          <a:prstGeom prst="ellipse">
            <a:avLst/>
          </a:prstGeom>
          <a:solidFill>
            <a:srgbClr val="ecfd83"/>
          </a:solidFill>
          <a:ln w="9360">
            <a:solidFill>
              <a:srgbClr val="a02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仿写练习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16000" y="1700280"/>
            <a:ext cx="74883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70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70709"/>
                </a:solidFill>
                <a:latin typeface="Arial"/>
              </a:rPr>
              <a:t>同学们，假如让你离开故乡，故乡的哪些景物，哪些人和事会让你深深思念，请你以“乡愁是‥‥‥”句式，</a:t>
            </a:r>
            <a:r>
              <a:rPr b="1" lang="zh-CN" sz="3200" spc="-1" strike="noStrike">
                <a:solidFill>
                  <a:srgbClr val="070709"/>
                </a:solidFill>
                <a:latin typeface="Arial"/>
                <a:ea typeface="隶书"/>
              </a:rPr>
              <a:t>仿照余光中的《乡愁》试仿写一段诗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11c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e11c1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搜集有关“乡愁”的诗句 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了解余光中生平，写一篇人物画像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4360" y="476280"/>
            <a:ext cx="3527280" cy="865080"/>
          </a:xfrm>
          <a:prstGeom prst="ellipse">
            <a:avLst/>
          </a:prstGeom>
          <a:solidFill>
            <a:srgbClr val="ecfd83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作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95280" y="162864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84080" y="1700280"/>
            <a:ext cx="5807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、举头望明月，低头思故乡。————李白《静夜思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、露从今夜白，月是故乡明。————杜甫《月夜忆舍弟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、独在异乡为异客，每逢佳节倍思亲。——王维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、此夜曲中闻折柳，何人不起故园情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                                                  ————</a:t>
            </a: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李白《春夜洛城闻笛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、日暮乡关何处是，烟波江上使人愁</a:t>
            </a: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                                                  ————</a:t>
            </a:r>
            <a:r>
              <a:rPr b="1" lang="zh-CN" sz="2400" spc="-1" strike="noStrike">
                <a:solidFill>
                  <a:srgbClr val="070709"/>
                </a:solidFill>
                <a:latin typeface="Arial"/>
              </a:rPr>
              <a:t>崔颢《黄鹤楼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64120" y="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导入：描写乡愁的名句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755640" y="631800"/>
            <a:ext cx="76248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544920" y="2421000"/>
            <a:ext cx="559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9"/>
                </a:solidFill>
                <a:latin typeface="Times New Roman"/>
                <a:ea typeface="楷体_GB2312"/>
              </a:rPr>
              <a:t>     “</a:t>
            </a:r>
            <a:r>
              <a:rPr b="1" lang="zh-CN" sz="3200" spc="-1" strike="noStrike">
                <a:solidFill>
                  <a:srgbClr val="070709"/>
                </a:solidFill>
                <a:latin typeface="Times New Roman"/>
                <a:ea typeface="楷体_GB2312"/>
              </a:rPr>
              <a:t>右手写诗，左手写散文，成就之高一时无二”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9"/>
                </a:solidFill>
                <a:latin typeface="Times New Roman"/>
              </a:rPr>
              <a:t>                 ——</a:t>
            </a:r>
            <a:r>
              <a:rPr b="1" lang="zh-CN" sz="3200" spc="-1" strike="noStrike">
                <a:solidFill>
                  <a:srgbClr val="070709"/>
                </a:solidFill>
                <a:latin typeface="Times New Roman"/>
              </a:rPr>
              <a:t>梁实秋评余光中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1752480" y="765000"/>
            <a:ext cx="7391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9"/>
                </a:solidFill>
                <a:latin typeface="Arial"/>
                <a:ea typeface="楷体_GB2312"/>
              </a:rPr>
              <a:t>自称“文学创作上的多妻主义者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1393920" cy="19810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971640" y="1700280"/>
            <a:ext cx="7740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　余光中，</a:t>
            </a:r>
            <a:r>
              <a:rPr b="1" lang="zh-CN" sz="2800" spc="-1" strike="noStrike">
                <a:solidFill>
                  <a:srgbClr val="003399"/>
                </a:solidFill>
                <a:latin typeface="Tahoma"/>
              </a:rPr>
              <a:t>台湾当代著名诗人、散文家和评论家。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祖籍 福建永春，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1928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年出生于南京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,1949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年离开大陆赴台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已出版诗集、散文、评论和译著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余种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代表作品有诗集《舟子的悲歌》《钟乳石》《万圣节》《莲的联想》《白玉苦瓜》《与永恒拔河》等。</a:t>
            </a:r>
            <a:br>
              <a:rPr sz="32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6923160" y="3933720"/>
            <a:ext cx="2220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72392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5040360" cy="33656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4524480" y="2997360"/>
            <a:ext cx="46195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116000" y="134136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13e2"/>
                </a:solidFill>
                <a:latin typeface="Times New Roman"/>
                <a:ea typeface="隶书"/>
              </a:rPr>
              <a:t>阅读诗歌的方法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590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709"/>
                </a:solidFill>
                <a:latin typeface="Times New Roman"/>
              </a:rPr>
              <a:t>朗读诗歌：注意语气、语调、语速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709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70709"/>
                </a:solidFill>
                <a:latin typeface="Times New Roman"/>
              </a:rPr>
              <a:t>节奏、重音、押韵等</a:t>
            </a:r>
            <a:r>
              <a:rPr b="0" lang="zh-CN" sz="2800" spc="-1" strike="noStrike">
                <a:solidFill>
                  <a:srgbClr val="07070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4038480"/>
            <a:ext cx="7696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709"/>
                </a:solidFill>
                <a:latin typeface="Times New Roman"/>
              </a:rPr>
              <a:t>赏析诗歌：再现意境，品味语言，体会感情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2:39:22Z</dcterms:created>
  <dc:creator/>
  <dc:description/>
  <dc:language>en-US</dc:language>
  <cp:lastModifiedBy>user</cp:lastModifiedBy>
  <dcterms:modified xsi:type="dcterms:W3CDTF">2017-12-17T10:41:28Z</dcterms:modified>
  <cp:revision>96</cp:revision>
  <dc:subject/>
  <dc:title>幻灯片 1</dc:title>
</cp:coreProperties>
</file>