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png" ContentType="image/png"/>
  <Override PartName="/ppt/media/image3.jpeg" ContentType="image/jpeg"/>
  <Override PartName="/ppt/media/image4.jpeg" ContentType="image/jpeg"/>
  <Override PartName="/ppt/media/voltag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9DC-88CA-4CDC-80F7-64F2A6DB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2DC-AC0D-4D6D-886B-A283B3C4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988-0D2A-4483-8FBD-D8D9AC03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309-FCC3-49FD-A6AF-7989897D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C51-9B8A-49A6-A9B6-66BC774C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86C-4618-4DE2-86AF-99D1539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A66-A591-4A5E-9803-59259F55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C0A-BAB1-493B-B220-6C3FEC9B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629-8A43-4673-BB26-851AEAB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E58-F45D-44EA-9664-3ABD9477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DCD-1064-4AAF-926C-F4D257F1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E09-13D7-4758-B1DC-2C330E1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3827-9F43-400F-8C8D-ADDA0FDF78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4556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zhidaoguan.com/share/detail.asp?NewsID=1666&amp;ClassName=&#20316;&#23478;&#23398;&#32773;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五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品鉴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42920" y="1699920"/>
            <a:ext cx="58546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为有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源头活水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源头活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头活水比喻知识是不断更新和发展的，从而不断积累，只有在人生的学习中不断学习运用探索，才能使自己永葆先进和活力，就像水源头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为：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6553080" y="6400800"/>
            <a:ext cx="213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674-E0C0-48DE-994B-C4FD7D7FA2D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" descr="2007729195549.jpg"/>
          <p:cNvPicPr/>
          <p:nvPr/>
        </p:nvPicPr>
        <p:blipFill>
          <a:blip r:embed="rId2"/>
          <a:stretch/>
        </p:blipFill>
        <p:spPr>
          <a:xfrm>
            <a:off x="0" y="0"/>
            <a:ext cx="276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5"/>
          <p:cNvSpPr/>
          <p:nvPr/>
        </p:nvSpPr>
        <p:spPr>
          <a:xfrm>
            <a:off x="6553080" y="6400800"/>
            <a:ext cx="213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EAD9-4AA0-47A9-8A5A-D1F2B32659C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全诗译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43280" y="1412640"/>
            <a:ext cx="56275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亩大的方形池塘像一面镜子一样展现在眼前，天空的光彩和浮云的影子都在镜子中一起荡漾。要问为何那方塘的水会这样清澈呢？是因为有那永不枯竭的源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源源不断的为它输送活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" descr="2007729195549.jpg"/>
          <p:cNvPicPr/>
          <p:nvPr/>
        </p:nvPicPr>
        <p:blipFill>
          <a:blip r:embed="rId2"/>
          <a:stretch/>
        </p:blipFill>
        <p:spPr>
          <a:xfrm>
            <a:off x="0" y="0"/>
            <a:ext cx="27637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9"/>
          <p:cNvSpPr/>
          <p:nvPr/>
        </p:nvSpPr>
        <p:spPr>
          <a:xfrm>
            <a:off x="2843280" y="1844640"/>
            <a:ext cx="57610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这首诗的题目是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观书有感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，为什么诗中写的是池塘和池塘中的水，却没有提到读书？它们有怎样的联系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03080" y="620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思考探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艺术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24000" y="2125080"/>
            <a:ext cx="8496000" cy="13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源头” 比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“活水”比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源源不断的活水能使方塘变得如此清澈，正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_______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68360" y="2852640"/>
            <a:ext cx="604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不断读书，不断吸取知识，才能                    使人变得更聪明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227640" y="18446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新的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419640" y="1700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书本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小结：“说理诗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0360" y="1844640"/>
            <a:ext cx="5997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巧妙地把读书的道理蕴含在诗中，把美丽的方塘风光和读书感想融合在一起，使这首诗的意境得到了升华，这正是朱熹的高明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问渠哪得清如许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为有源头活水来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李一方的文章写得好，小记者采访她，请她谈谈诀窍。她笑了笑，指了指身后的书柜说：“问渠哪得清如许？为有源头活水来。”这句话在文中是什么意思？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问渠哪得清如许，为有源头活水来”，太阳雨公司蓬勃发展的今天，正是由于多年来恪守“诚信服务、客户至上”的企业信条，追求高质量，高品位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Picture 5" descr="未命名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13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7632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"/>
            <p:cNvSpPr/>
            <p:nvPr/>
          </p:nvSpPr>
          <p:spPr>
            <a:xfrm>
              <a:off x="0" y="6788160"/>
              <a:ext cx="914400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>
              <a:off x="0" y="34920"/>
              <a:ext cx="914400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17640" y="0"/>
              <a:ext cx="0" cy="685800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0"/>
            <p:cNvSpPr/>
            <p:nvPr/>
          </p:nvSpPr>
          <p:spPr>
            <a:xfrm>
              <a:off x="9091440" y="0"/>
              <a:ext cx="0" cy="685800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1"/>
          <p:cNvSpPr/>
          <p:nvPr/>
        </p:nvSpPr>
        <p:spPr>
          <a:xfrm>
            <a:off x="179280" y="2558880"/>
            <a:ext cx="882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古代还有许多这样的诗，试一试，你能填上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“＿＿＿＿＿＿，＿＿＿＿＿＿＿。”说明从不同的角度看事物，便有会不同的收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“＿＿＿＿＿＿＿，＿＿＿＿＿＿。”说明新生事物能冲破一切束缚，是禁锢不了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1332000" y="260280"/>
            <a:ext cx="228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拓展延伸：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280200" y="21718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1835280" y="2852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横看成岭侧成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500360" y="2852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远近高低各不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2052720" y="3860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春色满园关不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726880" y="386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枝红杏出墙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Picture 5" descr="未命名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29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7632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0" y="6788160"/>
              <a:ext cx="914400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0" y="34920"/>
              <a:ext cx="914400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17640" y="0"/>
              <a:ext cx="0" cy="685800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9091440" y="0"/>
              <a:ext cx="0" cy="685800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>
            <a:off x="395280" y="2592720"/>
            <a:ext cx="874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“＿＿＿＿＿＿，＿＿＿＿＿＿。”告诉我们：只要登得高，就能望得远，鼓励人们不断地追求进步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＿＿＿＿＿＿，＿＿＿＿＿＿。”说明新事物不可战胜，教我们面对困境应该不屈不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　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2"/>
          <p:cNvSpPr txBox="1"/>
          <p:nvPr/>
        </p:nvSpPr>
        <p:spPr>
          <a:xfrm>
            <a:off x="900000" y="260280"/>
            <a:ext cx="228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拓展延伸：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2751840" y="1700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欲穷千里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6253920" y="170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更上一层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2680560" y="3357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野火烧不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5847480" y="3357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春风吹又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3348000" y="549360"/>
            <a:ext cx="4572000" cy="5877000"/>
            <a:chOff x="3348000" y="549360"/>
            <a:chExt cx="4572000" cy="5877000"/>
          </a:xfrm>
        </p:grpSpPr>
        <p:pic>
          <p:nvPicPr>
            <p:cNvPr id="141" name="Picture 3" descr="未命名1"/>
            <p:cNvPicPr/>
            <p:nvPr/>
          </p:nvPicPr>
          <p:blipFill>
            <a:blip r:embed="rId2"/>
            <a:stretch/>
          </p:blipFill>
          <p:spPr>
            <a:xfrm>
              <a:off x="3348000" y="549360"/>
              <a:ext cx="4572000" cy="5877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42" name="Rectangle 4"/>
            <p:cNvSpPr/>
            <p:nvPr/>
          </p:nvSpPr>
          <p:spPr>
            <a:xfrm>
              <a:off x="3348000" y="549360"/>
              <a:ext cx="4572000" cy="5877000"/>
            </a:xfrm>
            <a:prstGeom prst="rect">
              <a:avLst/>
            </a:prstGeom>
            <a:noFill/>
            <a:ln w="7632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3348000" y="6366240"/>
              <a:ext cx="457200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3348000" y="579240"/>
              <a:ext cx="457200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3356640" y="549360"/>
              <a:ext cx="0" cy="587700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>
              <a:off x="7893720" y="549360"/>
              <a:ext cx="0" cy="587700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24360" y="1341000"/>
            <a:ext cx="43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 书 有 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朱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亩方塘一鉴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光云影共徘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渠哪得清如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有源头活水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宋代说理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16000" y="1557360"/>
            <a:ext cx="59036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宋苏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西林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横看成岭侧成峰，远近高低各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不识庐山真面目，只缘身在此山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南宋陈与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襄邑道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飞花两岸照船红，百里榆堤半日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卧看满天云不动，不知云与我俱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南宋夏元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绝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崆峒访道至湘湖，万卷诗书看转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踏破铁鞋无觅处，得来全不费工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南宋陆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冬夜读书示子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古人学问无遗力，少壮工夫老始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纸上得来终觉浅，绝知此事要躬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观 书 有 感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朱  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1"/>
          <p:cNvSpPr/>
          <p:nvPr/>
        </p:nvSpPr>
        <p:spPr>
          <a:xfrm>
            <a:off x="2771640" y="549360"/>
            <a:ext cx="59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课后作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收集并摘抄一些有关读书的名言和富有哲理的诗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了解宋代说理诗和江西诗派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592632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能正确、流利、有感情地朗读古诗，背诵古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理解诗句意思，感受半亩方塘的美丽景色，了解这首诗蕴含的哲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深入理解不断读书，不断汲取新知识的重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2556000" y="765000"/>
            <a:ext cx="6588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万卷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万里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序而渐进，熟读而精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有三到，谓心到、眼到、口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5940360" y="44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朱熹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084720" y="19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朱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588000" y="2852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朱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333360"/>
            <a:ext cx="4546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读书名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4932360" y="189000"/>
            <a:ext cx="2484360" cy="907920"/>
            <a:chOff x="4932360" y="189000"/>
            <a:chExt cx="2484360" cy="907920"/>
          </a:xfrm>
        </p:grpSpPr>
        <p:pic>
          <p:nvPicPr>
            <p:cNvPr id="55" name="Picture 5" descr="未命名1"/>
            <p:cNvPicPr/>
            <p:nvPr/>
          </p:nvPicPr>
          <p:blipFill>
            <a:blip r:embed="rId2"/>
            <a:stretch/>
          </p:blipFill>
          <p:spPr>
            <a:xfrm>
              <a:off x="4932360" y="189000"/>
              <a:ext cx="2484360" cy="9079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56" name="Rectangle 6"/>
            <p:cNvSpPr/>
            <p:nvPr/>
          </p:nvSpPr>
          <p:spPr>
            <a:xfrm>
              <a:off x="4932360" y="189000"/>
              <a:ext cx="2484360" cy="907920"/>
            </a:xfrm>
            <a:prstGeom prst="rect">
              <a:avLst/>
            </a:prstGeom>
            <a:noFill/>
            <a:ln w="7632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7"/>
            <p:cNvSpPr/>
            <p:nvPr/>
          </p:nvSpPr>
          <p:spPr>
            <a:xfrm>
              <a:off x="4932360" y="1087920"/>
              <a:ext cx="248436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4932360" y="193320"/>
              <a:ext cx="248436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9"/>
            <p:cNvSpPr/>
            <p:nvPr/>
          </p:nvSpPr>
          <p:spPr>
            <a:xfrm>
              <a:off x="4937040" y="189000"/>
              <a:ext cx="0" cy="90792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0"/>
            <p:cNvSpPr/>
            <p:nvPr/>
          </p:nvSpPr>
          <p:spPr>
            <a:xfrm>
              <a:off x="7402680" y="189000"/>
              <a:ext cx="0" cy="90792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11" descr="2004721181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133720"/>
            <a:ext cx="2049480" cy="2590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3203640" y="2060640"/>
            <a:ext cx="5256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朱熹，南宋著名的理学家、教育家。他的一生中共撰写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部著作，对经学、史学、文学、乐律以及自然科学都有不同程度的贡献。他的诗能用鲜明的形象把抽象的东西具体化，有的诗寓意含蓄，具有哲理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932360" y="260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作者简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"/>
          <p:cNvGrpSpPr/>
          <p:nvPr/>
        </p:nvGrpSpPr>
        <p:grpSpPr>
          <a:xfrm>
            <a:off x="3348000" y="1123920"/>
            <a:ext cx="5364360" cy="4869000"/>
            <a:chOff x="3348000" y="1123920"/>
            <a:chExt cx="5364360" cy="4869000"/>
          </a:xfrm>
        </p:grpSpPr>
        <p:pic>
          <p:nvPicPr>
            <p:cNvPr id="67" name="Picture 3" descr="未命名1"/>
            <p:cNvPicPr/>
            <p:nvPr/>
          </p:nvPicPr>
          <p:blipFill>
            <a:blip r:embed="rId2"/>
            <a:stretch/>
          </p:blipFill>
          <p:spPr>
            <a:xfrm>
              <a:off x="3348000" y="1123920"/>
              <a:ext cx="5364360" cy="4869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68" name="Rectangle 4"/>
            <p:cNvSpPr/>
            <p:nvPr/>
          </p:nvSpPr>
          <p:spPr>
            <a:xfrm>
              <a:off x="3348000" y="1123920"/>
              <a:ext cx="5364360" cy="4869000"/>
            </a:xfrm>
            <a:prstGeom prst="rect">
              <a:avLst/>
            </a:prstGeom>
            <a:noFill/>
            <a:ln w="7632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"/>
            <p:cNvSpPr/>
            <p:nvPr/>
          </p:nvSpPr>
          <p:spPr>
            <a:xfrm>
              <a:off x="3348000" y="5943240"/>
              <a:ext cx="536436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>
              <a:off x="3348000" y="1148400"/>
              <a:ext cx="5364360" cy="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>
              <a:off x="3358080" y="1123920"/>
              <a:ext cx="0" cy="486900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>
              <a:off x="8681400" y="1123920"/>
              <a:ext cx="0" cy="4869000"/>
            </a:xfrm>
            <a:prstGeom prst="line">
              <a:avLst/>
            </a:prstGeom>
            <a:ln w="57240">
              <a:solidFill>
                <a:srgbClr val="9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0"/>
          <p:cNvSpPr/>
          <p:nvPr/>
        </p:nvSpPr>
        <p:spPr>
          <a:xfrm>
            <a:off x="3921480" y="1123920"/>
            <a:ext cx="388584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观 书 有 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3366"/>
                </a:solidFill>
                <a:latin typeface="黑体"/>
                <a:ea typeface="黑体"/>
              </a:rPr>
              <a:t>[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宋</a:t>
            </a:r>
            <a:r>
              <a:rPr b="1" lang="en-US" sz="3200" spc="-1" strike="noStrike">
                <a:solidFill>
                  <a:srgbClr val="003366"/>
                </a:solidFill>
                <a:latin typeface="黑体"/>
                <a:ea typeface="黑体"/>
              </a:rPr>
              <a:t>]  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朱  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半亩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方塘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一鉴开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天光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云影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共徘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渠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哪得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清如许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有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源头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活水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灯片编号占位符 5"/>
          <p:cNvSpPr/>
          <p:nvPr/>
        </p:nvSpPr>
        <p:spPr>
          <a:xfrm>
            <a:off x="6553080" y="6400800"/>
            <a:ext cx="213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6F45-E8D0-457E-8338-92BA081604F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品鉴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71280" y="1916280"/>
            <a:ext cx="57740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方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方塘又称半亩塘，在福建尤溪城南郑义斋馆舍（后称南溪书院）内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鉴：镜。古人以铜为镜，包以镜袱，用时打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2007729195549.jpg"/>
          <p:cNvPicPr/>
          <p:nvPr/>
        </p:nvPicPr>
        <p:blipFill>
          <a:blip r:embed="rId2"/>
          <a:stretch/>
        </p:blipFill>
        <p:spPr>
          <a:xfrm>
            <a:off x="0" y="0"/>
            <a:ext cx="27637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09520" y="2420640"/>
            <a:ext cx="1857240" cy="759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892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比喻的手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品鉴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16360" y="1557360"/>
            <a:ext cx="5781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光云影共徘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的光和云的影子反映在塘水之中，不停的变动，犹如人在徘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徘徊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来回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6553080" y="6400800"/>
            <a:ext cx="213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1EED-C591-43D4-9C93-836EF3B01F06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" descr="2007729195549.jpg"/>
          <p:cNvPicPr/>
          <p:nvPr/>
        </p:nvPicPr>
        <p:blipFill>
          <a:blip r:embed="rId2"/>
          <a:stretch/>
        </p:blipFill>
        <p:spPr>
          <a:xfrm>
            <a:off x="0" y="0"/>
            <a:ext cx="276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品鉴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76720" y="1844280"/>
            <a:ext cx="52783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问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渠</a:t>
            </a:r>
            <a:r>
              <a:rPr b="1" lang="zh-CN" sz="3600" spc="-1" strike="noStrike">
                <a:solidFill>
                  <a:srgbClr val="33cc33"/>
                </a:solidFill>
                <a:latin typeface="微软雅黑"/>
              </a:rPr>
              <a:t>那得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黑体"/>
              </a:rPr>
              <a:t>清</a:t>
            </a:r>
            <a:r>
              <a:rPr b="1" lang="zh-CN" sz="3600" spc="-1" strike="noStrike">
                <a:solidFill>
                  <a:srgbClr val="333399"/>
                </a:solidFill>
                <a:latin typeface="微软雅黑"/>
              </a:rPr>
              <a:t>如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渠：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 方 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那得：怎么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清如许：这样的清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400800"/>
            <a:ext cx="213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B7D9-1E2F-4866-B6C6-382EC388EAA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" descr="2007729195549.jpg"/>
          <p:cNvPicPr/>
          <p:nvPr/>
        </p:nvPicPr>
        <p:blipFill>
          <a:blip r:embed="rId2"/>
          <a:stretch/>
        </p:blipFill>
        <p:spPr>
          <a:xfrm>
            <a:off x="0" y="0"/>
            <a:ext cx="2763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659640" y="1628640"/>
            <a:ext cx="1944720" cy="12956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765000"/>
            <a:ext cx="1729080" cy="719280"/>
          </a:xfrm>
          <a:prstGeom prst="wedgeEllipseCallout">
            <a:avLst>
              <a:gd name="adj1" fmla="val -39625"/>
              <a:gd name="adj2" fmla="val 120199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诗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4:03:39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7-12-21T00:32:31Z</dcterms:modified>
  <cp:revision>3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