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BC82-BD61-4246-BB1C-3A264081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E338-333C-4E32-AD7C-B9B50704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188D-E074-4D17-AE59-E9B34505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9A9A-4097-40B0-BADC-54C03CF3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7E6D-A066-48BC-8463-AE5E01102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72EC-E477-4522-9107-54E377B3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9821-A1E0-4902-8218-61E72BA6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501F-FD89-4CAD-8894-E422AD03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0A96-BE6B-4D6D-B4F7-635614D3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96E1-AF16-4EB7-98CF-46420365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6517-497F-4B9D-AFD3-A4A96647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B03E-0B15-43EF-9EDE-D9F87DE0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DAA6-5702-4E33-BAF4-68A75C7D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80C2-A796-46D7-BEF4-F848C605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2DDC-A501-460F-AA90-938464DB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DE03-35B3-4ADC-89C2-FD613520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6466-6086-4C89-BA66-8168EF50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2619-C124-419A-958D-51FAC4BC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61FD-3943-4BC8-BA06-2B002120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BF67-A80E-4F66-8CC0-8E419AAA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6E44-234B-4138-B994-DF14A53D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F944-93A9-4926-BC47-CB81653B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53A5-6C2A-4495-A569-54F6A9FF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E80B-FD9D-4289-B13A-390FFA60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DE21-9A51-45D7-B883-13D0D6DD88AD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680" y="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实用语文（第一册）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35AE-7E3F-4647-9E7C-CC4CE88E66EC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第五单元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Arial"/>
                <a:ea typeface="华文行楷"/>
              </a:rPr>
              <a:t>古诗词一组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1447920"/>
            <a:ext cx="83836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颔联“医得眼前疮，剜却心头肉。”采用什么表达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hlinkClick r:id="rId2" action="ppaction://hlinksldjump"/>
              </a:rPr>
              <a:t>技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表达了什么含义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品鉴诗歌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2743200"/>
            <a:ext cx="8075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比喻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眼前疮比喻眼前急难；心头肉比喻丝谷等农家命根。“卖青”：将尚未产出的农产品预先贱价抵押。卖青是迫于生计，迫于赋敛，这是剜肉补疮，顾得眼前，顾不得将来。这是何等令人惨痛的现实！。“医得眼前疮，剜却心头肉”两句，运用比喻的手法，形象地揭示出高利贷吮血噬骨的残酷剥削本质，成为千古传诵的名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1905120"/>
            <a:ext cx="83836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最后两联是诗人陈情，表达了诗人什么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hlinkClick r:id="rId2" action="ppaction://hlinksldjump"/>
              </a:rPr>
              <a:t>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感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品鉴诗歌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3200400"/>
            <a:ext cx="7239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颈联委婉指出当时君王还不是光明烛，尾联指出其一向只代表富豪的利益而不恤民情。表达了诗人改良现实的愿望，希望君王开明，体恤百姓，同时也表达了对皇帝昏聩、世道不公的不满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  <a:ea typeface="黑体"/>
              </a:rPr>
              <a:t>小结：主旨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咏田家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是聂夷中的代表作，也是晚唐诗歌创作中的艺术佳品。诗中运用形象生动的比喻和鲜明对比的表现手法，愤怒地控诉了形形色色的高利贷给唐末农民所带来的深重苦难，表达了诗人对广大农民的深厚同情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220968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表达技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对比 ： 统治阶级的不劳而获与农民的辛勤劳作却一贫如洗形成对比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比喻 ： “医得眼前疮，剜却心头肉”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选取典型事件，漫画式的笔法（夸张、比拟、象征），寓议论抒情于叙述描写之中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语言特点：质朴、含蓄、讽刺性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23480" y="98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艺术特色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1828800"/>
            <a:ext cx="83707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悯农二首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李绅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春种一粒粟，秋收万颗子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四海无闲田，农夫犹饿死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锄禾日当午，汗滴禾下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谁知盘中餐，粒粒皆辛苦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对比阅读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思考探讨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两首诗都抒发了大致相同的思想感情，侧重点有什么不同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两首诗在选材上有什么特点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98108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两首诗都抒发了大致相同的思想感情，侧重点有什么不同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第一首写的是丰收成灾，让读者体会灾难背后那一双双无形的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------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税收重重，重在批判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二首写的是农民不畏严寒酷暑，四季风霜，终年辛勤劳动的生活，重在同情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思考探讨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思考探讨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两首诗在选材上有什么特点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选取了比较典型的生活细节和人们熟知的事实，集中地刻画了那个畸形社会的矛盾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2514600"/>
            <a:ext cx="843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鲁迅先生指出：“讽刺的生命是真实；不必是曾有的实事，但必须是会有的实情。所以它不是‘捏造’，也不是‘诬蔑’；既不是‘揭发阴私’，又不是专记骇人听闻的所谓‘奇闻’或‘怪现状’”。而是针对“在那时却已经是不合理，可笑，可鄙，甚至可恶”的事情，加以提炼、夸张而形成讽刺。发扬真善美，抨击假恶丑，这是人类进步的必然；关注社会，心系民众，针砭时弊，更是历代进步作家的共同使命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685800"/>
            <a:ext cx="792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文学拓展：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讽喻诗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讽喻诗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是作者对世态、人生等进行真知灼见的探索，或从正面作出评判，或从侧面发出讽刺而撰写的诗篇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首句标其目，卒章显其志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19160" y="15238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伤田家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聂夷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4714920"/>
            <a:ext cx="9144000" cy="2143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拓展阅读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白居易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轻肥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意气骄满路，鞍马光照尘。 借问何为者，人称是内臣。朱绂皆大夫，紫绶或将军。夸赴军中宴，走马去如云。樽罍溢九酝，水陆罗八珍。果擘洞庭橘，脍切天池鳞。食饱心自若，酒酣气益振。是岁江南旱，衢州人食人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  <a:ea typeface="黑体"/>
              </a:rPr>
              <a:t>名家点评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胡震亨论唐诗，认为聂夷中等人“洗剥到极净极省，不觉自成一体”，而“夷中诗尤关教化”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唐音癸签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据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资治通鉴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卷载，宰相冯道向后唐皇帝李嗣源述说农民痛苦之时，就在朝堂上诵读了这首诗。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背诵诗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改写诗歌：发挥想象，结合历史，将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伤田家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写成一个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50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字左右的小故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010640" cy="52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文学常识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新乐府运动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243792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新乐府”在古代文学史上，即“新题乐府”，相对于古乐府而言。指的是一种用新题写时事的乐府诗，不再以入乐与否作标准。新乐府诗始创于杜甫，为元结、顾况等继承，又得到白居易、元稹大力提倡。中唐时期由白居易、元稹倡导的，以创作新题乐府诗为中心的诗歌革新运动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晚唐皮日休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正乐府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篇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聂夷中也多写反映现实的乐府诗，是对新乐府运动传统的直接继承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作者简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6019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聂夷中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837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?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唐代人。出身贫寒，备尝艰辛。咸通十二年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871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中进士。由于时局动乱，他在长安滞留很久，才补得华阴尉。到任时，除琴书外，身无余物。聂夷中的诗作，风格平易而内容深刻，在晚唐靡丽的诗风中独树一帜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唐才子传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谓其“伤俗闵时”、“警省之辞，裨补政治”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010280" y="2362320"/>
            <a:ext cx="180036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作者简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公子行二首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公子家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讽刺贵族公子的骄奢淫逸，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田家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咏田家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谴责封建赋役对劳动人民的惨重剥削，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杂怨二首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表现连年战乱造成人们家庭离散的痛苦，写来都情真意切，感人肺腑。诗人喜欢采用短篇五言古诗和乐府的形式，以质直的语言、白描的手法，寥寥几笔，将触目惊心的社会现象暴露在人们眼前，冷峭有力。像“医得眼前疮，剜却心头肉”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咏田家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这样的诗句，已成为家喻户晓的格言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086600" y="2209680"/>
            <a:ext cx="180036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创作背景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唐代重税亡国的历史教训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公元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755 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年安史之乱暴发，有唐由盛而衰，开始了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50 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余年的破坏和混乱。均田制遭到破坏，藩镇割据，人口锐减，户籍失散，赋税收入锐减，社会经济遭到严重破坏。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066680" y="4714920"/>
            <a:ext cx="6572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838080"/>
            <a:ext cx="83836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伤田家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二月卖新丝，五月粜新谷。                                     医得眼前疮，剜却心头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愿君王心，化作光明烛。                                   不照绮罗筵，只照逃亡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066680" y="4714920"/>
            <a:ext cx="6572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深入感知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诗的前四句为第一层，主要描写残酷的高利贷剥削给广大农民所带来的剜心割肉般的痛楚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诗的后四句为第二层，主要是直抒胸臆，表达诗人对解决正在激化中的社会矛盾的希望和设想，深寄对“君主”的讥刺之意，表达改良现实的愿望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1T11:37:53Z</dcterms:created>
  <dc:creator/>
  <dc:description/>
  <cp:keywords/>
  <dc:language>en-US</dc:language>
  <cp:lastModifiedBy>user</cp:lastModifiedBy>
  <dcterms:modified xsi:type="dcterms:W3CDTF">2017-12-21T09:06:15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5</vt:lpwstr>
  </property>
  <property fmtid="{D5CDD505-2E9C-101B-9397-08002B2CF9AE}" pid="3" name="Version">
    <vt:r8>1</vt:r8>
  </property>
</Properties>
</file>