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F762-D368-4C6A-BEAA-2B8E55E0D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427A-67AD-4638-B7FF-9BE09E97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0743-62A8-4F2B-B0FB-E4A9ACFAD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86B6-7954-4D80-86B0-47EFBBDAE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8A79-F20F-4FE4-A2E0-B9F4D8959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597A-91CC-4BFD-BF15-5A10AF8A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4C40-17BB-409A-809C-C303D77B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6449-1D40-4682-BB35-4F7FF972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C352-D247-4C48-A04A-6B13B813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4780-6D56-4100-9696-99A3FC22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58FD-C18C-4813-863B-3117826F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CC94-26CC-4310-B19C-92C5784C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C178-DED7-41CD-88C5-70CA4FC6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94DC-65D2-41B6-AF3C-F7D31010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B657-EF59-473F-8EAE-ED787115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D088-7D96-42C3-A6A9-DDA63D6B0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06D0-F162-42F0-AAA7-D67A01ADD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CE0BD-C6F4-4707-830B-19859F5C2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C8BEE-5670-4BAB-AA0C-F35126D1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1FEE5-1B67-4817-B010-0057DFBD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649BB-4A2D-4F5F-8CAA-7DE1DE4B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EB379-03FB-434F-9795-AD0A31FA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24F7-C882-4121-BADF-4EF57B94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A735D-C749-4ED9-8811-E8A357D9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87D18-C3C8-49DC-B5F3-8A93F5C1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9269C-3E43-4714-BAB7-A868B0C2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77052-21CA-4D1F-BEF4-2C33C790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495A5-564A-4D9B-ADC8-8E572CFB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B6B39-E295-429D-BDED-1B3BE6B5C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D08D2-1571-4AC0-ABA5-427C0DBE3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3469E-5499-4307-9197-6FB4EC6C8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3163B-1516-4B4B-8F5A-5002273D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8635E-6C51-4769-82E6-5A341165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EBC2-E461-4DC7-A78E-5BBEE89D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C08AA-969A-442F-82D9-4BD10373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DD974-C2E5-4C6C-8255-3EF81404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B89FF-062D-4B27-9F34-E40A8EB2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3FCE2-91E3-46C0-8593-1A7BB712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1918F-71BD-4C76-A7DC-26B0201E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C83D6-07C3-4F53-86F5-DCB4B764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08267-B5DA-4FCD-B0F3-9B028B0E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87FE6-F3A7-4588-9B58-9B1B6C6FB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5871E-2D51-4AAE-9E4C-ADB7E34E6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4025-EF65-462D-9C7D-447D3796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890D-E9F8-457D-AF7E-B1107F98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FA49-599F-4EF7-A122-4655A52A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3847-A59B-4D7B-B713-205146CE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A05C-A54B-47FE-BC38-C6247A80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D24B-99C9-46D8-8EDE-03CCFEC7DD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11280" y="115920"/>
            <a:ext cx="7416720" cy="368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808080"/>
                </a:solidFill>
                <a:latin typeface="Arial"/>
              </a:rPr>
              <a:t>教育部高职高专规划教材     实用语文（第三版）第一册教辅课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图片 3" descr=""/>
          <p:cNvPicPr/>
          <p:nvPr/>
        </p:nvPicPr>
        <p:blipFill>
          <a:blip r:embed="rId4"/>
          <a:stretch/>
        </p:blipFill>
        <p:spPr>
          <a:xfrm>
            <a:off x="0" y="0"/>
            <a:ext cx="71928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9929-A6D5-467E-9EF3-E48E7B4F7B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DF80-0430-4CE6-9CBE-9AEEF7DB454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FEE4-187A-461A-8DD0-CF79127C01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488B-A8DF-4C0C-9F8E-1AD0536739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93840" y="1700280"/>
            <a:ext cx="2135160" cy="44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隶书"/>
              </a:rPr>
              <a:t>第四单元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2347920"/>
            <a:ext cx="41403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文言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夜：名词何等状语，在夜里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饮（于）帐中：省略句，省略介词，应为“于帐中饮”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幸：宠幸，宠爱。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骓：毛色青白相间的马。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兮：句中语气词，相当于“啊”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逝：奔驰。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奈若何：把你怎么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江东，古称长江下游的南岸为“江东”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方：土地方圆。方，方圆。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王：称王。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无以：没东西用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没办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3"/>
          <p:cNvSpPr/>
          <p:nvPr/>
        </p:nvSpPr>
        <p:spPr>
          <a:xfrm>
            <a:off x="6156360" y="26028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疑难字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68000" y="1125360"/>
            <a:ext cx="4537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名词作动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军壁垓下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项王乃复引兵而东。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项王则夜起。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直夜溃围南出。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句式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判断句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此天亡我，非战罪也。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省略句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饮（于）帐中。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倒装句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骑能属者。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今卒困于此。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211640" y="1557360"/>
            <a:ext cx="41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固定用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何：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怎么办？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奈若何？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什么：为什么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做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何渡为？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故，是故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3"/>
          <p:cNvSpPr/>
          <p:nvPr/>
        </p:nvSpPr>
        <p:spPr>
          <a:xfrm>
            <a:off x="6156360" y="26028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点句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11280" y="1268280"/>
            <a:ext cx="853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垓下之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三个场面组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霸王别姬。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慷慨悲歌，英雄末路，多情而又无奈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快战东城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溃围、斩将、刈旗，展露勇猛雄壮之英姿，尽显英雄本色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自刎乌江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宁死不辱，提示知耻重义的内心世界。结束了项羽轰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烈烈而又十分悲惨的一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3"/>
          <p:cNvSpPr/>
          <p:nvPr/>
        </p:nvSpPr>
        <p:spPr>
          <a:xfrm>
            <a:off x="6156360" y="26028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梳理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609480" y="45720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539640" y="1413000"/>
            <a:ext cx="68580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华文楷体"/>
                <a:ea typeface="华文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战争形势如何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项王形影不离的两件宝贝是什么，对他们的感情如何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霸王别姬歌中流露的感情是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项羽是英雄吗？这一段描写是否有损于项羽的英雄形象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2627280" y="105264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第一场：垓下之围</a:t>
            </a: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8246160" y="1125360"/>
            <a:ext cx="667800" cy="2592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琥珀"/>
              </a:rPr>
              <a:t>课文分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虞姬和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汉兵已略地，四方楚歌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大王意气尽，贱妾何聊生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600880" y="1628640"/>
            <a:ext cx="3543120" cy="25146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"/>
          <p:cNvSpPr/>
          <p:nvPr/>
        </p:nvSpPr>
        <p:spPr>
          <a:xfrm>
            <a:off x="324000" y="3933720"/>
            <a:ext cx="6264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史记评林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吴贤齐：“一腔怨愤，万种低徊，地厚天高，托身无所，写英雄失路之悲，至此极矣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609480" y="45720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755640" y="2276640"/>
            <a:ext cx="69120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这一段要表现项羽是哪一方面的品质，是如何表现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评价项羽为什么遭到田父的欺骗呢？从这一段中你能看出项王失败的原因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2411280" y="1125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第二场：东城快战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7401240" y="1197000"/>
            <a:ext cx="1155240" cy="259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琥珀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琥珀"/>
              </a:rPr>
              <a:t>课文分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609480" y="45720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971640" y="1989000"/>
            <a:ext cx="604836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这一段表现了项王的哪些品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从第三段看，项王先是被围之数重突围求生，可后来为什么明明可以逃生却宁愿选择自刎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2484360" y="119700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第三场：乌江自刎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7401240" y="1197000"/>
            <a:ext cx="1155240" cy="259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琥珀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琥珀"/>
              </a:rPr>
              <a:t>课文分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755640" y="4870440"/>
            <a:ext cx="66247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乌江自刎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宁死不辱、知耻重义的一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矩形 29697"/>
          <p:cNvSpPr/>
          <p:nvPr/>
        </p:nvSpPr>
        <p:spPr>
          <a:xfrm>
            <a:off x="1346040" y="3058920"/>
            <a:ext cx="89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矩形 29698"/>
          <p:cNvSpPr/>
          <p:nvPr/>
        </p:nvSpPr>
        <p:spPr>
          <a:xfrm>
            <a:off x="2424240" y="3026520"/>
            <a:ext cx="5124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162000" indent="-160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无颜见江东父老，知耻、重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任意多边形 29699"/>
          <p:cNvSpPr/>
          <p:nvPr/>
        </p:nvSpPr>
        <p:spPr>
          <a:xfrm>
            <a:off x="1346040" y="2986200"/>
            <a:ext cx="6755040" cy="525240"/>
          </a:xfrm>
          <a:custGeom>
            <a:avLst/>
            <a:gdLst/>
            <a:ahLst/>
            <a:rect l="l" t="t" r="r" b="b"/>
            <a:pathLst>
              <a:path w="5367" h="644">
                <a:moveTo>
                  <a:pt x="0" y="0"/>
                </a:moveTo>
                <a:lnTo>
                  <a:pt x="836" y="0"/>
                </a:lnTo>
                <a:lnTo>
                  <a:pt x="835" y="644"/>
                </a:lnTo>
                <a:lnTo>
                  <a:pt x="5367" y="644"/>
                </a:lnTo>
              </a:path>
            </a:pathLst>
          </a:custGeom>
          <a:noFill/>
          <a:ln w="349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矩形 29700"/>
          <p:cNvSpPr/>
          <p:nvPr/>
        </p:nvSpPr>
        <p:spPr>
          <a:xfrm>
            <a:off x="1332000" y="4059000"/>
            <a:ext cx="892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２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矩形 29701"/>
          <p:cNvSpPr/>
          <p:nvPr/>
        </p:nvSpPr>
        <p:spPr>
          <a:xfrm>
            <a:off x="2409840" y="4051440"/>
            <a:ext cx="6340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162000" indent="-160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“</a:t>
            </a:r>
            <a:r>
              <a:rPr b="1" i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宁可站着死，不可跪着生”的操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任意多边形 29702"/>
          <p:cNvSpPr/>
          <p:nvPr/>
        </p:nvSpPr>
        <p:spPr>
          <a:xfrm>
            <a:off x="1332000" y="4010040"/>
            <a:ext cx="6769080" cy="509400"/>
          </a:xfrm>
          <a:custGeom>
            <a:avLst/>
            <a:gdLst/>
            <a:ahLst/>
            <a:rect l="l" t="t" r="r" b="b"/>
            <a:pathLst>
              <a:path w="5367" h="644">
                <a:moveTo>
                  <a:pt x="0" y="0"/>
                </a:moveTo>
                <a:lnTo>
                  <a:pt x="836" y="0"/>
                </a:lnTo>
                <a:lnTo>
                  <a:pt x="835" y="644"/>
                </a:lnTo>
                <a:lnTo>
                  <a:pt x="5367" y="644"/>
                </a:lnTo>
              </a:path>
            </a:pathLst>
          </a:custGeom>
          <a:noFill/>
          <a:ln w="349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矩形 29703"/>
          <p:cNvSpPr/>
          <p:nvPr/>
        </p:nvSpPr>
        <p:spPr>
          <a:xfrm>
            <a:off x="1346040" y="4899600"/>
            <a:ext cx="892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　３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矩形 29704"/>
          <p:cNvSpPr/>
          <p:nvPr/>
        </p:nvSpPr>
        <p:spPr>
          <a:xfrm>
            <a:off x="2268360" y="4985640"/>
            <a:ext cx="617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162000" indent="-160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i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杀身成仁，舍生取义”的道德规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任意多边形 29705"/>
          <p:cNvSpPr/>
          <p:nvPr/>
        </p:nvSpPr>
        <p:spPr>
          <a:xfrm>
            <a:off x="1346040" y="4946760"/>
            <a:ext cx="6755040" cy="509400"/>
          </a:xfrm>
          <a:custGeom>
            <a:avLst/>
            <a:gdLst/>
            <a:ahLst/>
            <a:rect l="l" t="t" r="r" b="b"/>
            <a:pathLst>
              <a:path w="5367" h="644">
                <a:moveTo>
                  <a:pt x="0" y="0"/>
                </a:moveTo>
                <a:lnTo>
                  <a:pt x="836" y="0"/>
                </a:lnTo>
                <a:lnTo>
                  <a:pt x="835" y="644"/>
                </a:lnTo>
                <a:lnTo>
                  <a:pt x="5367" y="644"/>
                </a:lnTo>
              </a:path>
            </a:pathLst>
          </a:custGeom>
          <a:noFill/>
          <a:ln w="349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矩形 29706"/>
          <p:cNvSpPr/>
          <p:nvPr/>
        </p:nvSpPr>
        <p:spPr>
          <a:xfrm>
            <a:off x="1258920" y="2030400"/>
            <a:ext cx="2097000" cy="584280"/>
          </a:xfrm>
          <a:prstGeom prst="rect">
            <a:avLst/>
          </a:prstGeom>
          <a:solidFill>
            <a:srgbClr val="f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拒渡的原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899640" y="1700280"/>
            <a:ext cx="4000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题乌江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胜败兵家事不期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包羞忍辱是男儿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江东弟子多才俊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卷土重来未可知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杜牧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42920" y="1628280"/>
            <a:ext cx="40006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叠题乌江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百姓疲劳壮士衰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中原一败势难回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江东子弟今虽在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肯为君王卷土来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王安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20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716000" y="0"/>
            <a:ext cx="40309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人物形象的塑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0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精心地选择、取舍材料，周密地安排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人物致身于尖锐激烈的矛盾冲突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典型环境中塑造典型人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动的细节描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项羽在司马迁笔下，血肉丰满，宛如重生。在他身上，充满着一种震撼人心的英雄之气，然而却也不乏多情的一面：霸王别姬，对江东你老的愧疚之情等细节无一不显露出了项羽率真、豪放而又多情的性格特征。西楚霸王这一人物形象也就因此变得无比立体、丰富、动人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垓下之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11280" y="2205000"/>
            <a:ext cx="5715000" cy="2467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533520" y="1905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5940360" y="189000"/>
            <a:ext cx="291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艺术特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图片 8" descr="2009430102835556.jpg"/>
          <p:cNvPicPr/>
          <p:nvPr/>
        </p:nvPicPr>
        <p:blipFill>
          <a:blip r:embed="rId2"/>
          <a:stretch/>
        </p:blipFill>
        <p:spPr>
          <a:xfrm>
            <a:off x="6407280" y="5157720"/>
            <a:ext cx="2743200" cy="1706760"/>
          </a:xfrm>
          <a:prstGeom prst="rect">
            <a:avLst/>
          </a:prstGeom>
          <a:ln w="0">
            <a:noFill/>
          </a:ln>
        </p:spPr>
      </p:pic>
      <p:sp>
        <p:nvSpPr>
          <p:cNvPr id="235" name="文本框 21508"/>
          <p:cNvSpPr/>
          <p:nvPr/>
        </p:nvSpPr>
        <p:spPr>
          <a:xfrm>
            <a:off x="900000" y="1844640"/>
            <a:ext cx="68850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选择典型事件，多侧面多角度塑造人物形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本篇在塑造项羽这个人物形象时，运用了各种艺术手法，最主要的是选择最能影响项羽命运发展的关键事件，同时也是最能体现他个性特征的典型事件来展开具体的描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本文主要写了三个事件：悲歌别姬、东城快战、乌江自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533520" y="1905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文本框 22532"/>
          <p:cNvSpPr/>
          <p:nvPr/>
        </p:nvSpPr>
        <p:spPr>
          <a:xfrm>
            <a:off x="1042920" y="2060640"/>
            <a:ext cx="6885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场面描写具有悲壮凄怆的气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文的场面描写具有浓烈的抒情气氛。营中别姬一场“四面皆楚歌”一句已渲染出浓郁的悲凉气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3"/>
          <p:cNvSpPr/>
          <p:nvPr/>
        </p:nvSpPr>
        <p:spPr>
          <a:xfrm>
            <a:off x="5940360" y="189000"/>
            <a:ext cx="291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艺术特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533520" y="1905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文本框 23556"/>
          <p:cNvSpPr/>
          <p:nvPr/>
        </p:nvSpPr>
        <p:spPr>
          <a:xfrm>
            <a:off x="539640" y="1628640"/>
            <a:ext cx="820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巧妙构思，将复杂的事件安排得井然有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本篇记叙的事件虽复杂，但作者安排得井然有序，丝毫没有杂乱之感。在激烈的军事冲突中，作者突然插入情意缠绵的悲歌别姬一段，使情节发展急徐有致，节奏疏密相间。对突围、快战诸场面，描摹得异常精采。各战事皆有高潮迭起，各情节之间连接紧密，过渡自然。全文结构严谨，构思匠心独运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3"/>
          <p:cNvSpPr/>
          <p:nvPr/>
        </p:nvSpPr>
        <p:spPr>
          <a:xfrm>
            <a:off x="5940360" y="189000"/>
            <a:ext cx="291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艺术特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533520" y="1905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文本框 24580"/>
          <p:cNvSpPr/>
          <p:nvPr/>
        </p:nvSpPr>
        <p:spPr>
          <a:xfrm>
            <a:off x="611280" y="1844640"/>
            <a:ext cx="763272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叙事详略得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本文详其所当详，略其所当略，使项羽这个人物形象鲜明突出。因为是为项羽立传，故详写项羽一方，略写汉军一方，详写项羽本人，略写其左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5940360" y="189000"/>
            <a:ext cx="291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艺术特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39640" y="19162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文本框 25604"/>
          <p:cNvSpPr/>
          <p:nvPr/>
        </p:nvSpPr>
        <p:spPr>
          <a:xfrm>
            <a:off x="755640" y="1413000"/>
            <a:ext cx="76327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评价历史人物客观、全面、公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项羽虽然是一位悲剧人物，但司马迁把他当作“近古以来未尝有也”的英雄来写。司马迁不以成败论英雄，就是写项羽最后败亡时，也着力表现出他是一个勇猛无比、宁死不屈、可歌可泣的英雄人物。同时，作者不因项羽有功而掩盖其弱点，而是如实地写出了项羽失败的过程和必然性。文中写项羽宣称“此天之亡我，非战之罪也”，暗示了项羽的悲剧在于他至死不醒悟，没有认识自己所以失败的根本原因。司马迁客观公正地写人叙事，对这个历史人物作了比较全面中肯的评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Box 3"/>
          <p:cNvSpPr/>
          <p:nvPr/>
        </p:nvSpPr>
        <p:spPr>
          <a:xfrm>
            <a:off x="5940360" y="189000"/>
            <a:ext cx="291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艺术特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533520" y="1905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文本框 26627"/>
          <p:cNvSpPr/>
          <p:nvPr/>
        </p:nvSpPr>
        <p:spPr>
          <a:xfrm>
            <a:off x="395280" y="1125360"/>
            <a:ext cx="820908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细节描写生动传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说，《垓下之围》主要是由一系列细节组成的：“四面楚歌”的惊魂氛围，“虞兮虞兮”的千古诀别，“田父绐曰”的生死机缘，“天之亡我，非战之罪”的无尽雄风，“瞋目叱之”、“辟易数里”的超凡威力，“愧见父老”的知耻良心，“赐马亭长”的知恩必报，“赠头故人”的临终义行，“五侯分尸”的惨烈情景。这些激情浓烈、色彩斑斓的细节，不仅多角度地塑雕了一个血肉和灵魂俱皆丰满的失败英雄形象，而且多方面地制造出一个惊天地、泣鬼神的英雄悲剧场景，其艺术光芒是夺人耳目的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5940360" y="189000"/>
            <a:ext cx="291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艺术特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779640" y="259920"/>
            <a:ext cx="484164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洞察历史，忆古思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29840" y="1267920"/>
            <a:ext cx="8713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项羽该不该渡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你认为项羽拒渡的原因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项羽将他的失败归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此天之亡我，非战之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你是如何看待这个问题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你觉得项羽兵败自刎乌江的做法对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当我们遭遇人生的重大挫折与困厄时应秉持怎样的态度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533520" y="1905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928880" y="2571840"/>
            <a:ext cx="72151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取而代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Box 3"/>
          <p:cNvSpPr/>
          <p:nvPr/>
        </p:nvSpPr>
        <p:spPr>
          <a:xfrm>
            <a:off x="6372360" y="260280"/>
            <a:ext cx="255420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琥珀"/>
                <a:ea typeface="华文琥珀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拓展阅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Box 5"/>
          <p:cNvSpPr/>
          <p:nvPr/>
        </p:nvSpPr>
        <p:spPr>
          <a:xfrm>
            <a:off x="2786040" y="3500280"/>
            <a:ext cx="60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注</a:t>
            </a: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秦始皇耀武扬威四处巡游</a:t>
            </a: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项梁看了羡慕</a:t>
            </a: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说</a:t>
            </a: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:"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大丈夫当如是也</a:t>
            </a: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!".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项羽看了藐视</a:t>
            </a: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说</a:t>
            </a: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:"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彼可取而代也</a:t>
            </a: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533520" y="1905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928880" y="2571840"/>
            <a:ext cx="72151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先发制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5"/>
          <p:cNvSpPr/>
          <p:nvPr/>
        </p:nvSpPr>
        <p:spPr>
          <a:xfrm>
            <a:off x="2340000" y="3500280"/>
            <a:ext cx="61437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注</a:t>
            </a: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项羽与叔叔项梁在选择灭秦时机时</a:t>
            </a: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提出“先发制人，后则为人所制”战略</a:t>
            </a: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果断杀死秦将举兵起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陈婴让位</a:t>
            </a: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推向起义军的中心地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4284720" y="256536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隶书"/>
                <a:ea typeface="华文隶书"/>
              </a:rPr>
              <a:t>——</a:t>
            </a:r>
            <a:r>
              <a:rPr b="1" lang="zh-CN" sz="3200" spc="-1" strike="noStrike">
                <a:solidFill>
                  <a:srgbClr val="c00000"/>
                </a:solidFill>
                <a:latin typeface="华文隶书"/>
                <a:ea typeface="华文隶书"/>
              </a:rPr>
              <a:t>霸王出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Box 3"/>
          <p:cNvSpPr/>
          <p:nvPr/>
        </p:nvSpPr>
        <p:spPr>
          <a:xfrm>
            <a:off x="6372360" y="260280"/>
            <a:ext cx="255420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琥珀"/>
                <a:ea typeface="华文琥珀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拓展阅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533520" y="1905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1214280" y="2571840"/>
            <a:ext cx="721548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★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衣锦还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5"/>
          <p:cNvSpPr/>
          <p:nvPr/>
        </p:nvSpPr>
        <p:spPr>
          <a:xfrm>
            <a:off x="2286000" y="3429000"/>
            <a:ext cx="65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注</a:t>
            </a: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灭秦后有人劝项羽都</a:t>
            </a: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建都</a:t>
            </a: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关中，项羽说“富贵不归故乡</a:t>
            </a: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如衣锦夜行</a:t>
            </a: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谁知之者</a:t>
            </a: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!”,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于是衣锦还乡了</a:t>
            </a: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.("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衣锦夜行</a:t>
            </a: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',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成语</a:t>
            </a: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Box 6"/>
          <p:cNvSpPr/>
          <p:nvPr/>
        </p:nvSpPr>
        <p:spPr>
          <a:xfrm>
            <a:off x="3500280" y="2571840"/>
            <a:ext cx="27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隶书"/>
                <a:ea typeface="华文隶书"/>
              </a:rPr>
              <a:t>——</a:t>
            </a:r>
            <a:r>
              <a:rPr b="1" lang="zh-CN" sz="3200" spc="-1" strike="noStrike">
                <a:solidFill>
                  <a:srgbClr val="c00000"/>
                </a:solidFill>
                <a:latin typeface="华文隶书"/>
                <a:ea typeface="华文隶书"/>
              </a:rPr>
              <a:t>目光短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13"/>
          <p:cNvSpPr/>
          <p:nvPr/>
        </p:nvSpPr>
        <p:spPr>
          <a:xfrm>
            <a:off x="2857680" y="4929120"/>
            <a:ext cx="33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帝业？王业？霸业</a:t>
            </a:r>
            <a:r>
              <a:rPr b="0" lang="zh-CN" sz="2400" spc="-1" strike="noStrike">
                <a:solidFill>
                  <a:srgbClr val="000000"/>
                </a:solidFill>
                <a:latin typeface="华文琥珀"/>
                <a:ea typeface="华文琥珀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Box 3"/>
          <p:cNvSpPr/>
          <p:nvPr/>
        </p:nvSpPr>
        <p:spPr>
          <a:xfrm>
            <a:off x="6372360" y="260280"/>
            <a:ext cx="255420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琥珀"/>
                <a:ea typeface="华文琥珀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拓展阅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24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掌握重要词语用法及含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了解司马迁、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史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等文化知识；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体会项羽这一悲剧英雄形象，理解司马迁人物形象刻画的精彩。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533520" y="1905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1214280" y="2571840"/>
            <a:ext cx="721548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付之一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Box 5"/>
          <p:cNvSpPr/>
          <p:nvPr/>
        </p:nvSpPr>
        <p:spPr>
          <a:xfrm>
            <a:off x="2357280" y="3500280"/>
            <a:ext cx="6143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注：楚霸王火烧咸阳宫</a:t>
            </a: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楚人一炬</a:t>
            </a: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可怜焦土。”</a:t>
            </a: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阿房宫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6"/>
          <p:cNvSpPr/>
          <p:nvPr/>
        </p:nvSpPr>
        <p:spPr>
          <a:xfrm>
            <a:off x="3500280" y="2571840"/>
            <a:ext cx="27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隶书"/>
                <a:ea typeface="华文隶书"/>
              </a:rPr>
              <a:t>——</a:t>
            </a:r>
            <a:r>
              <a:rPr b="1" lang="zh-CN" sz="3200" spc="-1" strike="noStrike">
                <a:solidFill>
                  <a:srgbClr val="c00000"/>
                </a:solidFill>
                <a:latin typeface="华文隶书"/>
                <a:ea typeface="华文隶书"/>
              </a:rPr>
              <a:t>失民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3"/>
          <p:cNvSpPr/>
          <p:nvPr/>
        </p:nvSpPr>
        <p:spPr>
          <a:xfrm>
            <a:off x="6372360" y="260280"/>
            <a:ext cx="255420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琥珀"/>
                <a:ea typeface="华文琥珀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拓展阅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533520" y="1905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214280" y="2571840"/>
            <a:ext cx="721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★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沐猴而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5"/>
          <p:cNvSpPr/>
          <p:nvPr/>
        </p:nvSpPr>
        <p:spPr>
          <a:xfrm>
            <a:off x="2286000" y="3429000"/>
            <a:ext cx="507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注</a:t>
            </a: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韩生建议项羽都</a:t>
            </a: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建都</a:t>
            </a: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关中</a:t>
            </a: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未被采纳</a:t>
            </a: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这个书呆子认为项羽目光太短浅</a:t>
            </a: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说了一句人言楚人‘沐猴而冠’</a:t>
            </a: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果然</a:t>
            </a: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."  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项羽听了无法忍受</a:t>
            </a: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架起油锅把韩生烹了</a:t>
            </a: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Box 6"/>
          <p:cNvSpPr/>
          <p:nvPr/>
        </p:nvSpPr>
        <p:spPr>
          <a:xfrm>
            <a:off x="3500280" y="2571840"/>
            <a:ext cx="27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隶书"/>
                <a:ea typeface="华文隶书"/>
              </a:rPr>
              <a:t>——</a:t>
            </a:r>
            <a:r>
              <a:rPr b="1" lang="zh-CN" sz="3200" spc="-1" strike="noStrike">
                <a:solidFill>
                  <a:srgbClr val="c00000"/>
                </a:solidFill>
                <a:latin typeface="华文隶书"/>
                <a:ea typeface="华文隶书"/>
              </a:rPr>
              <a:t>自毁长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Box 3"/>
          <p:cNvSpPr/>
          <p:nvPr/>
        </p:nvSpPr>
        <p:spPr>
          <a:xfrm>
            <a:off x="6372360" y="260280"/>
            <a:ext cx="255420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琥珀"/>
                <a:ea typeface="华文琥珀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拓展阅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533520" y="1905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857160" y="2214720"/>
            <a:ext cx="721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★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十面埋伏 、四面楚歌 、霸王别姬 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无颜见江东父老、东山再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5"/>
          <p:cNvSpPr/>
          <p:nvPr/>
        </p:nvSpPr>
        <p:spPr>
          <a:xfrm>
            <a:off x="2286000" y="357192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注：皆出自</a:t>
            </a: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垓下之围</a:t>
            </a: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6"/>
          <p:cNvSpPr/>
          <p:nvPr/>
        </p:nvSpPr>
        <p:spPr>
          <a:xfrm>
            <a:off x="6000840" y="271476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隶书"/>
                <a:ea typeface="华文隶书"/>
              </a:rPr>
              <a:t>——</a:t>
            </a:r>
            <a:r>
              <a:rPr b="1" lang="zh-CN" sz="3200" spc="-1" strike="noStrike">
                <a:solidFill>
                  <a:srgbClr val="c00000"/>
                </a:solidFill>
                <a:latin typeface="华文隶书"/>
                <a:ea typeface="华文隶书"/>
              </a:rPr>
              <a:t>英雄末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3"/>
          <p:cNvSpPr/>
          <p:nvPr/>
        </p:nvSpPr>
        <p:spPr>
          <a:xfrm>
            <a:off x="6372360" y="260280"/>
            <a:ext cx="255420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琥珀"/>
                <a:ea typeface="华文琥珀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拓展阅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4"/>
          <p:cNvSpPr/>
          <p:nvPr/>
        </p:nvSpPr>
        <p:spPr>
          <a:xfrm>
            <a:off x="1476360" y="1700280"/>
            <a:ext cx="705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收集并分享与项羽有关的诗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体会司马迁写作的深意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3"/>
          <p:cNvSpPr/>
          <p:nvPr/>
        </p:nvSpPr>
        <p:spPr>
          <a:xfrm>
            <a:off x="6372360" y="260280"/>
            <a:ext cx="255420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琥珀"/>
                <a:ea typeface="华文琥珀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作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533520" y="1905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928880" y="2571840"/>
            <a:ext cx="72151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破釜沉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Box 5"/>
          <p:cNvSpPr/>
          <p:nvPr/>
        </p:nvSpPr>
        <p:spPr>
          <a:xfrm>
            <a:off x="2143080" y="3357720"/>
            <a:ext cx="61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注</a:t>
            </a: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与秦兵作战</a:t>
            </a: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,“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悉引兵渡河，皆沉舟，破釜甑，烧庐舍，持三日粮，以示士卒必死，无一还心</a:t>
            </a: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于是以破秦军”</a:t>
            </a: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巨鹿之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6"/>
          <p:cNvSpPr/>
          <p:nvPr/>
        </p:nvSpPr>
        <p:spPr>
          <a:xfrm>
            <a:off x="4286160" y="257184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隶书"/>
                <a:ea typeface="华文隶书"/>
              </a:rPr>
              <a:t>——</a:t>
            </a:r>
            <a:r>
              <a:rPr b="1" lang="zh-CN" sz="3200" spc="-1" strike="noStrike">
                <a:solidFill>
                  <a:srgbClr val="c00000"/>
                </a:solidFill>
                <a:latin typeface="华文隶书"/>
                <a:ea typeface="华文隶书"/>
              </a:rPr>
              <a:t>霸王扬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图片 11" descr="2011627340703.jpg"/>
          <p:cNvPicPr/>
          <p:nvPr/>
        </p:nvPicPr>
        <p:blipFill>
          <a:blip r:embed="rId2"/>
          <a:stretch/>
        </p:blipFill>
        <p:spPr>
          <a:xfrm>
            <a:off x="179280" y="1052640"/>
            <a:ext cx="8425080" cy="4738680"/>
          </a:xfrm>
          <a:prstGeom prst="rect">
            <a:avLst/>
          </a:prstGeom>
          <a:ln w="0">
            <a:noFill/>
          </a:ln>
        </p:spPr>
      </p:pic>
      <p:sp>
        <p:nvSpPr>
          <p:cNvPr id="292" name="TextBox 12"/>
          <p:cNvSpPr/>
          <p:nvPr/>
        </p:nvSpPr>
        <p:spPr>
          <a:xfrm>
            <a:off x="885240" y="1484280"/>
            <a:ext cx="6733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ts val="6999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志者，事竞成，破釜沉舟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6999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百二秦关终属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6999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苦心人，天不负，卧薪偿胆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6999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三千越甲可吞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998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3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3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3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8000"/>
                            </p:stCondLst>
                            <p:childTnLst>
                              <p:par>
                                <p:cTn id="2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3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3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30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5"/>
          <p:cNvSpPr/>
          <p:nvPr/>
        </p:nvSpPr>
        <p:spPr>
          <a:xfrm>
            <a:off x="6659640" y="189000"/>
            <a:ext cx="121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导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877080" y="1628640"/>
            <a:ext cx="1671480" cy="31687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755640" y="1700280"/>
            <a:ext cx="6105600" cy="3085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8193" descr="1"/>
          <p:cNvPicPr/>
          <p:nvPr/>
        </p:nvPicPr>
        <p:blipFill>
          <a:blip r:embed="rId2"/>
          <a:stretch/>
        </p:blipFill>
        <p:spPr>
          <a:xfrm>
            <a:off x="7307280" y="1125360"/>
            <a:ext cx="1836720" cy="17956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"/>
          <p:cNvSpPr/>
          <p:nvPr/>
        </p:nvSpPr>
        <p:spPr>
          <a:xfrm>
            <a:off x="6408720" y="18900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黑体"/>
              </a:rPr>
              <a:t>关于作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0" y="1125360"/>
            <a:ext cx="7572240" cy="90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司马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约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6?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字子长，西汉著名的史学家、文学家、思想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父司马谈，汉武帝时作太史令。司马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岁时，就在父亲的指导下诵读古文，曾向儒学大师董仲舒、孔安国学习。青年时代曾两次漫游祖国，走遍大江南北、黄河上下，足迹几遍全国。他饱览名山大川，收集传说史迹，考察风土人情，接触下层人民，积累了珍贵的史料。父死后，承袭父职任太史令，开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史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写作。五年后，因替李陵辩护，被捕入狱，遭受宫刑。三年后被赦，担任中书令，他含垢忍辱，发愤著书，经十几年艰苦努力，终于完成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史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部不朽的著作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1204920" y="-3073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88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253440" y="350028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999999"/>
                </a:solidFill>
                <a:latin typeface="Times New Roman"/>
              </a:rPr>
              <a:t>究天人之际，通古今之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483480" y="37362240"/>
            <a:ext cx="406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999999"/>
                </a:solidFill>
                <a:latin typeface="Times New Roman"/>
              </a:rPr>
              <a:t>变，成一家之言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28560" y="2602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"/>
              </a:rPr>
              <a:t>究天人之际，通古今之变，成一家之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5"/>
          <p:cNvSpPr/>
          <p:nvPr/>
        </p:nvSpPr>
        <p:spPr>
          <a:xfrm>
            <a:off x="2879640" y="1069920"/>
            <a:ext cx="626436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史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我国第一部纪传体通史。记述了从上古传说中的黄帝到汉武帝太初年间约三千年的历史。 它主要以人物传记的体例再现了广阔的历史生活画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史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篇，五十二万六千五百字，其体例成为正史写作的通用体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本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篇，记叙帝王的言行政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世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篇，记叙诸侯和特殊人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篇，统系年代、世系、人物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篇，记载典章制度的原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列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篇，记重要人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5219640" y="26028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黑体"/>
              </a:rPr>
              <a:t>关于</a:t>
            </a:r>
            <a:r>
              <a:rPr b="0" lang="en-US" sz="3600" spc="-1" strike="noStrike">
                <a:solidFill>
                  <a:srgbClr val="000000"/>
                </a:solidFill>
                <a:latin typeface="华文隶书"/>
                <a:ea typeface="黑体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黑体"/>
              </a:rPr>
              <a:t>史记</a:t>
            </a:r>
            <a:r>
              <a:rPr b="0" lang="en-US" sz="3600" spc="-1" strike="noStrike">
                <a:solidFill>
                  <a:srgbClr val="000000"/>
                </a:solidFill>
                <a:latin typeface="华文隶书"/>
                <a:ea typeface="黑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2772000" cy="2290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50800" y="4000320"/>
            <a:ext cx="20703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史家之绝唱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无韵之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离骚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》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    ——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鲁迅先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5"/>
          <p:cNvSpPr/>
          <p:nvPr/>
        </p:nvSpPr>
        <p:spPr>
          <a:xfrm>
            <a:off x="4140360" y="18900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项羽本纪</a:t>
            </a:r>
            <a:r>
              <a:rPr b="0" lang="en-US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主要内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文本框 12291"/>
          <p:cNvSpPr/>
          <p:nvPr/>
        </p:nvSpPr>
        <p:spPr>
          <a:xfrm>
            <a:off x="468360" y="1197000"/>
            <a:ext cx="8351640" cy="25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司马迁《史记》中的《项羽本纪》，是《史记》人物传记中写得最富文学色彩的篇章之一。全文依次描述了起义反秦、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巨鹿之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坑杀秦卒、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鸿门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杀义帝、封诸侯、楚汉纷争、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垓下之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乌江自刎等一系列重要场景，记录了项羽一生的主要业绩，情节生动，形象鲜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文所节选的，是《项羽本纪》的最后几个章节，主要记叙了项羽最后失败，乌江自刎的一些史事片段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5"/>
          <p:cNvSpPr/>
          <p:nvPr/>
        </p:nvSpPr>
        <p:spPr>
          <a:xfrm>
            <a:off x="5003640" y="260280"/>
            <a:ext cx="37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西楚霸王——项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文本框 13315"/>
          <p:cNvSpPr/>
          <p:nvPr/>
        </p:nvSpPr>
        <p:spPr>
          <a:xfrm>
            <a:off x="2771640" y="1197000"/>
            <a:ext cx="6050160" cy="24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项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2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秦末农民起义军领袖。名籍，字羽，下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今江苏宿迁西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。出身楚国贵族。秦二世元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9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从叔父项梁在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今江苏苏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起义。项梁战死后，秦将章邯围赵，项羽率兵破釜沉舟渡漳水救赵，在巨鹿之战中摧毁秦军主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秦亡后，自立为西楚霸王，并大封诸侯王。在楚汉战争中，被刘邦击败。最后从垓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今安徽灵璧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突围到乌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今安徽和县东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自杀。  </a:t>
            </a:r>
            <a:br>
              <a:rPr sz="24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2428920" cy="3085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826920" y="1197000"/>
            <a:ext cx="7596360" cy="44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矩形 3"/>
          <p:cNvSpPr/>
          <p:nvPr/>
        </p:nvSpPr>
        <p:spPr>
          <a:xfrm>
            <a:off x="6156360" y="26028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问题探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矩形 5"/>
          <p:cNvSpPr/>
          <p:nvPr/>
        </p:nvSpPr>
        <p:spPr>
          <a:xfrm>
            <a:off x="3348000" y="1197000"/>
            <a:ext cx="547200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项羽与刘邦争霸失败，为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史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把项羽列为本纪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从太史公曰可看出司马迁对项羽秉承怎样的感情？结合司马迁个人经历思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图片 9" descr="01300000244525125860430097456.jpg"/>
          <p:cNvPicPr/>
          <p:nvPr/>
        </p:nvPicPr>
        <p:blipFill>
          <a:blip r:embed="rId2"/>
          <a:stretch/>
        </p:blipFill>
        <p:spPr>
          <a:xfrm>
            <a:off x="684360" y="1844640"/>
            <a:ext cx="2219040" cy="3322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7750"/>
                            </p:stCondLst>
                            <p:childTnLst>
                              <p:par>
                                <p:cTn id="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10:32:39Z</dcterms:created>
  <dc:creator>chenjh</dc:creator>
  <dc:description/>
  <cp:keywords/>
  <dc:language>en-US</dc:language>
  <cp:lastModifiedBy>user</cp:lastModifiedBy>
  <dcterms:modified xsi:type="dcterms:W3CDTF">2017-10-14T13:59:05Z</dcterms:modified>
  <cp:revision>297</cp:revision>
  <dc:subject/>
  <dc:title>屈原的人格魅力与中国的端午情结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5</vt:lpwstr>
  </property>
</Properties>
</file>