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1D9-4912-43D7-8542-856F25DF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D37-2CA3-40B1-AADF-4020897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09C-9922-49A8-80E4-88DE1D28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BE2-E0D5-459A-BB53-E4CE1EA4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29D-B79B-4B60-926B-7CA3015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250-2E8F-47E0-929B-EC0D85ED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9BF-202D-43BA-B9D4-7A0F662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177-FD28-4C94-A57A-D486E72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540-CF37-477D-9EF9-44109903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552-84A3-46BB-A479-6452689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6D9-5281-4F3E-B49F-F0298CE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B98-7982-49B1-9639-C6D8B4A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7C2-6D27-484F-8792-F204B9F72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27280" y="2133720"/>
            <a:ext cx="37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第三单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怎样看待“快”和“慢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巴黎有一家旅馆，住客乘电梯上下，抱怨速度太慢，老板发愁，想重新设计、安装，这要花一笔大钱。一位心理学家给他出了一个主意：在电梯室里装上几面镜子。老板依法行事果然奏效。原来，住客走进电梯室都要整装、梳理一番，这样不但不嫌速度慢，反而觉得电梯太快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12.png"/>
          <p:cNvPicPr/>
          <p:nvPr/>
        </p:nvPicPr>
        <p:blipFill>
          <a:blip r:embed="rId2"/>
          <a:srcRect l="9375" t="16744" r="8594" b="19508"/>
          <a:stretch/>
        </p:blipFill>
        <p:spPr>
          <a:xfrm>
            <a:off x="826920" y="1268280"/>
            <a:ext cx="7500960" cy="4372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8.png"/>
          <p:cNvPicPr/>
          <p:nvPr/>
        </p:nvPicPr>
        <p:blipFill>
          <a:blip r:embed="rId3"/>
          <a:srcRect l="12148" t="13951" r="11852" b="81708"/>
          <a:stretch/>
        </p:blipFill>
        <p:spPr>
          <a:xfrm>
            <a:off x="1033560" y="1028880"/>
            <a:ext cx="6949800" cy="296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9.png"/>
          <p:cNvPicPr/>
          <p:nvPr/>
        </p:nvPicPr>
        <p:blipFill>
          <a:blip r:embed="rId4"/>
          <a:srcRect l="12634" t="78630" r="12224" b="17257"/>
          <a:stretch/>
        </p:blipFill>
        <p:spPr>
          <a:xfrm>
            <a:off x="1089000" y="5400720"/>
            <a:ext cx="6872400" cy="2826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10.png"/>
          <p:cNvPicPr/>
          <p:nvPr/>
        </p:nvPicPr>
        <p:blipFill>
          <a:blip r:embed="rId5"/>
          <a:srcRect l="87127" t="0" r="7812" b="0"/>
          <a:stretch/>
        </p:blipFill>
        <p:spPr>
          <a:xfrm>
            <a:off x="711360" y="0"/>
            <a:ext cx="4633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10.png"/>
          <p:cNvPicPr/>
          <p:nvPr/>
        </p:nvPicPr>
        <p:blipFill>
          <a:blip r:embed="rId6"/>
          <a:srcRect l="86860" t="0" r="7812" b="0"/>
          <a:stretch/>
        </p:blipFill>
        <p:spPr>
          <a:xfrm>
            <a:off x="4371840" y="27000"/>
            <a:ext cx="48744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10.png"/>
          <p:cNvPicPr/>
          <p:nvPr/>
        </p:nvPicPr>
        <p:blipFill>
          <a:blip r:embed="rId7"/>
          <a:srcRect l="86860" t="0" r="7812" b="0"/>
          <a:stretch/>
        </p:blipFill>
        <p:spPr>
          <a:xfrm>
            <a:off x="7848720" y="0"/>
            <a:ext cx="4870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模板\元旦\2\3.png"/>
          <p:cNvPicPr/>
          <p:nvPr/>
        </p:nvPicPr>
        <p:blipFill>
          <a:blip r:embed="rId8"/>
          <a:srcRect l="22886" t="21033" r="60710" b="43719"/>
          <a:stretch/>
        </p:blipFill>
        <p:spPr>
          <a:xfrm>
            <a:off x="5724360" y="-316080"/>
            <a:ext cx="1857600" cy="2992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3"/>
          <p:cNvSpPr/>
          <p:nvPr/>
        </p:nvSpPr>
        <p:spPr>
          <a:xfrm>
            <a:off x="1187280" y="18032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开谈不说红楼梦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纵读诗书也枉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6326E-006 L -0.40156 -3.86326E-006 E">
                                      <p:cBhvr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5E-006 2.06782E-006 L -0.78386 2.06782E-006 E">
                                      <p:cBhvr>
                                        <p:cTn id="58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66 -0.20543 C 0.22656 -0.20182 0.18645 -0.19822 0.14756 -0.1863 C 0.10868 -0.17438 0.05798 -0.16412 0.03333 -0.13307 C 0.00868 -0.10202 0.00434 -0.05101 2.22222E-006 6.96978E-006 E">
                                      <p:cBhvr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22222E-006 2.05434E-006 C -0.03698 -0.07014 -0.07379 -0.14001 -0.04046 -0.24342 C -0.00712 -0.34655 0.09635 -0.4835 0.2 -0.61991 E">
                                      <p:cBhvr>
                                        <p:cTn id="7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with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345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先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红楼梦》是中国许多人所知道，至少，是知道这名目的书。……就因读者的眼光而有种种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经学家看见《易》，道学家看见淫，才子看见缠绵，革命家看见排满，流言家看见宫闱秘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31464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37720" y="3581280"/>
            <a:ext cx="1155240" cy="1295640"/>
            <a:chOff x="5337720" y="3581280"/>
            <a:chExt cx="1155240" cy="1295640"/>
          </a:xfrm>
        </p:grpSpPr>
        <p:sp>
          <p:nvSpPr>
            <p:cNvPr id="78" name=""/>
            <p:cNvSpPr/>
            <p:nvPr/>
          </p:nvSpPr>
          <p:spPr>
            <a:xfrm>
              <a:off x="5337720" y="3581280"/>
              <a:ext cx="11552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曹雪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6400" y="3581280"/>
              <a:ext cx="549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5276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09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86600" y="1371600"/>
            <a:ext cx="10476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979640" y="1700280"/>
            <a:ext cx="3143160" cy="328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84360" y="0"/>
            <a:ext cx="798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说说你看过的《红楼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侬家家住两湖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二陈帘夕阳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日忽从江上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始知家在画图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郭六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97000"/>
            <a:ext cx="3959280" cy="20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忽从江上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换个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也“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换个角度看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刻舟”可否“求剑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七步成诗”对于曹丕来说意味着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男足冲出亚洲的成与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换个角度》的论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03640" y="1628640"/>
            <a:ext cx="5122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本畅销书记叙的玩具推销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庐山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评《红楼梦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沙女子郭六芳七律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4200" y="2852640"/>
            <a:ext cx="8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引用论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844640"/>
            <a:ext cx="503280" cy="266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99cc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换个角度》的论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43280" y="1700280"/>
            <a:ext cx="5843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毁林开荒，拦海造田的失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防治害虫，治虫是可以不用农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膑、庞涓之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丝路花雨》的反弹琵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黎老板的电梯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02040" y="299088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例证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916280"/>
            <a:ext cx="647640" cy="3095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80640 h 3095280"/>
              <a:gd name="textAreaBottom" fmla="*/ 3014640 h 30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99cc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小结：杂文的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0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材广泛，不拘一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议结合，挥洒自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笔调诙谐，以小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192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图片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360" y="691920"/>
            <a:ext cx="12970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楷体"/>
              </a:rPr>
              <a:t>换个角度看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19280" y="3500280"/>
            <a:ext cx="576360" cy="17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充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920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阅读王充闾的散文，体会杂文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"/>
              </a:rPr>
              <a:t>《用破一生心》《人生几度秋凉》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"/>
              </a:rPr>
              <a:t>《千载心香域外烧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阅读《”弄斧”必到“班门”》，谈谈本文使用了哪些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杂文的写作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现和探讨“换个角度看问题”对文学创作、人生态度的重要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18920" y="1628280"/>
            <a:ext cx="1800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远近高低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3178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122800" cy="42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充闾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出生于辽宁盘锦。现为中国作协主席团委员、辽宁省作协主席，南开大学、辽宁大学中文系兼职教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柳荫絮语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8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《人才诗话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《春宽梦窄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均由春风文艺出版社出版、《清风白水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作家出版社出版；《沧浪之水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香港三联书店有限公司出版；《面对历史的苍茫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辽宁教育出版社出版；学术著作《诗性智慧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辽宁人民出版社出版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99dcf003c3fe402728b6596"/>
          <p:cNvPicPr/>
          <p:nvPr/>
        </p:nvPicPr>
        <p:blipFill>
          <a:blip r:embed="rId2"/>
          <a:stretch/>
        </p:blipFill>
        <p:spPr>
          <a:xfrm>
            <a:off x="5580000" y="191628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柳荫絮语》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辽宁省文学创作“丰收奖”一等奖；《春宽梦窄》散文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获东北三省作协联合举办的“东北文学奖”一等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获全国“鲁迅文学奖”优秀散文作品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99dcf003c3fe402728b6596"/>
          <p:cNvPicPr/>
          <p:nvPr/>
        </p:nvPicPr>
        <p:blipFill>
          <a:blip r:embed="rId2"/>
          <a:stretch/>
        </p:blipFill>
        <p:spPr>
          <a:xfrm>
            <a:off x="5580000" y="1916280"/>
            <a:ext cx="287964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00000" y="620640"/>
            <a:ext cx="317844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文化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08524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宫闱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皇帝和夫人嫔妃之间的事情。“宫”是皇宫，“闱”是皇宫里的小侧门，一般皇后走正门，夫人、嫔妃才走侧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孙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战国时期军事家。与庞涓同学兵法，后庞涓为魏惠王将军，诳他到魏，处以膑刑（挖去膝盖骨），故称孙膑。逃往齐国为军师，马陵之战，身居辎车，计杀庞涓，大败魏军。著有《孙膑兵法》，已失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虞诩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升卿，东汉名将，东汉元初二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西羌攻武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治所在今甘肃成县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虞诩率三千兵马往武都救援，羌军数万在大散关凭险设防。虞诩则命令将士们每人挖两个灶坑。以后每人每天再增挖两个。羌人见灶坑天天增加，以为汉军有了援军，便不敢逼近他们。虞诩趁机日夜兼行，日夜兼行百余里，顺利到达武都增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初读课文，梳理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04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玩具店案例引出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—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个案例分析论证，巩固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，再次强化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060640"/>
            <a:ext cx="2881440" cy="863640"/>
          </a:xfrm>
          <a:prstGeom prst="wedgeRectCallout">
            <a:avLst>
              <a:gd name="adj1" fmla="val -43773"/>
              <a:gd name="adj2" fmla="val 140074"/>
            </a:avLst>
          </a:prstGeom>
          <a:solidFill>
            <a:srgbClr val="0099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本文的论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论点的提出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找出每段的中心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文章的开头和结尾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01:05:12Z</dcterms:created>
  <dc:creator>user</dc:creator>
  <dc:description/>
  <dc:language>en-US</dc:language>
  <cp:lastModifiedBy>user</cp:lastModifiedBy>
  <dcterms:modified xsi:type="dcterms:W3CDTF">2017-10-05T02:11:50Z</dcterms:modified>
  <cp:revision>4</cp:revision>
  <dc:subject/>
  <dc:title>幻灯片 1</dc:title>
</cp:coreProperties>
</file>