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2BF-D18A-4F9C-BA0E-449FB621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491-3BD4-4545-AEB6-39948C9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B4B-8BA3-4ACD-9258-C03831E7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508-F622-4601-B1AF-58DBD319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954-07FD-4052-81A8-3F25C0A2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5CC-3FC0-44FC-8E6F-D4527E2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AC8-10B5-4325-B43E-2079B043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1AE-67CE-468E-ADB4-0E00EAE6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470-8805-44F1-9A8E-AF648AC7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822-317D-4A3E-A4F5-AE8C5C7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97B-0FBF-4EE4-A09D-D318942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3F2-64CF-4804-8D93-7B1261B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5FCB-EAD1-4168-89C5-F1A5B9397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0640" y="1440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实用写作（第一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43640" y="333360"/>
            <a:ext cx="205884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7729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态平衡    环境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妒                        咀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幽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逶迤                        天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                        稚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梳理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门见山，赞美德国城市的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城市的绿化、漂亮的房子和有序的交通三个层面展示“缓解”对环境的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主题，揭示“缓解”的重要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入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读第一段，为什么作者说“嫉妒”德国的环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443700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55640" y="3284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60680" y="4869000"/>
            <a:ext cx="1538640" cy="947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莱茵——“河流宽阔、草坪、樱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堂肃穆、有色无声，像个偏僻的小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443700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55640" y="3284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43880" y="2924280"/>
            <a:ext cx="435816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——“拥挤的自行车、汽车和人的洪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中国   杭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998640"/>
            <a:ext cx="9144000" cy="5467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中国   北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德国  莱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德国  莱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入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什么是“缓解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释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使丧失锋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疾病、痛苦等的减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入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缓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如何造就德国环境的美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城市的绿化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绿地、森林、可爱的小鹿；车子穿过楼房。城在林中，林在城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漂亮的房子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屋顶的形式美丽多样、把盖屋当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有序的交通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街道宽阔而人少、火车为牛让路、人车严守交通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2349360"/>
            <a:ext cx="3456000" cy="863640"/>
          </a:xfrm>
          <a:prstGeom prst="wedgeRoundRectCallout">
            <a:avLst>
              <a:gd name="adj1" fmla="val -43754"/>
              <a:gd name="adj2" fmla="val 19007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多房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入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怎样理解“缓解”环境的渠道和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倡营建“绿色屋顶”和“绿色阳台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少城市的噪声和光污染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轻热岛效应和美化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轻光化学烟雾的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降低空气中可吸入颗粒物的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被缓解稀释和冲淡了的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梁  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找出本文使用的多种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延伸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生活” 生活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由“慢食运动”发展出来的一系列慢生活方式，以提醒生活在高速发展时代的人们，慢下来关注心灵、环境以及传统，在工作和生活中适当地放慢速度。慢生活不是拖延时间，而是让人们在生活中找到平衡，张弛有度、劳逸结合，提高生活质量，提升幸福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190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2276280"/>
            <a:ext cx="7715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新加坡人的“规矩”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大无大有周恩来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提倡写大事大情大理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并了解你身边城市、乡村的五年变化，写出你的感受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文意，梳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掌握几种生动形象的描写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“缓释”的含义，探讨城市建设与自然环境保护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58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：我们的城市，美不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0958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58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：我们的城市，美不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381120" cy="308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00360" y="2924280"/>
            <a:ext cx="5629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480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581560" cy="273672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 1"/>
          <p:cNvSpPr/>
          <p:nvPr/>
        </p:nvSpPr>
        <p:spPr>
          <a:xfrm>
            <a:off x="609480" y="609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bbe0e3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95480" y="78264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衡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46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山西霍县人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毕业于中国人民大学。主要从事散文创作、散文理论研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品曾获青年文学奖、赵树理文学奖、全国优秀科普作品奖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在《佛山文艺》发表的散文《忽又重听“走西口”》获《美文》、《文学自由谈》、《佛山文艺》三家联合举办的“心系中华”散文征文优秀奖。有散文三篇《晋词》、《觅渡，觅渡，渡何处》和《夏感》入选中学教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著作有《新闻三部曲》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卷）、《数理化通俗演义》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卷），散文集《名山大川》、《人杰鬼雄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16000" y="1341000"/>
            <a:ext cx="5770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梁衡真正的职业是一名记者。他历任《内蒙古日报》记者、《光明日报》记者、国家新闻出版署副署长、中国记协常务理事、《人民日报》副总编辑。所以他的文章带着记者职业的严谨文风和条理清晰的脉络。他擅长写政治人物和以政治思维来布局谋篇，被当代国学泰斗季羡林称为“政治散文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581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0560" y="1196640"/>
            <a:ext cx="67071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梁衡的散文集划分为人生篇和政治篇两部分。人生篇多是他的一些生活感悟和到世界各地游历参观的游记和感想，每一篇都充满着文化智慧和个人精深的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选自《人格在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梁衡散文精选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0383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5:52:08Z</dcterms:created>
  <dc:creator>user</dc:creator>
  <dc:description/>
  <dc:language>en-US</dc:language>
  <cp:lastModifiedBy>user</cp:lastModifiedBy>
  <dcterms:modified xsi:type="dcterms:W3CDTF">2017-11-28T01:51:38Z</dcterms:modified>
  <cp:revision>15</cp:revision>
  <dc:subject/>
  <dc:title>幻灯片 1</dc:title>
</cp:coreProperties>
</file>