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A3C-F11E-4594-B7B4-CE31141D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74B-06BC-4344-A5C6-2E92A7F2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8C61-EA63-42BC-9BFC-DB00AE13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9CC-5DC2-42F0-A894-212EF252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2BA-A910-4CD6-A902-D8FEF98C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869-8026-41DC-B520-2CB52521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F0F-1D0D-4E0D-BF8C-342B51D7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4FF2-E413-4705-BC69-9C42AA71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8CB-DC25-4F89-9F38-7DC85249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6B5-DBC9-4DF6-ABAC-301B9A95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1A4-F968-4008-B58A-DB62A24D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B1F-02CA-4AC8-BBF5-F072E638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2F08-7441-4807-BA77-27DC0C7537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45560" y="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实用语文（第一册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763640" y="5950080"/>
            <a:ext cx="6193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五单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古诗词一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译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可忍耐那喜鹊来叽叽喳喳的叫，都说你是最灵的，总是报告喜讯，可是你给我送来了什么啊？他一点消息都没有！再这样调戏我的感情，看我不把你捉了来，把你锁在笼子里，你还能说什么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来是好心来早早给她报个喜讯的，想给她的寂寞一点安慰。可是她却把好心当作了驴肝肺！竟然把俺捉了锁进笼子。唉！她的心情俺还是理解的，不跟她计较了，但愿她的那个人早日归来，哈哈，那个时候就知道俺是好心了，就会欢天喜地的把俺放出来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0456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547640" y="692280"/>
            <a:ext cx="53895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文化常识：喜上眉（梅）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5219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喜上眉梢是中国传统吉祥纹样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人以喜鹊作为喜的象征。《开元天宝遗事》：“时人之家，闻鹊声皆以为喜兆，故谓喜鹊报喜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禽经》：“灵鹊兆喜”。可见早在唐宋时代即有此风俗。当时的铜镜、织锦、书画等，已有很多喜鹊的题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92436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品鉴诗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鹊踏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叵耐灵鹊多谩语，送喜何曾有凭据？几度飞来活捉取，锁上金笼休共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436572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片在于表明少妇的“锁”，从少妇的角度出发，用独白的方式带出心情的烦恼，引人兴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品鉴诗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640" y="2708280"/>
            <a:ext cx="5905440" cy="30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“何曾有凭据？”，无法为思念丈夫的闺中少妇带来确定的消息，引起少妇的恼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24160" y="1649520"/>
            <a:ext cx="327132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喜鹊送来“喜”反而被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948360" y="2852640"/>
            <a:ext cx="1614600" cy="2293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03280" y="5445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鹊踏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拟好心来送喜，谁知锁我在金笼里。欲他征夫早归来，腾身却放我向青云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41680" y="4507920"/>
            <a:ext cx="35460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下片写灵鹊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品鉴诗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640" y="2708280"/>
            <a:ext cx="5905440" cy="30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希望“欲他征夫早归来，”，巧妙地借喜鹊之口表现闺中少妇思念丈夫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48720" y="1628640"/>
            <a:ext cx="338112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要通过喜鹊的口吻来说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948360" y="2852640"/>
            <a:ext cx="1614600" cy="2293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3280" y="5445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5300640"/>
            <a:ext cx="2160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闺怨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5445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64000" y="5300640"/>
            <a:ext cx="2160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闺怨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5445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1280" y="1915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袁行霈在《中国文学史》：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敦煌词，从思想内容到表现上的工拙、精粗、文野，差异很大，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朴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固然是其本色，但也有不少作品讲究辞藻华饰，甚至文与白，纤巧与朴拙，并见于一篇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文化常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64000" y="1557360"/>
            <a:ext cx="518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闺怨诗，属于古典诗歌重要类别，主要集中在唐代这一时期，其中又有特别的一类称为宫怨诗。闺怨诗主要抒写古代民间弃妇和思妇（包括征妇、商妇、游子妇等）的忧伤，或者少女怀春、思念情人的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32385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鹊  踏  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敦煌曲子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闺    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唐）王昌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闺中少妇不知愁，春日凝妆上翠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见陌头杨柳色，悔教夫婿觅封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2171520" cy="30859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对比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对比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31640" y="1844640"/>
            <a:ext cx="556596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春 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辽）金昌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起黄莺儿，莫教枝上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啼时惊妾梦，不得到辽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23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艺术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词舍弃了通常赋比兴手法的运用，避开了作者感情的直接抒发，却巧妙地实写了少妇和灵鹊的两段心曲。词上片是少妇语，下片是灵鹊语。全词纯用口语，模拟心理，得无理而有理之妙，体现了刚健清新、妙趣横生的艺术特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幼圆"/>
              </a:rPr>
              <a:t>敦煌曲子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6440" y="1657080"/>
            <a:ext cx="7777080" cy="35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菩萨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敦煌古往出神将，感得诸蕃遥钦仰。效节望龙庭，麟台早有名。只恨隔蕃部，情恳难申诉。早晚灭狼蕃，一齐拜圣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江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莫扳我，扳我太心偏。我是曲江临池柳，者人折去那人扳，恩爱一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天上月，遥望似一团银。夜久更阑风渐紧，为奴吹散月边云，照见负心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3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幼圆"/>
              </a:rPr>
              <a:t>敦煌曲子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52000" y="1958760"/>
            <a:ext cx="7013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章台柳》： 章台柳，章台柳，往日依依今在否？纵使长条似旧垂，也应攀折他人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杨柳枝》： 杨柳枝，芳菲节，可恨年年赠离别。一叶随风忽报秋，纵使君来岂堪折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6920" y="1988640"/>
            <a:ext cx="75106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搜集并抄录三首闺怨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搜集身边生活中“喜上眉梢”图案，并拍照分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824544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280" y="66672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74872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19640" y="3068640"/>
            <a:ext cx="3343320" cy="30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2314440" cy="30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19640" y="1628640"/>
            <a:ext cx="21049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文化常识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敦煌曲子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1160" y="1801440"/>
            <a:ext cx="777240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发现：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现存最早的民间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大都作于唐玄宗年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间至五代时期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世纪初现于敦煌藏经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主要内容：题材广泛，以反映下层人民生活为主            “有边客游子之呻吟，忠臣义士之壮语，隐君子之怡情悦志，少年学子之热望和失望，以及佛子之颂医生之歌诀”（王重民《敦煌曲子词集叙录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艺术特点：想象丰富，比喻贴切，生活气息浓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语言通俗生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文化常识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鹊踏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98560" y="1484280"/>
            <a:ext cx="5545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鹊踏枝是词牌名，唐代教坊曲，最初名《鹊踏枝》，宋时晏殊改为》《蝶恋花》，又名《黄金缕》、《凤栖梧》、《卷珠帘》、《一箩金》。双片六十字，前后片各四仄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鹊踏枝》词牌一般以抒写缠绵悱恻之情为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48948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鹊踏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叵耐灵鹊多谩语，送喜何曾有凭据？几度飞来活捉取，锁上金笼休共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拟好心来送喜，谁知锁我在金笼里。欲他征夫早归来，腾身却放我向青云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692280"/>
            <a:ext cx="2087640" cy="1296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少妇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0" y="2492280"/>
            <a:ext cx="2556000" cy="1297080"/>
          </a:xfrm>
          <a:prstGeom prst="cloudCallout">
            <a:avLst>
              <a:gd name="adj1" fmla="val -49504"/>
              <a:gd name="adj2" fmla="val 69703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灵鹊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3T15:26:47Z</dcterms:created>
  <dc:creator>user</dc:creator>
  <dc:description/>
  <dc:language>en-US</dc:language>
  <cp:lastModifiedBy>user</cp:lastModifiedBy>
  <dcterms:modified xsi:type="dcterms:W3CDTF">2017-12-20T15:34:33Z</dcterms:modified>
  <cp:revision>26</cp:revision>
  <dc:subject/>
  <dc:title>幻灯片 1</dc:title>
</cp:coreProperties>
</file>