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B5C-8DD2-46BA-8323-1139D653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2CB-0F64-486E-9C41-42E5375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21B-2CC6-4775-B0A5-9D4A48BF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7C4-7887-40B3-9CEC-E413022B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076-3274-49A9-9C5A-6B7574C1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343-9E7E-4F86-91A9-431720A2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BDC-D0AC-44F5-AD59-3CA11FA5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178-EE05-4AEA-8B38-765E5B3D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0BF-DF71-4AB2-92DC-499E50C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030-A556-4ED3-B10F-1D791C24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FB3-B6CB-437D-B9A8-A8871C2E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FA2-7746-4023-BF71-8650AE52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E28F-545F-4C1E-AB82-E93A33D232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17360" y="-25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实用语文（第一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3280" y="333360"/>
            <a:ext cx="20588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第一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8000" y="333360"/>
            <a:ext cx="7729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生态平衡    环境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3640" y="333360"/>
            <a:ext cx="205884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第一单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360" y="333360"/>
            <a:ext cx="77292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7000"/>
          </a:bodyPr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生态平衡    环境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合作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92720" y="1413000"/>
            <a:ext cx="345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如何看待“人满为患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24360" y="3716280"/>
            <a:ext cx="5038560" cy="2886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1484280"/>
            <a:ext cx="47530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合作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造成“多多益善”现象的原因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92360" y="4076640"/>
            <a:ext cx="5715000" cy="2067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17520" y="2565360"/>
            <a:ext cx="252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从众心理和惯性思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特定的时代背景和政治运动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小农经济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文列举了哪些以少胜多的例子？你还知道那些类似的历史典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合作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855880" cy="212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39640" y="2997360"/>
            <a:ext cx="2916360" cy="2154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564000" y="3573360"/>
            <a:ext cx="2305080" cy="193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9640" y="2997360"/>
            <a:ext cx="2916360" cy="215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39640" y="2997360"/>
            <a:ext cx="2916360" cy="2154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3564000" y="3573360"/>
            <a:ext cx="2305080" cy="1935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539640" y="2997360"/>
            <a:ext cx="2916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小结：论证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43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文使用了哪些论证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道理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谷贱伤农”“人满为患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举例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官多、钱多造成的腐败、拥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多造成的口粮问题、物价问题，王府井、南京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对比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韩信将兵的热烈开局与悲剧结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淝水之战、赤壁之战的以少胜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小结：艺术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771516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论证方法多样，论点与论据结合紧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充分体现“形散而神不散”的创作特色，随笔写来，而又始终围绕“人满为患”的核心论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善于化用典故，信手拈来，语言丰富具有表现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小结：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开门见山，抛出“多多未必益善”论点，以中国“人口最多”的现状论证，详细论证，得出“凡多，必无节制，则必生出麻烦的事端”结论，提出“适可而止”的民族发展理念，引人深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延伸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马寅初人口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马寅初在北京大学发表演讲。他认为若不控制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后将达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放后，各方面的条件都好起来，人口的增长比过去也加快了。近几年人口增长率已达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可能还要高，照这样发展下去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后中国就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亿人口，相当于现在世界总人口的总和。由于人多地少的矛盾，恐怕中国要侵略人家了。要和平共处，做到我不侵略人家，也不要人家侵略我，就非控制人口不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2384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延伸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马尔萨斯人口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点是人口的制约原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人口与生活资料之间必然存在某种正常的比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“人口的增长， 必然要受到生活资料的限制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点是人口的增殖原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“生活资料增加， 人口也常随着增加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点是人口的均衡原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“占优势的人口繁殖力为贫困和罪恶所抑制，因而使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人口得以与生活资料保持平衡”。这个原理与前两个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紧密相连的，它说明人口与生活资料之间最终将实现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衡， 但是这种均衡不是自然实现的，而是种种“抑制”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07240" y="404640"/>
            <a:ext cx="17510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延伸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胎新政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面放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《中共中央、国务院关于实施全面两孩政策改革完善计划生育服务管理的决定》公布，提出实施全面两孩政策、改革完善计划生育服务管理的主要目标是，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计划生育服务管理制度和家庭发展支持体系较为完善，政府依法履行职责、社会广泛参与、群众诚信自律的多元共治格局基本形成，计划生育治理能力全面提高；覆盖城乡、布局合理、功能完备、便捷高效的妇幼保健计划生育服务体系更加完善，基本实现人人享有计划生育优质服务，推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我国全面放开“二胎”生育政策，请问你怎么看待这个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除了人口问题，你还关注哪些影响国计民生的大事？小组探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多多未必益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李国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延伸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时至当下，仍常有“中国式抢购”成为热点新闻，你怎样看待“抢购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背后的“多多未必益善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3116160" cy="2076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227640" y="2276640"/>
            <a:ext cx="23385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5596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了解“形散而神不散”的散文创作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结合当前国情变化，深入思考人口问题对社会发展和民族未来的影响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韩信将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上尝从容与信言诸将能不，各有差。上问曰：“如我，能将几何？”信曰：“陛下不过能将十万。”上曰：“如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何如？”曰：“如臣，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多益善耳。”上笑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多多益善，何为为我禽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信曰：“陛下不能将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而善将将，此乃信之所以为陛下禽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汉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韩彭英卢吴传第四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3041640" cy="2495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46560" y="2133720"/>
            <a:ext cx="2619000" cy="581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多真的就能益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作家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00360" y="1628280"/>
            <a:ext cx="5997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国文，中国作家协会专业作家。男 ，原籍江苏省盐城市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生于上海。汉族，中共党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毕业于南京戏剧专科学校理论编剧专业。中国作家协会第四届理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著作：《骂人的艺术》、《淡之美》、《大雅村言》、《楼外谈红》、《中国文人的非正常死亡》、《中国文人的活法》、《唐朝的天空》等，并著有《评点《三国演义》、《莎士比亚传》等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篇小说《冬天里的春天》获首届茅盾文学奖，《大雅村言》获第二届鲁迅文学奖。《月食》、《危楼纪事之一》分别获全国第三、四届优秀短篇小说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0635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成语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52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韩信将兵，多多益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以稀为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倍功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择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贪赃枉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骄奢淫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富不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人越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见棺材不掉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寒而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头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满为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稳操胜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可而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矫枉过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弦易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781360"/>
            <a:ext cx="4032360" cy="1152360"/>
          </a:xfrm>
          <a:prstGeom prst="wedgeRoundRectCallout">
            <a:avLst>
              <a:gd name="adj1" fmla="val -43740"/>
              <a:gd name="adj2" fmla="val 99861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是“多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是“多而不善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开门见山提出观点，即多多未必益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-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展开论述，论述官多、钱多、人多产生的问题，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明观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-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分析“多多益善”的心理时代背景，进一步阐述观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四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主题升华，发展至民族未来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梳理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23640" y="1773360"/>
            <a:ext cx="2737080" cy="42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谷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丰收成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书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成书呆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官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车多事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钱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贪腐成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321300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多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3284640"/>
            <a:ext cx="792000" cy="431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198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16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人口最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19120" y="4581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多多未必益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386064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合作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——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探讨作者眼中的“多多”有哪些“不善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人口剧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穿衣住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生活要求和消费欲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物价上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环境压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心理压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5T15:54:03Z</dcterms:created>
  <dc:creator>user</dc:creator>
  <dc:description/>
  <dc:language>en-US</dc:language>
  <cp:lastModifiedBy>user</cp:lastModifiedBy>
  <dcterms:modified xsi:type="dcterms:W3CDTF">2017-11-04T03:01:22Z</dcterms:modified>
  <cp:revision>21</cp:revision>
  <dc:subject/>
  <dc:title>幻灯片 1</dc:title>
</cp:coreProperties>
</file>