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DD8-2099-49C1-AB69-94AD727F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5F0-A2CB-4079-AC5D-F9A91EA7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2BA-0697-451B-B0E8-7669EA7F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B61-0E8E-4652-97D3-3E8183E1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9C7-5D0A-40C5-88BD-AB3D603A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1E5-2E6C-4FD8-86BF-80422A1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8D1-3545-471E-A3A2-A5D92E51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7C5-1022-4597-8E66-8906844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DB8-2001-4760-91C0-43D8C74F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BAC-72DD-4550-9629-A8DA663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097-8AAF-4362-9909-00702AE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9D6-CBA0-4D1A-8256-398AE6F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C9D-48E5-4F85-A197-E1B3A8D41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468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04000" y="6426360"/>
            <a:ext cx="1440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五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古诗词一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文学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柳枝，此调有多种词体。此调本有隋曲，与隋堤有关。传至开元，白居易新翻入健舞曲已非旧声。王灼《碧鸡漫志》卷五，“《乐府杂录》云：白傅作《杨柳枝》。予考乐天晚年与刘梦得唱和此曲词。白云：‘古歌旧曲君休听，听取新翻《杨柳枝》。’又作《杨柳枝》二十韵云：‘乐童翻怨调，才子与妍词。’注云：‘洛下新声也’。刘梦得亦云：‘诸君莫听前朝曲，听取新翻《杨柳枝》。’盖后来始变新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创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禹锡晚年与白居易唱和酬答，白居易有组诗《杨柳枝词八首》，其第一首云：“《六么》《水调》家家唱，《白雪》《梅花》处处吹。古歌旧曲君休听，听取新翻《杨柳枝》。”刘禹锡的《杨柳枝》组诗九首，就是与白居易唱和之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长期的贬谪生活，刘禹锡有机会接触到湘沅巴蜀的民歌民谣。《旧唐书》本传云“禹锡在朗州十年，唯以文章吟咏，陶冶性情。蛮俗好巫，每淫辞鼓舞，必歌俚辞。禹锡或从事于其间，乃依骚人之作，为新辞以教巫祝。故武陵溪洞间夷歌，率多禹锡之辞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杨柳枝词其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塞北梅花羌笛吹，淮南桂树小山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君莫奏前朝曲，听唱新翻杨柳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品鉴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923920"/>
            <a:ext cx="8373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诗中第一联出现了哪两个重要典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梅花：指汉乐府横吹曲中的《梅花落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桂树：指西汉淮南王刘安的门客小山作的《招隐士》，其首句为“桂树丛生兮山之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品鉴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为什么开篇提到“梅花落”和“招隐士”这两个典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组诗首篇是全组诗的序曲，劝人听诗人改编的新曲，表明了诗人一贯持有的发展创新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话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塞北的《梅花落》用羌笛吹奏，楚辞《招隐士》是淮南小山作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君不要再演奏前朝的歌曲，来听听演唱新创作的《杨柳枝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品鉴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诗直接用民歌曲调创作，保持了纯正的民歌风味，提高了民歌的艺术水平，既有较丰富的思想内涵，又谐音合律便于传唱，使雅俗互补，相得益彰，达到了较高的艺术水平。这正是刘禹锡追求的效法屈原的创作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杨柳枝》其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御陌青门拂地垂，千条金缕万条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今绾作同心结，将赠行人知不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外春风吹酒旗，行人挥袂日西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安陌上无穷树，唯有垂杨绾别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家点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代黄庭坚《山谷题跋》：刘宾客《柳枝网》，虽乏曹、刘、陆机、左思之豪壮，自为齐梁乐府之将帅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代刘永济《唐人绝句精华》：《杨柳枝词》盖即古《横吹曲》之《折杨柳》。其词托意杨柳以写离情，或感叹盛衰。今录禹锡两首，前者（按指“花萼楼前初种时”）以柳比人，后者（按指“城外东风吹酒旗”）即写离别，不可何作单纯咏物诗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代王灼《碧鸡漫志》：“请君莫奏前朝曲，听唱新翻《杨柳枝》。”盖后来始变新声，而所谓乐天《杨柳枝》者，称其别创词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杨柳枝》【唐】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红板江桥青酒旗，馆娃宫暖日斜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怜雨歇东风定，万树千条各自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杨柳枝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511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刘禹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背诵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搜集刘禹锡的民歌代表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407960"/>
            <a:ext cx="9144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内容占位符 2"/>
          <p:cNvSpPr/>
          <p:nvPr/>
        </p:nvSpPr>
        <p:spPr>
          <a:xfrm>
            <a:off x="250920" y="1268280"/>
            <a:ext cx="8334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乌衣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雀桥边野草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衣巷口夕阳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时王谢堂前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入寻常百姓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6(Q{9YT(DL45A~{TVF2IUDF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内容占位符 2"/>
          <p:cNvSpPr/>
          <p:nvPr/>
        </p:nvSpPr>
        <p:spPr>
          <a:xfrm>
            <a:off x="0" y="1773360"/>
            <a:ext cx="6066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刘禹锡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72-84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唐代文学家、哲学家，字梦得，有“诗豪”之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刘禹锡贞元九年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9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）进士及第。贞元末，与柳宗元，陈谏、韩晔等结交于王叔文，形成了一个以王叔文为首的政治集团。后历任朗州司马、连州刺史、夔州刺史、和州刺史、主客郎中、礼部郎中、苏州刺史等职。会昌时，加检校礼部尚书。卒年七十，赠户部尚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58080" y="3772080"/>
            <a:ext cx="30859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刘禹锡诗文俱佳，涉猎题材广泛，与柳宗元并称“刘柳”，与韦应物、白居易合称“三杰”，并与白居易合称“刘白”，有《陋室铭》《竹枝词》《杨柳枝词》《乌衣巷》等名篇。哲学著作《天论》三篇，论述天的物质性，分析“天命论”产生的根源，具有唯物主义思想。有《刘梦德文集》，存世有《刘宾客集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24260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文学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杨柳枝词九首》是唐代诗人刘禹锡晚年所作的组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首为序曲，劝人听改编的新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首言大千世界万象纷纭，各具其理又相互依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首写长安少年春游，杨柳增色助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首写洛阳名士雅集，杨柳助长风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五首以杨柳依人而易衰，喻人之依附富贵不求自立终难长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六首以杨柳见证隋之兴亡，言世事无常之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七首以杨柳寄托怀人相思之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八首言杨柳最知人间别离之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九首借杨花柳絮喻漂泊之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文学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6778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杨柳枝词九首》直接用民歌曲调创作，保持了纯正的民歌风味，提高了民歌的艺术水平，既有较丰富的思想内涵，又谐音合律便于传唱，使雅俗互补，相得益彰，达到了较高的艺术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5:26:08Z</dcterms:created>
  <dc:creator>user</dc:creator>
  <dc:description/>
  <dc:language>en-US</dc:language>
  <cp:lastModifiedBy>user</cp:lastModifiedBy>
  <dcterms:modified xsi:type="dcterms:W3CDTF">2017-12-21T09:49:40Z</dcterms:modified>
  <cp:revision>25</cp:revision>
  <dc:subject/>
  <dc:title>杨柳枝词</dc:title>
</cp:coreProperties>
</file>